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4FA1-79D3-4825-B534-6B8B6DF159D8}"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10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5000"/>
          </a:bodyPr>
          <a:p>
            <a:pPr marL="32580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Very often spatial features are grouped based on combined spatial and thematic criteria</a:t>
            </a:r>
            <a:endParaRPr b="1" lang="en-US" sz="26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1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4T08:12:52Z</dcterms:modified>
  <cp:revision>205</cp:revision>
  <dc:subject/>
  <dc:title>Leçon 2: Variables spatiales discrètes  Unité 1: Introduction</dc:title>
</cp:coreProperties>
</file>