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30FE-8EDE-4D1A-AEEB-E7D98BB74FFC}"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3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7000"/>
          </a:bodyPr>
          <a:p>
            <a:pPr marL="3326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ff"/>
                </a:solidFill>
                <a:latin typeface="Arial"/>
              </a:rPr>
              <a:t>Very often spatial features are grouped based on combined spatial and thematic criteria</a:t>
            </a:r>
            <a:endParaRPr b="1" lang="en-US" sz="24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2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9T08:20:31Z</dcterms:modified>
  <cp:revision>206</cp:revision>
  <dc:subject/>
  <dc:title>Leçon 2: Variables spatiales discrètes  Unité 1: Introduction</dc:title>
</cp:coreProperties>
</file>