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BBE1-D09A-46C2-8993-9C8C427F1F35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133720" y="6095880"/>
            <a:ext cx="186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2: Spatial properties of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d4d"/>
                </a:solidFill>
                <a:latin typeface="Arial"/>
              </a:rPr>
              <a:t>April 8,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2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ometrical properties of individual featur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properties (geometry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attern (relationship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579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nature and typ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linear feature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broken lin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 a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 ch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t has one spatial dimension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1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a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linear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a set of contiguous cells having only one spatial dimension to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linear feature can b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a single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several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99ff"/>
                </a:solidFill>
                <a:latin typeface="Arial"/>
              </a:rPr>
              <a:t>A </a:t>
            </a:r>
            <a:r>
              <a:rPr b="1" lang="en-US" sz="2300" spc="-1" strike="noStrike" u="sng">
                <a:solidFill>
                  <a:srgbClr val="6699ff"/>
                </a:solidFill>
                <a:uFillTx/>
                <a:latin typeface="Arial"/>
              </a:rPr>
              <a:t>network</a:t>
            </a:r>
            <a:r>
              <a:rPr b="1" lang="en-US" sz="2300" spc="-1" strike="noStrike">
                <a:solidFill>
                  <a:srgbClr val="6699ff"/>
                </a:solidFill>
                <a:latin typeface="Arial"/>
              </a:rPr>
              <a:t> can be considered either a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a single feature (complex linear fea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a group of numerous features with 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Arial"/>
              </a:rPr>
              <a:t>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simple and compl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Simple linear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a single chain (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ample: a seg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Complex linear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several chains (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ample: a set of segments, a whole network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612800" y="4322880"/>
            <a:ext cx="1968480" cy="477720"/>
            <a:chOff x="1612800" y="4322880"/>
            <a:chExt cx="1968480" cy="477720"/>
          </a:xfrm>
        </p:grpSpPr>
        <p:sp>
          <p:nvSpPr>
            <p:cNvPr id="588" name=""/>
            <p:cNvSpPr/>
            <p:nvPr/>
          </p:nvSpPr>
          <p:spPr>
            <a:xfrm flipV="1">
              <a:off x="1647720" y="4512960"/>
              <a:ext cx="47952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5680" y="4525920"/>
              <a:ext cx="51300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698920" y="4361040"/>
              <a:ext cx="8157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4000" y="4492800"/>
              <a:ext cx="54000" cy="536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49600" y="45594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12800" y="47116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92360" y="43228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651640" y="4456080"/>
            <a:ext cx="1968480" cy="1106640"/>
            <a:chOff x="5651640" y="4456080"/>
            <a:chExt cx="1968480" cy="1106640"/>
          </a:xfrm>
        </p:grpSpPr>
        <p:sp>
          <p:nvSpPr>
            <p:cNvPr id="596" name=""/>
            <p:cNvSpPr/>
            <p:nvPr/>
          </p:nvSpPr>
          <p:spPr>
            <a:xfrm flipV="1">
              <a:off x="5686560" y="4646160"/>
              <a:ext cx="47916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72200" y="4667400"/>
              <a:ext cx="54612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718320" y="4514400"/>
              <a:ext cx="85392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88080" y="46800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1640" y="48448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31200" y="44560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84800" y="4629240"/>
              <a:ext cx="495360" cy="47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08960" y="5116320"/>
              <a:ext cx="3902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76920" y="50832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93080" y="511812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6121440" y="5105520"/>
              <a:ext cx="92160" cy="42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121440" y="4648320"/>
              <a:ext cx="763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5880" y="508644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78680" y="547380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59600" y="46036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932040" y="5410080"/>
            <a:ext cx="5364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56260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09120" y="48006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53341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38680" y="444348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4976640"/>
            <a:ext cx="385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2080" y="509904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29280" y="464184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individual geometric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44040" y="1828440"/>
            <a:ext cx="74329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simple linear featu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will be discussed her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 of linear features such as network will be discussed in Lesson « Network description »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geometric properties of a linear feature ar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i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eng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ha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inuos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orient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ire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Loca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its location is considered as the horizontal and vertical position into the project plane of it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an ce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C) or so called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ravity c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3896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 = 254.4   Y = 134.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42160" y="538488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37120" y="539100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84760" y="2200320"/>
            <a:ext cx="236232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06920" y="458784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8440" y="181764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rot="16200000">
            <a:off x="4609440" y="318096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614560" y="3622680"/>
            <a:ext cx="124956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29560" y="3570120"/>
            <a:ext cx="0" cy="109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58200" y="32209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46600" y="45878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84520" y="3494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614920" y="2198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614920" y="3417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614920" y="4560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8476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9760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4708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921280" y="3511080"/>
            <a:ext cx="479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29240" y="3524400"/>
            <a:ext cx="51120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940440" y="3358800"/>
            <a:ext cx="8478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97560" y="34909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1360" y="38498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3710160"/>
            <a:ext cx="88920" cy="88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65920" y="33210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45160" y="3798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56480" y="3548160"/>
            <a:ext cx="152280" cy="152280"/>
          </a:xfrm>
          <a:custGeom>
            <a:avLst/>
            <a:gdLst>
              <a:gd name="textAreaLeft" fmla="*/ 62640 w 152280"/>
              <a:gd name="textAreaRight" fmla="*/ 89640 w 15228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67320" y="3544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26160" y="463716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86360" y="3265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59560" y="39355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34280" y="3062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476440" y="3732120"/>
          <a:ext cx="1849320" cy="21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3732120"/>
                    <a:ext cx="184932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Size (length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t is the sum of length of the n segments composing the chai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tance between the two segment i ends (vert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37400" y="2287440"/>
            <a:ext cx="23619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59560" y="46753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00720" y="19051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rot="16200000">
            <a:off x="4761720" y="32684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76720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767200" y="3505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76720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3740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5024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19936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5.15+5.41+8.06 = 18.62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073920" y="3598560"/>
            <a:ext cx="479160" cy="250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81880" y="3611520"/>
            <a:ext cx="511200" cy="351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093080" y="3446280"/>
            <a:ext cx="847440" cy="515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0200" y="3578400"/>
            <a:ext cx="53640" cy="5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74000" y="39369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39000" y="37972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918560" y="34084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79744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3900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1184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86560" y="314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1200" y="34797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81680" y="35812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43800" y="3657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717480" y="4348080"/>
          <a:ext cx="393228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348080"/>
                    <a:ext cx="39322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: Size (length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units (cells) compos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s metric uses 2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yardstick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diagona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.41 unit, 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sid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 un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=1.41+1.41+1+1+1+1.41+1.41+1.41+1.41+1.41+1+1.41+1+1.41+1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 the estimation of length is systematically exaggerated (see the estimation in object mode: L = 18.62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81560" y="53341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486400" y="2011320"/>
            <a:ext cx="2598840" cy="2550960"/>
            <a:chOff x="5486400" y="2011320"/>
            <a:chExt cx="2598840" cy="2550960"/>
          </a:xfrm>
        </p:grpSpPr>
        <p:sp>
          <p:nvSpPr>
            <p:cNvPr id="706" name=""/>
            <p:cNvSpPr/>
            <p:nvPr/>
          </p:nvSpPr>
          <p:spPr>
            <a:xfrm>
              <a:off x="5486400" y="20113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2608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5316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7844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05520" y="20113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31160" y="20113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0840" y="201132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97560" y="20113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232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028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2151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608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5316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7844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05520" y="2151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1160" y="2151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70840" y="2151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97560" y="2151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232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5028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6400" y="22762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2608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5316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7844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005520" y="22762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31160" y="22762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70840" y="22762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7560" y="22762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232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5028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2403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2608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5316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7844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05520" y="2403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31160" y="2403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70840" y="24033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97560" y="2403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232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5028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86400" y="25286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2608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5316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7844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05520" y="25286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31160" y="25286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70840" y="25286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97560" y="25286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232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5028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86400" y="265572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2608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5316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7844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05520" y="265572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31160" y="265572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840" y="265572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397560" y="265572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232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028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86400" y="27939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2608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5316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7844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5520" y="279396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31160" y="27939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70840" y="27939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97560" y="279396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232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5028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86400" y="29206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608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5316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7844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05520" y="29206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31160" y="29206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70840" y="29206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7560" y="29206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232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65028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86400" y="304776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2608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5316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7844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05520" y="304776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31160" y="304776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840" y="30477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97560" y="304776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232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028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86400" y="317340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2608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5316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7844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05520" y="317340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31160" y="317340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70840" y="31734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97560" y="317340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232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5028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86400" y="3300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2608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5316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7844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05520" y="3300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31160" y="3300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70840" y="3300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97560" y="3300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2320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028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6400" y="342576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2608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53160" y="342576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87844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05520" y="342576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131160" y="3425760"/>
              <a:ext cx="1396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70840" y="3425760"/>
              <a:ext cx="1267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97560" y="342576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32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50280" y="342576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86400" y="35654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2608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5316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7844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520" y="35654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1160" y="35654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70840" y="35654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97560" y="35654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2320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5028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86400" y="369072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62608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53160" y="369072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844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05520" y="369072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31160" y="369072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70840" y="36907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97560" y="369072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2320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50280" y="369072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7232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7232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7232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7232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7232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7232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7232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7232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7232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7232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7232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7232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7232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7232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994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994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994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994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994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994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994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994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94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994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9940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94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9940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99400" y="369072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26480" y="20113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26480" y="2151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26480" y="22762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26480" y="2403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26480" y="25286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26480" y="265572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26480" y="27939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26480" y="29206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6480" y="30477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26480" y="31734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26480" y="3300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26480" y="342576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26480" y="3565440"/>
              <a:ext cx="1378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26480" y="36907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6436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6436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16436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6436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6436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6436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436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6436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436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436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6436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6436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6436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6436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9144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9144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9144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9144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144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9144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9144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144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9144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9144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9144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91440" y="342576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9144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91440" y="36907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1672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1672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1672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41672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41672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1672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1672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1672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1672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1672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1672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16720" y="342576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1672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1672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438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438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438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438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438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438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438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438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438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5438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43800" y="33001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438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54380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4380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38178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2608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75316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7844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05520" y="38178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31160" y="38178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70840" y="3817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97560" y="38178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232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5028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72320" y="38178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994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026480" y="3817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6436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9144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41672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438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6400" y="39398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2608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75316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7844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05520" y="39398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31160" y="39398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70840" y="39398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97560" y="39398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232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5028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7232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994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026480" y="39398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436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9144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1672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5438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6400" y="40622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62608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5316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7844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05520" y="40622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31160" y="40622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270840" y="40622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97560" y="40622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232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5028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7232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994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26480" y="40622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436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9144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1672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438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4189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2608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5316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7844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05520" y="4189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131160" y="4189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70840" y="4189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97560" y="4189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5232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5028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7232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994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26480" y="4189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6436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1672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438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6400" y="43146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2608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5316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7844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05520" y="43146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31160" y="43146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70840" y="43146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97560" y="43146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232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5028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7232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994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26480" y="43146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6436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41672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5438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86400" y="4437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608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316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7844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05520" y="4437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31160" y="4437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70840" y="4437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97560" y="4437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5232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5028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7232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994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026480" y="4437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6436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9144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672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5438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670880" y="20113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70880" y="2151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70880" y="22762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670880" y="2403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70880" y="25286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70880" y="265572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70880" y="27939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70880" y="29206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70880" y="304776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70880" y="3173400"/>
              <a:ext cx="1382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70880" y="3300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70880" y="342576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670880" y="35654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670880" y="369072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70880" y="38178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70880" y="39398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70880" y="40622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70880" y="4189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70880" y="43146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70880" y="4437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809120" y="20113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809120" y="2151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09120" y="22762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809120" y="2403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09120" y="25286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809120" y="265572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809120" y="27939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809120" y="29206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09120" y="30477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809120" y="31734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809120" y="3300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809120" y="342576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809120" y="35654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809120" y="36907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809120" y="3817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809120" y="39398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9120" y="40622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809120" y="4189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09120" y="43146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809120" y="4437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47000" y="20113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47000" y="2151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47000" y="22762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947000" y="2403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947000" y="25286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947000" y="265572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47000" y="27939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947000" y="29206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947000" y="304776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947000" y="317340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947000" y="3300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47000" y="342576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47000" y="35654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47000" y="369072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47000" y="38178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47000" y="39398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47000" y="40622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947000" y="4189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947000" y="43146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7000" y="4437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5805360" y="3238560"/>
            <a:ext cx="1938240" cy="647280"/>
            <a:chOff x="5805360" y="3238560"/>
            <a:chExt cx="1938240" cy="647280"/>
          </a:xfrm>
        </p:grpSpPr>
        <p:sp>
          <p:nvSpPr>
            <p:cNvPr id="1107" name=""/>
            <p:cNvSpPr/>
            <p:nvPr/>
          </p:nvSpPr>
          <p:spPr>
            <a:xfrm flipV="1">
              <a:off x="5805360" y="3500280"/>
              <a:ext cx="25704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62400" y="34956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43280" y="3495600"/>
              <a:ext cx="3812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072200" y="3619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10080" y="3471840"/>
              <a:ext cx="1522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7500600" y="3238560"/>
              <a:ext cx="2430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57680" y="34718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819480" y="3619440"/>
              <a:ext cx="25740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Shape (sinuosity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2325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the ratio between the chain length L and the distance D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between its two end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L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a ratio, with S &gt;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29200" y="1752480"/>
            <a:ext cx="34639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837400" y="2287440"/>
            <a:ext cx="23619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659560" y="46753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400720" y="19051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 rot="16200000">
            <a:off x="4761720" y="32684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76720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5767200" y="3505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576720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3740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5024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19936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90720" y="5068800"/>
            <a:ext cx="24382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5.15+5.41+8.06 = 18.6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6.3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8.62 / 16.38 = 1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6073920" y="3598560"/>
            <a:ext cx="4791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581880" y="3611520"/>
            <a:ext cx="51120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7093080" y="3446280"/>
            <a:ext cx="84744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550200" y="3578400"/>
            <a:ext cx="53640" cy="5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74000" y="39369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39000" y="37972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918560" y="34084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9744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3900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1184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86560" y="314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58080" y="347652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35812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3657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1022400" y="4343400"/>
          <a:ext cx="3473280" cy="66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4343400"/>
                    <a:ext cx="3473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"/>
          <p:cNvSpPr/>
          <p:nvPr/>
        </p:nvSpPr>
        <p:spPr>
          <a:xfrm>
            <a:off x="571500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8.62 / 16.38 = 1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6072120" y="3448080"/>
            <a:ext cx="1905120" cy="380880"/>
          </a:xfrm>
          <a:prstGeom prst="line">
            <a:avLst/>
          </a:prstGeom>
          <a:ln w="1908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010280" y="33066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D</a:t>
            </a:r>
            <a:r>
              <a:rPr b="1" lang="en-US" sz="1200" spc="-1" strike="noStrike" baseline="-25000">
                <a:solidFill>
                  <a:srgbClr val="cc0066"/>
                </a:solidFill>
                <a:latin typeface="Arial"/>
              </a:rPr>
              <a:t>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: Shape (sinuosity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4000"/>
          </a:bodyPr>
          <a:p>
            <a:pPr marL="274320" indent="-27432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 is the ratio between the region length L and the distance D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between its 2 end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L /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is a ratio, with S &gt;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= ((4*1.41)+(11*1))*1m = 16.64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 = 19.1 / 16.64 = 1.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99ff"/>
                </a:solidFill>
                <a:latin typeface="Arial"/>
              </a:rPr>
              <a:t>As these 2 terms L and D</a:t>
            </a:r>
            <a:r>
              <a:rPr b="1" lang="en-US" sz="1500" spc="-1" strike="noStrike" baseline="-25000">
                <a:solidFill>
                  <a:srgbClr val="6699ff"/>
                </a:solidFill>
                <a:latin typeface="Arial"/>
              </a:rPr>
              <a:t>df</a:t>
            </a:r>
            <a:r>
              <a:rPr b="1" lang="en-US" sz="1500" spc="-1" strike="noStrike">
                <a:solidFill>
                  <a:srgbClr val="6699ff"/>
                </a:solidFill>
                <a:latin typeface="Arial"/>
              </a:rPr>
              <a:t> use the same metric, the resulting value S is close to the one obtained in object mode (S = 1.14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38448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56272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9.1 / 16.64 = 1.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64240" y="3146400"/>
            <a:ext cx="45720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400" spc="-1" strike="noStrike" baseline="-22000">
                <a:solidFill>
                  <a:srgbClr val="ff0000"/>
                </a:solidFill>
                <a:latin typeface="Arial"/>
              </a:rPr>
              <a:t>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5475240" y="2004840"/>
            <a:ext cx="2603520" cy="2555640"/>
            <a:chOff x="5475240" y="2004840"/>
            <a:chExt cx="2603520" cy="2555640"/>
          </a:xfrm>
        </p:grpSpPr>
        <p:sp>
          <p:nvSpPr>
            <p:cNvPr id="1167" name=""/>
            <p:cNvSpPr/>
            <p:nvPr/>
          </p:nvSpPr>
          <p:spPr>
            <a:xfrm>
              <a:off x="5475240" y="200484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149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4200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6728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436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20000" y="200484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596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8640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1204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63912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75240" y="2144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149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2000" y="2144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6728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436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20000" y="2144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59680" y="2144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8640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1204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39120" y="2144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475240" y="22698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149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742000" y="22698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6728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436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20000" y="22698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259680" y="22698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8640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1204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39120" y="22698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75240" y="23968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149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42000" y="23968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6728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99436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20000" y="23968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9680" y="23968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8640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1204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39120" y="23968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5240" y="252216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149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42000" y="25221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86728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9436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20000" y="252216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59680" y="25221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8640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204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639120" y="25221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75240" y="264924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6149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4200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6728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99436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20000" y="264924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596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8640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51204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3912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75240" y="278748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149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42000" y="278748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86728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9436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20000" y="278748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59680" y="278748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8640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51204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639120" y="278748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75240" y="29142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149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2000" y="29142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6728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9436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20000" y="29142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9680" y="29142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8640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1204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39120" y="29142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475240" y="30412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149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42000" y="3041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6728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9436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120000" y="30412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59680" y="3041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8640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1204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39120" y="3041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475240" y="31669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149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42000" y="31669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86728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99436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120000" y="31669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59680" y="31669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8640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1204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39120" y="31669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5240" y="32936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1492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42000" y="32936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6728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99436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20000" y="32936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59680" y="32936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38640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1204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639120" y="32936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75240" y="34192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6149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4200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6728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9436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120000" y="3419280"/>
              <a:ext cx="13968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59680" y="3419280"/>
              <a:ext cx="12672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8640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1204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3912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75240" y="35589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149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42000" y="35589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6728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99436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20000" y="35589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59680" y="35589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8640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1204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39120" y="35589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75240" y="36842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1492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42000" y="3684240"/>
              <a:ext cx="1252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86728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9436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20000" y="36842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59680" y="36842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8640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51204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39120" y="3684240"/>
              <a:ext cx="1252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6584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6584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6584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6584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6584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6584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6584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6584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6584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6584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6584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6584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6584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6584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929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929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8929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8929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929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929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929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929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929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929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89292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929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929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92920" y="3684240"/>
              <a:ext cx="1270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02000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020000" y="2144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020000" y="22698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20000" y="23968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020000" y="25221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2000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020000" y="278748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020000" y="29142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20000" y="3041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020000" y="31669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020000" y="32936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2000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020000" y="3558960"/>
              <a:ext cx="1378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020000" y="36842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15788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15788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15788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5788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5788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15788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5788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5788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15788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5788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15788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15788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5788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5788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8496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8496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28496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28496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8496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28496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8496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8496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8496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28496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28496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28496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496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28496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06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0600" y="2144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10600" y="22698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10600" y="23968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10600" y="25221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106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10600" y="278748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10600" y="29142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10600" y="3041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10600" y="31669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10600" y="32936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10600" y="3419280"/>
              <a:ext cx="12672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10600" y="35589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10600" y="36842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5373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5373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373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5373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373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5373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5373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5373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373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373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37320" y="3293640"/>
              <a:ext cx="127080" cy="12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373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373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53732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475240" y="3811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149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42000" y="3811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6728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99436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120000" y="3811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259680" y="3811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8640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1204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39120" y="3811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65840" y="381132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8929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0000" y="3811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15788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8496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10600" y="3811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373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75240" y="39384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6149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42000" y="39384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6728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9436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120000" y="39384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259680" y="39384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38640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51204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39120" y="39384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6584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8929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20000" y="39384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15788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28496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10600" y="39384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5373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75240" y="4065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6149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42000" y="4065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86728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9436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20000" y="4065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59680" y="4065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8640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1204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39120" y="4065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6584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8929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0000" y="4065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15788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8496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410600" y="4065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5373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75240" y="4187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149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42000" y="4187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86728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9436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20000" y="4187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9680" y="4187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8640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51204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39120" y="4187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6584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929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020000" y="4187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5788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28496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410600" y="4187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5373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75240" y="43128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149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42000" y="43128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6728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9436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120000" y="43128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59680" y="43128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8640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1204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639120" y="43128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6584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929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20000" y="43128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15788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8496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410600" y="43128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5373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75240" y="4435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149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42000" y="4435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6728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9436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20000" y="4435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59680" y="4435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8640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51204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639120" y="4435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6584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929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020000" y="4435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15788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28496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10600" y="4435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373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664400" y="200484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64400" y="2144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664400" y="22698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664400" y="23968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664400" y="252216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664400" y="264924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664400" y="278748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64400" y="29142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64400" y="30412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664400" y="3166920"/>
              <a:ext cx="138240" cy="12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664400" y="32936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64400" y="34192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664400" y="35589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664400" y="36842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64400" y="3811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664400" y="39384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664400" y="4065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664400" y="4187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664400" y="43128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664400" y="4435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0264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02640" y="2144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802640" y="22698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802640" y="23968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802640" y="25221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80264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802640" y="278748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802640" y="29142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802640" y="3041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802640" y="31669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02640" y="32936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0264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802640" y="35589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802640" y="36842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802640" y="3811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802640" y="39384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802640" y="4065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802640" y="4187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802640" y="43128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802640" y="4435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40520" y="200484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940520" y="2144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40520" y="22698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40520" y="23968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940520" y="252216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940520" y="264924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940520" y="278748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940520" y="29142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940520" y="30412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940520" y="31669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940520" y="32936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940520" y="34192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940520" y="35589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940520" y="36842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940520" y="3811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40520" y="39384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40520" y="4065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940520" y="4187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940520" y="43128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40520" y="4435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5823000" y="3232080"/>
            <a:ext cx="1904760" cy="533520"/>
            <a:chOff x="5823000" y="3232080"/>
            <a:chExt cx="1904760" cy="533520"/>
          </a:xfrm>
        </p:grpSpPr>
        <p:sp>
          <p:nvSpPr>
            <p:cNvPr id="1568" name=""/>
            <p:cNvSpPr/>
            <p:nvPr/>
          </p:nvSpPr>
          <p:spPr>
            <a:xfrm>
              <a:off x="5823000" y="3765600"/>
              <a:ext cx="21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9120" y="3613320"/>
              <a:ext cx="21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555600" y="3460680"/>
              <a:ext cx="366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68600" y="3384720"/>
              <a:ext cx="366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581600" y="3232080"/>
              <a:ext cx="146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6042600" y="3612960"/>
              <a:ext cx="1461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6409080" y="3460680"/>
              <a:ext cx="14652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7435080" y="3232080"/>
              <a:ext cx="1461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6922080" y="3384360"/>
              <a:ext cx="14616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5794200" y="3232080"/>
            <a:ext cx="1938240" cy="647280"/>
            <a:chOff x="5794200" y="3232080"/>
            <a:chExt cx="1938240" cy="647280"/>
          </a:xfrm>
        </p:grpSpPr>
        <p:sp>
          <p:nvSpPr>
            <p:cNvPr id="1578" name=""/>
            <p:cNvSpPr/>
            <p:nvPr/>
          </p:nvSpPr>
          <p:spPr>
            <a:xfrm flipV="1">
              <a:off x="5794200" y="3493800"/>
              <a:ext cx="25704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51240" y="3489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32120" y="3489120"/>
              <a:ext cx="3812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61040" y="36129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7198920" y="3465360"/>
              <a:ext cx="1522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7489440" y="3232080"/>
              <a:ext cx="2430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46520" y="3465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6808320" y="3612960"/>
              <a:ext cx="25740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6967440" y="3657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Orientation (direc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62268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the angle of the main direction of the chain with respect to the vertic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direction and the vertical cross at the Mean center (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n dir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56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the same chain as in previous illustration, except its direction is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495680" y="1752480"/>
            <a:ext cx="39974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234040" y="5334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6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52600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4816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08968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rot="16200000">
            <a:off x="445068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84840" y="2133720"/>
            <a:ext cx="0" cy="260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251760" y="3527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387840" y="4664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545616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5456160" y="3494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545616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260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73884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8883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5961960" y="3114000"/>
            <a:ext cx="1506240" cy="116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6048720" y="3893040"/>
            <a:ext cx="22752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307200" y="3853080"/>
            <a:ext cx="619200" cy="3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6926040" y="2928960"/>
            <a:ext cx="358920" cy="92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9351800">
            <a:off x="6272280" y="385740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rot="19351800">
            <a:off x="6905520" y="38224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19351800">
            <a:off x="6006960" y="43272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9351800">
            <a:off x="7261200" y="28760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rot="19351800">
            <a:off x="6611400" y="3645000"/>
            <a:ext cx="152640" cy="152280"/>
          </a:xfrm>
          <a:custGeom>
            <a:avLst/>
            <a:gdLst>
              <a:gd name="textAreaLeft" fmla="*/ 63000 w 152640"/>
              <a:gd name="textAreaRight" fmla="*/ 89640 w 15264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467400" y="4713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555600" y="3432240"/>
            <a:ext cx="3052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09" y="185"/>
                </a:moveTo>
                <a:arcTo wR="10800" hR="10800" stAng="-6037365" swAng="6037365"/>
                <a:lnTo>
                  <a:pt x="10800" y="10800"/>
                </a:lnTo>
                <a:close/>
              </a:path>
              <a:path fill="none" w="21600" h="21600">
                <a:moveTo>
                  <a:pt x="8809" y="185"/>
                </a:moveTo>
                <a:arcTo wR="10800" hR="10800" stAng="-6037365" swAng="6037365"/>
              </a:path>
            </a:pathLst>
          </a:cu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753240" y="3230640"/>
            <a:ext cx="1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6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617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nature and typ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44400" y="167616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areal object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closen ch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polygon), it has 2 spatial dimensions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2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the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areal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made of a set  of contiguous cells having 2 spatial dimensio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areal feature can b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a single polygon or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several polygons (with inner or outer area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sl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mple and compl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Simple areal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a single polygon (closed chain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Convex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       Concav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45080" y="1980720"/>
            <a:ext cx="38894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Complex areal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several polygons (closed chain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 object with inner and outer area (island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32040" y="5410080"/>
            <a:ext cx="5364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14400" y="56260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13480" y="48420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219320" y="53341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762120" y="3589200"/>
            <a:ext cx="1822320" cy="1220760"/>
            <a:chOff x="762120" y="3589200"/>
            <a:chExt cx="1822320" cy="1220760"/>
          </a:xfrm>
        </p:grpSpPr>
        <p:sp>
          <p:nvSpPr>
            <p:cNvPr id="1630" name=""/>
            <p:cNvSpPr/>
            <p:nvPr/>
          </p:nvSpPr>
          <p:spPr>
            <a:xfrm>
              <a:off x="797040" y="3629160"/>
              <a:ext cx="1752480" cy="114300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336"/>
                  </a:moveTo>
                  <a:lnTo>
                    <a:pt x="288" y="0"/>
                  </a:lnTo>
                  <a:lnTo>
                    <a:pt x="960" y="48"/>
                  </a:lnTo>
                  <a:lnTo>
                    <a:pt x="1104" y="672"/>
                  </a:lnTo>
                  <a:lnTo>
                    <a:pt x="480" y="720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22200" y="3589200"/>
              <a:ext cx="7488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62120" y="4121280"/>
              <a:ext cx="88920" cy="88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281320" y="3666960"/>
              <a:ext cx="82440" cy="8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22440" y="4734000"/>
              <a:ext cx="7632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505240" y="4653000"/>
              <a:ext cx="79200" cy="79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3075120" y="3710160"/>
            <a:ext cx="914400" cy="106668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240"/>
                </a:moveTo>
                <a:lnTo>
                  <a:pt x="240" y="0"/>
                </a:lnTo>
                <a:lnTo>
                  <a:pt x="768" y="96"/>
                </a:lnTo>
                <a:lnTo>
                  <a:pt x="864" y="528"/>
                </a:lnTo>
                <a:lnTo>
                  <a:pt x="432" y="192"/>
                </a:lnTo>
                <a:lnTo>
                  <a:pt x="0" y="24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8120" y="41403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4000" y="367812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851280" y="38638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494160" y="405936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1640" y="47242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361680" y="484344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214960" y="41623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129360" y="446724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144"/>
                </a:moveTo>
                <a:lnTo>
                  <a:pt x="144" y="0"/>
                </a:lnTo>
                <a:lnTo>
                  <a:pt x="288" y="96"/>
                </a:lnTo>
                <a:lnTo>
                  <a:pt x="240" y="240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272360" y="408636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697800" y="41878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245360" y="43401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310440" y="44355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386480" y="40384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915320" y="425772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2800" y="45054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39120" y="488628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924680" y="49626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181480" y="4657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634000" y="41241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929200" y="52624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919920" y="51865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086520" y="4657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462720" y="48099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45813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419080" y="533412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990400" y="48006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400160" y="505944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individual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simple areal featur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will be discussed her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geometric properties of an areal feature ar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i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imeter, ar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ha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mpactn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Objet zonal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40039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and vertical position in the projected plane of its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Mean cen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MC), or so called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gravity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61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46264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256   Y = 137.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688080" y="538488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27760" y="539100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5784480" y="3390840"/>
            <a:ext cx="14540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183440" y="3378240"/>
            <a:ext cx="0" cy="1346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007400" y="30481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24480" y="4692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554440" y="3092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107120" y="3314880"/>
            <a:ext cx="152640" cy="152280"/>
          </a:xfrm>
          <a:custGeom>
            <a:avLst/>
            <a:gdLst>
              <a:gd name="textAreaLeft" fmla="*/ 63000 w 152640"/>
              <a:gd name="textAreaRight" fmla="*/ 89640 w 15264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637240" y="31431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04040" y="4741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88040" y="28843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837400" y="2276640"/>
            <a:ext cx="23619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65956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40072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rot="16200000">
            <a:off x="477468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5767200" y="22748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5767200" y="34718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67200" y="4637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837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5024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19936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62292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4988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15312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68672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92784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91532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25472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69736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41664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40736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1" name=""/>
          <p:cNvGraphicFramePr/>
          <p:nvPr/>
        </p:nvGraphicFramePr>
        <p:xfrm>
          <a:off x="2614680" y="3657600"/>
          <a:ext cx="169380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3657600"/>
                    <a:ext cx="169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t is the sum of length of the n segments composing the chai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tance between the two segment i ends (vert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486400" y="5334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6.4+10+9+8.1+9.2 = 42.7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300720" y="30574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934320" y="288288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467480" y="32306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1066680" y="4227480"/>
          <a:ext cx="3397320" cy="15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7480"/>
                    <a:ext cx="33973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2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07392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07680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876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62140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34032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3104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162920" y="368928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423120" y="350532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The perimeter can be evaluated with 2 different technique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al perimeter of the region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(envelop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ircase effect using “Manhattan d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over estimation of the peri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gth of the linear region edg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(linear perimeter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taircase effect by taking the diagonal distanc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stimation of the perimeter with a too coars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se two estimation are dependant on the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metri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used and the grid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perimeter of the envelop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cell sides bound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ric distance is often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alled Manhatt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rdstick: side = 1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 (un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(50*1)*1m = 5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, the use of  this metric tends to over estimate the measure of perimeter (see estimation in object mode: L = 42.7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281560" y="53341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50*1)*1m = 5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5477040" y="2016000"/>
            <a:ext cx="2599920" cy="2544480"/>
            <a:chOff x="5477040" y="2016000"/>
            <a:chExt cx="2599920" cy="2544480"/>
          </a:xfrm>
        </p:grpSpPr>
        <p:grpSp>
          <p:nvGrpSpPr>
            <p:cNvPr id="1755" name=""/>
            <p:cNvGrpSpPr/>
            <p:nvPr/>
          </p:nvGrpSpPr>
          <p:grpSpPr>
            <a:xfrm>
              <a:off x="5477040" y="2016000"/>
              <a:ext cx="2599920" cy="2544480"/>
              <a:chOff x="5477040" y="2016000"/>
              <a:chExt cx="2599920" cy="2544480"/>
            </a:xfrm>
          </p:grpSpPr>
          <p:sp>
            <p:nvSpPr>
              <p:cNvPr id="1756" name=""/>
              <p:cNvSpPr/>
              <p:nvPr/>
            </p:nvSpPr>
            <p:spPr>
              <a:xfrm>
                <a:off x="54770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616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742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8680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994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196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932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3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510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637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770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616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2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8680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994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1196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5932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3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510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637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4770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616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742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8680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994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1196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932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3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510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637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4770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616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742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8680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994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1196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25932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510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637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4770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16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742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680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94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1196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5932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3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510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637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4770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6163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742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6800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994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1196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477040" y="279144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163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42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86800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994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477040" y="2918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61636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742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86800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994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477040" y="30434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61636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742720" y="30434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86800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477040" y="3168360"/>
                <a:ext cx="1393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616360" y="3168360"/>
                <a:ext cx="12636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742720" y="3168360"/>
                <a:ext cx="1249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477040" y="32932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61636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742720" y="32932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86800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477040" y="341856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61636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742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86800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994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4770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61636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742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6800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994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1196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25932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4770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61636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742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6800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94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1196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25932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8568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76764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76764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76764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76764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76764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894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894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94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94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894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20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20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020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020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020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158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58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158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158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158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2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2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2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2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2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4106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4106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4106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4106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4106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36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536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536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36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536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5369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5369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4770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163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42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680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994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1196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25932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510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20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58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2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4106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536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4770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16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742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680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994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1196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5932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3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510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637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76764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894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020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58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4106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36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4770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16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742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680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994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1196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25932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510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37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76764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894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020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158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4106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536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4770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616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42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680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994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1196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25932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3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510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637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76764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894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020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158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4106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536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770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16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742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680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994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196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25932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3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510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637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76764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894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020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158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2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106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36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4770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616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742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680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994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196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25932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3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510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637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76764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894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020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158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2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4106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536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66368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66368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66368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66368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66368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66368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66368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66368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66368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66368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66368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5868000" y="2654640"/>
                <a:ext cx="1925640" cy="1275840"/>
                <a:chOff x="5868000" y="2654640"/>
                <a:chExt cx="1925640" cy="127584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62593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638568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51060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663732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6119640" y="2791080"/>
                  <a:ext cx="1393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2593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38568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51060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63732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119640" y="291780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2593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38568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51060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63732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9943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119640" y="304308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2593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38568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51060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63732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80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943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19640" y="3168360"/>
                  <a:ext cx="1393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593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8568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5106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63732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9943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119640" y="329292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2593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38568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51060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63732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6119640" y="3418200"/>
                  <a:ext cx="1393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2593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38568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51060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63732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38568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51060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663732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51060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663732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7597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7597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7597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7597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7597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7597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7597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75972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75972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8864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8864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68864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8864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8864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8864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8864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8864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8864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7012800" y="2654640"/>
                  <a:ext cx="13824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7012800" y="2791080"/>
                  <a:ext cx="13824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7012800" y="291780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012800" y="304308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7012800" y="3168360"/>
                  <a:ext cx="13824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012800" y="329292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128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128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128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1510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1510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7151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7151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7151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7151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7151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7151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7151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727776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727776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727776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72777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72777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2777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727776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727776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727776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740268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740268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740268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740268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740268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740268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740268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740268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740268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7529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29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7529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7529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7529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7529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529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6637320" y="38066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75972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88644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6554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6554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6554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766368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66368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66368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66368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66368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66368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801920" y="201600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801920" y="21542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801920" y="2279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801920" y="240444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801920" y="252792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801920" y="2654640"/>
                <a:ext cx="13680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801920" y="279144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801920" y="2918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801920" y="30434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801920" y="3168360"/>
                <a:ext cx="13680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801920" y="32932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801920" y="341856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801920" y="35568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801920" y="3680640"/>
                <a:ext cx="13680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801920" y="38070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801920" y="392832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801920" y="405756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01920" y="41824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01920" y="430776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801920" y="443664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38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38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38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38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38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3872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3872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3872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3872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93872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93872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38720" y="341856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38720" y="35568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38720" y="3680640"/>
                <a:ext cx="13824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38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38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38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38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38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38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5878800" y="316980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6005160" y="304344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005160" y="304344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6131520" y="2790360"/>
              <a:ext cx="0" cy="2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131520" y="279036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6266160" y="265608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266160" y="2656080"/>
              <a:ext cx="126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26520" y="2664000"/>
              <a:ext cx="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526520" y="291672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656840" y="2916720"/>
              <a:ext cx="0" cy="50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661160" y="342252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791480" y="3422520"/>
              <a:ext cx="0" cy="37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7028280" y="3801960"/>
              <a:ext cx="75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024680" y="380196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6645240" y="39283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6645600" y="380196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6518520" y="380196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6518880" y="3674880"/>
              <a:ext cx="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6392520" y="367524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6392520" y="354888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6135480" y="3548880"/>
              <a:ext cx="2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6131520" y="342252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6005160" y="341856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6005160" y="3295800"/>
              <a:ext cx="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5878440" y="329220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V="1">
              <a:off x="5878800" y="316980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linear 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cells bounding the regio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ric uses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2 yardstic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onal = 1.41 unit, side = 1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 (un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=1.41+1.41+1+1.41+1+1+1+1+1+1+1+1+1+1+1.41+1+1+1+1.41+1+1+1+1+1+1+1+1.41+1+1+1.41+1.41+1.41+1+1.41+1.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= ((11*1.41)+(24*1))*1m = 39.51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The estimation of perimeter using this technique is close to the one in object mode (L = 42.7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105520" y="5334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(11*1.41)+(24*1))*1m = 39.5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5477040" y="2016000"/>
            <a:ext cx="2599920" cy="2544480"/>
            <a:chOff x="5477040" y="2016000"/>
            <a:chExt cx="2599920" cy="2544480"/>
          </a:xfrm>
        </p:grpSpPr>
        <p:grpSp>
          <p:nvGrpSpPr>
            <p:cNvPr id="2201" name=""/>
            <p:cNvGrpSpPr/>
            <p:nvPr/>
          </p:nvGrpSpPr>
          <p:grpSpPr>
            <a:xfrm>
              <a:off x="5477040" y="2016000"/>
              <a:ext cx="2599920" cy="2544480"/>
              <a:chOff x="5477040" y="2016000"/>
              <a:chExt cx="2599920" cy="2544480"/>
            </a:xfrm>
          </p:grpSpPr>
          <p:sp>
            <p:nvSpPr>
              <p:cNvPr id="2202" name=""/>
              <p:cNvSpPr/>
              <p:nvPr/>
            </p:nvSpPr>
            <p:spPr>
              <a:xfrm>
                <a:off x="54770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16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42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680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994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1196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25932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3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510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637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4770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6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42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8680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994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1196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25932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10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637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4770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6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742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8680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94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1196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25932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10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637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4770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6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742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8680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994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1196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25932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3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510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37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4770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6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2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8680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94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1196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25932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3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510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637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4770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63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742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86800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994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1196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477040" y="279144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6163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742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6800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94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477040" y="2918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61636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742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86800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994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477040" y="30434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61636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742720" y="30434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86800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477040" y="3168360"/>
                <a:ext cx="1393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616360" y="3168360"/>
                <a:ext cx="12636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742720" y="3168360"/>
                <a:ext cx="1249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477040" y="32932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61636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742720" y="32932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86800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477040" y="341856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61636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742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86800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994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4770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61636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742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86800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994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1196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5932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4770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61636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742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86800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994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1196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5932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38568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76764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76764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6764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6764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76764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94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94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894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94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894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20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020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020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020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020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158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158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158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158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158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06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106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4106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4106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4106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536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536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536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536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536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5369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5369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4770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6163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742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8680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994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1196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25932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510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020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158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4106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536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4770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616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742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8680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1196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25932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3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510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637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76764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894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020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158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2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4106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36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4770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616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742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8680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994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1196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25932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3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510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37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76764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894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020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58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2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4106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536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4770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16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742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8680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94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1196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5932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510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637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76764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894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020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158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2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4106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536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4770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16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42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8680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994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1196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25932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3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510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37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6764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94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020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158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2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4106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536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4770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616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742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8680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994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196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25932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3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510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637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76764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894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020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58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2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4106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536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66368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6368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66368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66368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66368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66368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66368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66368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66368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66368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368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5868000" y="2654640"/>
                <a:ext cx="1925640" cy="1275840"/>
                <a:chOff x="5868000" y="2654640"/>
                <a:chExt cx="1925640" cy="1275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62593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38568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51060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63732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19640" y="2791080"/>
                  <a:ext cx="1393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2593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38568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51060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63732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19640" y="291780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2593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38568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51060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63732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59943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19640" y="304308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2593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38568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51060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63732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8680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9943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19640" y="3168360"/>
                  <a:ext cx="1393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2593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38568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5106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63732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59943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19640" y="329292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2593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38568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51060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63732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19640" y="3418200"/>
                  <a:ext cx="1393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2593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38568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51060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63732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38568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51060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63732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51060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63732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7597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7597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7597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7597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7597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7597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7597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75972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75972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8864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8864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8864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8864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8864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8864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8864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8864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68864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7012800" y="2654640"/>
                  <a:ext cx="13824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7012800" y="2791080"/>
                  <a:ext cx="13824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7012800" y="291780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7012800" y="304308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7012800" y="3168360"/>
                  <a:ext cx="13824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7012800" y="329292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70128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70128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0128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71510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71510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151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151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151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151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151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151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51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727776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27776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27776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2777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2777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72777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27776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27776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27776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40268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40268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40268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0268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740268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40268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740268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740268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740268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7529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7529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529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7529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529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529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7529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637320" y="38066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75972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88644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76554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6554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76554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7" name=""/>
              <p:cNvSpPr/>
              <p:nvPr/>
            </p:nvSpPr>
            <p:spPr>
              <a:xfrm>
                <a:off x="766368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66368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66368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66368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66368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66368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801920" y="201600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801920" y="21542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801920" y="2279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801920" y="240444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801920" y="252792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801920" y="2654640"/>
                <a:ext cx="13680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801920" y="279144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801920" y="2918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801920" y="30434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801920" y="3168360"/>
                <a:ext cx="13680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801920" y="32932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801920" y="341856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801920" y="35568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801920" y="3680640"/>
                <a:ext cx="13680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801920" y="38070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801920" y="392832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801920" y="405756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801920" y="41824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801920" y="430776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801920" y="443664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38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38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38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38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38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3872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3872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3872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3872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3872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3872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38720" y="341856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38720" y="35568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38720" y="3680640"/>
                <a:ext cx="13824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38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38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38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38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38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38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5934960" y="2723040"/>
              <a:ext cx="1770480" cy="1137960"/>
              <a:chOff x="5934960" y="2723040"/>
              <a:chExt cx="1770480" cy="1137960"/>
            </a:xfrm>
          </p:grpSpPr>
          <p:sp>
            <p:nvSpPr>
              <p:cNvPr id="2604" name=""/>
              <p:cNvSpPr/>
              <p:nvPr/>
            </p:nvSpPr>
            <p:spPr>
              <a:xfrm flipV="1">
                <a:off x="5935320" y="3102120"/>
                <a:ext cx="12600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061320" y="3102120"/>
                <a:ext cx="12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6187680" y="2849040"/>
                <a:ext cx="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6187680" y="2723040"/>
                <a:ext cx="12636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314400" y="2723040"/>
                <a:ext cx="11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452720" y="2723040"/>
                <a:ext cx="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52720" y="2849040"/>
                <a:ext cx="12600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579080" y="2975400"/>
                <a:ext cx="0" cy="37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579080" y="3354840"/>
                <a:ext cx="126000" cy="12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05440" y="3481560"/>
                <a:ext cx="0" cy="25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7072920" y="3734280"/>
                <a:ext cx="63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6946200" y="3734280"/>
                <a:ext cx="126360" cy="12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6693480" y="386100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314040" y="3481200"/>
                <a:ext cx="379080" cy="37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187320" y="3481560"/>
                <a:ext cx="12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 flipV="1">
                <a:off x="5934960" y="3228480"/>
                <a:ext cx="25236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There are several techniques to estimate the area of an objec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non generaliz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eatures (eg. features manually delineated on a map or an imag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or regula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int samp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win D., 1981, p.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objects are already generalized into polygons, this technique will not be discusse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real objects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numerically described wi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polygo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for a GDB in object mod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breaking up into tria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breaking up into rectangles (computer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Production of indices describing spatial properti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spatial properti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Geomet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location, size, sha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arrangement of features (pattern)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Spatial relationship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distribution, neighborhood, proxim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inction between object mode and image mod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 mode: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units of observ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features (objec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age mode :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reg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feat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 - split into triang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area of polygon A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s the sum of areas of its composing triangles A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B*h) / 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the basis and h the 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334120" y="5334120"/>
            <a:ext cx="3047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6.82+55.82+36.9 = 119.54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26" name=""/>
          <p:cNvGraphicFramePr/>
          <p:nvPr/>
        </p:nvGraphicFramePr>
        <p:xfrm>
          <a:off x="1066680" y="4229280"/>
          <a:ext cx="3124440" cy="10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9280"/>
                    <a:ext cx="3124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8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06888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657840" y="291456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6110280" y="2971800"/>
            <a:ext cx="152388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6876720" y="2967120"/>
            <a:ext cx="762120" cy="1066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781680" y="333684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086600" y="3718080"/>
            <a:ext cx="3808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570720" y="2872800"/>
            <a:ext cx="98280" cy="398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691680" y="3250080"/>
            <a:ext cx="191160" cy="776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236000" y="3548880"/>
            <a:ext cx="620640" cy="401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143000" y="54864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6.82+55.82+36.9 = 119.54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09480" y="96804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 - split into rectang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This technique is adapted for a numerical vector structure (G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ing polygon vertices are sequentially describ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lockwi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rom a given starting poin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0.5 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0.5 * 239 = 119.5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1066680" y="4229280"/>
          <a:ext cx="2295720" cy="123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9280"/>
                    <a:ext cx="22957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07392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07680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17876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2140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34032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33104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066680" y="5562720"/>
            <a:ext cx="26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0.5 * 239 = 119.5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248520" y="3276720"/>
            <a:ext cx="1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6553080" y="2895480"/>
            <a:ext cx="15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467480" y="298116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6201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781680" y="3765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area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areas of cells compos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n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ant for the 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olution (unité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110 * 1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10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, estimation of the the area is close to the one in object mode: (A = 119.5m</a:t>
            </a:r>
            <a:r>
              <a:rPr b="1" lang="en-US" sz="1400" spc="-1" strike="noStrike" baseline="30000">
                <a:solidFill>
                  <a:srgbClr val="6699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2" name=""/>
          <p:cNvGrpSpPr/>
          <p:nvPr/>
        </p:nvGrpSpPr>
        <p:grpSpPr>
          <a:xfrm>
            <a:off x="5478480" y="2008080"/>
            <a:ext cx="2598840" cy="2550960"/>
            <a:chOff x="5478480" y="2008080"/>
            <a:chExt cx="2598840" cy="2550960"/>
          </a:xfrm>
        </p:grpSpPr>
        <p:sp>
          <p:nvSpPr>
            <p:cNvPr id="2703" name=""/>
            <p:cNvSpPr/>
            <p:nvPr/>
          </p:nvSpPr>
          <p:spPr>
            <a:xfrm>
              <a:off x="5478480" y="20080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61816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74524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87052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997600" y="200808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123240" y="20080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262920" y="20080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89640" y="200808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5152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4236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478480" y="2147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61816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74524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87052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997600" y="2147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23240" y="2147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262920" y="21477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389640" y="2147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5152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64236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478480" y="22730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61816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74524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87052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997600" y="22730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123240" y="22730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262920" y="22730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389640" y="22730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5152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4236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78480" y="24001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1816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74524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87052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997600" y="24001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123240" y="24001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262920" y="24001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389640" y="24001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5152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4236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478480" y="25254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1816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74524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87052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997600" y="25254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123240" y="25254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262920" y="25254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389640" y="25254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5152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4236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478480" y="265248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61816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745240" y="265248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052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997600" y="265248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123240" y="265248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262920" y="2652480"/>
              <a:ext cx="12672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389640" y="2652480"/>
              <a:ext cx="12564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51528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42360" y="2652480"/>
              <a:ext cx="1252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478480" y="27907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61816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745240" y="27907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87052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997600" y="27907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23240" y="2790720"/>
              <a:ext cx="1396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262920" y="279072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389640" y="279072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1528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642360" y="279072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478480" y="29174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618160" y="29174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745240" y="29174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870520" y="29174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997600" y="29174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123240" y="2917440"/>
              <a:ext cx="1396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262920" y="2917440"/>
              <a:ext cx="1267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389640" y="2917440"/>
              <a:ext cx="1256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5152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642360" y="291744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78480" y="30445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18160" y="30445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745240" y="30445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870520" y="30445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997600" y="304452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123240" y="3044520"/>
              <a:ext cx="1396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262920" y="304452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389640" y="304452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5152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642360" y="30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78480" y="31701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18160" y="31701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745240" y="31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87052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997600" y="317016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123240" y="3170160"/>
              <a:ext cx="1396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262920" y="317016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389640" y="317016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5152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42360" y="317016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78480" y="32968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18160" y="32968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745240" y="32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870520" y="32968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997600" y="329688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123240" y="3296880"/>
              <a:ext cx="1396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262920" y="329688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389640" y="329688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5152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642360" y="329688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478480" y="34225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618160" y="34225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745240" y="34225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870520" y="34225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997600" y="34225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123240" y="3422520"/>
              <a:ext cx="1396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262920" y="3422520"/>
              <a:ext cx="1267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389640" y="342252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5152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642360" y="342252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478480" y="3562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618160" y="3562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745240" y="3562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870520" y="3562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997600" y="3562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123240" y="3562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262920" y="3562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389640" y="3562200"/>
              <a:ext cx="12564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152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642360" y="356220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478480" y="36874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618160" y="36874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745240" y="36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870520" y="36874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997600" y="36874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123240" y="36874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262920" y="36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389640" y="36874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5152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642360" y="36874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76440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76440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76440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76440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76440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76440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76440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76440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76440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76440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76440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76440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76440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76440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8914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8914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8914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8914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914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89148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89148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8914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8914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8914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8914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8914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8914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8914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18560" y="20080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18560" y="2147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18560" y="22730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18560" y="24001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18560" y="25254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18560" y="2652480"/>
              <a:ext cx="1378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018560" y="2790720"/>
              <a:ext cx="1378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018560" y="2917440"/>
              <a:ext cx="1378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018560" y="304452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018560" y="3170160"/>
              <a:ext cx="1378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18560" y="329688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18560" y="3422520"/>
              <a:ext cx="1378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18560" y="3562200"/>
              <a:ext cx="1378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18560" y="3687480"/>
              <a:ext cx="1378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15644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15644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15644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15644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5644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5644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15644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15644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15644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15644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15644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15644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15644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15644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8352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352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8352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28352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28352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283520" y="2652480"/>
              <a:ext cx="1252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83520" y="279072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83520" y="291744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83520" y="30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83520" y="317016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283520" y="329688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283520" y="342252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3520" y="356220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83520" y="36874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40880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40880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40880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40880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40880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40880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40880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40880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40880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40880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40880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40880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40880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40880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5358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5358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5358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5358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5358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53588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53588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5358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5358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5358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5358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5358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5358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5358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478480" y="38145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61816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745240" y="38145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87052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997600" y="38145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123240" y="38145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262920" y="38145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389640" y="38145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1528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642360" y="381456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764400" y="381456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891480" y="381456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018560" y="38145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15644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283520" y="38145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0880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53588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478480" y="39366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61816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74524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87052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997600" y="39366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123240" y="39366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262920" y="39366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389640" y="39366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5152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64236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76440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8914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018560" y="39366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15644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28352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40880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5358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478480" y="4059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61816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74524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87052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997600" y="4059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123240" y="4059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262920" y="4059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389640" y="4059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5152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64236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76440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8914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018560" y="4059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15644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8352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40880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5358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478480" y="41860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61816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74524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87052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997600" y="41860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123240" y="41860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262920" y="41860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89640" y="41860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5152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64236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76440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8914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018560" y="41860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15644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28352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40880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5358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478480" y="4311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61816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74524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87052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997600" y="4311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123240" y="4311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262920" y="43113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389640" y="4311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152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64236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76440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8914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018560" y="4311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15644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8352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40880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5358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478480" y="4433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61816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74524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87052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97600" y="4433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23240" y="4433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62920" y="44337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389640" y="4433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152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64236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76440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8914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018560" y="4433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15644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8352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40880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5358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662960" y="20080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662960" y="2147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662960" y="22730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662960" y="24001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662960" y="25254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662960" y="265248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662960" y="27907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662960" y="29174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662960" y="30445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662960" y="31701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662960" y="32968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662960" y="3422520"/>
              <a:ext cx="1382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662960" y="3562200"/>
              <a:ext cx="13824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662960" y="3687480"/>
              <a:ext cx="1382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662960" y="38145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662960" y="39366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662960" y="4059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662960" y="41860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662960" y="4311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62960" y="4433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801200" y="20080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801200" y="2147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801200" y="22730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801200" y="24001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801200" y="25254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01200" y="265248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801200" y="27907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801200" y="29174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801200" y="30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801200" y="31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801200" y="32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801200" y="34225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801200" y="3562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801200" y="36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801200" y="38145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801200" y="39366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801200" y="4059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801200" y="41860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801200" y="4311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801200" y="4433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939080" y="20080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939080" y="2147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939080" y="22730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939080" y="24001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939080" y="25254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939080" y="265248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939080" y="27907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939080" y="29174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939080" y="30445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939080" y="31701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939080" y="32968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939080" y="34225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939080" y="3562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939080" y="36874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939080" y="38145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939080" y="39366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939080" y="4059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939080" y="41860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939080" y="4311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939080" y="4433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3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110 * 1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10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Shape (indices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The shape of areal features is a very rich concept that is difficult to summarize with a single inde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ch indices should allow the comparison between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depen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re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particula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5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ndex should be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rati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th at least one reference val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Shape (compactness indices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mong the numerous indices proposed in the literature, those describing th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ompactness</a:t>
            </a: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 of the sha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66"/>
                </a:solidFill>
                <a:latin typeface="Arial"/>
              </a:rPr>
              <a:t>Counter-example: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perimeter / area index (P/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imple to produce (based on size ind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value is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pen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unit of measu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well as on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eatures. its use is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ongly limi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comparison of features compa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5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pactness index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ref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a geometrically compact shape, such as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irc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sometimes a squ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Basic elements for compactnes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ncerned featu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: area of the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: major axis (distance between the 2 most faraway vertices of the fea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reference feature (circle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: area of smallest circumscribing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adius of smallest circumscribing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: area of largest inscribed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adius of largest inscribed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= 119.5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=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5.8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8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201.06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5.1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81.71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6111720" y="266688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761080" y="2058840"/>
            <a:ext cx="236232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5583240" y="44467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5324400" y="16765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 flipH="1" rot="16200000">
            <a:off x="4698360" y="30398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 flipH="1">
            <a:off x="5691240" y="205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5691240" y="3254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 flipH="1">
            <a:off x="569124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76108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97392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812340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6546960" y="26384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076800" y="31590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610400" y="2724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6851520" y="37846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839000" y="371160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518160" y="2711520"/>
            <a:ext cx="1067040" cy="10666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023240" y="3200400"/>
            <a:ext cx="54000" cy="54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100920" y="2378160"/>
            <a:ext cx="1866600" cy="1866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7004160" y="329076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7020000" y="3316320"/>
            <a:ext cx="95256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6629400" y="2906640"/>
            <a:ext cx="423720" cy="319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7201800" y="305928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599520" y="2944800"/>
            <a:ext cx="31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385600" y="5151600"/>
            <a:ext cx="2853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: radius of circumscribing circle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: radius of inscribed circle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L   : major axis of fe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6110280" y="3206880"/>
            <a:ext cx="1752480" cy="53316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7579080" y="34369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Most usual compactness indices are made of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featur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feature area and the area of a circle having the major axis length L as perimeter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L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(0.5 L)</a:t>
            </a:r>
            <a:r>
              <a:rPr b="0" lang="en-US" sz="20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27 A /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largest inscribed circl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I /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(continued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Some other indices derived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featur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’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A /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/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largest inscribed circl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/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minor and the major axi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l,L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l /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the minor axis, perpendicular</a:t>
            </a:r>
            <a:r>
              <a:rPr b="0" lang="en-US" sz="1800" spc="-1" strike="noStrike" baseline="-25000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maj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(continued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nd some easily computable ind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basic elements involved in the computation of compactness are difficult or tedious to produce for irregular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ularly inscribed and circumscribing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numerous GIS software proposed compactness indices are therefore computed as follow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p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C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area of a circle having the same perimeter as the feat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Q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area of a circumscribing square with a side length equal to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- Comparis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655640" y="5213520"/>
            <a:ext cx="55054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istics of the irregular polygon (illustration of the areal object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119.5, L = 15.8, l = 10.9, P = 42.7, C= 201.06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8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5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6" name=""/>
          <p:cNvGraphicFramePr/>
          <p:nvPr/>
        </p:nvGraphicFramePr>
        <p:xfrm>
          <a:off x="1371600" y="1754280"/>
          <a:ext cx="6354720" cy="33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4280"/>
                    <a:ext cx="63547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Described spatial features are models of those from the rea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ir geometry is simplified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object mode: through the use of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geometric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primi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image mode: through the choice of a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resol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ir attributes corresponds to a global thematic property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 object mode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int, linear, areal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im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mode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et of areal units (cells) composing the reg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95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</a:t>
            </a: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- Comment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ll these indices express the relative compactness of a feature with respect to a compact shape of referenc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ll except the last index, the reference is a circular shap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value 1 expresses a maximal compa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sser the compactness of the polygon, the lower the index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index expresses differently the discrepancy between the feature shape and the reference sha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therefore important to master the meaning of index val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</a:t>
            </a: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- Reference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Suggested referen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ker L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vis P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bdon D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tzgerald B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, Mc Cullagh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win D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risi (Cratio)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GIS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Arrangement spatial des objets ponctuel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315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Fin de l‘ Unit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3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Descriptors summarize some properties of spatial features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y are indicators (indices)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ng some properties, no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on the quality of the modele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ch indicators should be considered as estimators of properti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dicators can express the sam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use and interpretation should be made with sound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1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: individual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point feature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t has no spatial dimension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0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the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point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also considered as spatially dimensionless, despite the fact it is made of an areal spatial unit (the cell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s single individual geometric property i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62268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(X coordinate) and vertical (Y coordinate ) positions in the projected plane, using a defined coordinat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object i: (251.18m, 139.5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0734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80200" y="2211480"/>
            <a:ext cx="23619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252900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16640" y="3006720"/>
            <a:ext cx="6804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60960" y="311940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00880" y="371016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8520" y="430056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75480" y="3710160"/>
            <a:ext cx="666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88200" y="416412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07000" y="352908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9360" y="391464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65760" y="37558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24560" y="43466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3480" y="241632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0640" y="27338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92960" y="3211560"/>
            <a:ext cx="6804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24640" y="30970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93000" y="3370320"/>
            <a:ext cx="6804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07000" y="43466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61040" y="24382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93040" y="264312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7280" y="289260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2360" y="459900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43520" y="182880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rot="16200000">
            <a:off x="430452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10360" y="3151080"/>
            <a:ext cx="793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1200" y="315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91480" y="2814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17680" y="45990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280" y="29224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10000" y="2209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310000" y="3429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10000" y="4572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304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4216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4040" y="5257800"/>
            <a:ext cx="24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51.18   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39.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3181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orizontal and vertical position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ted at center of the cell (X,Y coordinat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responding to the cell position in the grid (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column and ro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id resolution depend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tion of region i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251.5m, 139.5m), with a grid resolution of 1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or (7,8) in grid coordinates (column, row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91120" y="1752480"/>
            <a:ext cx="43020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0236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2444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6200000">
            <a:off x="430452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8040" y="2622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8000" y="45990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280" y="27558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10000" y="2006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10000" y="3301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10000" y="4572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736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819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34040" y="5257800"/>
            <a:ext cx="2438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51.5   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39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 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 = 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 = 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2820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440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3520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748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76960" y="2004840"/>
            <a:ext cx="2604600" cy="2562120"/>
            <a:chOff x="5376960" y="2004840"/>
            <a:chExt cx="2604600" cy="2562120"/>
          </a:xfrm>
        </p:grpSpPr>
        <p:sp>
          <p:nvSpPr>
            <p:cNvPr id="176" name=""/>
            <p:cNvSpPr/>
            <p:nvPr/>
          </p:nvSpPr>
          <p:spPr>
            <a:xfrm>
              <a:off x="5376960" y="200484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62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4336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6864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572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1360" y="200484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1040" y="200484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8776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34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4048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6960" y="21445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628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21445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6864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95720" y="21445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21360" y="21445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61040" y="21445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87760" y="21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1340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40480" y="21445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76960" y="227016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628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270160"/>
              <a:ext cx="1249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6864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95720" y="22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21360" y="227016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61040" y="227016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87760" y="22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1340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40480" y="227016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76960" y="23968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1628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336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864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5720" y="23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21360" y="23968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61040" y="23968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7760" y="23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340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4048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6960" y="252252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1628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43360" y="252252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6864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95720" y="25225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1360" y="252252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61040" y="252252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87760" y="25225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340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40480" y="2522520"/>
              <a:ext cx="1249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6960" y="2649240"/>
              <a:ext cx="1393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62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3360" y="2649240"/>
              <a:ext cx="1249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6864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572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1360" y="2649240"/>
              <a:ext cx="1393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61040" y="2649240"/>
              <a:ext cx="12636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776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134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0480" y="2649240"/>
              <a:ext cx="1249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6960" y="278748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16280" y="2787480"/>
              <a:ext cx="1267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4336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864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5720" y="27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1360" y="278748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1040" y="278748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7760" y="27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340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048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76960" y="291456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1628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4336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6864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95720" y="29145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21360" y="291456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61040" y="2914560"/>
              <a:ext cx="12636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7760" y="29145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1340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4048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76960" y="304164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1628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43360" y="304164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6864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5720" y="30416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21360" y="304164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61040" y="304164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7760" y="30416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1340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0480" y="3041640"/>
              <a:ext cx="1249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6960" y="316692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628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336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864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95720" y="31669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21360" y="316692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61040" y="316692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87760" y="31669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1340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4048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76960" y="32940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1628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43360" y="32940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6864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5720" y="3294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1360" y="32940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61040" y="32940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87760" y="3294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1340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40480" y="32940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76960" y="341928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1628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43360" y="3419280"/>
              <a:ext cx="1249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6864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572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21360" y="341928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61040" y="341928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776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1340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0480" y="341928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76960" y="355896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628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4336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864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5720" y="35589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21360" y="355896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1040" y="355896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87760" y="35589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1340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4048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6960" y="368460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1628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4336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8640" y="368460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95720" y="36846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1360" y="368460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61040" y="368460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87760" y="36846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1340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4048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69000" y="200484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69000" y="21445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69000" y="227016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69000" y="23968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69000" y="252252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9000" y="2649240"/>
              <a:ext cx="12636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69000" y="278748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69000" y="291456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69000" y="304164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9000" y="316692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69000" y="32940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69000" y="341928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9000" y="355896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69000" y="368460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572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572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9572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9572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9572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9572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9572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9572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9572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9572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9572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9572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95720" y="355896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572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280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2280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2800" y="23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2280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2280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2280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2280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2280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2280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2280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2280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2280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2280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6104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104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104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104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6104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6104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104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6104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6104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6104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6104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6104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6104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6104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812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88120" y="214452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88120" y="227016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8812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8120" y="252252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8120" y="2649240"/>
              <a:ext cx="12492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8812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8812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88120" y="304164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8812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88120" y="3294000"/>
              <a:ext cx="1249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88120" y="341928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8812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8812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134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1340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1340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1340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340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134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1340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1340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1340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1340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1340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340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340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1340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404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4048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4048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4048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4048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404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4048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4048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4048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4048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4048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048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4048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4048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76960" y="38113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1628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36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6864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95720" y="38113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21360" y="38113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61040" y="3811320"/>
              <a:ext cx="12636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87760" y="38113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340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4048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69000" y="38113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9572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2280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6104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8812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340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4048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76960" y="39402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1628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4336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6864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95720" y="3940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21360" y="39402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1040" y="39402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87760" y="3940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340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4048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69000" y="39402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9572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2280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6104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8812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340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048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76960" y="406872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1628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4336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6864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95720" y="40687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21360" y="406872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61040" y="406872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7760" y="40687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1340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4048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9000" y="406872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9572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2280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6104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8812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1340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40480" y="4068720"/>
              <a:ext cx="1267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76960" y="41958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628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4336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6864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95720" y="4195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21360" y="41958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61040" y="41958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87760" y="4195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1340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048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69000" y="41958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9572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2280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61040" y="4195800"/>
              <a:ext cx="1267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8812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340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4048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76960" y="43192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628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43360" y="431928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6864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95720" y="4319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360" y="43192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61040" y="43192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7760" y="4319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1340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40480" y="431928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69000" y="43192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9572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2280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6104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88120" y="43192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1340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4048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76960" y="444168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1628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336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6864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95720" y="44416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21360" y="444168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61040" y="444168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87760" y="44416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340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4048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69000" y="444168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9572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2280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6104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812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340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4048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67560" y="2004840"/>
              <a:ext cx="1375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67560" y="214452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67560" y="227016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67560" y="239688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67560" y="252252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67560" y="2649240"/>
              <a:ext cx="1375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7560" y="2787480"/>
              <a:ext cx="1375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7560" y="2914560"/>
              <a:ext cx="1375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67560" y="304164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67560" y="3166920"/>
              <a:ext cx="1375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67560" y="32940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7560" y="3419280"/>
              <a:ext cx="1375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7560" y="3558960"/>
              <a:ext cx="1375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7560" y="368460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7560" y="381132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7560" y="39402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67560" y="406872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67560" y="41958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567560" y="431928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67560" y="444168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0544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0544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0544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05440" y="239688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0544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0544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0544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544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0544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544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0544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0544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0544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0544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0544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0544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0544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0544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0544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0544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368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4368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368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43680" y="23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4368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4368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4368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4368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4368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4368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4368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4368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4368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4368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4368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4368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4368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4368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368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4368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 flipH="1">
            <a:off x="5291280" y="2984400"/>
            <a:ext cx="938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1520" y="2971800"/>
            <a:ext cx="0" cy="170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4-17T12:59:49Z</cp:lastPrinted>
  <dcterms:modified xsi:type="dcterms:W3CDTF">2003-11-12T12:15:22Z</dcterms:modified>
  <cp:revision>303</cp:revision>
  <dc:subject/>
  <dc:title>Leçon 2: Variables spatiales discrètes  Unité 1: Introduction</dc:title>
</cp:coreProperties>
</file>