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08B8-0097-4FDC-82B0-35AD8AA64E50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252520" y="6095880"/>
            <a:ext cx="15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3: Spatial pattern of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d4d4d"/>
                </a:solidFill>
                <a:latin typeface="Arial"/>
              </a:rPr>
              <a:t>May 30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3: Pattern and neighborhood of spatial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attern and neighborhood (relationship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oint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inear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real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mean and media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M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  ,    ) or (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enter of gr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ary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200" spc="-1" strike="noStrike" baseline="-25000">
                <a:solidFill>
                  <a:srgbClr val="cc0066"/>
                </a:solidFill>
                <a:latin typeface="Arial"/>
              </a:rPr>
              <a:t>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coordinates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é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é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76720" y="199080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1992240"/>
                <a:ext cx="235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00200" y="2568600"/>
                <a:ext cx="1197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680000" y="2579760"/>
                <a:ext cx="1198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central tendenc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90528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902280" y="3904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5400" y="385452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5,   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487980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5143680" y="374004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065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9680" y="3683160"/>
            <a:ext cx="108000" cy="10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375,   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4.1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82920" y="4879800"/>
            <a:ext cx="56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988200" y="3559320"/>
            <a:ext cx="531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di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10440" y="2297160"/>
            <a:ext cx="2618280" cy="2665080"/>
            <a:chOff x="5410440" y="2297160"/>
            <a:chExt cx="2618280" cy="2665080"/>
          </a:xfrm>
        </p:grpSpPr>
        <p:grpSp>
          <p:nvGrpSpPr>
            <p:cNvPr id="315" name=""/>
            <p:cNvGrpSpPr/>
            <p:nvPr/>
          </p:nvGrpSpPr>
          <p:grpSpPr>
            <a:xfrm>
              <a:off x="5914800" y="2595600"/>
              <a:ext cx="2019240" cy="1957680"/>
              <a:chOff x="5914800" y="2595600"/>
              <a:chExt cx="2019240" cy="1957680"/>
            </a:xfrm>
          </p:grpSpPr>
          <p:sp>
            <p:nvSpPr>
              <p:cNvPr id="316" name=""/>
              <p:cNvSpPr/>
              <p:nvPr/>
            </p:nvSpPr>
            <p:spPr>
              <a:xfrm>
                <a:off x="5914800" y="37465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03720" y="3967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51400" y="4424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75360" y="4195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42080" y="39672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89720" y="35100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8640" y="3738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08640" y="3281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96080" y="2595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9720" y="41785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75360" y="4276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84840" y="372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84960" y="3289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9360" y="37004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46720" y="30243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05440" y="2662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410440" y="2297160"/>
              <a:ext cx="2618280" cy="2665080"/>
              <a:chOff x="5410440" y="2297160"/>
              <a:chExt cx="2618280" cy="266508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33560" y="47210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550840" y="4602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2280" y="465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533560" y="44845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550840" y="43671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62280" y="441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533560" y="4249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550840" y="41320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62280" y="4181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533560" y="4014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550840" y="38955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622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533560" y="37782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550840" y="3660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62280" y="3709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533560" y="3543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550840" y="3425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62280" y="3475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533560" y="3308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550840" y="3189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62280" y="323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533560" y="30718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50840" y="2954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62280" y="300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533560" y="2836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550840" y="2719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62280" y="276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533560" y="2601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550840" y="24829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2280" y="253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533560" y="23605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10440" y="229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14720" y="47210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68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03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90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5772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815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33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41484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672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07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564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07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719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976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50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0560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13088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818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208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2448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48800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1364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660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2128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512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69752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62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15320" y="483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70280" y="23605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7962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70280" y="47210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5920" y="47228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548320" y="484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13280" y="47228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960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3888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1343520" y="2286000"/>
            <a:ext cx="2618280" cy="2665080"/>
            <a:chOff x="1343520" y="2286000"/>
            <a:chExt cx="2618280" cy="2665080"/>
          </a:xfrm>
        </p:grpSpPr>
        <p:grpSp>
          <p:nvGrpSpPr>
            <p:cNvPr id="404" name=""/>
            <p:cNvGrpSpPr/>
            <p:nvPr/>
          </p:nvGrpSpPr>
          <p:grpSpPr>
            <a:xfrm>
              <a:off x="1847880" y="2584440"/>
              <a:ext cx="2019240" cy="1957680"/>
              <a:chOff x="1847880" y="2584440"/>
              <a:chExt cx="2019240" cy="1957680"/>
            </a:xfrm>
          </p:grpSpPr>
          <p:sp>
            <p:nvSpPr>
              <p:cNvPr id="405" name=""/>
              <p:cNvSpPr/>
              <p:nvPr/>
            </p:nvSpPr>
            <p:spPr>
              <a:xfrm>
                <a:off x="18478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368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844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84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751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228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417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417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291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528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084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179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180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2324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798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385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343520" y="2286000"/>
              <a:ext cx="2618280" cy="2665080"/>
              <a:chOff x="1343520" y="2286000"/>
              <a:chExt cx="2618280" cy="2665080"/>
            </a:xfrm>
          </p:grpSpPr>
          <p:sp>
            <p:nvSpPr>
              <p:cNvPr id="422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4666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4839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953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4666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4839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953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4666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4839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3953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4666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4839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3953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4666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14839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953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4666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4839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3953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14666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4839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953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14666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4839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953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14666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14839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953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14666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4839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953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4666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435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478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01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73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24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908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146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67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479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003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463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89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40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050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06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683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386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39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14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051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575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210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467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399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43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782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306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95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484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5033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3895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5033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290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814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7463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291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719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central tendenc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05152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16200000">
            <a:off x="412200" y="34336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6200000">
            <a:off x="455544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ff"/>
                </a:solidFill>
                <a:latin typeface="Arial"/>
              </a:rPr>
              <a:t>Based on standard deviations and quartiles of X and Y coordinat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andard deviation of X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x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Y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erquartile of X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x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IQ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Y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y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IQ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IQ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: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first quartile and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thir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066680" y="2558880"/>
                <a:ext cx="2259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4446720" y="2558880"/>
                <a:ext cx="2259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5334120"/>
            <a:ext cx="1981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7 - 3.5 = 3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5 - 2.5 =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5334120"/>
            <a:ext cx="3048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.3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.5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38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tandard dev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Interquart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3880" y="3440160"/>
            <a:ext cx="0" cy="58428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22600" y="466740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95840" y="3457440"/>
            <a:ext cx="0" cy="69876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404040" y="4689360"/>
            <a:ext cx="8445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86400" y="390528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902280" y="3904920"/>
            <a:ext cx="0" cy="97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410440" y="2297160"/>
            <a:ext cx="2618280" cy="2665080"/>
            <a:chOff x="5410440" y="2297160"/>
            <a:chExt cx="2618280" cy="2665080"/>
          </a:xfrm>
        </p:grpSpPr>
        <p:grpSp>
          <p:nvGrpSpPr>
            <p:cNvPr id="514" name=""/>
            <p:cNvGrpSpPr/>
            <p:nvPr/>
          </p:nvGrpSpPr>
          <p:grpSpPr>
            <a:xfrm>
              <a:off x="5914800" y="2595600"/>
              <a:ext cx="2019240" cy="1957680"/>
              <a:chOff x="5914800" y="2595600"/>
              <a:chExt cx="2019240" cy="1957680"/>
            </a:xfrm>
          </p:grpSpPr>
          <p:sp>
            <p:nvSpPr>
              <p:cNvPr id="515" name=""/>
              <p:cNvSpPr/>
              <p:nvPr/>
            </p:nvSpPr>
            <p:spPr>
              <a:xfrm>
                <a:off x="5914800" y="37465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03720" y="3967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251400" y="4424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5360" y="4195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42080" y="39672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89720" y="35100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208640" y="3738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8640" y="3281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96080" y="2595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19720" y="41785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75360" y="4276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84840" y="372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84960" y="3289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99360" y="37004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46720" y="30243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05440" y="2662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410440" y="2297160"/>
              <a:ext cx="2618280" cy="2665080"/>
              <a:chOff x="5410440" y="2297160"/>
              <a:chExt cx="2618280" cy="266508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533560" y="47210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550840" y="4602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62280" y="465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533560" y="44845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550840" y="43671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62280" y="441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533560" y="4249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5550840" y="41320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62280" y="4181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533560" y="4014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550840" y="38955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622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533560" y="37782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550840" y="3660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62280" y="3709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533560" y="3543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550840" y="3425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62280" y="3475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533560" y="3308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550840" y="3189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62280" y="323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533560" y="30718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550840" y="2954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62280" y="300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533560" y="2836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550840" y="2719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62280" y="276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533560" y="2601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550840" y="24829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62280" y="253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533560" y="23605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10440" y="229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14720" y="47210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68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403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790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772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815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33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1484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2672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5307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564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07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719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976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50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0560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3088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818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7208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448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48800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1364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660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2128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4512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752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62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15320" y="483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70280" y="23605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962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70280" y="47210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95920" y="47228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48320" y="484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47228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960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3888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6856560" y="38606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716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065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343520" y="2286000"/>
            <a:ext cx="2618280" cy="2665080"/>
            <a:chOff x="1343520" y="2286000"/>
            <a:chExt cx="2618280" cy="2665080"/>
          </a:xfrm>
        </p:grpSpPr>
        <p:grpSp>
          <p:nvGrpSpPr>
            <p:cNvPr id="606" name=""/>
            <p:cNvGrpSpPr/>
            <p:nvPr/>
          </p:nvGrpSpPr>
          <p:grpSpPr>
            <a:xfrm>
              <a:off x="1847880" y="2584440"/>
              <a:ext cx="2019240" cy="1957680"/>
              <a:chOff x="1847880" y="2584440"/>
              <a:chExt cx="2019240" cy="1957680"/>
            </a:xfrm>
          </p:grpSpPr>
          <p:sp>
            <p:nvSpPr>
              <p:cNvPr id="607" name=""/>
              <p:cNvSpPr/>
              <p:nvPr/>
            </p:nvSpPr>
            <p:spPr>
              <a:xfrm>
                <a:off x="18478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368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844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084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751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228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417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417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291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528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084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179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180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324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98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385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343520" y="2286000"/>
              <a:ext cx="2618280" cy="2665080"/>
              <a:chOff x="1343520" y="2286000"/>
              <a:chExt cx="2618280" cy="266508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4666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4839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953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14666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4839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953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4666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14839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953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4666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4839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953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4666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4839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953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4666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4839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953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14666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14839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953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14666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4839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953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4666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4839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953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4666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14839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953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14666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35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478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01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73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724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9908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146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67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3479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2003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63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89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0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050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306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83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386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639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14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3051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575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210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467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399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6543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782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306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95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484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033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3895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033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90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814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463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2291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719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4" name=""/>
          <p:cNvSpPr/>
          <p:nvPr/>
        </p:nvSpPr>
        <p:spPr>
          <a:xfrm>
            <a:off x="2752560" y="36878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752480" y="559584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18080" y="559440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3000" y="495288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rot="16200000">
            <a:off x="489960" y="34318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combined dispersio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Distanc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Bachi distance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measure of the the combined dispersion in X and Y directions, with reference to the mea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2017800" y="2689200"/>
                <a:ext cx="3965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Global index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92120" y="5334120"/>
            <a:ext cx="287064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Corriger DS dans équation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59240" y="54990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2.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386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Standard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15240" y="3228840"/>
            <a:ext cx="0" cy="5079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566720" y="2374920"/>
                <a:ext cx="1160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1573560" y="4680000"/>
            <a:ext cx="186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4.73 + 5.6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2.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99800" y="2851200"/>
            <a:ext cx="682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4.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5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66720" y="3459240"/>
                <a:ext cx="1160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6400800" y="3222720"/>
            <a:ext cx="1028880" cy="1028520"/>
          </a:xfrm>
          <a:prstGeom prst="ellipse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864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9213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grpSp>
          <p:nvGrpSpPr>
            <p:cNvPr id="720" name=""/>
            <p:cNvGrpSpPr/>
            <p:nvPr/>
          </p:nvGrpSpPr>
          <p:grpSpPr>
            <a:xfrm>
              <a:off x="5962680" y="2584440"/>
              <a:ext cx="2019240" cy="1957680"/>
              <a:chOff x="5962680" y="2584440"/>
              <a:chExt cx="2019240" cy="1957680"/>
            </a:xfrm>
          </p:grpSpPr>
          <p:sp>
            <p:nvSpPr>
              <p:cNvPr id="721" name=""/>
              <p:cNvSpPr/>
              <p:nvPr/>
            </p:nvSpPr>
            <p:spPr>
              <a:xfrm>
                <a:off x="59626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516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2992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232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7899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376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2565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565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439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2676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232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327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4328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472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6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7533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458320" y="2286000"/>
              <a:ext cx="2618280" cy="2665080"/>
              <a:chOff x="5458320" y="2286000"/>
              <a:chExt cx="2618280" cy="2665080"/>
            </a:xfrm>
          </p:grpSpPr>
          <p:sp>
            <p:nvSpPr>
              <p:cNvPr id="738" name=""/>
              <p:cNvSpPr/>
              <p:nvPr/>
            </p:nvSpPr>
            <p:spPr>
              <a:xfrm flipV="1">
                <a:off x="5616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55814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55987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5101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55814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55987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101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55814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55987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101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55814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55987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5101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55814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55987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5101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55814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55987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101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55814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55987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101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5814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55987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101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5814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55987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101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5814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55987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101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55814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583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26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167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9882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388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056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29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818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4627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315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786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7042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819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45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978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0534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1787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0297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199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2723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5358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615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13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691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930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454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107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632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6181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8010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6181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616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438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962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11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343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2867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6867360" y="36878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823000" y="563868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Standar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Typology of point spatial distribu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304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020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36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2452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6168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32360" y="4122720"/>
            <a:ext cx="97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72360" y="4122720"/>
            <a:ext cx="83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70080" y="4122720"/>
            <a:ext cx="1107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profi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64280" y="4122720"/>
            <a:ext cx="12441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contour li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79800" y="4122720"/>
            <a:ext cx="12456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regular mes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5744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36640" y="3195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7804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20800" y="33386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7804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54360" y="32688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25560" y="32130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78040" y="3230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714680" y="32558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41400" y="3332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87400" y="33656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54280" y="28749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77960" y="3141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82880" y="3205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32040" y="3535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0080" y="38656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25960" y="35352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568680" y="37893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29080" y="34336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21040" y="36496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717640" y="3560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86280" y="38908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84400" y="28116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11480" y="29894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32558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4500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403440" y="3344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29080" y="38908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41600" y="2824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83160" y="29383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29000" y="30780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025880" y="28494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78160" y="3002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3080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8308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635360" y="345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88000" y="3611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40280" y="3763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00680" y="36496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27400" y="3560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54480" y="34718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815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35360" y="3205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62440" y="3116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89520" y="3027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16600" y="2938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00680" y="33829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2740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5448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815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08640" y="33829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353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6244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8952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01660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4120" y="3852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59320" y="3700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35640" y="3624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97480" y="32180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6272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283360" y="32814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76840" y="3141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956200" y="3002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42080" y="30654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03920" y="3319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37440" y="28116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286680" y="29131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48520" y="29894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97760" y="30780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12144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31000" y="32688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413400" y="3319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286680" y="34718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362640" y="3408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89440" y="3776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29480" y="37130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3700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70680" y="36752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45120" y="32180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70680" y="2760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45120" y="290052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76840" y="3344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75320" y="335772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95960" y="3421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651640" y="35226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37160" y="35733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880240" y="34592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91320" y="3484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81760" y="345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83280" y="3484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172200" y="34974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587920" y="38782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43880" y="28368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43880" y="30146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43880" y="31924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43880" y="33703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43880" y="35481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43880" y="37260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743880" y="390384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92136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2136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92136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92136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92136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2136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136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9920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9920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09920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09920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9920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9920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9920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7704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27704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27704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27704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7704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27704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27704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45488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5488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5488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5488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45488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45488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45488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3272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3272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3272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3272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3272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3272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63272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1056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81056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1056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1056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1056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81056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81056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5032440"/>
            <a:ext cx="761976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Objective: Production of an index expressing these distribution differe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64920" y="2386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28600" y="2386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8720" y="238608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2.14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291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48320" y="28432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76920" y="27669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91120" y="3719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92560" y="3916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30718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343400" y="3795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95680" y="3871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3948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10080" y="2995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37160" y="2906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257800" y="2995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51640" y="27669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91320" y="2728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3605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286680" y="36939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362640" y="3630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72200" y="3719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515280" y="37702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388200" y="3922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64160" y="3859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273720" y="3948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Spatial pattern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545040" y="1612440"/>
            <a:ext cx="8281800" cy="41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The nearest neighbor R index compares the observed distribution of points with a theoretically random o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It is a rat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Index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distance in the observed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distance in the random distrib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94560" y="3205080"/>
            <a:ext cx="5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59120" y="3394080"/>
            <a:ext cx="467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888920" y="3048120"/>
            <a:ext cx="465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distance between pairs of points s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87840" y="3406680"/>
            <a:ext cx="404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distance for a random 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487520" y="4154400"/>
                <a:ext cx="1444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3186000" y="4383000"/>
            <a:ext cx="4302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distance from point i to its nearest neighbo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384200" y="5257800"/>
                <a:ext cx="1568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1" name=""/>
          <p:cNvSpPr/>
          <p:nvPr/>
        </p:nvSpPr>
        <p:spPr>
          <a:xfrm>
            <a:off x="3267360" y="5307120"/>
            <a:ext cx="246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: area of the study 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: number of 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7121160" y="3057480"/>
            <a:ext cx="424080" cy="739080"/>
            <a:chOff x="7121160" y="3057480"/>
            <a:chExt cx="424080" cy="739080"/>
          </a:xfrm>
        </p:grpSpPr>
        <p:sp>
          <p:nvSpPr>
            <p:cNvPr id="1003" name=""/>
            <p:cNvSpPr/>
            <p:nvPr/>
          </p:nvSpPr>
          <p:spPr>
            <a:xfrm>
              <a:off x="7218000" y="3101760"/>
              <a:ext cx="8856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1160" y="305748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19800" y="3481200"/>
              <a:ext cx="8856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21520" y="3427200"/>
              <a:ext cx="4237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cc0066"/>
                  </a:solidFill>
                  <a:latin typeface="Arial"/>
                </a:rPr>
                <a:t>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175160" y="3384360"/>
              <a:ext cx="2282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6780960" y="320184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Nearest neighbor R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648320" y="527364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 = 1.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is a near random distrib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6386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Nearest neighb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14400" y="4808520"/>
            <a:ext cx="3276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al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0.5 / (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8 / (10 * 10) ) = 1.76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67360" y="40417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05720" y="402732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454800" y="357336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7162920" y="265896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48520" y="3354480"/>
            <a:ext cx="1440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012680" y="497376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990720" y="2362320"/>
          <a:ext cx="300996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30099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914400" y="45720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 = 17.1422 / 8 = 2.14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12680" y="461808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14400" y="5257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   = 2.1428 / 1.768 = 1.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24440" y="37353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913360" y="39560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61040" y="4413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85000" y="4184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651720" y="39560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399360" y="34988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118280" y="3727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18280" y="3270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05720" y="2584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216480" y="4214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85000" y="41893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705720" y="37479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294600" y="3278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09000" y="3689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34320" y="3056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615080" y="2651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5320080" y="2286000"/>
            <a:ext cx="2618280" cy="2665080"/>
            <a:chOff x="5320080" y="2286000"/>
            <a:chExt cx="2618280" cy="2665080"/>
          </a:xfrm>
        </p:grpSpPr>
        <p:sp>
          <p:nvSpPr>
            <p:cNvPr id="1044" name=""/>
            <p:cNvSpPr/>
            <p:nvPr/>
          </p:nvSpPr>
          <p:spPr>
            <a:xfrm flipV="1">
              <a:off x="5478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44320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546048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7192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44320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46048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192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44320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46048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192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544320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46048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7192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44320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546048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192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544320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546048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7192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44320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46048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7192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44320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546048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7192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544320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546048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7192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44320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546048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7192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44320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2436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78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5000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00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673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9120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3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448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76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404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660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166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81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807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596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9152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40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8914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81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34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97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23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756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3092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7547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6071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72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7992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7872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47992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5478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0556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5796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2292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2056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48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4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R index - Exampl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686880" y="1829520"/>
            <a:ext cx="7770240" cy="38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Arial"/>
              </a:rPr>
              <a:t>The most common neighborhood relationship is the measure of proximity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bject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s of largest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ited by equidistance line segments between points (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media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Voronoï’s polyg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mage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distance to the nearest poi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 of largest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Neighborhood relationship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delimited by the medians of segments connecting po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point center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are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648320" y="5499000"/>
            <a:ext cx="38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8 poin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81480" y="1828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hiessen Polyg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486400" y="2433600"/>
            <a:ext cx="2386080" cy="2362320"/>
            <a:chOff x="5486400" y="2433600"/>
            <a:chExt cx="2386080" cy="2362320"/>
          </a:xfrm>
        </p:grpSpPr>
        <p:sp>
          <p:nvSpPr>
            <p:cNvPr id="1125" name=""/>
            <p:cNvSpPr/>
            <p:nvPr/>
          </p:nvSpPr>
          <p:spPr>
            <a:xfrm>
              <a:off x="6405480" y="2433600"/>
              <a:ext cx="457200" cy="12193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48400" y="2433600"/>
              <a:ext cx="1324080" cy="9907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86400" y="3048120"/>
              <a:ext cx="826920" cy="925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872400" y="3576600"/>
              <a:ext cx="990360" cy="763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5486400" y="4201920"/>
              <a:ext cx="826920" cy="44604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6541560" y="4425840"/>
              <a:ext cx="87480" cy="3700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 flipV="1">
              <a:off x="7008480" y="4049640"/>
              <a:ext cx="849240" cy="3700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313320" y="3744720"/>
              <a:ext cx="53352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851160" y="3652920"/>
              <a:ext cx="11160" cy="93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13320" y="397368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313320" y="4202280"/>
              <a:ext cx="22860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541920" y="4049280"/>
              <a:ext cx="457200" cy="38124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6846480" y="3745080"/>
              <a:ext cx="152280" cy="304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grpSp>
          <p:nvGrpSpPr>
            <p:cNvPr id="1139" name=""/>
            <p:cNvGrpSpPr/>
            <p:nvPr/>
          </p:nvGrpSpPr>
          <p:grpSpPr>
            <a:xfrm>
              <a:off x="5824440" y="2662200"/>
              <a:ext cx="2019240" cy="1957680"/>
              <a:chOff x="5824440" y="2662200"/>
              <a:chExt cx="2019240" cy="1957680"/>
            </a:xfrm>
          </p:grpSpPr>
          <p:sp>
            <p:nvSpPr>
              <p:cNvPr id="1140" name=""/>
              <p:cNvSpPr/>
              <p:nvPr/>
            </p:nvSpPr>
            <p:spPr>
              <a:xfrm>
                <a:off x="5824440" y="38131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913360" y="4033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161040" y="4491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85000" y="4262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51720" y="40338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99360" y="35766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118280" y="3805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18280" y="3348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05720" y="2662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29360" y="42451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85000" y="43434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594480" y="3787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294600" y="3355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209000" y="3767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056360" y="3090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15080" y="2728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320080" y="2363760"/>
              <a:ext cx="2618280" cy="2665080"/>
              <a:chOff x="5320080" y="2363760"/>
              <a:chExt cx="2618280" cy="266508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5478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5443200" y="47876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5460480" y="4668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371920" y="471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5443200" y="4551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5460480" y="4433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71920" y="4483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443200" y="4316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5460480" y="41986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371920" y="424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443200" y="40813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5460480" y="3962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371920" y="401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5443200" y="3844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5460480" y="3727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371920" y="3776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443200" y="3609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5460480" y="34923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371920" y="35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443200" y="33750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5460480" y="3255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71920" y="3305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5443200" y="31384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5460480" y="30207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371920" y="3070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5443200" y="2903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5460480" y="27860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371920" y="283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5443200" y="26683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5460480" y="25495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71920" y="259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5443200" y="24271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20080" y="2363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724360" y="47876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4784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5000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70060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6736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9120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4360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32448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768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4040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6604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41664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8160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724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65964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1524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4052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8914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8172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13412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9764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2328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756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092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476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0716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8724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824960" y="49053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479920" y="24271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7872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479920" y="47876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5478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05560" y="47894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45796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22920" y="47894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056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14852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7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s 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point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point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5497560" y="2405160"/>
            <a:ext cx="2844720" cy="240660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5861160" y="39355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49960" y="419724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043760" y="4222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92760" y="4011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34280" y="3298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381800" y="3710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229520" y="3070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69608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1244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6.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1.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5508720" y="2408400"/>
            <a:ext cx="2635200" cy="239544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point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point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35520" y="39355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24680" y="4284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918480" y="4222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534000" y="40449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308640" y="3298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256520" y="3710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04240" y="3070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5708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332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2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point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407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linear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ize, index of spati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xity indices of linea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areas and region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Connexity indices for linear features organised as a </a:t>
            </a:r>
            <a:r>
              <a:rPr b="1" i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network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 will be discussed in the Lesson dedicated to acces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lobal description of featur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 linear features (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st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nnec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on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la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isolated feature: featu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ets of connected features: {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,3,4,5,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, {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7,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ach linear featur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ade of a single chain with or without vertices (inflexion point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992920" y="373392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566040" y="37339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47712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647040" y="4199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09000" y="28702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42080" y="39625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1450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5483160" y="541008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/>
          </p:nvPr>
        </p:nvSpPr>
        <p:spPr>
          <a:xfrm>
            <a:off x="644400" y="1676160"/>
            <a:ext cx="3851280" cy="41907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28008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67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: total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: number of fea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dex expresses the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verage leng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overall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sit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67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 = L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: total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: area of the reg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dex can be used to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omp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nsity of several reg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723920" y="1676160"/>
            <a:ext cx="3768840" cy="41907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715000" y="487692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7.3 / 8 = 3.413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5996160" y="2363760"/>
          <a:ext cx="1242720" cy="19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6160" y="2363760"/>
                    <a:ext cx="124272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9" name=""/>
          <p:cNvSpPr/>
          <p:nvPr/>
        </p:nvSpPr>
        <p:spPr>
          <a:xfrm>
            <a:off x="5746680" y="541008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= 27.3 / 100 = 0.2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Spatial dens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Index of connex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 = c / 0.5 n (n-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  c : number of chai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: number of no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denominator expresses the number of 2 by 2 combinations of connec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refore: 0 &gt;= C &lt;=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 a planar network with n&gt;3, C could not be equal to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03848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the above example, the set of 8 features contain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11 nod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8 chai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C index value i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 = 8 / 0.5 (11* 10) = 0.1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onnexity of the whole set is low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one of the 3 subsets has a different level of connexity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 / 0.5 (2 * 1) 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-6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5 / 0.5 (6 * 5) = 0.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7,8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2 / 0.5 (3 * 2) = 0.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c0066"/>
                </a:solidFill>
                <a:latin typeface="Arial"/>
              </a:rPr>
              <a:t>See also Kansky ’s beta and gamma indi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Connexity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proximity to each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linear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1566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 flipH="1">
            <a:off x="6689520" y="4141800"/>
            <a:ext cx="45720" cy="460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5486400" y="2506320"/>
            <a:ext cx="2406600" cy="2362680"/>
            <a:chOff x="5486400" y="2506320"/>
            <a:chExt cx="2406600" cy="2362680"/>
          </a:xfrm>
        </p:grpSpPr>
        <p:sp>
          <p:nvSpPr>
            <p:cNvPr id="1638" name=""/>
            <p:cNvSpPr/>
            <p:nvPr/>
          </p:nvSpPr>
          <p:spPr>
            <a:xfrm>
              <a:off x="5486400" y="3824280"/>
              <a:ext cx="2318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718240" y="3733560"/>
              <a:ext cx="32364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041880" y="3641760"/>
              <a:ext cx="184320" cy="92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6226200" y="3460320"/>
              <a:ext cx="93600" cy="18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6319800" y="332388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6458040" y="3278160"/>
              <a:ext cx="93600" cy="46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551640" y="3278160"/>
              <a:ext cx="2300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6781680" y="3142800"/>
              <a:ext cx="139680" cy="135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6921360" y="2916360"/>
              <a:ext cx="27792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7199280" y="2779560"/>
              <a:ext cx="92160" cy="13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7291440" y="2642760"/>
              <a:ext cx="46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7337520" y="250632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197760" y="3656160"/>
              <a:ext cx="509400" cy="5000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597720" y="4187880"/>
              <a:ext cx="9216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6319800" y="4324320"/>
              <a:ext cx="2779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5624280" y="4324320"/>
              <a:ext cx="695160" cy="31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5486400" y="464184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6735600" y="4005000"/>
              <a:ext cx="18576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21360" y="4005360"/>
              <a:ext cx="46080" cy="409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6597360" y="4323960"/>
              <a:ext cx="36972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67440" y="4414680"/>
              <a:ext cx="231840" cy="18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81680" y="3278160"/>
              <a:ext cx="139680" cy="409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921360" y="3687840"/>
              <a:ext cx="0" cy="31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921360" y="3687840"/>
              <a:ext cx="27792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199280" y="377820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7199280" y="3914640"/>
              <a:ext cx="138240" cy="681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7059600" y="4595760"/>
              <a:ext cx="139680" cy="273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21360" y="3143160"/>
              <a:ext cx="241560" cy="285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62920" y="3429000"/>
              <a:ext cx="730080" cy="31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1452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589800" y="35053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60240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761160" y="4078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516800" y="3002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42080" y="4068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s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8 linear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linear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linear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5508720" y="2384280"/>
            <a:ext cx="2819160" cy="2386080"/>
          </a:xfrm>
          <a:prstGeom prst="rect">
            <a:avLst/>
          </a:prstGeom>
          <a:ln w="0">
            <a:noFill/>
          </a:ln>
        </p:spPr>
      </p:pic>
      <p:grpSp>
        <p:nvGrpSpPr>
          <p:cNvPr id="1682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683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6243480" y="2841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014880" y="362736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588000" y="362736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088040" y="394164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499080" y="445284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669000" y="40924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30960" y="2763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467480" y="38098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3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cepts of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patter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neighborhoo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re complex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few properties will be considered: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entr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loc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dispers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ontigu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distan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proxim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fferent models of space can be related with these concepts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Plane isotropic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omogene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ace, plan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Skew isotropic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eterogen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, weighted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Skew anisotropic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eterogen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with variable 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ighted directionn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Only the plane isotropic space will be considered in this Uni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linear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linear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644920" cy="2355840"/>
          </a:xfrm>
          <a:prstGeom prst="rect">
            <a:avLst/>
          </a:prstGeom>
          <a:ln w="0">
            <a:noFill/>
          </a:ln>
        </p:spPr>
      </p:pic>
      <p:grpSp>
        <p:nvGrpSpPr>
          <p:cNvPr id="1770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771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5943600" y="27432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764320" y="3916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477120" y="34290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053120" y="39085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248520" y="44528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691320" y="40384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494480" y="2925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5168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linear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856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are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of size, index of spati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largest proxi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region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roposed density indices are just a selection of indices used in landscape analysis (see Fragsta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lobal description of featur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 areal features (id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me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ntigu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some othe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la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isolated features: 1 a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contiguous features: 3 a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ach areal featur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ade of a single chain (no inner or outer island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5334120" y="2286000"/>
            <a:ext cx="2604240" cy="2665080"/>
            <a:chOff x="5334120" y="2286000"/>
            <a:chExt cx="2604240" cy="2665080"/>
          </a:xfrm>
        </p:grpSpPr>
        <p:sp>
          <p:nvSpPr>
            <p:cNvPr id="1864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457240" y="4709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5474160" y="4591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3859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5457240" y="4473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474160" y="4356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3859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5457240" y="4238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5474160" y="4120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3859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5457240" y="4003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5474160" y="3884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3859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457240" y="3767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5474160" y="3649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859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457240" y="3531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5474160" y="3414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859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5457240" y="3297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5474160" y="3178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3859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5457240" y="3060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5474160" y="2943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859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5457240" y="2825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5474160" y="2708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9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5457240" y="2590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5474160" y="2471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3859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5457240" y="2349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3341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736240" y="4709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9180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8611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13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781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10128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54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3331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1862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4483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5732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24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84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8133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666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9206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4520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7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853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384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400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5254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78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6323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75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6089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7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93240" y="2349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787284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493240" y="4709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18160" y="4711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164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3480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2150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15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5815080" y="2558880"/>
            <a:ext cx="1812960" cy="2028600"/>
            <a:chOff x="5815080" y="2558880"/>
            <a:chExt cx="1812960" cy="2028600"/>
          </a:xfrm>
        </p:grpSpPr>
        <p:sp>
          <p:nvSpPr>
            <p:cNvPr id="1935" name=""/>
            <p:cNvSpPr/>
            <p:nvPr/>
          </p:nvSpPr>
          <p:spPr>
            <a:xfrm>
              <a:off x="5839200" y="2577240"/>
              <a:ext cx="1757880" cy="1984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839200" y="2811240"/>
              <a:ext cx="352080" cy="465480"/>
            </a:xfrm>
            <a:custGeom>
              <a:avLst/>
              <a:gdLst/>
              <a:ahLst/>
              <a:rect l="l" t="t" r="r" b="b"/>
              <a:pathLst>
                <a:path w="1608" h="2134">
                  <a:moveTo>
                    <a:pt x="536" y="0"/>
                  </a:moveTo>
                  <a:lnTo>
                    <a:pt x="1608" y="1067"/>
                  </a:lnTo>
                  <a:lnTo>
                    <a:pt x="536" y="2134"/>
                  </a:lnTo>
                  <a:lnTo>
                    <a:pt x="0" y="106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94360" y="2577240"/>
              <a:ext cx="702720" cy="933840"/>
            </a:xfrm>
            <a:custGeom>
              <a:avLst/>
              <a:gdLst/>
              <a:ahLst/>
              <a:rect l="l" t="t" r="r" b="b"/>
              <a:pathLst>
                <a:path w="3215" h="4269">
                  <a:moveTo>
                    <a:pt x="2679" y="1067"/>
                  </a:moveTo>
                  <a:lnTo>
                    <a:pt x="3215" y="3201"/>
                  </a:lnTo>
                  <a:lnTo>
                    <a:pt x="2143" y="4269"/>
                  </a:lnTo>
                  <a:lnTo>
                    <a:pt x="0" y="3201"/>
                  </a:lnTo>
                  <a:lnTo>
                    <a:pt x="0" y="1067"/>
                  </a:lnTo>
                  <a:lnTo>
                    <a:pt x="1607" y="0"/>
                  </a:lnTo>
                  <a:lnTo>
                    <a:pt x="2679" y="106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957280" y="3744000"/>
              <a:ext cx="584640" cy="701280"/>
            </a:xfrm>
            <a:custGeom>
              <a:avLst/>
              <a:gdLst/>
              <a:ahLst/>
              <a:rect l="l" t="t" r="r" b="b"/>
              <a:pathLst>
                <a:path w="2679" h="3202">
                  <a:moveTo>
                    <a:pt x="0" y="1068"/>
                  </a:moveTo>
                  <a:lnTo>
                    <a:pt x="1607" y="0"/>
                  </a:lnTo>
                  <a:lnTo>
                    <a:pt x="2679" y="1601"/>
                  </a:lnTo>
                  <a:lnTo>
                    <a:pt x="2143" y="3202"/>
                  </a:lnTo>
                  <a:lnTo>
                    <a:pt x="536" y="26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425640" y="3861720"/>
              <a:ext cx="819000" cy="699840"/>
            </a:xfrm>
            <a:custGeom>
              <a:avLst/>
              <a:gdLst/>
              <a:ahLst/>
              <a:rect l="l" t="t" r="r" b="b"/>
              <a:pathLst>
                <a:path w="3749" h="3201">
                  <a:moveTo>
                    <a:pt x="3749" y="2134"/>
                  </a:moveTo>
                  <a:lnTo>
                    <a:pt x="2142" y="3201"/>
                  </a:lnTo>
                  <a:lnTo>
                    <a:pt x="0" y="2668"/>
                  </a:lnTo>
                  <a:lnTo>
                    <a:pt x="536" y="1067"/>
                  </a:lnTo>
                  <a:lnTo>
                    <a:pt x="2142" y="0"/>
                  </a:lnTo>
                  <a:lnTo>
                    <a:pt x="3749" y="534"/>
                  </a:lnTo>
                  <a:lnTo>
                    <a:pt x="3749" y="213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909760" y="2922840"/>
              <a:ext cx="18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30160" y="2944440"/>
              <a:ext cx="18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76160" y="3996360"/>
              <a:ext cx="18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784200" y="4087080"/>
              <a:ext cx="18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431840" y="279756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920" y="30182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503760" y="403812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934240" y="395496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84240" y="440532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862320" y="2797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11200" y="274680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38920" y="3247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815080" y="30182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220520" y="255888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866640" y="3238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579080" y="3238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335360" y="349092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035400" y="429480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278760" y="37209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866640" y="38264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216200" y="39459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16200" y="431820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62320" y="453384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>
            <a:off x="5483160" y="541008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n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scape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cepts attached to Landscape analysis are used in this Unit as follow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each of the 4 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set of the 4 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landsca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stud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03848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al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imeter = 4 x 10 = 40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ea = 10 x 10 = 100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10080" y="2684520"/>
            <a:ext cx="29718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ea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imeter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      5.06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       10.92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            8.34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4.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          10.3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7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         31.512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21.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The perimeter value takes into account the contiguity of areas 3 and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indices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5000"/>
          </a:bodyPr>
          <a:p>
            <a:pPr marL="27720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reas (N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NP = number of feat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sity (P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PD = NP /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26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:  A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area of the reg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vity (%La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%Land = 100 (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/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26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:  A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area of the cla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size (M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MPS =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/ N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variability (PS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PSSD = standard deviation of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   the area (acreag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1148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reas (N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NP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sity (P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D = 4 / 100 = 0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vity (%La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%Land = 100(21.63/100) = 21.6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size (M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MPS = 21.63 / 4 = 5.41m</a:t>
            </a:r>
            <a:r>
              <a:rPr b="0" lang="en-US" sz="1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variability (PS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SSD = 27.12/3 = 3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699ff"/>
                </a:solidFill>
                <a:latin typeface="Arial"/>
              </a:rPr>
              <a:t>The derived coefficient of variation (PSSD / MPS) allows to </a:t>
            </a:r>
            <a:r>
              <a:rPr b="0" i="1" lang="en-US" sz="1500" spc="-1" strike="noStrike" u="sng">
                <a:solidFill>
                  <a:srgbClr val="6699ff"/>
                </a:solidFill>
                <a:uFillTx/>
                <a:latin typeface="Arial"/>
              </a:rPr>
              <a:t>compare</a:t>
            </a:r>
            <a:r>
              <a:rPr b="0" i="1" lang="en-US" sz="1500" spc="-1" strike="noStrike">
                <a:solidFill>
                  <a:srgbClr val="6699ff"/>
                </a:solidFill>
                <a:latin typeface="Arial"/>
              </a:rPr>
              <a:t> different pattern distribu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indices 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proximity to each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areal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5334120" y="2286000"/>
            <a:ext cx="2604240" cy="2665080"/>
            <a:chOff x="5334120" y="2286000"/>
            <a:chExt cx="2604240" cy="2665080"/>
          </a:xfrm>
        </p:grpSpPr>
        <p:sp>
          <p:nvSpPr>
            <p:cNvPr id="1977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5457240" y="4709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5474160" y="4591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3859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457240" y="4473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5474160" y="4356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859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457240" y="4238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474160" y="4120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3859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5457240" y="4003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5474160" y="3884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3859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5457240" y="3767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5474160" y="3649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859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457240" y="3531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5474160" y="3414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859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457240" y="3297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5474160" y="3178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3859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5457240" y="3060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5474160" y="2943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3859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5457240" y="2825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5474160" y="2708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3859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5457240" y="2590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5474160" y="2471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3859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457240" y="2349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341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736240" y="4709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9180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8611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713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9781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10128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954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331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1862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483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5732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24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6884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133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666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9206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4520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97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2853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1384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400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5254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78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6323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5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6089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87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93240" y="2349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787284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493240" y="4709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618160" y="4711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47164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73480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2150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5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5815080" y="2558880"/>
            <a:ext cx="1812960" cy="2028960"/>
            <a:chOff x="5815080" y="2558880"/>
            <a:chExt cx="1812960" cy="2028960"/>
          </a:xfrm>
        </p:grpSpPr>
        <p:sp>
          <p:nvSpPr>
            <p:cNvPr id="2048" name=""/>
            <p:cNvSpPr/>
            <p:nvPr/>
          </p:nvSpPr>
          <p:spPr>
            <a:xfrm>
              <a:off x="5838840" y="2577960"/>
              <a:ext cx="1758960" cy="1984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838840" y="2811600"/>
              <a:ext cx="352440" cy="465120"/>
            </a:xfrm>
            <a:custGeom>
              <a:avLst/>
              <a:gdLst/>
              <a:ahLst/>
              <a:rect l="l" t="t" r="r" b="b"/>
              <a:pathLst>
                <a:path w="1608" h="2134">
                  <a:moveTo>
                    <a:pt x="536" y="0"/>
                  </a:moveTo>
                  <a:lnTo>
                    <a:pt x="1608" y="1067"/>
                  </a:lnTo>
                  <a:lnTo>
                    <a:pt x="536" y="2134"/>
                  </a:lnTo>
                  <a:lnTo>
                    <a:pt x="0" y="106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894360" y="2577960"/>
              <a:ext cx="703440" cy="933480"/>
            </a:xfrm>
            <a:custGeom>
              <a:avLst/>
              <a:gdLst/>
              <a:ahLst/>
              <a:rect l="l" t="t" r="r" b="b"/>
              <a:pathLst>
                <a:path w="3215" h="4269">
                  <a:moveTo>
                    <a:pt x="2679" y="1067"/>
                  </a:moveTo>
                  <a:lnTo>
                    <a:pt x="3215" y="3201"/>
                  </a:lnTo>
                  <a:lnTo>
                    <a:pt x="2143" y="4269"/>
                  </a:lnTo>
                  <a:lnTo>
                    <a:pt x="0" y="3201"/>
                  </a:lnTo>
                  <a:lnTo>
                    <a:pt x="0" y="1067"/>
                  </a:lnTo>
                  <a:lnTo>
                    <a:pt x="1607" y="0"/>
                  </a:lnTo>
                  <a:lnTo>
                    <a:pt x="2679" y="106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958000" y="3745080"/>
              <a:ext cx="583920" cy="699840"/>
            </a:xfrm>
            <a:custGeom>
              <a:avLst/>
              <a:gdLst/>
              <a:ahLst/>
              <a:rect l="l" t="t" r="r" b="b"/>
              <a:pathLst>
                <a:path w="2679" h="3202">
                  <a:moveTo>
                    <a:pt x="0" y="1068"/>
                  </a:moveTo>
                  <a:lnTo>
                    <a:pt x="1607" y="0"/>
                  </a:lnTo>
                  <a:lnTo>
                    <a:pt x="2679" y="1601"/>
                  </a:lnTo>
                  <a:lnTo>
                    <a:pt x="2143" y="3202"/>
                  </a:lnTo>
                  <a:lnTo>
                    <a:pt x="536" y="26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426360" y="3862440"/>
              <a:ext cx="819000" cy="700200"/>
            </a:xfrm>
            <a:custGeom>
              <a:avLst/>
              <a:gdLst/>
              <a:ahLst/>
              <a:rect l="l" t="t" r="r" b="b"/>
              <a:pathLst>
                <a:path w="3749" h="3201">
                  <a:moveTo>
                    <a:pt x="3749" y="2134"/>
                  </a:moveTo>
                  <a:lnTo>
                    <a:pt x="2142" y="3201"/>
                  </a:lnTo>
                  <a:lnTo>
                    <a:pt x="0" y="2668"/>
                  </a:lnTo>
                  <a:lnTo>
                    <a:pt x="536" y="1067"/>
                  </a:lnTo>
                  <a:lnTo>
                    <a:pt x="2142" y="0"/>
                  </a:lnTo>
                  <a:lnTo>
                    <a:pt x="3749" y="534"/>
                  </a:lnTo>
                  <a:lnTo>
                    <a:pt x="3749" y="213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432560" y="279720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164280" y="3017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04120" y="403848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34240" y="3956040"/>
              <a:ext cx="48960" cy="5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84960" y="440532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62680" y="279720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11920" y="274788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38920" y="3247920"/>
              <a:ext cx="4896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815080" y="3017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19800" y="2558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867360" y="3238560"/>
              <a:ext cx="4788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578720" y="323856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335720" y="349092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035760" y="4295880"/>
              <a:ext cx="4896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278400" y="372096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867360" y="3827520"/>
              <a:ext cx="47880" cy="52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216920" y="3946680"/>
              <a:ext cx="475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216920" y="4317840"/>
              <a:ext cx="475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862680" y="453384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5486040" y="2362320"/>
            <a:ext cx="2391120" cy="2361960"/>
            <a:chOff x="5486040" y="2362320"/>
            <a:chExt cx="2391120" cy="2361960"/>
          </a:xfrm>
        </p:grpSpPr>
        <p:sp>
          <p:nvSpPr>
            <p:cNvPr id="2073" name=""/>
            <p:cNvSpPr/>
            <p:nvPr/>
          </p:nvSpPr>
          <p:spPr>
            <a:xfrm>
              <a:off x="6464160" y="2362320"/>
              <a:ext cx="0" cy="222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470640" y="2584440"/>
              <a:ext cx="93600" cy="4017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64240" y="2986200"/>
              <a:ext cx="0" cy="177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6518160" y="3164040"/>
              <a:ext cx="46080" cy="2235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6330960" y="3387600"/>
              <a:ext cx="187200" cy="44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6095520" y="3432240"/>
              <a:ext cx="235080" cy="133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861160" y="3565440"/>
              <a:ext cx="234720" cy="889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5486040" y="3654360"/>
              <a:ext cx="37476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518160" y="3387600"/>
              <a:ext cx="139680" cy="2224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6552720" y="3610080"/>
              <a:ext cx="104760" cy="4284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6400440" y="4038480"/>
              <a:ext cx="152280" cy="457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6377040" y="4495680"/>
              <a:ext cx="23760" cy="2286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657840" y="3610080"/>
              <a:ext cx="23508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892920" y="3610080"/>
              <a:ext cx="468360" cy="177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361280" y="3787920"/>
              <a:ext cx="515880" cy="134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s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4 areal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172200" y="2666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543800" y="35053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715000" y="4038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391520" y="419112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areal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areal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5486400" y="2360520"/>
            <a:ext cx="2852640" cy="2413080"/>
          </a:xfrm>
          <a:prstGeom prst="rect">
            <a:avLst/>
          </a:prstGeom>
          <a:ln w="0">
            <a:noFill/>
          </a:ln>
        </p:spPr>
      </p:pic>
      <p:grpSp>
        <p:nvGrpSpPr>
          <p:cNvPr id="2101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2102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2" name=""/>
          <p:cNvSpPr/>
          <p:nvPr/>
        </p:nvSpPr>
        <p:spPr>
          <a:xfrm>
            <a:off x="5932440" y="2949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135920" y="29718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172200" y="4038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896160" y="41148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s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2.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areal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areal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4" name="" descr=""/>
          <p:cNvPicPr/>
          <p:nvPr/>
        </p:nvPicPr>
        <p:blipFill>
          <a:blip r:embed="rId1"/>
          <a:stretch/>
        </p:blipFill>
        <p:spPr>
          <a:xfrm>
            <a:off x="5497560" y="2362320"/>
            <a:ext cx="2633760" cy="2428920"/>
          </a:xfrm>
          <a:prstGeom prst="rect">
            <a:avLst/>
          </a:prstGeom>
          <a:ln w="0">
            <a:noFill/>
          </a:ln>
        </p:spPr>
      </p:pic>
      <p:sp>
        <p:nvSpPr>
          <p:cNvPr id="2185" name=""/>
          <p:cNvSpPr/>
          <p:nvPr/>
        </p:nvSpPr>
        <p:spPr>
          <a:xfrm>
            <a:off x="5931000" y="29718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7211880" y="28954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137280" y="4038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010280" y="41590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2190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0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areal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End of Uni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oximity an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66"/>
                </a:solidFill>
                <a:latin typeface="Arial"/>
              </a:rPr>
              <a:t>« Field of influence of features 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Minimum distan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66"/>
                </a:solidFill>
                <a:latin typeface="Arial"/>
              </a:rPr>
              <a:t>« Distance to the closest feature 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240" y="150804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ff"/>
                </a:solidFill>
                <a:latin typeface="Arial"/>
              </a:rPr>
              <a:t>Concepts of largest proximity and minimum dis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89548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124080"/>
            <a:ext cx="51444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657600"/>
            <a:ext cx="453960" cy="99072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95280" y="2895120"/>
            <a:ext cx="1905120" cy="2591280"/>
            <a:chOff x="1295280" y="2895120"/>
            <a:chExt cx="1905120" cy="2591280"/>
          </a:xfrm>
        </p:grpSpPr>
        <p:sp>
          <p:nvSpPr>
            <p:cNvPr id="115" name=""/>
            <p:cNvSpPr/>
            <p:nvPr/>
          </p:nvSpPr>
          <p:spPr>
            <a:xfrm flipV="1">
              <a:off x="2666880" y="4038480"/>
              <a:ext cx="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4343400"/>
              <a:ext cx="838080" cy="7596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360" y="4419360"/>
              <a:ext cx="533520" cy="763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4495680"/>
              <a:ext cx="152280" cy="6094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160" y="5105160"/>
              <a:ext cx="381240" cy="3812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590560" y="365760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590560" y="3200400"/>
              <a:ext cx="7632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66880" y="2895120"/>
              <a:ext cx="228600" cy="3049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09680" y="36576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9625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76160" y="388620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304776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71240" y="35053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447560" y="29714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05120" y="29714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19160" y="4114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742840" y="350496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3048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95120" y="47242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4572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1280" y="36576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44756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752120" y="46479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09680" y="46479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89548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12408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3657600"/>
            <a:ext cx="454320" cy="99072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657600"/>
            <a:ext cx="304560" cy="152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72200" y="3733920"/>
            <a:ext cx="380880" cy="1143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15000" y="3885840"/>
            <a:ext cx="1522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29360" y="3583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343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72160" y="42991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35593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9760" y="3162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7520" y="413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4400" y="1523520"/>
            <a:ext cx="38484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within the whole space are eithe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omogene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not consider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the spatial dimension is taken into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ly concepts of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plan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eometry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euclidian) are used to describe the spatial pattern and neighborhood of feature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location,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ximity: plane distance (horizontal, euclidi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38862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ace is model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omogeneous and plan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expressing the homogeneity of its properti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fact properties are 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gnor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ematic dimension is not consid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Model of space: Plane isotropic spa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11000" y="3567240"/>
            <a:ext cx="2079720" cy="2328120"/>
            <a:chOff x="6111000" y="3567240"/>
            <a:chExt cx="2079720" cy="2328120"/>
          </a:xfrm>
        </p:grpSpPr>
        <p:sp>
          <p:nvSpPr>
            <p:cNvPr id="161" name=""/>
            <p:cNvSpPr/>
            <p:nvPr/>
          </p:nvSpPr>
          <p:spPr>
            <a:xfrm rot="20298000">
              <a:off x="7150680" y="4341600"/>
              <a:ext cx="106920" cy="98280"/>
            </a:xfrm>
            <a:custGeom>
              <a:avLst/>
              <a:gdLst/>
              <a:ahLst/>
              <a:rect l="l" t="t" r="r" b="b"/>
              <a:pathLst>
                <a:path w="533" h="547">
                  <a:moveTo>
                    <a:pt x="195" y="227"/>
                  </a:moveTo>
                  <a:lnTo>
                    <a:pt x="214" y="154"/>
                  </a:lnTo>
                  <a:lnTo>
                    <a:pt x="202" y="97"/>
                  </a:lnTo>
                  <a:lnTo>
                    <a:pt x="234" y="77"/>
                  </a:lnTo>
                  <a:lnTo>
                    <a:pt x="274" y="112"/>
                  </a:lnTo>
                  <a:lnTo>
                    <a:pt x="316" y="159"/>
                  </a:lnTo>
                  <a:lnTo>
                    <a:pt x="367" y="147"/>
                  </a:lnTo>
                  <a:lnTo>
                    <a:pt x="432" y="58"/>
                  </a:lnTo>
                  <a:lnTo>
                    <a:pt x="468" y="0"/>
                  </a:lnTo>
                  <a:lnTo>
                    <a:pt x="515" y="44"/>
                  </a:lnTo>
                  <a:lnTo>
                    <a:pt x="492" y="116"/>
                  </a:lnTo>
                  <a:lnTo>
                    <a:pt x="505" y="178"/>
                  </a:lnTo>
                  <a:lnTo>
                    <a:pt x="508" y="249"/>
                  </a:lnTo>
                  <a:lnTo>
                    <a:pt x="533" y="295"/>
                  </a:lnTo>
                  <a:lnTo>
                    <a:pt x="457" y="383"/>
                  </a:lnTo>
                  <a:lnTo>
                    <a:pt x="388" y="446"/>
                  </a:lnTo>
                  <a:lnTo>
                    <a:pt x="312" y="507"/>
                  </a:lnTo>
                  <a:lnTo>
                    <a:pt x="248" y="547"/>
                  </a:lnTo>
                  <a:lnTo>
                    <a:pt x="163" y="544"/>
                  </a:lnTo>
                  <a:lnTo>
                    <a:pt x="94" y="500"/>
                  </a:lnTo>
                  <a:lnTo>
                    <a:pt x="37" y="428"/>
                  </a:lnTo>
                  <a:lnTo>
                    <a:pt x="0" y="346"/>
                  </a:lnTo>
                  <a:lnTo>
                    <a:pt x="30" y="282"/>
                  </a:lnTo>
                  <a:lnTo>
                    <a:pt x="122" y="267"/>
                  </a:lnTo>
                  <a:lnTo>
                    <a:pt x="195" y="22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298000">
              <a:off x="7373520" y="4757040"/>
              <a:ext cx="103320" cy="83160"/>
            </a:xfrm>
            <a:custGeom>
              <a:avLst/>
              <a:gdLst/>
              <a:ahLst/>
              <a:rect l="l" t="t" r="r" b="b"/>
              <a:pathLst>
                <a:path w="514" h="461">
                  <a:moveTo>
                    <a:pt x="11" y="138"/>
                  </a:moveTo>
                  <a:lnTo>
                    <a:pt x="95" y="64"/>
                  </a:lnTo>
                  <a:lnTo>
                    <a:pt x="175" y="44"/>
                  </a:lnTo>
                  <a:lnTo>
                    <a:pt x="260" y="25"/>
                  </a:lnTo>
                  <a:lnTo>
                    <a:pt x="314" y="0"/>
                  </a:lnTo>
                  <a:lnTo>
                    <a:pt x="346" y="0"/>
                  </a:lnTo>
                  <a:lnTo>
                    <a:pt x="357" y="39"/>
                  </a:lnTo>
                  <a:lnTo>
                    <a:pt x="421" y="41"/>
                  </a:lnTo>
                  <a:lnTo>
                    <a:pt x="484" y="69"/>
                  </a:lnTo>
                  <a:lnTo>
                    <a:pt x="514" y="104"/>
                  </a:lnTo>
                  <a:lnTo>
                    <a:pt x="466" y="151"/>
                  </a:lnTo>
                  <a:lnTo>
                    <a:pt x="425" y="228"/>
                  </a:lnTo>
                  <a:lnTo>
                    <a:pt x="438" y="278"/>
                  </a:lnTo>
                  <a:lnTo>
                    <a:pt x="466" y="332"/>
                  </a:lnTo>
                  <a:lnTo>
                    <a:pt x="396" y="357"/>
                  </a:lnTo>
                  <a:lnTo>
                    <a:pt x="324" y="356"/>
                  </a:lnTo>
                  <a:lnTo>
                    <a:pt x="285" y="359"/>
                  </a:lnTo>
                  <a:lnTo>
                    <a:pt x="223" y="439"/>
                  </a:lnTo>
                  <a:lnTo>
                    <a:pt x="168" y="461"/>
                  </a:lnTo>
                  <a:lnTo>
                    <a:pt x="127" y="426"/>
                  </a:lnTo>
                  <a:lnTo>
                    <a:pt x="131" y="350"/>
                  </a:lnTo>
                  <a:lnTo>
                    <a:pt x="92" y="282"/>
                  </a:lnTo>
                  <a:lnTo>
                    <a:pt x="38" y="225"/>
                  </a:lnTo>
                  <a:lnTo>
                    <a:pt x="0" y="165"/>
                  </a:lnTo>
                  <a:lnTo>
                    <a:pt x="11" y="13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298000">
              <a:off x="6933960" y="4816800"/>
              <a:ext cx="115200" cy="109080"/>
            </a:xfrm>
            <a:custGeom>
              <a:avLst/>
              <a:gdLst/>
              <a:ahLst/>
              <a:rect l="l" t="t" r="r" b="b"/>
              <a:pathLst>
                <a:path w="572" h="606">
                  <a:moveTo>
                    <a:pt x="8" y="233"/>
                  </a:moveTo>
                  <a:lnTo>
                    <a:pt x="0" y="177"/>
                  </a:lnTo>
                  <a:lnTo>
                    <a:pt x="75" y="121"/>
                  </a:lnTo>
                  <a:lnTo>
                    <a:pt x="158" y="162"/>
                  </a:lnTo>
                  <a:lnTo>
                    <a:pt x="214" y="156"/>
                  </a:lnTo>
                  <a:lnTo>
                    <a:pt x="242" y="85"/>
                  </a:lnTo>
                  <a:lnTo>
                    <a:pt x="321" y="0"/>
                  </a:lnTo>
                  <a:lnTo>
                    <a:pt x="337" y="11"/>
                  </a:lnTo>
                  <a:lnTo>
                    <a:pt x="383" y="96"/>
                  </a:lnTo>
                  <a:lnTo>
                    <a:pt x="414" y="156"/>
                  </a:lnTo>
                  <a:lnTo>
                    <a:pt x="502" y="230"/>
                  </a:lnTo>
                  <a:lnTo>
                    <a:pt x="538" y="246"/>
                  </a:lnTo>
                  <a:lnTo>
                    <a:pt x="566" y="285"/>
                  </a:lnTo>
                  <a:lnTo>
                    <a:pt x="572" y="329"/>
                  </a:lnTo>
                  <a:lnTo>
                    <a:pt x="522" y="350"/>
                  </a:lnTo>
                  <a:lnTo>
                    <a:pt x="515" y="426"/>
                  </a:lnTo>
                  <a:lnTo>
                    <a:pt x="495" y="492"/>
                  </a:lnTo>
                  <a:lnTo>
                    <a:pt x="458" y="574"/>
                  </a:lnTo>
                  <a:lnTo>
                    <a:pt x="397" y="606"/>
                  </a:lnTo>
                  <a:lnTo>
                    <a:pt x="283" y="604"/>
                  </a:lnTo>
                  <a:lnTo>
                    <a:pt x="161" y="596"/>
                  </a:lnTo>
                  <a:lnTo>
                    <a:pt x="104" y="582"/>
                  </a:lnTo>
                  <a:lnTo>
                    <a:pt x="15" y="539"/>
                  </a:lnTo>
                  <a:lnTo>
                    <a:pt x="53" y="462"/>
                  </a:lnTo>
                  <a:lnTo>
                    <a:pt x="54" y="366"/>
                  </a:lnTo>
                  <a:lnTo>
                    <a:pt x="21" y="306"/>
                  </a:lnTo>
                  <a:lnTo>
                    <a:pt x="8" y="23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298000">
              <a:off x="6753960" y="4669200"/>
              <a:ext cx="72360" cy="50760"/>
            </a:xfrm>
            <a:custGeom>
              <a:avLst/>
              <a:gdLst/>
              <a:ahLst/>
              <a:rect l="l" t="t" r="r" b="b"/>
              <a:pathLst>
                <a:path w="360" h="284">
                  <a:moveTo>
                    <a:pt x="13" y="114"/>
                  </a:moveTo>
                  <a:lnTo>
                    <a:pt x="0" y="46"/>
                  </a:lnTo>
                  <a:lnTo>
                    <a:pt x="26" y="13"/>
                  </a:lnTo>
                  <a:lnTo>
                    <a:pt x="98" y="46"/>
                  </a:lnTo>
                  <a:lnTo>
                    <a:pt x="160" y="13"/>
                  </a:lnTo>
                  <a:lnTo>
                    <a:pt x="203" y="0"/>
                  </a:lnTo>
                  <a:lnTo>
                    <a:pt x="219" y="25"/>
                  </a:lnTo>
                  <a:lnTo>
                    <a:pt x="239" y="65"/>
                  </a:lnTo>
                  <a:lnTo>
                    <a:pt x="300" y="78"/>
                  </a:lnTo>
                  <a:lnTo>
                    <a:pt x="360" y="130"/>
                  </a:lnTo>
                  <a:lnTo>
                    <a:pt x="355" y="166"/>
                  </a:lnTo>
                  <a:lnTo>
                    <a:pt x="275" y="237"/>
                  </a:lnTo>
                  <a:lnTo>
                    <a:pt x="274" y="267"/>
                  </a:lnTo>
                  <a:lnTo>
                    <a:pt x="179" y="284"/>
                  </a:lnTo>
                  <a:lnTo>
                    <a:pt x="97" y="281"/>
                  </a:lnTo>
                  <a:lnTo>
                    <a:pt x="48" y="258"/>
                  </a:lnTo>
                  <a:lnTo>
                    <a:pt x="50" y="186"/>
                  </a:lnTo>
                  <a:lnTo>
                    <a:pt x="35" y="142"/>
                  </a:lnTo>
                  <a:lnTo>
                    <a:pt x="13" y="1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298000">
              <a:off x="7342200" y="4011120"/>
              <a:ext cx="384840" cy="431280"/>
            </a:xfrm>
            <a:custGeom>
              <a:avLst/>
              <a:gdLst/>
              <a:ahLst/>
              <a:rect l="l" t="t" r="r" b="b"/>
              <a:pathLst>
                <a:path w="1913" h="2393">
                  <a:moveTo>
                    <a:pt x="0" y="1395"/>
                  </a:moveTo>
                  <a:lnTo>
                    <a:pt x="187" y="1171"/>
                  </a:lnTo>
                  <a:lnTo>
                    <a:pt x="362" y="994"/>
                  </a:lnTo>
                  <a:lnTo>
                    <a:pt x="460" y="902"/>
                  </a:lnTo>
                  <a:lnTo>
                    <a:pt x="566" y="805"/>
                  </a:lnTo>
                  <a:lnTo>
                    <a:pt x="574" y="671"/>
                  </a:lnTo>
                  <a:lnTo>
                    <a:pt x="675" y="539"/>
                  </a:lnTo>
                  <a:lnTo>
                    <a:pt x="788" y="426"/>
                  </a:lnTo>
                  <a:lnTo>
                    <a:pt x="927" y="271"/>
                  </a:lnTo>
                  <a:lnTo>
                    <a:pt x="1053" y="180"/>
                  </a:lnTo>
                  <a:lnTo>
                    <a:pt x="1145" y="92"/>
                  </a:lnTo>
                  <a:lnTo>
                    <a:pt x="1252" y="3"/>
                  </a:lnTo>
                  <a:lnTo>
                    <a:pt x="1341" y="0"/>
                  </a:lnTo>
                  <a:lnTo>
                    <a:pt x="1437" y="34"/>
                  </a:lnTo>
                  <a:lnTo>
                    <a:pt x="1496" y="158"/>
                  </a:lnTo>
                  <a:lnTo>
                    <a:pt x="1556" y="335"/>
                  </a:lnTo>
                  <a:lnTo>
                    <a:pt x="1660" y="458"/>
                  </a:lnTo>
                  <a:lnTo>
                    <a:pt x="1913" y="554"/>
                  </a:lnTo>
                  <a:lnTo>
                    <a:pt x="1911" y="1716"/>
                  </a:lnTo>
                  <a:lnTo>
                    <a:pt x="1649" y="1748"/>
                  </a:lnTo>
                  <a:lnTo>
                    <a:pt x="1579" y="1882"/>
                  </a:lnTo>
                  <a:lnTo>
                    <a:pt x="1497" y="2022"/>
                  </a:lnTo>
                  <a:lnTo>
                    <a:pt x="1393" y="2158"/>
                  </a:lnTo>
                  <a:lnTo>
                    <a:pt x="1281" y="2253"/>
                  </a:lnTo>
                  <a:lnTo>
                    <a:pt x="1174" y="2315"/>
                  </a:lnTo>
                  <a:lnTo>
                    <a:pt x="1061" y="2360"/>
                  </a:lnTo>
                  <a:lnTo>
                    <a:pt x="991" y="2374"/>
                  </a:lnTo>
                  <a:lnTo>
                    <a:pt x="898" y="2393"/>
                  </a:lnTo>
                  <a:lnTo>
                    <a:pt x="905" y="2287"/>
                  </a:lnTo>
                  <a:lnTo>
                    <a:pt x="896" y="2122"/>
                  </a:lnTo>
                  <a:lnTo>
                    <a:pt x="825" y="2002"/>
                  </a:lnTo>
                  <a:lnTo>
                    <a:pt x="652" y="1865"/>
                  </a:lnTo>
                  <a:lnTo>
                    <a:pt x="498" y="1791"/>
                  </a:lnTo>
                  <a:lnTo>
                    <a:pt x="330" y="1668"/>
                  </a:lnTo>
                  <a:lnTo>
                    <a:pt x="177" y="1552"/>
                  </a:lnTo>
                  <a:lnTo>
                    <a:pt x="0" y="13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298000">
              <a:off x="7050600" y="4357800"/>
              <a:ext cx="585000" cy="414720"/>
            </a:xfrm>
            <a:custGeom>
              <a:avLst/>
              <a:gdLst/>
              <a:ahLst/>
              <a:rect l="l" t="t" r="r" b="b"/>
              <a:pathLst>
                <a:path w="2904" h="2301">
                  <a:moveTo>
                    <a:pt x="1999" y="0"/>
                  </a:moveTo>
                  <a:lnTo>
                    <a:pt x="2176" y="157"/>
                  </a:lnTo>
                  <a:lnTo>
                    <a:pt x="2329" y="273"/>
                  </a:lnTo>
                  <a:lnTo>
                    <a:pt x="2497" y="396"/>
                  </a:lnTo>
                  <a:lnTo>
                    <a:pt x="2651" y="470"/>
                  </a:lnTo>
                  <a:lnTo>
                    <a:pt x="2824" y="607"/>
                  </a:lnTo>
                  <a:lnTo>
                    <a:pt x="2895" y="727"/>
                  </a:lnTo>
                  <a:lnTo>
                    <a:pt x="2904" y="892"/>
                  </a:lnTo>
                  <a:lnTo>
                    <a:pt x="2897" y="998"/>
                  </a:lnTo>
                  <a:lnTo>
                    <a:pt x="2894" y="1039"/>
                  </a:lnTo>
                  <a:lnTo>
                    <a:pt x="2791" y="1230"/>
                  </a:lnTo>
                  <a:lnTo>
                    <a:pt x="2704" y="1393"/>
                  </a:lnTo>
                  <a:lnTo>
                    <a:pt x="2541" y="1596"/>
                  </a:lnTo>
                  <a:lnTo>
                    <a:pt x="2363" y="1741"/>
                  </a:lnTo>
                  <a:lnTo>
                    <a:pt x="2212" y="1864"/>
                  </a:lnTo>
                  <a:lnTo>
                    <a:pt x="2005" y="2006"/>
                  </a:lnTo>
                  <a:lnTo>
                    <a:pt x="1807" y="2125"/>
                  </a:lnTo>
                  <a:lnTo>
                    <a:pt x="1586" y="2186"/>
                  </a:lnTo>
                  <a:lnTo>
                    <a:pt x="1389" y="2268"/>
                  </a:lnTo>
                  <a:lnTo>
                    <a:pt x="1208" y="2280"/>
                  </a:lnTo>
                  <a:lnTo>
                    <a:pt x="949" y="2270"/>
                  </a:lnTo>
                  <a:lnTo>
                    <a:pt x="757" y="2287"/>
                  </a:lnTo>
                  <a:lnTo>
                    <a:pt x="602" y="2273"/>
                  </a:lnTo>
                  <a:lnTo>
                    <a:pt x="485" y="2301"/>
                  </a:lnTo>
                  <a:lnTo>
                    <a:pt x="299" y="2280"/>
                  </a:lnTo>
                  <a:lnTo>
                    <a:pt x="175" y="2290"/>
                  </a:lnTo>
                  <a:lnTo>
                    <a:pt x="49" y="2248"/>
                  </a:lnTo>
                  <a:lnTo>
                    <a:pt x="0" y="2178"/>
                  </a:lnTo>
                  <a:lnTo>
                    <a:pt x="68" y="2113"/>
                  </a:lnTo>
                  <a:lnTo>
                    <a:pt x="172" y="2075"/>
                  </a:lnTo>
                  <a:lnTo>
                    <a:pt x="264" y="1951"/>
                  </a:lnTo>
                  <a:lnTo>
                    <a:pt x="352" y="1790"/>
                  </a:lnTo>
                  <a:lnTo>
                    <a:pt x="497" y="1629"/>
                  </a:lnTo>
                  <a:lnTo>
                    <a:pt x="735" y="1405"/>
                  </a:lnTo>
                  <a:lnTo>
                    <a:pt x="846" y="1283"/>
                  </a:lnTo>
                  <a:lnTo>
                    <a:pt x="940" y="1178"/>
                  </a:lnTo>
                  <a:lnTo>
                    <a:pt x="987" y="1017"/>
                  </a:lnTo>
                  <a:lnTo>
                    <a:pt x="1001" y="809"/>
                  </a:lnTo>
                  <a:lnTo>
                    <a:pt x="1118" y="599"/>
                  </a:lnTo>
                  <a:lnTo>
                    <a:pt x="1268" y="422"/>
                  </a:lnTo>
                  <a:lnTo>
                    <a:pt x="1405" y="302"/>
                  </a:lnTo>
                  <a:lnTo>
                    <a:pt x="1541" y="129"/>
                  </a:lnTo>
                  <a:lnTo>
                    <a:pt x="1659" y="68"/>
                  </a:lnTo>
                  <a:lnTo>
                    <a:pt x="1791" y="36"/>
                  </a:lnTo>
                  <a:lnTo>
                    <a:pt x="1885" y="3"/>
                  </a:lnTo>
                  <a:lnTo>
                    <a:pt x="1977" y="3"/>
                  </a:lnTo>
                  <a:lnTo>
                    <a:pt x="199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298000">
              <a:off x="6867000" y="4883760"/>
              <a:ext cx="1233360" cy="720360"/>
            </a:xfrm>
            <a:custGeom>
              <a:avLst/>
              <a:gdLst/>
              <a:ahLst/>
              <a:rect l="l" t="t" r="r" b="b"/>
              <a:pathLst>
                <a:path w="6123" h="3996">
                  <a:moveTo>
                    <a:pt x="730" y="3994"/>
                  </a:moveTo>
                  <a:lnTo>
                    <a:pt x="705" y="3763"/>
                  </a:lnTo>
                  <a:lnTo>
                    <a:pt x="640" y="3652"/>
                  </a:lnTo>
                  <a:lnTo>
                    <a:pt x="566" y="3549"/>
                  </a:lnTo>
                  <a:lnTo>
                    <a:pt x="459" y="3483"/>
                  </a:lnTo>
                  <a:lnTo>
                    <a:pt x="323" y="3454"/>
                  </a:lnTo>
                  <a:lnTo>
                    <a:pt x="209" y="3422"/>
                  </a:lnTo>
                  <a:lnTo>
                    <a:pt x="133" y="3308"/>
                  </a:lnTo>
                  <a:lnTo>
                    <a:pt x="85" y="3148"/>
                  </a:lnTo>
                  <a:lnTo>
                    <a:pt x="57" y="2986"/>
                  </a:lnTo>
                  <a:lnTo>
                    <a:pt x="111" y="2801"/>
                  </a:lnTo>
                  <a:lnTo>
                    <a:pt x="156" y="2612"/>
                  </a:lnTo>
                  <a:lnTo>
                    <a:pt x="165" y="2502"/>
                  </a:lnTo>
                  <a:lnTo>
                    <a:pt x="148" y="2414"/>
                  </a:lnTo>
                  <a:lnTo>
                    <a:pt x="45" y="2313"/>
                  </a:lnTo>
                  <a:lnTo>
                    <a:pt x="0" y="2196"/>
                  </a:lnTo>
                  <a:lnTo>
                    <a:pt x="0" y="2057"/>
                  </a:lnTo>
                  <a:lnTo>
                    <a:pt x="22" y="1895"/>
                  </a:lnTo>
                  <a:lnTo>
                    <a:pt x="56" y="1738"/>
                  </a:lnTo>
                  <a:lnTo>
                    <a:pt x="58" y="1609"/>
                  </a:lnTo>
                  <a:lnTo>
                    <a:pt x="107" y="1438"/>
                  </a:lnTo>
                  <a:lnTo>
                    <a:pt x="162" y="1280"/>
                  </a:lnTo>
                  <a:lnTo>
                    <a:pt x="197" y="1133"/>
                  </a:lnTo>
                  <a:lnTo>
                    <a:pt x="278" y="950"/>
                  </a:lnTo>
                  <a:lnTo>
                    <a:pt x="386" y="791"/>
                  </a:lnTo>
                  <a:lnTo>
                    <a:pt x="510" y="709"/>
                  </a:lnTo>
                  <a:lnTo>
                    <a:pt x="687" y="586"/>
                  </a:lnTo>
                  <a:lnTo>
                    <a:pt x="842" y="482"/>
                  </a:lnTo>
                  <a:lnTo>
                    <a:pt x="993" y="379"/>
                  </a:lnTo>
                  <a:lnTo>
                    <a:pt x="1104" y="327"/>
                  </a:lnTo>
                  <a:lnTo>
                    <a:pt x="1253" y="269"/>
                  </a:lnTo>
                  <a:lnTo>
                    <a:pt x="1370" y="223"/>
                  </a:lnTo>
                  <a:lnTo>
                    <a:pt x="1464" y="177"/>
                  </a:lnTo>
                  <a:lnTo>
                    <a:pt x="1587" y="135"/>
                  </a:lnTo>
                  <a:lnTo>
                    <a:pt x="1683" y="86"/>
                  </a:lnTo>
                  <a:lnTo>
                    <a:pt x="1733" y="64"/>
                  </a:lnTo>
                  <a:lnTo>
                    <a:pt x="1838" y="133"/>
                  </a:lnTo>
                  <a:lnTo>
                    <a:pt x="1865" y="237"/>
                  </a:lnTo>
                  <a:lnTo>
                    <a:pt x="1904" y="359"/>
                  </a:lnTo>
                  <a:lnTo>
                    <a:pt x="1977" y="436"/>
                  </a:lnTo>
                  <a:lnTo>
                    <a:pt x="2110" y="450"/>
                  </a:lnTo>
                  <a:lnTo>
                    <a:pt x="2211" y="433"/>
                  </a:lnTo>
                  <a:lnTo>
                    <a:pt x="2265" y="350"/>
                  </a:lnTo>
                  <a:lnTo>
                    <a:pt x="2356" y="258"/>
                  </a:lnTo>
                  <a:lnTo>
                    <a:pt x="2495" y="242"/>
                  </a:lnTo>
                  <a:lnTo>
                    <a:pt x="2656" y="211"/>
                  </a:lnTo>
                  <a:lnTo>
                    <a:pt x="2765" y="214"/>
                  </a:lnTo>
                  <a:lnTo>
                    <a:pt x="2868" y="245"/>
                  </a:lnTo>
                  <a:lnTo>
                    <a:pt x="2916" y="346"/>
                  </a:lnTo>
                  <a:lnTo>
                    <a:pt x="2932" y="458"/>
                  </a:lnTo>
                  <a:lnTo>
                    <a:pt x="2999" y="614"/>
                  </a:lnTo>
                  <a:lnTo>
                    <a:pt x="3062" y="704"/>
                  </a:lnTo>
                  <a:lnTo>
                    <a:pt x="3099" y="753"/>
                  </a:lnTo>
                  <a:lnTo>
                    <a:pt x="3238" y="753"/>
                  </a:lnTo>
                  <a:lnTo>
                    <a:pt x="3397" y="712"/>
                  </a:lnTo>
                  <a:lnTo>
                    <a:pt x="3504" y="759"/>
                  </a:lnTo>
                  <a:lnTo>
                    <a:pt x="3616" y="827"/>
                  </a:lnTo>
                  <a:lnTo>
                    <a:pt x="3712" y="832"/>
                  </a:lnTo>
                  <a:lnTo>
                    <a:pt x="3786" y="757"/>
                  </a:lnTo>
                  <a:lnTo>
                    <a:pt x="3850" y="640"/>
                  </a:lnTo>
                  <a:lnTo>
                    <a:pt x="3893" y="526"/>
                  </a:lnTo>
                  <a:lnTo>
                    <a:pt x="4030" y="419"/>
                  </a:lnTo>
                  <a:lnTo>
                    <a:pt x="4168" y="319"/>
                  </a:lnTo>
                  <a:lnTo>
                    <a:pt x="4286" y="230"/>
                  </a:lnTo>
                  <a:lnTo>
                    <a:pt x="4406" y="145"/>
                  </a:lnTo>
                  <a:lnTo>
                    <a:pt x="4541" y="48"/>
                  </a:lnTo>
                  <a:lnTo>
                    <a:pt x="4659" y="25"/>
                  </a:lnTo>
                  <a:lnTo>
                    <a:pt x="4797" y="0"/>
                  </a:lnTo>
                  <a:lnTo>
                    <a:pt x="4824" y="97"/>
                  </a:lnTo>
                  <a:lnTo>
                    <a:pt x="4798" y="201"/>
                  </a:lnTo>
                  <a:lnTo>
                    <a:pt x="4808" y="331"/>
                  </a:lnTo>
                  <a:lnTo>
                    <a:pt x="4890" y="423"/>
                  </a:lnTo>
                  <a:lnTo>
                    <a:pt x="5020" y="419"/>
                  </a:lnTo>
                  <a:lnTo>
                    <a:pt x="5137" y="373"/>
                  </a:lnTo>
                  <a:lnTo>
                    <a:pt x="5270" y="375"/>
                  </a:lnTo>
                  <a:lnTo>
                    <a:pt x="5427" y="369"/>
                  </a:lnTo>
                  <a:lnTo>
                    <a:pt x="5573" y="350"/>
                  </a:lnTo>
                  <a:lnTo>
                    <a:pt x="5681" y="378"/>
                  </a:lnTo>
                  <a:lnTo>
                    <a:pt x="5782" y="473"/>
                  </a:lnTo>
                  <a:lnTo>
                    <a:pt x="5848" y="527"/>
                  </a:lnTo>
                  <a:lnTo>
                    <a:pt x="6123" y="634"/>
                  </a:lnTo>
                  <a:lnTo>
                    <a:pt x="6123" y="3996"/>
                  </a:lnTo>
                  <a:lnTo>
                    <a:pt x="730" y="399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298000">
              <a:off x="6201000" y="3913920"/>
              <a:ext cx="943920" cy="658080"/>
            </a:xfrm>
            <a:custGeom>
              <a:avLst/>
              <a:gdLst/>
              <a:ahLst/>
              <a:rect l="l" t="t" r="r" b="b"/>
              <a:pathLst>
                <a:path w="4685" h="3650">
                  <a:moveTo>
                    <a:pt x="13" y="3021"/>
                  </a:moveTo>
                  <a:lnTo>
                    <a:pt x="0" y="0"/>
                  </a:lnTo>
                  <a:lnTo>
                    <a:pt x="3739" y="5"/>
                  </a:lnTo>
                  <a:lnTo>
                    <a:pt x="3765" y="110"/>
                  </a:lnTo>
                  <a:lnTo>
                    <a:pt x="3825" y="331"/>
                  </a:lnTo>
                  <a:lnTo>
                    <a:pt x="3863" y="425"/>
                  </a:lnTo>
                  <a:lnTo>
                    <a:pt x="3910" y="532"/>
                  </a:lnTo>
                  <a:lnTo>
                    <a:pt x="4004" y="581"/>
                  </a:lnTo>
                  <a:lnTo>
                    <a:pt x="4146" y="614"/>
                  </a:lnTo>
                  <a:lnTo>
                    <a:pt x="4233" y="680"/>
                  </a:lnTo>
                  <a:lnTo>
                    <a:pt x="4307" y="776"/>
                  </a:lnTo>
                  <a:lnTo>
                    <a:pt x="4407" y="887"/>
                  </a:lnTo>
                  <a:lnTo>
                    <a:pt x="4495" y="1008"/>
                  </a:lnTo>
                  <a:lnTo>
                    <a:pt x="4586" y="1160"/>
                  </a:lnTo>
                  <a:lnTo>
                    <a:pt x="4639" y="1277"/>
                  </a:lnTo>
                  <a:lnTo>
                    <a:pt x="4685" y="1438"/>
                  </a:lnTo>
                  <a:lnTo>
                    <a:pt x="4671" y="1570"/>
                  </a:lnTo>
                  <a:lnTo>
                    <a:pt x="4618" y="1704"/>
                  </a:lnTo>
                  <a:lnTo>
                    <a:pt x="4541" y="1871"/>
                  </a:lnTo>
                  <a:lnTo>
                    <a:pt x="4492" y="1953"/>
                  </a:lnTo>
                  <a:lnTo>
                    <a:pt x="4346" y="2037"/>
                  </a:lnTo>
                  <a:lnTo>
                    <a:pt x="4324" y="2151"/>
                  </a:lnTo>
                  <a:lnTo>
                    <a:pt x="4320" y="2254"/>
                  </a:lnTo>
                  <a:lnTo>
                    <a:pt x="4345" y="2407"/>
                  </a:lnTo>
                  <a:lnTo>
                    <a:pt x="4298" y="2488"/>
                  </a:lnTo>
                  <a:lnTo>
                    <a:pt x="4245" y="2595"/>
                  </a:lnTo>
                  <a:lnTo>
                    <a:pt x="4217" y="2681"/>
                  </a:lnTo>
                  <a:lnTo>
                    <a:pt x="4172" y="2791"/>
                  </a:lnTo>
                  <a:lnTo>
                    <a:pt x="4070" y="2874"/>
                  </a:lnTo>
                  <a:lnTo>
                    <a:pt x="3966" y="2968"/>
                  </a:lnTo>
                  <a:lnTo>
                    <a:pt x="3859" y="3062"/>
                  </a:lnTo>
                  <a:lnTo>
                    <a:pt x="3716" y="3201"/>
                  </a:lnTo>
                  <a:lnTo>
                    <a:pt x="3613" y="3305"/>
                  </a:lnTo>
                  <a:lnTo>
                    <a:pt x="3515" y="3341"/>
                  </a:lnTo>
                  <a:lnTo>
                    <a:pt x="3434" y="3438"/>
                  </a:lnTo>
                  <a:lnTo>
                    <a:pt x="3385" y="3511"/>
                  </a:lnTo>
                  <a:lnTo>
                    <a:pt x="3273" y="3538"/>
                  </a:lnTo>
                  <a:lnTo>
                    <a:pt x="3153" y="3522"/>
                  </a:lnTo>
                  <a:lnTo>
                    <a:pt x="3043" y="3472"/>
                  </a:lnTo>
                  <a:lnTo>
                    <a:pt x="2989" y="3396"/>
                  </a:lnTo>
                  <a:lnTo>
                    <a:pt x="2895" y="3334"/>
                  </a:lnTo>
                  <a:lnTo>
                    <a:pt x="2809" y="3344"/>
                  </a:lnTo>
                  <a:lnTo>
                    <a:pt x="2715" y="3388"/>
                  </a:lnTo>
                  <a:lnTo>
                    <a:pt x="2648" y="3454"/>
                  </a:lnTo>
                  <a:lnTo>
                    <a:pt x="2566" y="3421"/>
                  </a:lnTo>
                  <a:lnTo>
                    <a:pt x="2486" y="3399"/>
                  </a:lnTo>
                  <a:lnTo>
                    <a:pt x="2411" y="3372"/>
                  </a:lnTo>
                  <a:lnTo>
                    <a:pt x="2367" y="3312"/>
                  </a:lnTo>
                  <a:lnTo>
                    <a:pt x="2328" y="3240"/>
                  </a:lnTo>
                  <a:lnTo>
                    <a:pt x="2231" y="3227"/>
                  </a:lnTo>
                  <a:lnTo>
                    <a:pt x="2132" y="3252"/>
                  </a:lnTo>
                  <a:lnTo>
                    <a:pt x="2021" y="3293"/>
                  </a:lnTo>
                  <a:lnTo>
                    <a:pt x="1888" y="3334"/>
                  </a:lnTo>
                  <a:lnTo>
                    <a:pt x="1793" y="3403"/>
                  </a:lnTo>
                  <a:lnTo>
                    <a:pt x="1749" y="3489"/>
                  </a:lnTo>
                  <a:lnTo>
                    <a:pt x="1750" y="3593"/>
                  </a:lnTo>
                  <a:lnTo>
                    <a:pt x="1702" y="3650"/>
                  </a:lnTo>
                  <a:lnTo>
                    <a:pt x="1610" y="3634"/>
                  </a:lnTo>
                  <a:lnTo>
                    <a:pt x="1529" y="3561"/>
                  </a:lnTo>
                  <a:lnTo>
                    <a:pt x="1471" y="3557"/>
                  </a:lnTo>
                  <a:lnTo>
                    <a:pt x="1377" y="3538"/>
                  </a:lnTo>
                  <a:lnTo>
                    <a:pt x="1212" y="3459"/>
                  </a:lnTo>
                  <a:lnTo>
                    <a:pt x="931" y="3347"/>
                  </a:lnTo>
                  <a:lnTo>
                    <a:pt x="806" y="3264"/>
                  </a:lnTo>
                  <a:lnTo>
                    <a:pt x="727" y="3198"/>
                  </a:lnTo>
                  <a:lnTo>
                    <a:pt x="595" y="3216"/>
                  </a:lnTo>
                  <a:lnTo>
                    <a:pt x="419" y="3251"/>
                  </a:lnTo>
                  <a:lnTo>
                    <a:pt x="301" y="3195"/>
                  </a:lnTo>
                  <a:lnTo>
                    <a:pt x="186" y="3115"/>
                  </a:lnTo>
                  <a:lnTo>
                    <a:pt x="98" y="3069"/>
                  </a:lnTo>
                  <a:lnTo>
                    <a:pt x="13" y="302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298000">
              <a:off x="6998040" y="4219200"/>
              <a:ext cx="540000" cy="554040"/>
            </a:xfrm>
            <a:custGeom>
              <a:avLst/>
              <a:gdLst/>
              <a:ahLst/>
              <a:rect l="l" t="t" r="r" b="b"/>
              <a:pathLst>
                <a:path w="2682" h="3074">
                  <a:moveTo>
                    <a:pt x="109" y="3074"/>
                  </a:moveTo>
                  <a:lnTo>
                    <a:pt x="76" y="2907"/>
                  </a:lnTo>
                  <a:lnTo>
                    <a:pt x="82" y="2700"/>
                  </a:lnTo>
                  <a:lnTo>
                    <a:pt x="113" y="2530"/>
                  </a:lnTo>
                  <a:lnTo>
                    <a:pt x="116" y="2327"/>
                  </a:lnTo>
                  <a:lnTo>
                    <a:pt x="97" y="2229"/>
                  </a:lnTo>
                  <a:lnTo>
                    <a:pt x="72" y="2186"/>
                  </a:lnTo>
                  <a:lnTo>
                    <a:pt x="0" y="2118"/>
                  </a:lnTo>
                  <a:lnTo>
                    <a:pt x="17" y="1933"/>
                  </a:lnTo>
                  <a:lnTo>
                    <a:pt x="59" y="1750"/>
                  </a:lnTo>
                  <a:lnTo>
                    <a:pt x="113" y="1593"/>
                  </a:lnTo>
                  <a:lnTo>
                    <a:pt x="145" y="1438"/>
                  </a:lnTo>
                  <a:lnTo>
                    <a:pt x="189" y="1358"/>
                  </a:lnTo>
                  <a:lnTo>
                    <a:pt x="281" y="1262"/>
                  </a:lnTo>
                  <a:lnTo>
                    <a:pt x="389" y="1194"/>
                  </a:lnTo>
                  <a:lnTo>
                    <a:pt x="468" y="1112"/>
                  </a:lnTo>
                  <a:lnTo>
                    <a:pt x="487" y="1036"/>
                  </a:lnTo>
                  <a:lnTo>
                    <a:pt x="509" y="936"/>
                  </a:lnTo>
                  <a:lnTo>
                    <a:pt x="578" y="775"/>
                  </a:lnTo>
                  <a:lnTo>
                    <a:pt x="618" y="713"/>
                  </a:lnTo>
                  <a:lnTo>
                    <a:pt x="732" y="671"/>
                  </a:lnTo>
                  <a:lnTo>
                    <a:pt x="825" y="696"/>
                  </a:lnTo>
                  <a:lnTo>
                    <a:pt x="936" y="639"/>
                  </a:lnTo>
                  <a:lnTo>
                    <a:pt x="992" y="538"/>
                  </a:lnTo>
                  <a:lnTo>
                    <a:pt x="1081" y="438"/>
                  </a:lnTo>
                  <a:lnTo>
                    <a:pt x="1178" y="356"/>
                  </a:lnTo>
                  <a:lnTo>
                    <a:pt x="1264" y="320"/>
                  </a:lnTo>
                  <a:lnTo>
                    <a:pt x="1336" y="273"/>
                  </a:lnTo>
                  <a:lnTo>
                    <a:pt x="1394" y="185"/>
                  </a:lnTo>
                  <a:lnTo>
                    <a:pt x="1454" y="120"/>
                  </a:lnTo>
                  <a:lnTo>
                    <a:pt x="1539" y="112"/>
                  </a:lnTo>
                  <a:lnTo>
                    <a:pt x="1599" y="160"/>
                  </a:lnTo>
                  <a:lnTo>
                    <a:pt x="1682" y="240"/>
                  </a:lnTo>
                  <a:lnTo>
                    <a:pt x="1749" y="258"/>
                  </a:lnTo>
                  <a:lnTo>
                    <a:pt x="1856" y="192"/>
                  </a:lnTo>
                  <a:lnTo>
                    <a:pt x="1967" y="144"/>
                  </a:lnTo>
                  <a:lnTo>
                    <a:pt x="2070" y="65"/>
                  </a:lnTo>
                  <a:lnTo>
                    <a:pt x="2153" y="25"/>
                  </a:lnTo>
                  <a:lnTo>
                    <a:pt x="2223" y="0"/>
                  </a:lnTo>
                  <a:lnTo>
                    <a:pt x="2283" y="8"/>
                  </a:lnTo>
                  <a:lnTo>
                    <a:pt x="2381" y="69"/>
                  </a:lnTo>
                  <a:lnTo>
                    <a:pt x="2487" y="120"/>
                  </a:lnTo>
                  <a:lnTo>
                    <a:pt x="2599" y="158"/>
                  </a:lnTo>
                  <a:lnTo>
                    <a:pt x="2682" y="172"/>
                  </a:lnTo>
                  <a:lnTo>
                    <a:pt x="2674" y="306"/>
                  </a:lnTo>
                  <a:lnTo>
                    <a:pt x="2568" y="403"/>
                  </a:lnTo>
                  <a:lnTo>
                    <a:pt x="2470" y="495"/>
                  </a:lnTo>
                  <a:lnTo>
                    <a:pt x="2295" y="672"/>
                  </a:lnTo>
                  <a:lnTo>
                    <a:pt x="2108" y="896"/>
                  </a:lnTo>
                  <a:lnTo>
                    <a:pt x="2086" y="899"/>
                  </a:lnTo>
                  <a:lnTo>
                    <a:pt x="1994" y="899"/>
                  </a:lnTo>
                  <a:lnTo>
                    <a:pt x="1900" y="932"/>
                  </a:lnTo>
                  <a:lnTo>
                    <a:pt x="1768" y="964"/>
                  </a:lnTo>
                  <a:lnTo>
                    <a:pt x="1650" y="1025"/>
                  </a:lnTo>
                  <a:lnTo>
                    <a:pt x="1514" y="1198"/>
                  </a:lnTo>
                  <a:lnTo>
                    <a:pt x="1377" y="1318"/>
                  </a:lnTo>
                  <a:lnTo>
                    <a:pt x="1227" y="1495"/>
                  </a:lnTo>
                  <a:lnTo>
                    <a:pt x="1110" y="1705"/>
                  </a:lnTo>
                  <a:lnTo>
                    <a:pt x="1096" y="1913"/>
                  </a:lnTo>
                  <a:lnTo>
                    <a:pt x="1049" y="2074"/>
                  </a:lnTo>
                  <a:lnTo>
                    <a:pt x="955" y="2179"/>
                  </a:lnTo>
                  <a:lnTo>
                    <a:pt x="844" y="2301"/>
                  </a:lnTo>
                  <a:lnTo>
                    <a:pt x="606" y="2525"/>
                  </a:lnTo>
                  <a:lnTo>
                    <a:pt x="461" y="2686"/>
                  </a:lnTo>
                  <a:lnTo>
                    <a:pt x="373" y="2847"/>
                  </a:lnTo>
                  <a:lnTo>
                    <a:pt x="281" y="2971"/>
                  </a:lnTo>
                  <a:lnTo>
                    <a:pt x="177" y="30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139880" y="4829400"/>
              <a:ext cx="828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298000">
              <a:off x="7150680" y="4341600"/>
              <a:ext cx="106920" cy="98280"/>
            </a:xfrm>
            <a:custGeom>
              <a:avLst/>
              <a:gdLst/>
              <a:ahLst/>
              <a:rect l="l" t="t" r="r" b="b"/>
              <a:pathLst>
                <a:path w="533" h="547">
                  <a:moveTo>
                    <a:pt x="195" y="227"/>
                  </a:moveTo>
                  <a:lnTo>
                    <a:pt x="122" y="267"/>
                  </a:lnTo>
                  <a:lnTo>
                    <a:pt x="30" y="282"/>
                  </a:lnTo>
                  <a:lnTo>
                    <a:pt x="0" y="346"/>
                  </a:lnTo>
                  <a:lnTo>
                    <a:pt x="37" y="428"/>
                  </a:lnTo>
                  <a:lnTo>
                    <a:pt x="94" y="500"/>
                  </a:lnTo>
                  <a:lnTo>
                    <a:pt x="163" y="544"/>
                  </a:lnTo>
                  <a:lnTo>
                    <a:pt x="248" y="547"/>
                  </a:lnTo>
                  <a:lnTo>
                    <a:pt x="312" y="507"/>
                  </a:lnTo>
                  <a:lnTo>
                    <a:pt x="388" y="446"/>
                  </a:lnTo>
                  <a:lnTo>
                    <a:pt x="457" y="383"/>
                  </a:lnTo>
                  <a:lnTo>
                    <a:pt x="533" y="295"/>
                  </a:lnTo>
                  <a:lnTo>
                    <a:pt x="508" y="249"/>
                  </a:lnTo>
                  <a:lnTo>
                    <a:pt x="505" y="178"/>
                  </a:lnTo>
                  <a:lnTo>
                    <a:pt x="492" y="116"/>
                  </a:lnTo>
                  <a:lnTo>
                    <a:pt x="515" y="44"/>
                  </a:lnTo>
                  <a:lnTo>
                    <a:pt x="468" y="0"/>
                  </a:lnTo>
                  <a:lnTo>
                    <a:pt x="432" y="58"/>
                  </a:lnTo>
                  <a:lnTo>
                    <a:pt x="367" y="147"/>
                  </a:lnTo>
                  <a:lnTo>
                    <a:pt x="316" y="159"/>
                  </a:lnTo>
                  <a:lnTo>
                    <a:pt x="274" y="112"/>
                  </a:lnTo>
                  <a:lnTo>
                    <a:pt x="234" y="77"/>
                  </a:lnTo>
                  <a:lnTo>
                    <a:pt x="202" y="97"/>
                  </a:lnTo>
                  <a:lnTo>
                    <a:pt x="214" y="1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86320" y="4374720"/>
              <a:ext cx="180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298000">
              <a:off x="6413400" y="3771720"/>
              <a:ext cx="1474920" cy="1918800"/>
            </a:xfrm>
            <a:custGeom>
              <a:avLst/>
              <a:gdLst/>
              <a:ahLst/>
              <a:rect l="l" t="t" r="r" b="b"/>
              <a:pathLst>
                <a:path w="7323" h="10643">
                  <a:moveTo>
                    <a:pt x="1923" y="10643"/>
                  </a:moveTo>
                  <a:lnTo>
                    <a:pt x="0" y="10643"/>
                  </a:lnTo>
                  <a:lnTo>
                    <a:pt x="26" y="3021"/>
                  </a:lnTo>
                  <a:lnTo>
                    <a:pt x="111" y="3069"/>
                  </a:lnTo>
                  <a:lnTo>
                    <a:pt x="199" y="3115"/>
                  </a:lnTo>
                  <a:lnTo>
                    <a:pt x="314" y="3195"/>
                  </a:lnTo>
                  <a:lnTo>
                    <a:pt x="432" y="3251"/>
                  </a:lnTo>
                  <a:lnTo>
                    <a:pt x="608" y="3216"/>
                  </a:lnTo>
                  <a:lnTo>
                    <a:pt x="740" y="3198"/>
                  </a:lnTo>
                  <a:lnTo>
                    <a:pt x="819" y="3264"/>
                  </a:lnTo>
                  <a:lnTo>
                    <a:pt x="944" y="3347"/>
                  </a:lnTo>
                  <a:lnTo>
                    <a:pt x="1225" y="3459"/>
                  </a:lnTo>
                  <a:lnTo>
                    <a:pt x="1390" y="3538"/>
                  </a:lnTo>
                  <a:lnTo>
                    <a:pt x="1484" y="3557"/>
                  </a:lnTo>
                  <a:lnTo>
                    <a:pt x="1542" y="3561"/>
                  </a:lnTo>
                  <a:lnTo>
                    <a:pt x="1623" y="3634"/>
                  </a:lnTo>
                  <a:lnTo>
                    <a:pt x="1715" y="3650"/>
                  </a:lnTo>
                  <a:lnTo>
                    <a:pt x="1763" y="3593"/>
                  </a:lnTo>
                  <a:lnTo>
                    <a:pt x="1762" y="3489"/>
                  </a:lnTo>
                  <a:lnTo>
                    <a:pt x="1806" y="3403"/>
                  </a:lnTo>
                  <a:lnTo>
                    <a:pt x="1901" y="3334"/>
                  </a:lnTo>
                  <a:lnTo>
                    <a:pt x="2034" y="3293"/>
                  </a:lnTo>
                  <a:lnTo>
                    <a:pt x="2145" y="3252"/>
                  </a:lnTo>
                  <a:lnTo>
                    <a:pt x="2244" y="3227"/>
                  </a:lnTo>
                  <a:lnTo>
                    <a:pt x="2341" y="3240"/>
                  </a:lnTo>
                  <a:lnTo>
                    <a:pt x="2380" y="3312"/>
                  </a:lnTo>
                  <a:lnTo>
                    <a:pt x="2424" y="3372"/>
                  </a:lnTo>
                  <a:lnTo>
                    <a:pt x="2499" y="3399"/>
                  </a:lnTo>
                  <a:lnTo>
                    <a:pt x="2579" y="3421"/>
                  </a:lnTo>
                  <a:lnTo>
                    <a:pt x="2661" y="3454"/>
                  </a:lnTo>
                  <a:lnTo>
                    <a:pt x="2728" y="3388"/>
                  </a:lnTo>
                  <a:lnTo>
                    <a:pt x="2822" y="3344"/>
                  </a:lnTo>
                  <a:lnTo>
                    <a:pt x="2908" y="3334"/>
                  </a:lnTo>
                  <a:lnTo>
                    <a:pt x="3002" y="3396"/>
                  </a:lnTo>
                  <a:lnTo>
                    <a:pt x="3056" y="3472"/>
                  </a:lnTo>
                  <a:lnTo>
                    <a:pt x="3166" y="3522"/>
                  </a:lnTo>
                  <a:lnTo>
                    <a:pt x="3286" y="3538"/>
                  </a:lnTo>
                  <a:lnTo>
                    <a:pt x="3398" y="3511"/>
                  </a:lnTo>
                  <a:lnTo>
                    <a:pt x="3447" y="3438"/>
                  </a:lnTo>
                  <a:lnTo>
                    <a:pt x="3528" y="3341"/>
                  </a:lnTo>
                  <a:lnTo>
                    <a:pt x="3626" y="3305"/>
                  </a:lnTo>
                  <a:lnTo>
                    <a:pt x="3729" y="3201"/>
                  </a:lnTo>
                  <a:lnTo>
                    <a:pt x="3872" y="3062"/>
                  </a:lnTo>
                  <a:lnTo>
                    <a:pt x="3979" y="2968"/>
                  </a:lnTo>
                  <a:lnTo>
                    <a:pt x="4083" y="2874"/>
                  </a:lnTo>
                  <a:lnTo>
                    <a:pt x="4185" y="2791"/>
                  </a:lnTo>
                  <a:lnTo>
                    <a:pt x="4230" y="2681"/>
                  </a:lnTo>
                  <a:lnTo>
                    <a:pt x="4258" y="2595"/>
                  </a:lnTo>
                  <a:lnTo>
                    <a:pt x="4311" y="2488"/>
                  </a:lnTo>
                  <a:lnTo>
                    <a:pt x="4358" y="2407"/>
                  </a:lnTo>
                  <a:lnTo>
                    <a:pt x="4333" y="2254"/>
                  </a:lnTo>
                  <a:lnTo>
                    <a:pt x="4337" y="2151"/>
                  </a:lnTo>
                  <a:lnTo>
                    <a:pt x="4359" y="2037"/>
                  </a:lnTo>
                  <a:lnTo>
                    <a:pt x="4505" y="1953"/>
                  </a:lnTo>
                  <a:lnTo>
                    <a:pt x="4554" y="1871"/>
                  </a:lnTo>
                  <a:lnTo>
                    <a:pt x="4631" y="1704"/>
                  </a:lnTo>
                  <a:lnTo>
                    <a:pt x="4684" y="1570"/>
                  </a:lnTo>
                  <a:lnTo>
                    <a:pt x="4698" y="1438"/>
                  </a:lnTo>
                  <a:lnTo>
                    <a:pt x="4652" y="1277"/>
                  </a:lnTo>
                  <a:lnTo>
                    <a:pt x="4599" y="1160"/>
                  </a:lnTo>
                  <a:lnTo>
                    <a:pt x="4508" y="1008"/>
                  </a:lnTo>
                  <a:lnTo>
                    <a:pt x="4420" y="887"/>
                  </a:lnTo>
                  <a:lnTo>
                    <a:pt x="4320" y="776"/>
                  </a:lnTo>
                  <a:lnTo>
                    <a:pt x="4246" y="680"/>
                  </a:lnTo>
                  <a:lnTo>
                    <a:pt x="4159" y="614"/>
                  </a:lnTo>
                  <a:lnTo>
                    <a:pt x="4017" y="581"/>
                  </a:lnTo>
                  <a:lnTo>
                    <a:pt x="3923" y="532"/>
                  </a:lnTo>
                  <a:lnTo>
                    <a:pt x="3876" y="425"/>
                  </a:lnTo>
                  <a:lnTo>
                    <a:pt x="3838" y="331"/>
                  </a:lnTo>
                  <a:lnTo>
                    <a:pt x="3778" y="110"/>
                  </a:lnTo>
                  <a:lnTo>
                    <a:pt x="3752" y="5"/>
                  </a:lnTo>
                  <a:lnTo>
                    <a:pt x="7323" y="0"/>
                  </a:lnTo>
                  <a:lnTo>
                    <a:pt x="7315" y="2869"/>
                  </a:lnTo>
                  <a:lnTo>
                    <a:pt x="7062" y="2773"/>
                  </a:lnTo>
                  <a:lnTo>
                    <a:pt x="6958" y="2650"/>
                  </a:lnTo>
                  <a:lnTo>
                    <a:pt x="6898" y="2473"/>
                  </a:lnTo>
                  <a:lnTo>
                    <a:pt x="6839" y="2349"/>
                  </a:lnTo>
                  <a:lnTo>
                    <a:pt x="6743" y="2315"/>
                  </a:lnTo>
                  <a:lnTo>
                    <a:pt x="6654" y="2318"/>
                  </a:lnTo>
                  <a:lnTo>
                    <a:pt x="6547" y="2407"/>
                  </a:lnTo>
                  <a:lnTo>
                    <a:pt x="6455" y="2495"/>
                  </a:lnTo>
                  <a:lnTo>
                    <a:pt x="6329" y="2586"/>
                  </a:lnTo>
                  <a:lnTo>
                    <a:pt x="6190" y="2741"/>
                  </a:lnTo>
                  <a:lnTo>
                    <a:pt x="6077" y="2854"/>
                  </a:lnTo>
                  <a:lnTo>
                    <a:pt x="5976" y="2986"/>
                  </a:lnTo>
                  <a:lnTo>
                    <a:pt x="5893" y="2972"/>
                  </a:lnTo>
                  <a:lnTo>
                    <a:pt x="5781" y="2934"/>
                  </a:lnTo>
                  <a:lnTo>
                    <a:pt x="5675" y="2883"/>
                  </a:lnTo>
                  <a:lnTo>
                    <a:pt x="5577" y="2822"/>
                  </a:lnTo>
                  <a:lnTo>
                    <a:pt x="5517" y="2814"/>
                  </a:lnTo>
                  <a:lnTo>
                    <a:pt x="5447" y="2839"/>
                  </a:lnTo>
                  <a:lnTo>
                    <a:pt x="5364" y="2879"/>
                  </a:lnTo>
                  <a:lnTo>
                    <a:pt x="5261" y="2958"/>
                  </a:lnTo>
                  <a:lnTo>
                    <a:pt x="5150" y="3006"/>
                  </a:lnTo>
                  <a:lnTo>
                    <a:pt x="5043" y="3072"/>
                  </a:lnTo>
                  <a:lnTo>
                    <a:pt x="4976" y="3054"/>
                  </a:lnTo>
                  <a:lnTo>
                    <a:pt x="4893" y="2974"/>
                  </a:lnTo>
                  <a:lnTo>
                    <a:pt x="4833" y="2926"/>
                  </a:lnTo>
                  <a:lnTo>
                    <a:pt x="4748" y="2934"/>
                  </a:lnTo>
                  <a:lnTo>
                    <a:pt x="4688" y="29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298000">
              <a:off x="7009200" y="4198320"/>
              <a:ext cx="850320" cy="807840"/>
            </a:xfrm>
            <a:custGeom>
              <a:avLst/>
              <a:gdLst/>
              <a:ahLst/>
              <a:rect l="l" t="t" r="r" b="b"/>
              <a:pathLst>
                <a:path w="4219" h="4482">
                  <a:moveTo>
                    <a:pt x="1591" y="0"/>
                  </a:moveTo>
                  <a:lnTo>
                    <a:pt x="1533" y="88"/>
                  </a:lnTo>
                  <a:lnTo>
                    <a:pt x="1461" y="135"/>
                  </a:lnTo>
                  <a:lnTo>
                    <a:pt x="1375" y="171"/>
                  </a:lnTo>
                  <a:lnTo>
                    <a:pt x="1278" y="253"/>
                  </a:lnTo>
                  <a:lnTo>
                    <a:pt x="1189" y="353"/>
                  </a:lnTo>
                  <a:lnTo>
                    <a:pt x="1133" y="454"/>
                  </a:lnTo>
                  <a:lnTo>
                    <a:pt x="1022" y="511"/>
                  </a:lnTo>
                  <a:lnTo>
                    <a:pt x="929" y="486"/>
                  </a:lnTo>
                  <a:lnTo>
                    <a:pt x="815" y="528"/>
                  </a:lnTo>
                  <a:lnTo>
                    <a:pt x="775" y="590"/>
                  </a:lnTo>
                  <a:lnTo>
                    <a:pt x="706" y="751"/>
                  </a:lnTo>
                  <a:lnTo>
                    <a:pt x="684" y="851"/>
                  </a:lnTo>
                  <a:lnTo>
                    <a:pt x="665" y="927"/>
                  </a:lnTo>
                  <a:lnTo>
                    <a:pt x="586" y="1009"/>
                  </a:lnTo>
                  <a:lnTo>
                    <a:pt x="478" y="1077"/>
                  </a:lnTo>
                  <a:lnTo>
                    <a:pt x="386" y="1173"/>
                  </a:lnTo>
                  <a:lnTo>
                    <a:pt x="342" y="1253"/>
                  </a:lnTo>
                  <a:lnTo>
                    <a:pt x="310" y="1408"/>
                  </a:lnTo>
                  <a:lnTo>
                    <a:pt x="256" y="1565"/>
                  </a:lnTo>
                  <a:lnTo>
                    <a:pt x="214" y="1748"/>
                  </a:lnTo>
                  <a:lnTo>
                    <a:pt x="197" y="1933"/>
                  </a:lnTo>
                  <a:lnTo>
                    <a:pt x="269" y="2001"/>
                  </a:lnTo>
                  <a:lnTo>
                    <a:pt x="294" y="2044"/>
                  </a:lnTo>
                  <a:lnTo>
                    <a:pt x="313" y="2142"/>
                  </a:lnTo>
                  <a:lnTo>
                    <a:pt x="310" y="2345"/>
                  </a:lnTo>
                  <a:lnTo>
                    <a:pt x="279" y="2515"/>
                  </a:lnTo>
                  <a:lnTo>
                    <a:pt x="273" y="2722"/>
                  </a:lnTo>
                  <a:lnTo>
                    <a:pt x="306" y="2889"/>
                  </a:lnTo>
                  <a:lnTo>
                    <a:pt x="355" y="2959"/>
                  </a:lnTo>
                  <a:lnTo>
                    <a:pt x="481" y="3001"/>
                  </a:lnTo>
                  <a:lnTo>
                    <a:pt x="605" y="2991"/>
                  </a:lnTo>
                  <a:lnTo>
                    <a:pt x="791" y="3012"/>
                  </a:lnTo>
                  <a:lnTo>
                    <a:pt x="908" y="2984"/>
                  </a:lnTo>
                  <a:lnTo>
                    <a:pt x="1063" y="2998"/>
                  </a:lnTo>
                  <a:lnTo>
                    <a:pt x="1255" y="2981"/>
                  </a:lnTo>
                  <a:lnTo>
                    <a:pt x="1514" y="2991"/>
                  </a:lnTo>
                  <a:lnTo>
                    <a:pt x="1695" y="2979"/>
                  </a:lnTo>
                  <a:lnTo>
                    <a:pt x="1892" y="2897"/>
                  </a:lnTo>
                  <a:lnTo>
                    <a:pt x="2113" y="2836"/>
                  </a:lnTo>
                  <a:lnTo>
                    <a:pt x="2311" y="2717"/>
                  </a:lnTo>
                  <a:lnTo>
                    <a:pt x="2518" y="2575"/>
                  </a:lnTo>
                  <a:lnTo>
                    <a:pt x="2669" y="2452"/>
                  </a:lnTo>
                  <a:lnTo>
                    <a:pt x="2847" y="2307"/>
                  </a:lnTo>
                  <a:lnTo>
                    <a:pt x="3010" y="2104"/>
                  </a:lnTo>
                  <a:lnTo>
                    <a:pt x="3097" y="1941"/>
                  </a:lnTo>
                  <a:lnTo>
                    <a:pt x="3200" y="1750"/>
                  </a:lnTo>
                  <a:lnTo>
                    <a:pt x="3203" y="1709"/>
                  </a:lnTo>
                  <a:lnTo>
                    <a:pt x="3296" y="1690"/>
                  </a:lnTo>
                  <a:lnTo>
                    <a:pt x="3366" y="1676"/>
                  </a:lnTo>
                  <a:lnTo>
                    <a:pt x="3479" y="1631"/>
                  </a:lnTo>
                  <a:lnTo>
                    <a:pt x="3586" y="1569"/>
                  </a:lnTo>
                  <a:lnTo>
                    <a:pt x="3698" y="1474"/>
                  </a:lnTo>
                  <a:lnTo>
                    <a:pt x="3802" y="1338"/>
                  </a:lnTo>
                  <a:lnTo>
                    <a:pt x="3884" y="1198"/>
                  </a:lnTo>
                  <a:lnTo>
                    <a:pt x="3954" y="1064"/>
                  </a:lnTo>
                  <a:lnTo>
                    <a:pt x="4216" y="1032"/>
                  </a:lnTo>
                  <a:lnTo>
                    <a:pt x="4219" y="4284"/>
                  </a:lnTo>
                  <a:lnTo>
                    <a:pt x="3944" y="4177"/>
                  </a:lnTo>
                  <a:lnTo>
                    <a:pt x="3878" y="4123"/>
                  </a:lnTo>
                  <a:lnTo>
                    <a:pt x="3777" y="4028"/>
                  </a:lnTo>
                  <a:lnTo>
                    <a:pt x="3669" y="4000"/>
                  </a:lnTo>
                  <a:lnTo>
                    <a:pt x="3523" y="4019"/>
                  </a:lnTo>
                  <a:lnTo>
                    <a:pt x="3366" y="4025"/>
                  </a:lnTo>
                  <a:lnTo>
                    <a:pt x="3233" y="4023"/>
                  </a:lnTo>
                  <a:lnTo>
                    <a:pt x="3116" y="4069"/>
                  </a:lnTo>
                  <a:lnTo>
                    <a:pt x="2986" y="4073"/>
                  </a:lnTo>
                  <a:lnTo>
                    <a:pt x="2904" y="3981"/>
                  </a:lnTo>
                  <a:lnTo>
                    <a:pt x="2894" y="3851"/>
                  </a:lnTo>
                  <a:lnTo>
                    <a:pt x="2920" y="3747"/>
                  </a:lnTo>
                  <a:lnTo>
                    <a:pt x="2893" y="3650"/>
                  </a:lnTo>
                  <a:lnTo>
                    <a:pt x="2755" y="3675"/>
                  </a:lnTo>
                  <a:lnTo>
                    <a:pt x="2637" y="3698"/>
                  </a:lnTo>
                  <a:lnTo>
                    <a:pt x="2502" y="3795"/>
                  </a:lnTo>
                  <a:lnTo>
                    <a:pt x="2382" y="3880"/>
                  </a:lnTo>
                  <a:lnTo>
                    <a:pt x="2264" y="3969"/>
                  </a:lnTo>
                  <a:lnTo>
                    <a:pt x="2126" y="4069"/>
                  </a:lnTo>
                  <a:lnTo>
                    <a:pt x="1989" y="4176"/>
                  </a:lnTo>
                  <a:lnTo>
                    <a:pt x="1946" y="4290"/>
                  </a:lnTo>
                  <a:lnTo>
                    <a:pt x="1882" y="4407"/>
                  </a:lnTo>
                  <a:lnTo>
                    <a:pt x="1808" y="4482"/>
                  </a:lnTo>
                  <a:lnTo>
                    <a:pt x="1712" y="4477"/>
                  </a:lnTo>
                  <a:lnTo>
                    <a:pt x="1600" y="4409"/>
                  </a:lnTo>
                  <a:lnTo>
                    <a:pt x="1493" y="4362"/>
                  </a:lnTo>
                  <a:lnTo>
                    <a:pt x="1334" y="4403"/>
                  </a:lnTo>
                  <a:lnTo>
                    <a:pt x="1195" y="4403"/>
                  </a:lnTo>
                  <a:lnTo>
                    <a:pt x="1158" y="4354"/>
                  </a:lnTo>
                  <a:lnTo>
                    <a:pt x="1095" y="4264"/>
                  </a:lnTo>
                  <a:lnTo>
                    <a:pt x="1028" y="4108"/>
                  </a:lnTo>
                  <a:lnTo>
                    <a:pt x="1012" y="3996"/>
                  </a:lnTo>
                  <a:lnTo>
                    <a:pt x="964" y="3895"/>
                  </a:lnTo>
                  <a:lnTo>
                    <a:pt x="861" y="3864"/>
                  </a:lnTo>
                  <a:lnTo>
                    <a:pt x="752" y="3861"/>
                  </a:lnTo>
                  <a:lnTo>
                    <a:pt x="591" y="3892"/>
                  </a:lnTo>
                  <a:lnTo>
                    <a:pt x="452" y="3908"/>
                  </a:lnTo>
                  <a:lnTo>
                    <a:pt x="361" y="4000"/>
                  </a:lnTo>
                  <a:lnTo>
                    <a:pt x="307" y="4083"/>
                  </a:lnTo>
                  <a:lnTo>
                    <a:pt x="206" y="4100"/>
                  </a:lnTo>
                  <a:lnTo>
                    <a:pt x="73" y="4086"/>
                  </a:lnTo>
                  <a:lnTo>
                    <a:pt x="0" y="40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298000">
              <a:off x="6891480" y="5053680"/>
              <a:ext cx="383040" cy="666720"/>
            </a:xfrm>
            <a:custGeom>
              <a:avLst/>
              <a:gdLst/>
              <a:ahLst/>
              <a:rect l="l" t="t" r="r" b="b"/>
              <a:pathLst>
                <a:path w="1904" h="3699">
                  <a:moveTo>
                    <a:pt x="1904" y="295"/>
                  </a:moveTo>
                  <a:lnTo>
                    <a:pt x="1865" y="173"/>
                  </a:lnTo>
                  <a:lnTo>
                    <a:pt x="1838" y="69"/>
                  </a:lnTo>
                  <a:lnTo>
                    <a:pt x="1733" y="0"/>
                  </a:lnTo>
                  <a:lnTo>
                    <a:pt x="1683" y="22"/>
                  </a:lnTo>
                  <a:lnTo>
                    <a:pt x="1587" y="71"/>
                  </a:lnTo>
                  <a:lnTo>
                    <a:pt x="1464" y="113"/>
                  </a:lnTo>
                  <a:lnTo>
                    <a:pt x="1370" y="159"/>
                  </a:lnTo>
                  <a:lnTo>
                    <a:pt x="1253" y="205"/>
                  </a:lnTo>
                  <a:lnTo>
                    <a:pt x="1104" y="263"/>
                  </a:lnTo>
                  <a:lnTo>
                    <a:pt x="993" y="315"/>
                  </a:lnTo>
                  <a:lnTo>
                    <a:pt x="842" y="418"/>
                  </a:lnTo>
                  <a:lnTo>
                    <a:pt x="687" y="522"/>
                  </a:lnTo>
                  <a:lnTo>
                    <a:pt x="510" y="645"/>
                  </a:lnTo>
                  <a:lnTo>
                    <a:pt x="386" y="727"/>
                  </a:lnTo>
                  <a:lnTo>
                    <a:pt x="278" y="886"/>
                  </a:lnTo>
                  <a:lnTo>
                    <a:pt x="197" y="1069"/>
                  </a:lnTo>
                  <a:lnTo>
                    <a:pt x="162" y="1216"/>
                  </a:lnTo>
                  <a:lnTo>
                    <a:pt x="107" y="1374"/>
                  </a:lnTo>
                  <a:lnTo>
                    <a:pt x="58" y="1545"/>
                  </a:lnTo>
                  <a:lnTo>
                    <a:pt x="56" y="1674"/>
                  </a:lnTo>
                  <a:lnTo>
                    <a:pt x="22" y="1831"/>
                  </a:lnTo>
                  <a:lnTo>
                    <a:pt x="0" y="1993"/>
                  </a:lnTo>
                  <a:lnTo>
                    <a:pt x="0" y="2132"/>
                  </a:lnTo>
                  <a:lnTo>
                    <a:pt x="45" y="2249"/>
                  </a:lnTo>
                  <a:lnTo>
                    <a:pt x="148" y="2350"/>
                  </a:lnTo>
                  <a:lnTo>
                    <a:pt x="165" y="2438"/>
                  </a:lnTo>
                  <a:lnTo>
                    <a:pt x="156" y="2548"/>
                  </a:lnTo>
                  <a:lnTo>
                    <a:pt x="111" y="2737"/>
                  </a:lnTo>
                  <a:lnTo>
                    <a:pt x="57" y="2922"/>
                  </a:lnTo>
                  <a:lnTo>
                    <a:pt x="85" y="3084"/>
                  </a:lnTo>
                  <a:lnTo>
                    <a:pt x="133" y="3244"/>
                  </a:lnTo>
                  <a:lnTo>
                    <a:pt x="209" y="3358"/>
                  </a:lnTo>
                  <a:lnTo>
                    <a:pt x="323" y="3390"/>
                  </a:lnTo>
                  <a:lnTo>
                    <a:pt x="459" y="3419"/>
                  </a:lnTo>
                  <a:lnTo>
                    <a:pt x="566" y="3485"/>
                  </a:lnTo>
                  <a:lnTo>
                    <a:pt x="640" y="3588"/>
                  </a:lnTo>
                  <a:lnTo>
                    <a:pt x="705" y="36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0040" y="5715360"/>
              <a:ext cx="19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298000">
              <a:off x="7373520" y="4757040"/>
              <a:ext cx="103320" cy="83160"/>
            </a:xfrm>
            <a:custGeom>
              <a:avLst/>
              <a:gdLst/>
              <a:ahLst/>
              <a:rect l="l" t="t" r="r" b="b"/>
              <a:pathLst>
                <a:path w="514" h="461">
                  <a:moveTo>
                    <a:pt x="11" y="138"/>
                  </a:moveTo>
                  <a:lnTo>
                    <a:pt x="0" y="165"/>
                  </a:lnTo>
                  <a:lnTo>
                    <a:pt x="38" y="225"/>
                  </a:lnTo>
                  <a:lnTo>
                    <a:pt x="92" y="282"/>
                  </a:lnTo>
                  <a:lnTo>
                    <a:pt x="131" y="350"/>
                  </a:lnTo>
                  <a:lnTo>
                    <a:pt x="127" y="426"/>
                  </a:lnTo>
                  <a:lnTo>
                    <a:pt x="168" y="461"/>
                  </a:lnTo>
                  <a:lnTo>
                    <a:pt x="223" y="439"/>
                  </a:lnTo>
                  <a:lnTo>
                    <a:pt x="285" y="359"/>
                  </a:lnTo>
                  <a:lnTo>
                    <a:pt x="324" y="356"/>
                  </a:lnTo>
                  <a:lnTo>
                    <a:pt x="396" y="357"/>
                  </a:lnTo>
                  <a:lnTo>
                    <a:pt x="466" y="332"/>
                  </a:lnTo>
                  <a:lnTo>
                    <a:pt x="438" y="278"/>
                  </a:lnTo>
                  <a:lnTo>
                    <a:pt x="425" y="228"/>
                  </a:lnTo>
                  <a:lnTo>
                    <a:pt x="466" y="151"/>
                  </a:lnTo>
                  <a:lnTo>
                    <a:pt x="514" y="104"/>
                  </a:lnTo>
                  <a:lnTo>
                    <a:pt x="484" y="69"/>
                  </a:lnTo>
                  <a:lnTo>
                    <a:pt x="421" y="41"/>
                  </a:lnTo>
                  <a:lnTo>
                    <a:pt x="357" y="39"/>
                  </a:lnTo>
                  <a:lnTo>
                    <a:pt x="346" y="0"/>
                  </a:lnTo>
                  <a:lnTo>
                    <a:pt x="314" y="0"/>
                  </a:lnTo>
                  <a:lnTo>
                    <a:pt x="260" y="25"/>
                  </a:lnTo>
                  <a:lnTo>
                    <a:pt x="175" y="44"/>
                  </a:lnTo>
                  <a:lnTo>
                    <a:pt x="95" y="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373160" y="4782960"/>
              <a:ext cx="1080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298000">
              <a:off x="6933960" y="4816800"/>
              <a:ext cx="115200" cy="109080"/>
            </a:xfrm>
            <a:custGeom>
              <a:avLst/>
              <a:gdLst/>
              <a:ahLst/>
              <a:rect l="l" t="t" r="r" b="b"/>
              <a:pathLst>
                <a:path w="572" h="606">
                  <a:moveTo>
                    <a:pt x="8" y="233"/>
                  </a:moveTo>
                  <a:lnTo>
                    <a:pt x="21" y="306"/>
                  </a:lnTo>
                  <a:lnTo>
                    <a:pt x="54" y="366"/>
                  </a:lnTo>
                  <a:lnTo>
                    <a:pt x="53" y="462"/>
                  </a:lnTo>
                  <a:lnTo>
                    <a:pt x="15" y="539"/>
                  </a:lnTo>
                  <a:lnTo>
                    <a:pt x="104" y="582"/>
                  </a:lnTo>
                  <a:lnTo>
                    <a:pt x="161" y="596"/>
                  </a:lnTo>
                  <a:lnTo>
                    <a:pt x="283" y="604"/>
                  </a:lnTo>
                  <a:lnTo>
                    <a:pt x="397" y="606"/>
                  </a:lnTo>
                  <a:lnTo>
                    <a:pt x="458" y="574"/>
                  </a:lnTo>
                  <a:lnTo>
                    <a:pt x="495" y="492"/>
                  </a:lnTo>
                  <a:lnTo>
                    <a:pt x="515" y="426"/>
                  </a:lnTo>
                  <a:lnTo>
                    <a:pt x="522" y="350"/>
                  </a:lnTo>
                  <a:lnTo>
                    <a:pt x="572" y="329"/>
                  </a:lnTo>
                  <a:lnTo>
                    <a:pt x="566" y="285"/>
                  </a:lnTo>
                  <a:lnTo>
                    <a:pt x="538" y="246"/>
                  </a:lnTo>
                  <a:lnTo>
                    <a:pt x="502" y="230"/>
                  </a:lnTo>
                  <a:lnTo>
                    <a:pt x="414" y="156"/>
                  </a:lnTo>
                  <a:lnTo>
                    <a:pt x="383" y="96"/>
                  </a:lnTo>
                  <a:lnTo>
                    <a:pt x="337" y="11"/>
                  </a:lnTo>
                  <a:lnTo>
                    <a:pt x="321" y="0"/>
                  </a:lnTo>
                  <a:lnTo>
                    <a:pt x="242" y="85"/>
                  </a:lnTo>
                  <a:lnTo>
                    <a:pt x="214" y="156"/>
                  </a:lnTo>
                  <a:lnTo>
                    <a:pt x="158" y="162"/>
                  </a:lnTo>
                  <a:lnTo>
                    <a:pt x="75" y="121"/>
                  </a:lnTo>
                  <a:lnTo>
                    <a:pt x="0" y="1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0000" y="4871520"/>
              <a:ext cx="504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298000">
              <a:off x="6753960" y="4669200"/>
              <a:ext cx="72360" cy="50760"/>
            </a:xfrm>
            <a:custGeom>
              <a:avLst/>
              <a:gdLst/>
              <a:ahLst/>
              <a:rect l="l" t="t" r="r" b="b"/>
              <a:pathLst>
                <a:path w="360" h="284">
                  <a:moveTo>
                    <a:pt x="13" y="114"/>
                  </a:moveTo>
                  <a:lnTo>
                    <a:pt x="35" y="142"/>
                  </a:lnTo>
                  <a:lnTo>
                    <a:pt x="50" y="186"/>
                  </a:lnTo>
                  <a:lnTo>
                    <a:pt x="48" y="258"/>
                  </a:lnTo>
                  <a:lnTo>
                    <a:pt x="97" y="281"/>
                  </a:lnTo>
                  <a:lnTo>
                    <a:pt x="179" y="284"/>
                  </a:lnTo>
                  <a:lnTo>
                    <a:pt x="274" y="267"/>
                  </a:lnTo>
                  <a:lnTo>
                    <a:pt x="275" y="237"/>
                  </a:lnTo>
                  <a:lnTo>
                    <a:pt x="355" y="166"/>
                  </a:lnTo>
                  <a:lnTo>
                    <a:pt x="360" y="130"/>
                  </a:lnTo>
                  <a:lnTo>
                    <a:pt x="300" y="78"/>
                  </a:lnTo>
                  <a:lnTo>
                    <a:pt x="239" y="65"/>
                  </a:lnTo>
                  <a:lnTo>
                    <a:pt x="219" y="25"/>
                  </a:lnTo>
                  <a:lnTo>
                    <a:pt x="203" y="0"/>
                  </a:lnTo>
                  <a:lnTo>
                    <a:pt x="160" y="13"/>
                  </a:lnTo>
                  <a:lnTo>
                    <a:pt x="98" y="46"/>
                  </a:lnTo>
                  <a:lnTo>
                    <a:pt x="26" y="13"/>
                  </a:lnTo>
                  <a:lnTo>
                    <a:pt x="0" y="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50720" y="4691880"/>
              <a:ext cx="648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480" y="4648320"/>
            <a:ext cx="762120" cy="1143000"/>
            <a:chOff x="5181480" y="4648320"/>
            <a:chExt cx="762120" cy="1143000"/>
          </a:xfrm>
        </p:grpSpPr>
        <p:sp>
          <p:nvSpPr>
            <p:cNvPr id="184" name=""/>
            <p:cNvSpPr/>
            <p:nvPr/>
          </p:nvSpPr>
          <p:spPr>
            <a:xfrm flipV="1">
              <a:off x="5181480" y="4648320"/>
              <a:ext cx="762120" cy="304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1480" y="4952880"/>
              <a:ext cx="381240" cy="838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92400" y="465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3960" y="550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6699ff"/>
                </a:solidFill>
                <a:latin typeface="Arial"/>
              </a:rPr>
              <a:t>Proposed indices of pattern and neighborhood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ices and statistics of spatial pattern and neighborhood are presented according to the type of spatial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scription of spatial pattern and neighborhood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66680" y="2263680"/>
          <a:ext cx="6970680" cy="162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63680"/>
                    <a:ext cx="69706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9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point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location: central t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dispersion: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of spatial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area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Location of 8 poin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Spatial distribution of 8 point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4480" y="2590920"/>
            <a:ext cx="2459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X 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Y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24440" y="2662200"/>
            <a:ext cx="2019240" cy="1957680"/>
            <a:chOff x="5824440" y="2662200"/>
            <a:chExt cx="2019240" cy="1957680"/>
          </a:xfrm>
        </p:grpSpPr>
        <p:sp>
          <p:nvSpPr>
            <p:cNvPr id="204" name=""/>
            <p:cNvSpPr/>
            <p:nvPr/>
          </p:nvSpPr>
          <p:spPr>
            <a:xfrm>
              <a:off x="5824440" y="381312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3360" y="4033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61040" y="4491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85000" y="4262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51720" y="4033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99360" y="35766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18280" y="3805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18280" y="3348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05720" y="2662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29360" y="42451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85000" y="4343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94480" y="37879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4600" y="33559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09000" y="37670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6360" y="30909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15080" y="27288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221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 flipH="1" rot="16200000">
            <a:off x="455544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5-14T12:09:03Z</cp:lastPrinted>
  <dcterms:modified xsi:type="dcterms:W3CDTF">2003-11-12T12:23:38Z</dcterms:modified>
  <cp:revision>552</cp:revision>
  <dc:subject/>
  <dc:title>Leçon 2: Variables spatiales discrètes  Unité 1: Introduction</dc:title>
</cp:coreProperties>
</file>