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12.wmf" ContentType="image/x-wmf"/>
  <Override PartName="/ppt/media/image13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9832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5224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440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9832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5224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44400" y="114264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9832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5224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4440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9832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5224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44400" y="114264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825560" indent="-22860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28600">
              <a:spcBef>
                <a:spcPts val="11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28600">
              <a:spcBef>
                <a:spcPts val="11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28600">
              <a:spcBef>
                <a:spcPts val="11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176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610480" y="64008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B837-BA49-45E6-8B50-E72B0B09E113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309760" y="6172200"/>
            <a:ext cx="1455840" cy="326880"/>
          </a:xfrm>
          <a:prstGeom prst="rect">
            <a:avLst/>
          </a:prstGeom>
          <a:solidFill>
            <a:srgbClr val="e1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6261120"/>
            <a:ext cx="1557360" cy="590400"/>
          </a:xfrm>
          <a:prstGeom prst="rect">
            <a:avLst/>
          </a:prstGeom>
          <a:solidFill>
            <a:srgbClr val="d9f2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10652"/>
          <a:stretch/>
        </p:blipFill>
        <p:spPr>
          <a:xfrm>
            <a:off x="7696080" y="5607000"/>
            <a:ext cx="1143000" cy="1225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801680" y="615960"/>
            <a:ext cx="373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G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eographic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I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nformation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T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echnology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T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raining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A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llianc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 flipV="1">
            <a:off x="2238480" y="836640"/>
            <a:ext cx="6324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81080" cy="1190520"/>
          </a:xfrm>
          <a:prstGeom prst="rect">
            <a:avLst/>
          </a:prstGeom>
          <a:ln w="0">
            <a:noFill/>
          </a:ln>
        </p:spPr>
      </p:pic>
      <p:pic>
        <p:nvPicPr>
          <p:cNvPr id="10" name="C_logo_bleu" descr=""/>
          <p:cNvPicPr/>
          <p:nvPr/>
        </p:nvPicPr>
        <p:blipFill>
          <a:blip r:embed="rId4"/>
          <a:stretch/>
        </p:blipFill>
        <p:spPr>
          <a:xfrm>
            <a:off x="65160" y="6172200"/>
            <a:ext cx="620640" cy="62064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>
            <a:off x="762120" y="6248520"/>
            <a:ext cx="15238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d4d4d"/>
                </a:solidFill>
                <a:latin typeface="Arial"/>
              </a:rPr>
              <a:t>B-AN / L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Arial"/>
              </a:rPr>
              <a:t>Discrete spatial variab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252520" y="6095880"/>
            <a:ext cx="155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U3: Weighted spatial patter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5181480" y="6248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June 14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09320"/>
            <a:ext cx="175248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76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57560" cy="2438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85920" y="4987800"/>
            <a:ext cx="3757680" cy="594000"/>
          </a:xfrm>
          <a:prstGeom prst="rect">
            <a:avLst/>
          </a:prstGeom>
          <a:solidFill>
            <a:srgbClr val="e1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53920" y="1162080"/>
            <a:ext cx="406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G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eographic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I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nformation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T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echnology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T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raining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llianc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962520" y="1420920"/>
            <a:ext cx="455616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68640" y="2514600"/>
            <a:ext cx="0" cy="20574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rcRect l="0" t="0" r="0" b="10652"/>
          <a:stretch/>
        </p:blipFill>
        <p:spPr>
          <a:xfrm>
            <a:off x="7696080" y="5607000"/>
            <a:ext cx="1143000" cy="1225440"/>
          </a:xfrm>
          <a:prstGeom prst="rect">
            <a:avLst/>
          </a:prstGeom>
          <a:ln w="0">
            <a:noFill/>
          </a:ln>
        </p:spPr>
      </p:pic>
      <p:pic>
        <p:nvPicPr>
          <p:cNvPr id="58" name="C_logo_bleu" descr=""/>
          <p:cNvPicPr/>
          <p:nvPr/>
        </p:nvPicPr>
        <p:blipFill>
          <a:blip r:embed="rId4"/>
          <a:stretch/>
        </p:blipFill>
        <p:spPr>
          <a:xfrm>
            <a:off x="762120" y="5334120"/>
            <a:ext cx="1447560" cy="1447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17120" y="59292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Humanst521 Bd BT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5040" y="5987880"/>
            <a:ext cx="410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 of Geosciences - Geograph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86040" y="510552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-AN   Lesson 2 / Unit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Content of Lesson 2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8440" y="1981080"/>
            <a:ext cx="8118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Unit 1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Introduc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Unit 2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Individual spatial properties of featur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Unit 3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Spatial pattern and neighborhood of featur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Unit 4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Weighted spatial pattern and neighborhood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Unit 5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Regionaliza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Unit </a:t>
            </a:r>
            <a:r>
              <a:rPr b="1" lang="de-CH" sz="2300" spc="-1" strike="noStrike">
                <a:solidFill>
                  <a:srgbClr val="ffcc00"/>
                </a:solidFill>
                <a:latin typeface="Arial"/>
              </a:rPr>
              <a:t>6</a:t>
            </a: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Transformation of spatial featur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84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Weighted spatial pattern and neighborhood of point feature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00"/>
                </a:solidFill>
                <a:latin typeface="Arial"/>
              </a:rPr>
              <a:t>Point features: Weighted pattern and neighborhood</a:t>
            </a:r>
            <a:endParaRPr b="1" lang="en-US" sz="23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Different indicators for the spatial distribution and relationships of point fe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tial distribution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al indices of location: central tenden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al indices of dispersion: var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ighborhood relationships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ed distance to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s of largest weighted proximit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Location and weight of 8 point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Spatial distribution of the 8 points with their respective we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7520" y="2438280"/>
            <a:ext cx="38214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Point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X(m)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Y(m)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Z(weigh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2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3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3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1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6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2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5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3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4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5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7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4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7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6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9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9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24440" y="388764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61040" y="4643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85000" y="4414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99360" y="3728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18280" y="3957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18280" y="3500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34440" y="2744640"/>
            <a:ext cx="166680" cy="1666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29360" y="4397400"/>
            <a:ext cx="1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8500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94480" y="38750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94600" y="350820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09000" y="3919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56360" y="32432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15080" y="28814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320080" y="2516040"/>
            <a:ext cx="2618280" cy="2665080"/>
            <a:chOff x="5320080" y="2516040"/>
            <a:chExt cx="2618280" cy="2665080"/>
          </a:xfrm>
        </p:grpSpPr>
        <p:sp>
          <p:nvSpPr>
            <p:cNvPr id="207" name=""/>
            <p:cNvSpPr/>
            <p:nvPr/>
          </p:nvSpPr>
          <p:spPr>
            <a:xfrm flipV="1">
              <a:off x="5478480" y="258408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443200" y="49399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5460480" y="48211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71920" y="48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443200" y="470340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5460480" y="4586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71920" y="463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5443200" y="446868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5460480" y="435096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71920" y="4400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443200" y="42336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460480" y="411444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71920" y="4163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443200" y="399708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460480" y="38797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71920" y="39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443200" y="376200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5460480" y="36446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71920" y="3693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443200" y="352728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5460480" y="34081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71920" y="3457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5443200" y="32907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5460480" y="317304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71920" y="3222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5443200" y="305568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460480" y="29383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71920" y="2987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5443200" y="282060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5460480" y="27018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71920" y="275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5443200" y="25794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20080" y="25160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724360" y="493992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78480" y="493992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50000" y="493992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00600" y="505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67360" y="493992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091200" y="493992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943600" y="505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24480" y="493992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176880" y="505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40400" y="493992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66040" y="493992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16640" y="505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681600" y="493992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07240" y="493992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59640" y="505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915240" y="493992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40520" y="493992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91480" y="505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281720" y="493992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34120" y="505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397640" y="493992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23280" y="493992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375680" y="505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0920" y="493992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54760" y="493992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07160" y="505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872480" y="493992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24960" y="50576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9920" y="257940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7872480" y="258408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79920" y="493992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5478480" y="258408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05560" y="494172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57960" y="5059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22920" y="494172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05680" y="493992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48520" y="493992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600960" y="4125960"/>
            <a:ext cx="166680" cy="1666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67280" y="4135320"/>
            <a:ext cx="166680" cy="1666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487692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i="1" lang="en-US" sz="1400" spc="-1" strike="noStrike">
                <a:solidFill>
                  <a:srgbClr val="6699ff"/>
                </a:solidFill>
                <a:latin typeface="Arial"/>
              </a:rPr>
              <a:t>Thematic properties of points are heterogeneous. They are considered as relative weights for the computation of spatio-thematic ind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029200" y="5616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34320" y="5584680"/>
            <a:ext cx="166680" cy="1666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81480" y="55166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ight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55166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ight = 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Example of a distribut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127480" y="513540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 rot="16200000">
            <a:off x="4555440" y="34765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99ff"/>
                </a:solidFill>
                <a:latin typeface="Arial"/>
              </a:rPr>
              <a:t>Based on the weighted mean of X and Y coordinat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an center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MC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(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 or ( x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me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me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weighted center of gr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weighted baryce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poi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67600" y="3809880"/>
            <a:ext cx="38318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fr-FR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= thematic value (weight) for point 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276720" y="1990800"/>
                <a:ext cx="234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784680" y="1992240"/>
                <a:ext cx="2347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685880" y="2666880"/>
                <a:ext cx="22446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/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5343480" y="2666880"/>
                <a:ext cx="22446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/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Central tendency index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50911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ordonné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 rot="16200000">
            <a:off x="4554360" y="346644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ordonné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3618000"/>
            <a:ext cx="1415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902280" y="3618000"/>
            <a:ext cx="0" cy="1334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45400" y="3567240"/>
            <a:ext cx="108000" cy="108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597720" y="4879800"/>
            <a:ext cx="5652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Xw</a:t>
            </a:r>
            <a:r>
              <a:rPr b="1" lang="fr-FR" sz="1000" spc="-1" strike="noStrike" baseline="-25000">
                <a:solidFill>
                  <a:srgbClr val="000000"/>
                </a:solidFill>
                <a:latin typeface="Arial"/>
              </a:rPr>
              <a:t>mo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16200000">
            <a:off x="5064840" y="3521160"/>
            <a:ext cx="6080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Yw</a:t>
            </a:r>
            <a:r>
              <a:rPr b="1" lang="fr-FR" sz="1000" spc="-1" strike="noStrike" baseline="-25000">
                <a:solidFill>
                  <a:srgbClr val="000000"/>
                </a:solidFill>
                <a:latin typeface="Arial"/>
              </a:rPr>
              <a:t>mo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182880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Weighted mean ce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67280" y="373536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99280" y="441324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023240" y="418464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37240" y="34988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256520" y="37274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256520" y="32702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67600" y="4167360"/>
            <a:ext cx="1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23240" y="42656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37320" y="371016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32480" y="327816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346880" y="36892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194600" y="301320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753320" y="26510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5458320" y="2286000"/>
            <a:ext cx="2618280" cy="2665080"/>
            <a:chOff x="5458320" y="2286000"/>
            <a:chExt cx="2618280" cy="2665080"/>
          </a:xfrm>
        </p:grpSpPr>
        <p:sp>
          <p:nvSpPr>
            <p:cNvPr id="318" name=""/>
            <p:cNvSpPr/>
            <p:nvPr/>
          </p:nvSpPr>
          <p:spPr>
            <a:xfrm flipV="1">
              <a:off x="5616720" y="2354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581440" y="470988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598720" y="45910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510160" y="4640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5581440" y="44733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5598720" y="43560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510160" y="4405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5581440" y="4238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5598720" y="412092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510160" y="4170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5581440" y="40035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598720" y="38844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510160" y="3933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5581440" y="37670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5598720" y="36496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510160" y="369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581440" y="35319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5598720" y="34146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10160" y="3463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5581440" y="32972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5598720" y="31780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10160" y="3227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581440" y="30607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598720" y="29430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10160" y="299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5581440" y="2825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5598720" y="2708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10160" y="2757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581440" y="25905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5598720" y="24717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510160" y="2520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5581440" y="23493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58320" y="228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62600" y="470988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167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8824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3884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560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2944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08184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62720" y="4709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3151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57864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70428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5488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81984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94548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79788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5348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17876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0297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419960" y="4709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27236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53588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66152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5139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76916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893000" y="4709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7454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107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963200" y="48276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618160" y="234936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010720" y="2354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18160" y="470988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5616720" y="2354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43800" y="47116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596200" y="4829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861160" y="471168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439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28676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685800" y="4495680"/>
            <a:ext cx="1828800" cy="549360"/>
            <a:chOff x="685800" y="4495680"/>
            <a:chExt cx="1828800" cy="549360"/>
          </a:xfrm>
        </p:grpSpPr>
        <p:sp>
          <p:nvSpPr>
            <p:cNvPr id="389" name=""/>
            <p:cNvSpPr/>
            <p:nvPr/>
          </p:nvSpPr>
          <p:spPr>
            <a:xfrm>
              <a:off x="685800" y="4495680"/>
              <a:ext cx="1828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fr-FR" sz="1400" spc="-1" strike="noStrike" baseline="-25000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 = 78 / 17 = 4.58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84080" y="4538520"/>
              <a:ext cx="98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85800" y="4191120"/>
            <a:ext cx="1828800" cy="549360"/>
            <a:chOff x="685800" y="4191120"/>
            <a:chExt cx="1828800" cy="549360"/>
          </a:xfrm>
        </p:grpSpPr>
        <p:sp>
          <p:nvSpPr>
            <p:cNvPr id="392" name=""/>
            <p:cNvSpPr/>
            <p:nvPr/>
          </p:nvSpPr>
          <p:spPr>
            <a:xfrm>
              <a:off x="685800" y="4191120"/>
              <a:ext cx="1828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fr-FR" sz="1400" spc="-1" strike="noStrike" baseline="-25000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 = 91 / 17 = 5.34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84080" y="4238640"/>
              <a:ext cx="98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94" name=""/>
          <p:cNvGraphicFramePr/>
          <p:nvPr/>
        </p:nvGraphicFramePr>
        <p:xfrm>
          <a:off x="730080" y="2062080"/>
          <a:ext cx="3575160" cy="196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2062080"/>
                    <a:ext cx="357516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676440" y="4892760"/>
            <a:ext cx="3711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Arial"/>
              </a:rPr>
              <a:t>Commen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Arial"/>
              </a:rPr>
              <a:t>Compared with the mean center, the weighted mean center is slightly displaced toward H poi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29200" y="5456160"/>
            <a:ext cx="108000" cy="108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48280" y="5692680"/>
            <a:ext cx="76320" cy="7632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67360" y="3691080"/>
            <a:ext cx="79560" cy="7920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29640" y="5370480"/>
            <a:ext cx="316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 of the weighted mean ce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 of the mean ce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704000" y="2514600"/>
            <a:ext cx="166680" cy="1666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748560" y="3895560"/>
            <a:ext cx="166680" cy="1666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14880" y="3905280"/>
            <a:ext cx="166680" cy="1666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Weighted mean center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99ff"/>
                </a:solidFill>
                <a:latin typeface="Arial"/>
              </a:rPr>
              <a:t>Based on the combined dispersion of X and Y coordinates, weighted feature’s properti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ighted standard distance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SD</a:t>
            </a:r>
            <a:r>
              <a:rPr b="1" lang="en-US" sz="2200" spc="-1" strike="noStrike" baseline="-25000">
                <a:solidFill>
                  <a:srgbClr val="cc0066"/>
                </a:solidFill>
                <a:latin typeface="Arial"/>
              </a:rPr>
              <a:t>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cc0066"/>
                </a:solidFill>
                <a:latin typeface="Arial"/>
              </a:rPr>
              <a:t>This is a measure of common dispersion in X and Y, with respect to the weighted mean center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86720" y="4997520"/>
            <a:ext cx="38318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thematic value (weight) for point 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317600" y="2819520"/>
                <a:ext cx="5662800" cy="20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y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sSub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  <m:sub/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644400" y="990360"/>
            <a:ext cx="79660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oint features : Global index of weighted dispersion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64640" y="4065480"/>
            <a:ext cx="132516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Modifier 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259240" y="5499000"/>
            <a:ext cx="304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D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3.72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96160" y="2733840"/>
            <a:ext cx="0" cy="88884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1452600" y="2203560"/>
                <a:ext cx="139068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5" name=""/>
          <p:cNvSpPr/>
          <p:nvPr/>
        </p:nvSpPr>
        <p:spPr>
          <a:xfrm>
            <a:off x="1372320" y="4984920"/>
            <a:ext cx="204300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D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(6.582 + 7.28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D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3.72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99800" y="2689200"/>
            <a:ext cx="781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= 6.58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= 7.28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452600" y="3692520"/>
                <a:ext cx="139068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8" name=""/>
          <p:cNvSpPr/>
          <p:nvPr/>
        </p:nvSpPr>
        <p:spPr>
          <a:xfrm>
            <a:off x="5467320" y="362916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6902280" y="3628800"/>
            <a:ext cx="0" cy="1130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962680" y="2584440"/>
            <a:ext cx="2019240" cy="1957680"/>
            <a:chOff x="5962680" y="2584440"/>
            <a:chExt cx="2019240" cy="1957680"/>
          </a:xfrm>
        </p:grpSpPr>
        <p:sp>
          <p:nvSpPr>
            <p:cNvPr id="421" name=""/>
            <p:cNvSpPr/>
            <p:nvPr/>
          </p:nvSpPr>
          <p:spPr>
            <a:xfrm>
              <a:off x="5962680" y="3735360"/>
              <a:ext cx="1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051600" y="39560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299280" y="44132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023240" y="41846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89960" y="395604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537600" y="349884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256520" y="37274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56520" y="32702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743960" y="25844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267600" y="4167360"/>
              <a:ext cx="18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23240" y="426564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732720" y="371016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432840" y="327816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347240" y="368928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194600" y="30132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753320" y="265104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458320" y="2286000"/>
            <a:ext cx="2618280" cy="2665080"/>
            <a:chOff x="5458320" y="2286000"/>
            <a:chExt cx="2618280" cy="2665080"/>
          </a:xfrm>
        </p:grpSpPr>
        <p:sp>
          <p:nvSpPr>
            <p:cNvPr id="438" name=""/>
            <p:cNvSpPr/>
            <p:nvPr/>
          </p:nvSpPr>
          <p:spPr>
            <a:xfrm flipV="1">
              <a:off x="5616720" y="2354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5581440" y="470988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5598720" y="45910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510160" y="4640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5581440" y="44733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598720" y="43560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510160" y="4405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5581440" y="4238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5598720" y="412092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10160" y="4170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5581440" y="40035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5598720" y="38844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10160" y="3933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5581440" y="37670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5598720" y="36496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510160" y="369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5581440" y="35319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5598720" y="34146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510160" y="3463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5581440" y="32972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5598720" y="31780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510160" y="3227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5581440" y="30607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5598720" y="29430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510160" y="299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581440" y="2825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5598720" y="2708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510160" y="2757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5581440" y="25905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5598720" y="24717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510160" y="2520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5581440" y="23493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58320" y="228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862600" y="470988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6167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98824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3884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10560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22944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8184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62720" y="4709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3151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7864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70428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55488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1984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94548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79788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05348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7876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297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419960" y="4709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27236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3588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66152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5139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76916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893000" y="4709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7454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0107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963200" y="48276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18160" y="234936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8010720" y="2354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618160" y="470988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5616720" y="2354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743800" y="47116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596200" y="4829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861160" y="471168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3439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28676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6848640" y="3583080"/>
            <a:ext cx="88560" cy="88920"/>
          </a:xfrm>
          <a:prstGeom prst="ellipse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5823000" y="5638680"/>
            <a:ext cx="34920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704000" y="2514600"/>
            <a:ext cx="166680" cy="1666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748560" y="3895560"/>
            <a:ext cx="166680" cy="1666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14880" y="3905280"/>
            <a:ext cx="166680" cy="1666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19920" y="2732040"/>
            <a:ext cx="1752480" cy="1752480"/>
          </a:xfrm>
          <a:prstGeom prst="ellipse">
            <a:avLst/>
          </a:prstGeom>
          <a:noFill/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523880" y="182880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fr-FR" sz="2000" spc="-1" strike="noStrike">
                <a:solidFill>
                  <a:srgbClr val="cc0066"/>
                </a:solidFill>
                <a:latin typeface="Arial"/>
              </a:rPr>
              <a:t>Compu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724280" y="18288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Weighted standard dist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Weighted standard distan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127480" y="496080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686880" y="1829520"/>
            <a:ext cx="7770240" cy="388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76320" bIns="76320" anchor="t">
            <a:normAutofit/>
          </a:bodyPr>
          <a:p>
            <a:pPr marL="284040" indent="-28404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6699ff"/>
                </a:solidFill>
                <a:latin typeface="Arial"/>
              </a:rPr>
              <a:t>The most common neighborhood relationship is the measure of weighted proximity to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11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object mode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eas of largest weighted proxim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3400" indent="-227160">
              <a:lnSpc>
                <a:spcPct val="90000"/>
              </a:lnSpc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limited by weighted equidistance line segments between poi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03400" indent="-227160">
              <a:lnSpc>
                <a:spcPct val="90000"/>
              </a:lnSpc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y are polygon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11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image mode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weighted distance to the nearest point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ions of largest weighted proxim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oint features : Weighted neighborhood relationship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geometrical proximity to the 8 point features is weighted by their relative influ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y location within each area is closer to its center than to any oth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areas of largest weighted proximity are called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weighted Thiessen ’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Voronoï ’s polyg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5977080" y="2502000"/>
            <a:ext cx="1892160" cy="2341080"/>
            <a:chOff x="5977080" y="2502000"/>
            <a:chExt cx="1892160" cy="2341080"/>
          </a:xfrm>
        </p:grpSpPr>
        <p:grpSp>
          <p:nvGrpSpPr>
            <p:cNvPr id="524" name=""/>
            <p:cNvGrpSpPr/>
            <p:nvPr/>
          </p:nvGrpSpPr>
          <p:grpSpPr>
            <a:xfrm>
              <a:off x="5977080" y="2502000"/>
              <a:ext cx="1892160" cy="2341080"/>
              <a:chOff x="5977080" y="2502000"/>
              <a:chExt cx="1892160" cy="2341080"/>
            </a:xfrm>
          </p:grpSpPr>
          <p:sp>
            <p:nvSpPr>
              <p:cNvPr id="525" name=""/>
              <p:cNvSpPr/>
              <p:nvPr/>
            </p:nvSpPr>
            <p:spPr>
              <a:xfrm>
                <a:off x="5977080" y="2502000"/>
                <a:ext cx="360360" cy="405000"/>
              </a:xfrm>
              <a:prstGeom prst="line">
                <a:avLst/>
              </a:prstGeom>
              <a:ln w="2844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337440" y="2907000"/>
                <a:ext cx="0" cy="1936080"/>
              </a:xfrm>
              <a:prstGeom prst="line">
                <a:avLst/>
              </a:prstGeom>
              <a:ln w="2844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337440" y="2907000"/>
                <a:ext cx="1531800" cy="1035720"/>
              </a:xfrm>
              <a:prstGeom prst="line">
                <a:avLst/>
              </a:prstGeom>
              <a:ln w="2844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 rot="2044800">
              <a:off x="6932160" y="3299400"/>
              <a:ext cx="450360" cy="315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303600" y="3520440"/>
              <a:ext cx="270000" cy="270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52760" y="3757320"/>
              <a:ext cx="270000" cy="303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095160" y="4533840"/>
              <a:ext cx="270000" cy="270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844320" y="4325760"/>
              <a:ext cx="180000" cy="180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5791320" y="3808440"/>
            <a:ext cx="1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913360" y="41083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161040" y="45655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85000" y="43369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651720" y="410832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399360" y="365112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118280" y="38797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118280" y="34225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605720" y="27367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162840" y="4591080"/>
            <a:ext cx="1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962760" y="44179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594480" y="38624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316560" y="34639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153200" y="38084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956280" y="32432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391520" y="2803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5320080" y="2438280"/>
            <a:ext cx="2618280" cy="2665080"/>
            <a:chOff x="5320080" y="2438280"/>
            <a:chExt cx="2618280" cy="2665080"/>
          </a:xfrm>
        </p:grpSpPr>
        <p:sp>
          <p:nvSpPr>
            <p:cNvPr id="550" name=""/>
            <p:cNvSpPr/>
            <p:nvPr/>
          </p:nvSpPr>
          <p:spPr>
            <a:xfrm flipV="1">
              <a:off x="54784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5443200" y="48621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5460480" y="4743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71920" y="479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5443200" y="46256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5460480" y="4508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71920" y="455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5443200" y="43909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5460480" y="42732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371920" y="4322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5443200" y="41558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5460480" y="40366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71920" y="4086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5443200" y="39193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5460480" y="38019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371920" y="3850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5443200" y="36842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5460480" y="35668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371920" y="3616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5443200" y="34495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5460480" y="3330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371920" y="337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5443200" y="32130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5460480" y="30952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371920" y="314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5443200" y="29779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5460480" y="28605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371920" y="2909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5443200" y="27428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5460480" y="2624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371920" y="2673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5443200" y="2501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320080" y="24382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724360" y="486216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784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85000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70060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96736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09120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4360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32448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768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4040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56604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1664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8160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0724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5964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91524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4052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914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28172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13412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39764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52328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3756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63092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5476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0716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8724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824960" y="49798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479920" y="250164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78724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479920" y="486216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54784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605560" y="48639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457960" y="4981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22920" y="48639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2056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14852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4800600" y="5356080"/>
            <a:ext cx="3657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geometrical proximity is weighted by their relative influenc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800600" y="18288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Areas of largest weighted proximit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objects : Areas of largest proximity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 rot="16200000">
            <a:off x="4631760" y="349848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ighted distance image from each cell to the nearest point region,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weighted minimum dist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graphical representation suggests limits of areas of largest weighted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express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weighted distance) to the nearest point region, but without identifying it 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5497560" y="2455920"/>
            <a:ext cx="2841480" cy="2328840"/>
          </a:xfrm>
          <a:prstGeom prst="rect">
            <a:avLst/>
          </a:prstGeom>
          <a:ln w="0">
            <a:noFill/>
          </a:ln>
        </p:spPr>
      </p:pic>
      <p:grpSp>
        <p:nvGrpSpPr>
          <p:cNvPr id="629" name=""/>
          <p:cNvGrpSpPr/>
          <p:nvPr/>
        </p:nvGrpSpPr>
        <p:grpSpPr>
          <a:xfrm>
            <a:off x="5320080" y="2363760"/>
            <a:ext cx="2618280" cy="2665080"/>
            <a:chOff x="5320080" y="2363760"/>
            <a:chExt cx="2618280" cy="2665080"/>
          </a:xfrm>
        </p:grpSpPr>
        <p:sp>
          <p:nvSpPr>
            <p:cNvPr id="630" name=""/>
            <p:cNvSpPr/>
            <p:nvPr/>
          </p:nvSpPr>
          <p:spPr>
            <a:xfrm flipV="1">
              <a:off x="5478480" y="243180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5443200" y="47876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5460480" y="46688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71920" y="4717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5443200" y="45511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5460480" y="44337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371920" y="4483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5443200" y="43164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5460480" y="41986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71920" y="4248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5443200" y="40813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5460480" y="396216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71920" y="4011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5443200" y="38448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5460480" y="37274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371920" y="377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443200" y="36097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5460480" y="3492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71920" y="3541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5443200" y="33750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5460480" y="32558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37192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443200" y="313848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5460480" y="302076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37192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5443200" y="29034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5460480" y="2786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371920" y="283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5443200" y="26683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5460480" y="25495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371920" y="2598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443200" y="24271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20080" y="2363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724360" y="478764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47848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85000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7006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96736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9120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9436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324480" y="478764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17688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44040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56604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4166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68160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80724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6596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91524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0405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89148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281720" y="478764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1341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39764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2328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7568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63092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754760" y="478764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0716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87248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24960" y="4905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479920" y="242712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7872480" y="243180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479920" y="478764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5478480" y="243180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605560" y="47894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457960" y="4906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722920" y="478944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20568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1485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5715000" y="2743200"/>
            <a:ext cx="2063520" cy="1802160"/>
            <a:chOff x="5715000" y="2743200"/>
            <a:chExt cx="2063520" cy="1802160"/>
          </a:xfrm>
        </p:grpSpPr>
        <p:sp>
          <p:nvSpPr>
            <p:cNvPr id="701" name=""/>
            <p:cNvSpPr/>
            <p:nvPr/>
          </p:nvSpPr>
          <p:spPr>
            <a:xfrm>
              <a:off x="5715000" y="401184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103800" y="427356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897600" y="429912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46600" y="408780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288120" y="337500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235640" y="378648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83360" y="314640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549920" y="274320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724280" y="18288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Weighted minimum dist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800600" y="535608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aximu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1.8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ea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 0.7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regions : Weighted minimum distan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127480" y="496080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Unit 4: Weighted spatial pattern and neighborhood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8440" y="1981080"/>
            <a:ext cx="8118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eighted spatial pattern and neighborhood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920880" indent="-285840">
              <a:lnSpc>
                <a:spcPct val="10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point featu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920880" indent="-285840">
              <a:lnSpc>
                <a:spcPct val="10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linear featu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920880" indent="-285840">
              <a:lnSpc>
                <a:spcPct val="10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areal featu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5486400" y="2438280"/>
            <a:ext cx="2655720" cy="2354400"/>
          </a:xfrm>
          <a:prstGeom prst="rect">
            <a:avLst/>
          </a:prstGeom>
          <a:ln w="0">
            <a:noFill/>
          </a:ln>
        </p:spPr>
      </p:pic>
      <p:grpSp>
        <p:nvGrpSpPr>
          <p:cNvPr id="716" name=""/>
          <p:cNvGrpSpPr/>
          <p:nvPr/>
        </p:nvGrpSpPr>
        <p:grpSpPr>
          <a:xfrm>
            <a:off x="5334120" y="2363760"/>
            <a:ext cx="2604240" cy="2665080"/>
            <a:chOff x="5334120" y="2363760"/>
            <a:chExt cx="2604240" cy="2665080"/>
          </a:xfrm>
        </p:grpSpPr>
        <p:sp>
          <p:nvSpPr>
            <p:cNvPr id="717" name=""/>
            <p:cNvSpPr/>
            <p:nvPr/>
          </p:nvSpPr>
          <p:spPr>
            <a:xfrm flipV="1">
              <a:off x="549180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5457240" y="478764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5474160" y="46688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385960" y="4717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5457240" y="45511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5474160" y="44337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385960" y="4483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5457240" y="43164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5474160" y="419868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85960" y="4248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5457240" y="40813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5474160" y="396216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385960" y="4011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5457240" y="38448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5474160" y="37274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385960" y="377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5457240" y="36097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5474160" y="34923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385960" y="3541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5457240" y="33750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5474160" y="32558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38596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5457240" y="313848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5474160" y="302076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38596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5457240" y="29034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5474160" y="27860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385960" y="283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5457240" y="26683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5474160" y="254952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385960" y="2598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5457240" y="24271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334120" y="2363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736240" y="4787640"/>
              <a:ext cx="2136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49180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86116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132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97816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10128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9544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3331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1862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4483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57324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4249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68844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81336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6661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9206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04520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8976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2853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1384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4005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52544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3782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63236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75548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60896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8728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824960" y="4905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493240" y="2427120"/>
              <a:ext cx="237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787284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493240" y="4787640"/>
              <a:ext cx="2379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549180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618160" y="47894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71640" y="4906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734800" y="478944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2150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1528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5791320" y="358128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170760" y="450540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864480" y="42102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705720" y="38862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332400" y="34084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162920" y="37339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162920" y="32608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4d4d4d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238880" y="27432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cells are assigned to the point region with the largest weighted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e is divided into areal regions of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largest weighted 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their cen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identify the point reg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ing the largest weighted proximity. This information adds to the distance value computed abo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670280" y="17524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Regions of largest weighted proxim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804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oint regions : Regions of largest weighted proximity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127480" y="496080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876920" y="5410080"/>
            <a:ext cx="343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ribution to the closest point reg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804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Weighted neighborhood of linear feature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Different indicators for the spatial relationships of linear fe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ighborhood relationships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ed distance to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s and regions of largest weighted proximit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features: Weighted spatial neighborhood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Thematic properties of features (weight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Spatial distribution of the 8 linear featur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221520" y="290340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5983200" y="2928600"/>
            <a:ext cx="214560" cy="46980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6197760" y="2693520"/>
            <a:ext cx="715680" cy="23508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5983200" y="3879360"/>
            <a:ext cx="214560" cy="23652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197760" y="3879720"/>
            <a:ext cx="500040" cy="23652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424560" y="3649680"/>
            <a:ext cx="287280" cy="47160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697800" y="4121280"/>
            <a:ext cx="215640" cy="23472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178680" y="4576680"/>
            <a:ext cx="287280" cy="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6461280" y="4346640"/>
            <a:ext cx="428400" cy="23472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6899400" y="3879720"/>
            <a:ext cx="285480" cy="47160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7418520" y="3875040"/>
            <a:ext cx="214200" cy="70632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140600" y="3409920"/>
            <a:ext cx="501480" cy="46980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7155000" y="2693880"/>
            <a:ext cx="500040" cy="70488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172200" y="3851280"/>
            <a:ext cx="50760" cy="5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924520" y="4075200"/>
            <a:ext cx="8244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154560" y="4533840"/>
            <a:ext cx="8424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429240" y="4552920"/>
            <a:ext cx="50760" cy="5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413400" y="3595680"/>
            <a:ext cx="8280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653160" y="4075200"/>
            <a:ext cx="8424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70600" y="4303800"/>
            <a:ext cx="8424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129440" y="3832200"/>
            <a:ext cx="8244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128000" y="3360600"/>
            <a:ext cx="82440" cy="907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365960" y="4533840"/>
            <a:ext cx="8424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608960" y="3851280"/>
            <a:ext cx="50760" cy="5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593120" y="2654280"/>
            <a:ext cx="82440" cy="903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924520" y="3360600"/>
            <a:ext cx="82440" cy="907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172200" y="2903400"/>
            <a:ext cx="50760" cy="55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869160" y="2654280"/>
            <a:ext cx="84240" cy="903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992920" y="368928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566040" y="368928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066080" y="400356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477120" y="451476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647040" y="41544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209000" y="282564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642080" y="391788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5334480" y="2394000"/>
            <a:ext cx="2618280" cy="2665080"/>
            <a:chOff x="5334480" y="2394000"/>
            <a:chExt cx="2618280" cy="2665080"/>
          </a:xfrm>
        </p:grpSpPr>
        <p:sp>
          <p:nvSpPr>
            <p:cNvPr id="847" name=""/>
            <p:cNvSpPr/>
            <p:nvPr/>
          </p:nvSpPr>
          <p:spPr>
            <a:xfrm flipV="1">
              <a:off x="5492880" y="2462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457600" y="481788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5474880" y="46990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386320" y="4748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5457600" y="45813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5474880" y="44640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386320" y="4513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5457600" y="4346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5474880" y="422892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386320" y="4278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5457600" y="41115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5474880" y="39924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386320" y="404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5457600" y="38750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5474880" y="37576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386320" y="3806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5457600" y="36399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5474880" y="35226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386320" y="3571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5457600" y="34052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5474880" y="32860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386320" y="3335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5457600" y="31687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5474880" y="30510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386320" y="3100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5457600" y="2933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5474880" y="2816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386320" y="286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5457600" y="26985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5474880" y="25797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386320" y="262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5457600" y="24573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334480" y="2394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738760" y="481788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49288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86440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71500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981760" y="4817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10560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95800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338880" y="4817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19128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454800" y="4817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58044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43104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96000" y="4817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82164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67404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2964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05492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0588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296120" y="4817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14852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412040" y="4817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53768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39008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45320" y="4817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769160" y="4817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2156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88688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839360" y="49356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494320" y="245736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7886880" y="2462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494320" y="481788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5492880" y="2462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619960" y="48196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472360" y="4937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737320" y="481968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22008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16292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917" name=""/>
          <p:cNvGraphicFramePr/>
          <p:nvPr/>
        </p:nvGraphicFramePr>
        <p:xfrm>
          <a:off x="1752480" y="2743200"/>
          <a:ext cx="1911600" cy="24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743200"/>
                    <a:ext cx="1911600" cy="24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9" name=""/>
          <p:cNvSpPr/>
          <p:nvPr/>
        </p:nvSpPr>
        <p:spPr>
          <a:xfrm>
            <a:off x="6781680" y="5378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Weight 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924680" y="5137200"/>
            <a:ext cx="457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620120" y="5291280"/>
            <a:ext cx="228600" cy="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620120" y="5497560"/>
            <a:ext cx="22860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620120" y="5715000"/>
            <a:ext cx="22860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102280" y="5410080"/>
            <a:ext cx="106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n : identif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features: Example of a distribut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127480" y="507996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/>
          </p:nvPr>
        </p:nvSpPr>
        <p:spPr>
          <a:xfrm>
            <a:off x="4648320" y="1752480"/>
            <a:ext cx="396216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5983200" y="2973240"/>
            <a:ext cx="214560" cy="47016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6197760" y="2738520"/>
            <a:ext cx="715680" cy="23472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5983200" y="3924000"/>
            <a:ext cx="214560" cy="23652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197760" y="3924360"/>
            <a:ext cx="500040" cy="23652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424560" y="3693960"/>
            <a:ext cx="287280" cy="47160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697800" y="4165560"/>
            <a:ext cx="215640" cy="23508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178680" y="4621320"/>
            <a:ext cx="28728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6461280" y="4390560"/>
            <a:ext cx="428400" cy="23508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6899400" y="3924360"/>
            <a:ext cx="285480" cy="47160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7418520" y="3919680"/>
            <a:ext cx="214200" cy="70632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140600" y="3454560"/>
            <a:ext cx="501480" cy="46980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7155000" y="2738520"/>
            <a:ext cx="500040" cy="70488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172200" y="3895560"/>
            <a:ext cx="50760" cy="55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924520" y="4119480"/>
            <a:ext cx="82440" cy="9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154560" y="4578480"/>
            <a:ext cx="84240" cy="9180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429240" y="4597560"/>
            <a:ext cx="50760" cy="5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413400" y="3639960"/>
            <a:ext cx="82800" cy="9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653160" y="4119480"/>
            <a:ext cx="84240" cy="9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870600" y="4348080"/>
            <a:ext cx="84240" cy="9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129440" y="3876840"/>
            <a:ext cx="82440" cy="9180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128000" y="3405240"/>
            <a:ext cx="82440" cy="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365960" y="4578480"/>
            <a:ext cx="84240" cy="9180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608960" y="3895560"/>
            <a:ext cx="50760" cy="55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593120" y="2698920"/>
            <a:ext cx="82440" cy="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924520" y="3405240"/>
            <a:ext cx="82440" cy="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172200" y="2948040"/>
            <a:ext cx="50760" cy="5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869160" y="2698920"/>
            <a:ext cx="84240" cy="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5334480" y="2438280"/>
            <a:ext cx="2618280" cy="2665080"/>
            <a:chOff x="5334480" y="2438280"/>
            <a:chExt cx="2618280" cy="2665080"/>
          </a:xfrm>
        </p:grpSpPr>
        <p:sp>
          <p:nvSpPr>
            <p:cNvPr id="957" name=""/>
            <p:cNvSpPr/>
            <p:nvPr/>
          </p:nvSpPr>
          <p:spPr>
            <a:xfrm flipV="1">
              <a:off x="54928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>
              <a:off x="5457600" y="48621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5474880" y="4743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386320" y="479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>
              <a:off x="5457600" y="46256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5474880" y="4508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386320" y="455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5457600" y="43909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5474880" y="42732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386320" y="4322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5457600" y="41558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5474880" y="40366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86320" y="4086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5457600" y="39193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5474880" y="38019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386320" y="3850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>
              <a:off x="5457600" y="36842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5474880" y="35668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386320" y="3616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5457600" y="34495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5474880" y="3330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386320" y="337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>
              <a:off x="5457600" y="32130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5474880" y="30952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386320" y="314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>
              <a:off x="5457600" y="29779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5474880" y="28605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386320" y="2909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5457600" y="27428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5474880" y="2624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386320" y="2673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>
              <a:off x="5457600" y="2501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334480" y="24382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738760" y="486216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4928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86440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71500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98176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10560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95800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33888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1912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45480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58044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43104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69600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82164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67404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92964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05492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9058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29612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14852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41204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53768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3900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64532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76916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62156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8868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839360" y="49798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494320" y="250164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78868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494320" y="486216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54928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619960" y="48639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472360" y="4981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737320" y="48639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2200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16292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7" name=""/>
          <p:cNvSpPr/>
          <p:nvPr/>
        </p:nvSpPr>
        <p:spPr>
          <a:xfrm flipH="1">
            <a:off x="6689520" y="4141800"/>
            <a:ext cx="45720" cy="4608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221520" y="294804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145200" y="39924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589800" y="350532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066080" y="40482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602400" y="45594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761160" y="407844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516800" y="300204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42080" y="406872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5530320" y="2503080"/>
            <a:ext cx="2329200" cy="2372040"/>
            <a:chOff x="5530320" y="2503080"/>
            <a:chExt cx="2329200" cy="2372040"/>
          </a:xfrm>
        </p:grpSpPr>
        <p:sp>
          <p:nvSpPr>
            <p:cNvPr id="1037" name=""/>
            <p:cNvSpPr/>
            <p:nvPr/>
          </p:nvSpPr>
          <p:spPr>
            <a:xfrm flipV="1">
              <a:off x="5667480" y="3965040"/>
              <a:ext cx="148320" cy="907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5804640" y="3828240"/>
              <a:ext cx="26712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V="1">
              <a:off x="6071760" y="3737160"/>
              <a:ext cx="182520" cy="910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6763680" y="3191040"/>
              <a:ext cx="182520" cy="1818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>
              <a:off x="6946560" y="2912400"/>
              <a:ext cx="273960" cy="2782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7220520" y="2775960"/>
              <a:ext cx="9108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>
              <a:off x="7311600" y="2639520"/>
              <a:ext cx="4572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7357680" y="2503080"/>
              <a:ext cx="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261480" y="3737520"/>
              <a:ext cx="426960" cy="4179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6670800" y="4141440"/>
              <a:ext cx="45720" cy="453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6579720" y="4186800"/>
              <a:ext cx="9108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6305760" y="4323600"/>
              <a:ext cx="273960" cy="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5620680" y="4323600"/>
              <a:ext cx="685080" cy="3182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5530320" y="4641840"/>
              <a:ext cx="90360" cy="964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>
              <a:off x="6717240" y="4004640"/>
              <a:ext cx="18252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899760" y="4005000"/>
              <a:ext cx="45360" cy="4093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 flipV="1">
              <a:off x="6580080" y="4323600"/>
              <a:ext cx="365040" cy="907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945480" y="4414320"/>
              <a:ext cx="183600" cy="1418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717960" y="3464280"/>
              <a:ext cx="182520" cy="3639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>
              <a:off x="6899760" y="3828600"/>
              <a:ext cx="720" cy="1760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991920" y="3782880"/>
              <a:ext cx="182520" cy="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174800" y="3782880"/>
              <a:ext cx="9108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7129080" y="3919680"/>
              <a:ext cx="136800" cy="6368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6900840" y="4556520"/>
              <a:ext cx="228240" cy="3182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946560" y="3191400"/>
              <a:ext cx="272880" cy="2671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219440" y="3458880"/>
              <a:ext cx="640080" cy="54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530680" y="4738680"/>
              <a:ext cx="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5576040" y="4056120"/>
              <a:ext cx="91080" cy="907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5530320" y="4146840"/>
              <a:ext cx="4572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530680" y="4283640"/>
              <a:ext cx="0" cy="2275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530680" y="4511160"/>
              <a:ext cx="9108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6261480" y="3509640"/>
              <a:ext cx="91080" cy="2271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6352560" y="3418920"/>
              <a:ext cx="228240" cy="907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580800" y="3418920"/>
              <a:ext cx="136800" cy="450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6900480" y="3782880"/>
              <a:ext cx="91080" cy="453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6717600" y="3373560"/>
              <a:ext cx="45720" cy="907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ace is divided into areas with the largest weighted proximity to each linear fea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y location within each area is closer to its linear feature than any oth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areas of largest weighted proximity can be associated to the previously presented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Thiessen’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Voronoï ’s polygon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746600" y="18288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Areas of largest proxim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804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Arial"/>
              </a:rPr>
              <a:t>Linear objects: Areas of largest weighted proximity</a:t>
            </a:r>
            <a:endParaRPr b="1" lang="en-US" sz="25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648320" y="5421240"/>
            <a:ext cx="3809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geometrical proximity is weighted by the relative influence of object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1" name="" descr=""/>
          <p:cNvPicPr/>
          <p:nvPr/>
        </p:nvPicPr>
        <p:blipFill>
          <a:blip r:embed="rId1"/>
          <a:stretch/>
        </p:blipFill>
        <p:spPr>
          <a:xfrm>
            <a:off x="5497560" y="2362320"/>
            <a:ext cx="2838240" cy="2400120"/>
          </a:xfrm>
          <a:prstGeom prst="rect">
            <a:avLst/>
          </a:prstGeom>
          <a:ln w="0">
            <a:noFill/>
          </a:ln>
        </p:spPr>
      </p:pic>
      <p:grpSp>
        <p:nvGrpSpPr>
          <p:cNvPr id="1082" name=""/>
          <p:cNvGrpSpPr/>
          <p:nvPr/>
        </p:nvGrpSpPr>
        <p:grpSpPr>
          <a:xfrm>
            <a:off x="5320080" y="2286000"/>
            <a:ext cx="2618280" cy="2739240"/>
            <a:chOff x="5320080" y="2286000"/>
            <a:chExt cx="2618280" cy="2739240"/>
          </a:xfrm>
        </p:grpSpPr>
        <p:sp>
          <p:nvSpPr>
            <p:cNvPr id="1083" name=""/>
            <p:cNvSpPr/>
            <p:nvPr/>
          </p:nvSpPr>
          <p:spPr>
            <a:xfrm flipV="1">
              <a:off x="5478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5443200" y="47804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5460480" y="4658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371920" y="4708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H="1">
              <a:off x="5443200" y="453708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>
              <a:off x="5460480" y="44161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371920" y="4466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5443200" y="42955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5460480" y="41742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371920" y="4224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>
              <a:off x="5443200" y="40536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5460480" y="393084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371920" y="3981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5443200" y="38102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5460480" y="3689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371920" y="373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5443200" y="35683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5460480" y="3447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371920" y="3498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5443200" y="33267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5460480" y="32040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371920" y="3254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5443200" y="30830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>
              <a:off x="5460480" y="29620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371920" y="3012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>
              <a:off x="5443200" y="28411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5460480" y="27205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371920" y="2770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5443200" y="259920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>
              <a:off x="5460480" y="24771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371920" y="2527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443200" y="23511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320080" y="228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724360" y="478044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4784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85000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70060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96736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09120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94360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32448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1768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44040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56604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41664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68160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80724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65964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91524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04052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8914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28172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13412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9764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52328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3756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63092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75476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60716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8724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824960" y="4901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479920" y="235116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7872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479920" y="478044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>
              <a:off x="5478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605560" y="47822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457960" y="4903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722920" y="4782240"/>
              <a:ext cx="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2056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14852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6021360" y="2763720"/>
            <a:ext cx="1631520" cy="1965600"/>
            <a:chOff x="6021360" y="2763720"/>
            <a:chExt cx="1631520" cy="1965600"/>
          </a:xfrm>
        </p:grpSpPr>
        <p:sp>
          <p:nvSpPr>
            <p:cNvPr id="1154" name=""/>
            <p:cNvSpPr/>
            <p:nvPr/>
          </p:nvSpPr>
          <p:spPr>
            <a:xfrm>
              <a:off x="6249600" y="2841480"/>
              <a:ext cx="17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021360" y="362736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594120" y="3627360"/>
              <a:ext cx="17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094160" y="394164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505200" y="445284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675120" y="409248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237080" y="276372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473600" y="380988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ighted distance image from each cell to the nearest linear region,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weighte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minimu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dist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graphical representation suggests limits of areas of largest weighted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express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weighted distance) to the nearest linear region, but without identifying it 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regions: Weighted minimum distan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800600" y="1828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Weighted minimum dist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800600" y="535608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aximu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3.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ea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 0.6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0" name="" descr=""/>
          <p:cNvPicPr/>
          <p:nvPr/>
        </p:nvPicPr>
        <p:blipFill>
          <a:blip r:embed="rId1"/>
          <a:stretch/>
        </p:blipFill>
        <p:spPr>
          <a:xfrm>
            <a:off x="5486400" y="2432160"/>
            <a:ext cx="2646360" cy="2363760"/>
          </a:xfrm>
          <a:prstGeom prst="rect">
            <a:avLst/>
          </a:prstGeom>
          <a:ln w="0">
            <a:noFill/>
          </a:ln>
        </p:spPr>
      </p:pic>
      <p:grpSp>
        <p:nvGrpSpPr>
          <p:cNvPr id="1171" name=""/>
          <p:cNvGrpSpPr/>
          <p:nvPr/>
        </p:nvGrpSpPr>
        <p:grpSpPr>
          <a:xfrm>
            <a:off x="5334120" y="2363760"/>
            <a:ext cx="2604240" cy="2665080"/>
            <a:chOff x="5334120" y="2363760"/>
            <a:chExt cx="2604240" cy="2665080"/>
          </a:xfrm>
        </p:grpSpPr>
        <p:sp>
          <p:nvSpPr>
            <p:cNvPr id="1172" name=""/>
            <p:cNvSpPr/>
            <p:nvPr/>
          </p:nvSpPr>
          <p:spPr>
            <a:xfrm flipV="1">
              <a:off x="549180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5457240" y="478764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5474160" y="46688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385960" y="4717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5457240" y="45511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5474160" y="44337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385960" y="4483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>
              <a:off x="5457240" y="43164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>
              <a:off x="5474160" y="419868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385960" y="4248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H="1">
              <a:off x="5457240" y="40813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>
              <a:off x="5474160" y="396216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385960" y="4011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H="1">
              <a:off x="5457240" y="38448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H="1">
              <a:off x="5474160" y="37274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385960" y="377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H="1">
              <a:off x="5457240" y="36097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>
              <a:off x="5474160" y="34923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385960" y="3541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5457240" y="33750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5474160" y="32558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38596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H="1">
              <a:off x="5457240" y="313848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>
              <a:off x="5474160" y="302076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38596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>
              <a:off x="5457240" y="29034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>
              <a:off x="5474160" y="27860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385960" y="283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H="1">
              <a:off x="5457240" y="26683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5474160" y="254952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385960" y="2598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H="1">
              <a:off x="5457240" y="24271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334120" y="2363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736240" y="4787640"/>
              <a:ext cx="2136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49180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86116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7132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97816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10128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9544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3331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1862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4483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57324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4249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68844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81336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6661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9206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04520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8976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2853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1384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4005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52544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3782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63236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75548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60896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8728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824960" y="4905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493240" y="2427120"/>
              <a:ext cx="237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787284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493240" y="4787640"/>
              <a:ext cx="2379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549180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618160" y="47894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471640" y="4906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34800" y="478944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2150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1528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5764320" y="2771640"/>
            <a:ext cx="1931760" cy="1986120"/>
            <a:chOff x="5764320" y="2771640"/>
            <a:chExt cx="1931760" cy="1986120"/>
          </a:xfrm>
        </p:grpSpPr>
        <p:sp>
          <p:nvSpPr>
            <p:cNvPr id="1243" name=""/>
            <p:cNvSpPr/>
            <p:nvPr/>
          </p:nvSpPr>
          <p:spPr>
            <a:xfrm>
              <a:off x="5943600" y="2771640"/>
              <a:ext cx="17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64320" y="394488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477120" y="3457440"/>
              <a:ext cx="17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053120" y="3936960"/>
              <a:ext cx="17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248520" y="448128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691320" y="406692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494480" y="2954160"/>
              <a:ext cx="17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516800" y="402084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cells are assigned to the linear region with the largest weighted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e is divided into areal regions of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largest weighted 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their linear fea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identify the linear reg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ing the largest weighted proximity. This information adds to the distance value computed abo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 type="title"/>
          </p:nvPr>
        </p:nvSpPr>
        <p:spPr>
          <a:xfrm>
            <a:off x="533520" y="936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Linear regions: Regions of largest weighted proximity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4876920" y="5410080"/>
            <a:ext cx="343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ribution to the closest linear reg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670280" y="17524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Regions of largest weighted proxim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8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259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1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Weighted spatial neighborhood of areal feature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Different indicators for the spatial relationships of areal fe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ighborhood relationships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ed distance to areal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s and regions of largest weighted proximit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s: Weighted spatial neighborhood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Spatial distribution of the 4 areal features with their we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"/>
          <p:cNvGrpSpPr/>
          <p:nvPr/>
        </p:nvGrpSpPr>
        <p:grpSpPr>
          <a:xfrm>
            <a:off x="5334120" y="2394000"/>
            <a:ext cx="2604240" cy="2665080"/>
            <a:chOff x="5334120" y="2394000"/>
            <a:chExt cx="2604240" cy="2665080"/>
          </a:xfrm>
        </p:grpSpPr>
        <p:sp>
          <p:nvSpPr>
            <p:cNvPr id="1266" name=""/>
            <p:cNvSpPr/>
            <p:nvPr/>
          </p:nvSpPr>
          <p:spPr>
            <a:xfrm flipV="1">
              <a:off x="5491800" y="2462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5457240" y="481788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5474160" y="46990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385960" y="4748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5457240" y="45813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5474160" y="446400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385960" y="4513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5457240" y="43466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>
              <a:off x="5474160" y="422892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385960" y="4278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5457240" y="411156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H="1">
              <a:off x="5474160" y="399240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385960" y="404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H="1">
              <a:off x="5457240" y="38750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>
              <a:off x="5474160" y="37576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385960" y="3806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5457240" y="36399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5474160" y="352260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385960" y="3571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>
              <a:off x="5457240" y="34052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>
              <a:off x="5474160" y="32860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385960" y="3335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5457240" y="31687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>
              <a:off x="5474160" y="305100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385960" y="3100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>
              <a:off x="5457240" y="29336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H="1">
              <a:off x="5474160" y="28162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385960" y="286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5457240" y="26985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H="1">
              <a:off x="5474160" y="25797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385960" y="262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>
              <a:off x="5457240" y="245736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334120" y="2394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36240" y="4817880"/>
              <a:ext cx="2136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491800" y="4817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86116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71320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97816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10128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95440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3312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18624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44832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57324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42492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68844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81336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66612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920640" y="4817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04520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89760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28532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13844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40052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52544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37820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63236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75548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60896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872840" y="4817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824960" y="49356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493240" y="2457360"/>
              <a:ext cx="237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V="1">
              <a:off x="7872840" y="2462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493240" y="4817880"/>
              <a:ext cx="2379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>
              <a:off x="5491800" y="2462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618160" y="48196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471640" y="4937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734800" y="481968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215040" y="4817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152840" y="4817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6" name=""/>
          <p:cNvSpPr/>
          <p:nvPr/>
        </p:nvSpPr>
        <p:spPr>
          <a:xfrm>
            <a:off x="5838840" y="2685960"/>
            <a:ext cx="1758960" cy="1984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838840" y="2919240"/>
            <a:ext cx="352440" cy="465480"/>
          </a:xfrm>
          <a:custGeom>
            <a:avLst/>
            <a:gdLst/>
            <a:ahLst/>
            <a:rect l="l" t="t" r="r" b="b"/>
            <a:pathLst>
              <a:path w="1608" h="2134">
                <a:moveTo>
                  <a:pt x="536" y="0"/>
                </a:moveTo>
                <a:lnTo>
                  <a:pt x="1608" y="1067"/>
                </a:lnTo>
                <a:lnTo>
                  <a:pt x="536" y="2134"/>
                </a:lnTo>
                <a:lnTo>
                  <a:pt x="0" y="1067"/>
                </a:lnTo>
                <a:lnTo>
                  <a:pt x="536" y="0"/>
                </a:lnTo>
                <a:close/>
              </a:path>
            </a:pathLst>
          </a:custGeom>
          <a:solidFill>
            <a:srgbClr val="6699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894360" y="2685960"/>
            <a:ext cx="703440" cy="933480"/>
          </a:xfrm>
          <a:custGeom>
            <a:avLst/>
            <a:gdLst/>
            <a:ahLst/>
            <a:rect l="l" t="t" r="r" b="b"/>
            <a:pathLst>
              <a:path w="3215" h="4269">
                <a:moveTo>
                  <a:pt x="2679" y="1067"/>
                </a:moveTo>
                <a:lnTo>
                  <a:pt x="3215" y="3201"/>
                </a:lnTo>
                <a:lnTo>
                  <a:pt x="2143" y="4269"/>
                </a:lnTo>
                <a:lnTo>
                  <a:pt x="0" y="3201"/>
                </a:lnTo>
                <a:lnTo>
                  <a:pt x="0" y="1067"/>
                </a:lnTo>
                <a:lnTo>
                  <a:pt x="1607" y="0"/>
                </a:lnTo>
                <a:lnTo>
                  <a:pt x="2679" y="1067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958000" y="3852720"/>
            <a:ext cx="583920" cy="700200"/>
          </a:xfrm>
          <a:custGeom>
            <a:avLst/>
            <a:gdLst/>
            <a:ahLst/>
            <a:rect l="l" t="t" r="r" b="b"/>
            <a:pathLst>
              <a:path w="2679" h="3202">
                <a:moveTo>
                  <a:pt x="0" y="1068"/>
                </a:moveTo>
                <a:lnTo>
                  <a:pt x="1607" y="0"/>
                </a:lnTo>
                <a:lnTo>
                  <a:pt x="2679" y="1601"/>
                </a:lnTo>
                <a:lnTo>
                  <a:pt x="2143" y="3202"/>
                </a:lnTo>
                <a:lnTo>
                  <a:pt x="536" y="2668"/>
                </a:lnTo>
                <a:lnTo>
                  <a:pt x="0" y="1068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426360" y="3970440"/>
            <a:ext cx="819000" cy="699840"/>
          </a:xfrm>
          <a:custGeom>
            <a:avLst/>
            <a:gdLst/>
            <a:ahLst/>
            <a:rect l="l" t="t" r="r" b="b"/>
            <a:pathLst>
              <a:path w="3749" h="3201">
                <a:moveTo>
                  <a:pt x="3749" y="2134"/>
                </a:moveTo>
                <a:lnTo>
                  <a:pt x="2142" y="3201"/>
                </a:lnTo>
                <a:lnTo>
                  <a:pt x="0" y="2668"/>
                </a:lnTo>
                <a:lnTo>
                  <a:pt x="536" y="1067"/>
                </a:lnTo>
                <a:lnTo>
                  <a:pt x="2142" y="0"/>
                </a:lnTo>
                <a:lnTo>
                  <a:pt x="3749" y="534"/>
                </a:lnTo>
                <a:lnTo>
                  <a:pt x="3749" y="2134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910120" y="303228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7130880" y="305280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176880" y="410544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784920" y="419580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7432560" y="2905200"/>
            <a:ext cx="81000" cy="871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164280" y="312588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504120" y="4146480"/>
            <a:ext cx="81000" cy="87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934240" y="4064040"/>
            <a:ext cx="48960" cy="52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384960" y="4513320"/>
            <a:ext cx="81000" cy="871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862680" y="290520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911920" y="2855880"/>
            <a:ext cx="81000" cy="87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5938920" y="3355920"/>
            <a:ext cx="4896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815080" y="312588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219800" y="266688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6867360" y="3346560"/>
            <a:ext cx="4788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7578720" y="334656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7335720" y="359892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035760" y="4403880"/>
            <a:ext cx="4896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278400" y="382896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6867360" y="3935520"/>
            <a:ext cx="47880" cy="52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216920" y="4054320"/>
            <a:ext cx="475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216920" y="4425840"/>
            <a:ext cx="475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862680" y="464184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Thematic properties of features (weight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7696080" y="5192640"/>
            <a:ext cx="152640" cy="1526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696080" y="5421240"/>
            <a:ext cx="152640" cy="152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696080" y="5649840"/>
            <a:ext cx="152640" cy="15264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781680" y="5378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ight 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924680" y="5137200"/>
            <a:ext cx="457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0" name=""/>
          <p:cNvGraphicFramePr/>
          <p:nvPr/>
        </p:nvGraphicFramePr>
        <p:xfrm>
          <a:off x="1747800" y="2744640"/>
          <a:ext cx="1938240" cy="153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7800" y="2744640"/>
                    <a:ext cx="1938240" cy="15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2" name=""/>
          <p:cNvSpPr/>
          <p:nvPr/>
        </p:nvSpPr>
        <p:spPr>
          <a:xfrm>
            <a:off x="5483160" y="5364000"/>
            <a:ext cx="106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 : identif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s: Example of a distribut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5127480" y="507996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800000"/>
                </a:solidFill>
                <a:latin typeface="Arial"/>
              </a:rPr>
              <a:t>Introduction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04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5334120" y="2394000"/>
            <a:ext cx="2604240" cy="2665080"/>
            <a:chOff x="5334120" y="2394000"/>
            <a:chExt cx="2604240" cy="2665080"/>
          </a:xfrm>
        </p:grpSpPr>
        <p:sp>
          <p:nvSpPr>
            <p:cNvPr id="1378" name=""/>
            <p:cNvSpPr/>
            <p:nvPr/>
          </p:nvSpPr>
          <p:spPr>
            <a:xfrm flipV="1">
              <a:off x="5491800" y="2462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>
              <a:off x="5457240" y="481788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5474160" y="46990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385960" y="4748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H="1">
              <a:off x="5457240" y="45813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>
              <a:off x="5474160" y="446400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385960" y="4513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5457240" y="43466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H="1">
              <a:off x="5474160" y="422892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385960" y="4278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>
              <a:off x="5457240" y="411156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>
              <a:off x="5474160" y="399240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385960" y="404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>
              <a:off x="5457240" y="38750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H="1">
              <a:off x="5474160" y="37576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385960" y="3806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5457240" y="36399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H="1">
              <a:off x="5474160" y="352260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385960" y="3571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>
              <a:off x="5457240" y="34052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>
              <a:off x="5474160" y="32860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385960" y="3335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5457240" y="31687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>
              <a:off x="5474160" y="305100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385960" y="3100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5457240" y="29336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5474160" y="28162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385960" y="286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>
              <a:off x="5457240" y="26985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>
              <a:off x="5474160" y="25797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385960" y="262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>
              <a:off x="5457240" y="245736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334120" y="2394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736240" y="4817880"/>
              <a:ext cx="2136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491800" y="4817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6116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71320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97816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10128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95440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33312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18624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44832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57324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42492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68844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81336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66612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920640" y="4817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04520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89760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28532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13844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40052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52544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37820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63236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75548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60896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872840" y="4817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824960" y="49356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493240" y="2457360"/>
              <a:ext cx="237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V="1">
              <a:off x="7872840" y="2462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493240" y="4817880"/>
              <a:ext cx="2379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V="1">
              <a:off x="5491800" y="2462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618160" y="48196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471640" y="4937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734800" y="481968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215040" y="4817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152840" y="4817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5838840" y="2685960"/>
            <a:ext cx="1758960" cy="1984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5838840" y="2919240"/>
            <a:ext cx="352440" cy="465480"/>
          </a:xfrm>
          <a:custGeom>
            <a:avLst/>
            <a:gdLst/>
            <a:ahLst/>
            <a:rect l="l" t="t" r="r" b="b"/>
            <a:pathLst>
              <a:path w="1608" h="2134">
                <a:moveTo>
                  <a:pt x="536" y="0"/>
                </a:moveTo>
                <a:lnTo>
                  <a:pt x="1608" y="1067"/>
                </a:lnTo>
                <a:lnTo>
                  <a:pt x="536" y="2134"/>
                </a:lnTo>
                <a:lnTo>
                  <a:pt x="0" y="1067"/>
                </a:lnTo>
                <a:lnTo>
                  <a:pt x="536" y="0"/>
                </a:lnTo>
                <a:close/>
              </a:path>
            </a:pathLst>
          </a:custGeom>
          <a:solidFill>
            <a:srgbClr val="6699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894360" y="2685960"/>
            <a:ext cx="703440" cy="933480"/>
          </a:xfrm>
          <a:custGeom>
            <a:avLst/>
            <a:gdLst/>
            <a:ahLst/>
            <a:rect l="l" t="t" r="r" b="b"/>
            <a:pathLst>
              <a:path w="3215" h="4269">
                <a:moveTo>
                  <a:pt x="2679" y="1067"/>
                </a:moveTo>
                <a:lnTo>
                  <a:pt x="3215" y="3201"/>
                </a:lnTo>
                <a:lnTo>
                  <a:pt x="2143" y="4269"/>
                </a:lnTo>
                <a:lnTo>
                  <a:pt x="0" y="3201"/>
                </a:lnTo>
                <a:lnTo>
                  <a:pt x="0" y="1067"/>
                </a:lnTo>
                <a:lnTo>
                  <a:pt x="1607" y="0"/>
                </a:lnTo>
                <a:lnTo>
                  <a:pt x="2679" y="1067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958000" y="3852720"/>
            <a:ext cx="583920" cy="700200"/>
          </a:xfrm>
          <a:custGeom>
            <a:avLst/>
            <a:gdLst/>
            <a:ahLst/>
            <a:rect l="l" t="t" r="r" b="b"/>
            <a:pathLst>
              <a:path w="2679" h="3202">
                <a:moveTo>
                  <a:pt x="0" y="1068"/>
                </a:moveTo>
                <a:lnTo>
                  <a:pt x="1607" y="0"/>
                </a:lnTo>
                <a:lnTo>
                  <a:pt x="2679" y="1601"/>
                </a:lnTo>
                <a:lnTo>
                  <a:pt x="2143" y="3202"/>
                </a:lnTo>
                <a:lnTo>
                  <a:pt x="536" y="2668"/>
                </a:lnTo>
                <a:lnTo>
                  <a:pt x="0" y="1068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426360" y="3970440"/>
            <a:ext cx="819000" cy="699840"/>
          </a:xfrm>
          <a:custGeom>
            <a:avLst/>
            <a:gdLst/>
            <a:ahLst/>
            <a:rect l="l" t="t" r="r" b="b"/>
            <a:pathLst>
              <a:path w="3749" h="3201">
                <a:moveTo>
                  <a:pt x="3749" y="2134"/>
                </a:moveTo>
                <a:lnTo>
                  <a:pt x="2142" y="3201"/>
                </a:lnTo>
                <a:lnTo>
                  <a:pt x="0" y="2668"/>
                </a:lnTo>
                <a:lnTo>
                  <a:pt x="536" y="1067"/>
                </a:lnTo>
                <a:lnTo>
                  <a:pt x="2142" y="0"/>
                </a:lnTo>
                <a:lnTo>
                  <a:pt x="3749" y="534"/>
                </a:lnTo>
                <a:lnTo>
                  <a:pt x="3749" y="2134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432560" y="2905200"/>
            <a:ext cx="81000" cy="871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164280" y="312588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504120" y="4146480"/>
            <a:ext cx="81000" cy="87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5934240" y="4064040"/>
            <a:ext cx="48960" cy="52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384960" y="4513320"/>
            <a:ext cx="81000" cy="871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862680" y="290520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5911920" y="2855880"/>
            <a:ext cx="81000" cy="87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938920" y="3355920"/>
            <a:ext cx="4896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5815080" y="312588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219800" y="266688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867360" y="3346560"/>
            <a:ext cx="4788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7578720" y="334656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335720" y="359892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035760" y="4403880"/>
            <a:ext cx="4896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278400" y="382896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67360" y="3935520"/>
            <a:ext cx="47880" cy="52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216920" y="4054320"/>
            <a:ext cx="475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216920" y="4425840"/>
            <a:ext cx="475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6862680" y="464184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6172200" y="277488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7543800" y="361332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715000" y="414648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7391520" y="4299120"/>
            <a:ext cx="1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6" name=""/>
          <p:cNvGrpSpPr/>
          <p:nvPr/>
        </p:nvGrpSpPr>
        <p:grpSpPr>
          <a:xfrm>
            <a:off x="5497560" y="2449440"/>
            <a:ext cx="2362320" cy="2361960"/>
            <a:chOff x="5497560" y="2449440"/>
            <a:chExt cx="2362320" cy="2361960"/>
          </a:xfrm>
        </p:grpSpPr>
        <p:sp>
          <p:nvSpPr>
            <p:cNvPr id="1477" name=""/>
            <p:cNvSpPr/>
            <p:nvPr/>
          </p:nvSpPr>
          <p:spPr>
            <a:xfrm>
              <a:off x="6542280" y="2449440"/>
              <a:ext cx="0" cy="3178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542280" y="2767320"/>
              <a:ext cx="45360" cy="2725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587640" y="3039840"/>
              <a:ext cx="0" cy="2271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>
              <a:off x="6542280" y="3267000"/>
              <a:ext cx="45360" cy="2268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542280" y="3494160"/>
              <a:ext cx="0" cy="1818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H="1" flipV="1">
              <a:off x="6405840" y="3630600"/>
              <a:ext cx="136080" cy="453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H="1">
              <a:off x="6224400" y="3630600"/>
              <a:ext cx="181440" cy="453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H="1">
              <a:off x="5905800" y="3675960"/>
              <a:ext cx="317880" cy="181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5724360" y="3857760"/>
              <a:ext cx="181440" cy="453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H="1">
              <a:off x="5497560" y="3903120"/>
              <a:ext cx="226800" cy="2268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542280" y="3675960"/>
              <a:ext cx="90720" cy="907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633360" y="3766680"/>
              <a:ext cx="272520" cy="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905880" y="3766680"/>
              <a:ext cx="545040" cy="1818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450920" y="3948480"/>
              <a:ext cx="136080" cy="1360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587360" y="4084920"/>
              <a:ext cx="272520" cy="2725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H="1">
              <a:off x="6542280" y="3766680"/>
              <a:ext cx="90720" cy="4543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>
              <a:off x="6405840" y="4221360"/>
              <a:ext cx="136080" cy="3632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H="1">
              <a:off x="6360120" y="4584600"/>
              <a:ext cx="45000" cy="2268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geometrical proximity to the 4 areal objects is weighted by their relative influ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y location within each area is closer to its areal feature than to any oth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areas of largest weighted proximity are often called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Thiessen’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Voronoï ’s polygon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746600" y="17524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Areas of largest weighted proxim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79660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Arial"/>
              </a:rPr>
              <a:t>Areal objects: Areas of largest weighted proximity</a:t>
            </a:r>
            <a:endParaRPr b="1" lang="en-US" sz="25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4648320" y="5421240"/>
            <a:ext cx="3809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reas of largest weighted proximity to the 4 areal featur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3" name="" descr=""/>
          <p:cNvPicPr/>
          <p:nvPr/>
        </p:nvPicPr>
        <p:blipFill>
          <a:blip r:embed="rId1"/>
          <a:stretch/>
        </p:blipFill>
        <p:spPr>
          <a:xfrm>
            <a:off x="5475240" y="2368440"/>
            <a:ext cx="2862360" cy="2421000"/>
          </a:xfrm>
          <a:prstGeom prst="rect">
            <a:avLst/>
          </a:prstGeom>
          <a:ln w="0">
            <a:noFill/>
          </a:ln>
        </p:spPr>
      </p:pic>
      <p:grpSp>
        <p:nvGrpSpPr>
          <p:cNvPr id="1504" name=""/>
          <p:cNvGrpSpPr/>
          <p:nvPr/>
        </p:nvGrpSpPr>
        <p:grpSpPr>
          <a:xfrm>
            <a:off x="5320080" y="2286000"/>
            <a:ext cx="2618280" cy="2739240"/>
            <a:chOff x="5320080" y="2286000"/>
            <a:chExt cx="2618280" cy="2739240"/>
          </a:xfrm>
        </p:grpSpPr>
        <p:sp>
          <p:nvSpPr>
            <p:cNvPr id="1505" name=""/>
            <p:cNvSpPr/>
            <p:nvPr/>
          </p:nvSpPr>
          <p:spPr>
            <a:xfrm flipV="1">
              <a:off x="5478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5443200" y="47804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H="1">
              <a:off x="5460480" y="4658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371920" y="4708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>
              <a:off x="5443200" y="453708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5460480" y="44161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371920" y="4466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5443200" y="42955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>
              <a:off x="5460480" y="41742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371920" y="4224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H="1">
              <a:off x="5443200" y="40536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>
              <a:off x="5460480" y="393084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371920" y="3981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5443200" y="38102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>
              <a:off x="5460480" y="3689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371920" y="373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H="1">
              <a:off x="5443200" y="35683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>
              <a:off x="5460480" y="3447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371920" y="3498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>
              <a:off x="5443200" y="33267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H="1">
              <a:off x="5460480" y="32040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371920" y="3254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>
              <a:off x="5443200" y="30830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5460480" y="29620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371920" y="3012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5443200" y="28411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5460480" y="27205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371920" y="2770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5443200" y="259920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5460480" y="24771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371920" y="2527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5443200" y="23511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320080" y="228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724360" y="478044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4784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85000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70060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96736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09120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94360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32448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1768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44040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56604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41664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68160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80724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65964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91524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704052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8914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28172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713412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739764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52328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3756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63092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75476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60716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8724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824960" y="4901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479920" y="235116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V="1">
              <a:off x="7872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479920" y="478044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V="1">
              <a:off x="5478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605560" y="47822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457960" y="4903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722920" y="4782240"/>
              <a:ext cx="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2056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14852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5" name=""/>
          <p:cNvGrpSpPr/>
          <p:nvPr/>
        </p:nvGrpSpPr>
        <p:grpSpPr>
          <a:xfrm>
            <a:off x="5932440" y="2949480"/>
            <a:ext cx="1382760" cy="1441800"/>
            <a:chOff x="5932440" y="2949480"/>
            <a:chExt cx="1382760" cy="1441800"/>
          </a:xfrm>
        </p:grpSpPr>
        <p:sp>
          <p:nvSpPr>
            <p:cNvPr id="1576" name=""/>
            <p:cNvSpPr/>
            <p:nvPr/>
          </p:nvSpPr>
          <p:spPr>
            <a:xfrm>
              <a:off x="5932440" y="2949480"/>
              <a:ext cx="17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135920" y="297180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172200" y="4038480"/>
              <a:ext cx="17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896160" y="411480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ighted distance image from each cell to the nearest areal region,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weighted minimu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dist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graphical representation suggests limits of areas of largest weighted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express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weighted distance) to the nearest areal region, but without identifying it 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regions: Weighted minimum distan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4800600" y="1828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Weighted minimum dist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4800600" y="535608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aximu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2.9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ea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 0.6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8" name="" descr=""/>
          <p:cNvPicPr/>
          <p:nvPr/>
        </p:nvPicPr>
        <p:blipFill>
          <a:blip r:embed="rId1"/>
          <a:stretch/>
        </p:blipFill>
        <p:spPr>
          <a:xfrm>
            <a:off x="5475240" y="2468520"/>
            <a:ext cx="2671920" cy="2438280"/>
          </a:xfrm>
          <a:prstGeom prst="rect">
            <a:avLst/>
          </a:prstGeom>
          <a:ln w="0">
            <a:noFill/>
          </a:ln>
        </p:spPr>
      </p:pic>
      <p:grpSp>
        <p:nvGrpSpPr>
          <p:cNvPr id="1589" name=""/>
          <p:cNvGrpSpPr/>
          <p:nvPr/>
        </p:nvGrpSpPr>
        <p:grpSpPr>
          <a:xfrm>
            <a:off x="5320080" y="2392200"/>
            <a:ext cx="2618280" cy="2739600"/>
            <a:chOff x="5320080" y="2392200"/>
            <a:chExt cx="2618280" cy="2739600"/>
          </a:xfrm>
        </p:grpSpPr>
        <p:sp>
          <p:nvSpPr>
            <p:cNvPr id="1590" name=""/>
            <p:cNvSpPr/>
            <p:nvPr/>
          </p:nvSpPr>
          <p:spPr>
            <a:xfrm flipV="1">
              <a:off x="5478480" y="2462040"/>
              <a:ext cx="1440" cy="242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>
              <a:off x="5443200" y="488700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>
              <a:off x="5460480" y="47646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371920" y="481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>
              <a:off x="5443200" y="46436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>
              <a:off x="5460480" y="45226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371920" y="4573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H="1">
              <a:off x="5443200" y="440208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H="1">
              <a:off x="5460480" y="428076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371920" y="4331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H="1">
              <a:off x="5443200" y="41598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>
              <a:off x="5460480" y="40374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371920" y="4088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5443200" y="39164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>
              <a:off x="5460480" y="37958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371920" y="384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H="1">
              <a:off x="5443200" y="36745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H="1">
              <a:off x="5460480" y="35535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371920" y="3604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5443200" y="34329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5460480" y="33102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371920" y="3360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5443200" y="31896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>
              <a:off x="5460480" y="30682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371920" y="3119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H="1">
              <a:off x="5443200" y="29473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>
              <a:off x="5460480" y="28267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371920" y="2877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>
              <a:off x="5443200" y="270540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H="1">
              <a:off x="5460480" y="2583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371920" y="2633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>
              <a:off x="5443200" y="24573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320080" y="23922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24360" y="488700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478480" y="488700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850000" y="488700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700600" y="500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967360" y="488700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091200" y="488700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943600" y="500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324480" y="488700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176880" y="500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440400" y="488700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566040" y="488700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416640" y="500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681600" y="488700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807240" y="488700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659640" y="500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915240" y="488700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040520" y="488700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6891480" y="500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281720" y="488700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134120" y="500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397640" y="488700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23280" y="488700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375680" y="500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630920" y="488700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754760" y="488700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607160" y="500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872480" y="488700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824960" y="50083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479920" y="245736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7872480" y="2462040"/>
              <a:ext cx="1440" cy="242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479920" y="488700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V="1">
              <a:off x="5478480" y="2462040"/>
              <a:ext cx="1440" cy="242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605560" y="488880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5457960" y="5009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722920" y="4888800"/>
              <a:ext cx="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205680" y="488700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148520" y="488700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0" name=""/>
          <p:cNvGrpSpPr/>
          <p:nvPr/>
        </p:nvGrpSpPr>
        <p:grpSpPr>
          <a:xfrm>
            <a:off x="5931000" y="3002040"/>
            <a:ext cx="1460520" cy="1540080"/>
            <a:chOff x="5931000" y="3002040"/>
            <a:chExt cx="1460520" cy="1540080"/>
          </a:xfrm>
        </p:grpSpPr>
        <p:sp>
          <p:nvSpPr>
            <p:cNvPr id="1661" name=""/>
            <p:cNvSpPr/>
            <p:nvPr/>
          </p:nvSpPr>
          <p:spPr>
            <a:xfrm>
              <a:off x="5931000" y="3078360"/>
              <a:ext cx="17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cc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211880" y="3002040"/>
              <a:ext cx="17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cc0066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137280" y="4145040"/>
              <a:ext cx="17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cc0066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010280" y="4265640"/>
              <a:ext cx="17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cc0066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cells are assigned to the areal region with the largest weighted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e is divided into areal regions of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largest weighted 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their areal fea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identify the areal reg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ing the largest weighted proximity. This information adds to the distance value computed abo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79660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real regions: Regions of largest weighted proximity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4876920" y="5349960"/>
            <a:ext cx="343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ribution to the closest areal region of weighted proximit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4670280" y="1828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Regions of largest proxim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/>
          <p:nvPr/>
        </p:nvSpPr>
        <p:spPr>
          <a:xfrm rot="5400000">
            <a:off x="338760" y="1720080"/>
            <a:ext cx="1341360" cy="1162080"/>
          </a:xfrm>
          <a:prstGeom prst="triangle">
            <a:avLst>
              <a:gd name="adj" fmla="val 50000"/>
            </a:avLst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800000"/>
                </a:solidFill>
                <a:latin typeface="Arial"/>
              </a:rPr>
              <a:t>End of Uni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Weighted spatial pattern and neighborhood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44400" y="15238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6699ff"/>
                </a:solidFill>
                <a:latin typeface="Arial"/>
              </a:rPr>
              <a:t>Our everyday experience suggests that spatial pattern and neighborhood are influenced by thematic properties of featur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3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t is then necessary to </a:t>
            </a:r>
            <a:r>
              <a:rPr b="1" lang="en-US" sz="2600" spc="-1" strike="noStrike">
                <a:solidFill>
                  <a:srgbClr val="cc0066"/>
                </a:solidFill>
                <a:latin typeface="Arial"/>
              </a:rPr>
              <a:t>combi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their </a:t>
            </a:r>
            <a:r>
              <a:rPr b="1" lang="en-US" sz="2600" spc="-1" strike="noStrike">
                <a:solidFill>
                  <a:srgbClr val="cc0066"/>
                </a:solidFill>
                <a:latin typeface="Arial"/>
              </a:rPr>
              <a:t>geometrical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roperties with their </a:t>
            </a:r>
            <a:r>
              <a:rPr b="1" lang="en-US" sz="2600" spc="-1" strike="noStrike">
                <a:solidFill>
                  <a:srgbClr val="cc0066"/>
                </a:solidFill>
                <a:latin typeface="Arial"/>
              </a:rPr>
              <a:t>thematic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roperties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271080">
              <a:spcBef>
                <a:spcPts val="476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s combination is obtained by </a:t>
            </a:r>
            <a:r>
              <a:rPr b="0" lang="en-US" sz="1900" spc="-1" strike="noStrike">
                <a:solidFill>
                  <a:srgbClr val="cc0066"/>
                </a:solidFill>
                <a:latin typeface="Arial"/>
              </a:rPr>
              <a:t>weighting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their geometry as well as the spatial relationships between featu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3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t is therefore necessary to choose a spatial model that integrates the two spatial and thematic dimension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271080">
              <a:spcBef>
                <a:spcPts val="476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cc0066"/>
                </a:solidFill>
                <a:uFillTx/>
                <a:latin typeface="Arial"/>
              </a:rPr>
              <a:t>Isotropic weighted spac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a space with </a:t>
            </a:r>
            <a:r>
              <a:rPr b="0" lang="en-US" sz="1900" spc="-1" strike="noStrike">
                <a:solidFill>
                  <a:srgbClr val="cc0066"/>
                </a:solidFill>
                <a:latin typeface="Arial"/>
              </a:rPr>
              <a:t>heterogeneou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properties, weighted dista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44400" y="1523520"/>
            <a:ext cx="3848400" cy="441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perties within the space are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heterogeneou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, they influence properties of arrangement and neighborhood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tial and thematic properties should be considered simultaneous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he description of features pattern and neighborhood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combin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geometric and thematic properties by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weighting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ighted central tendancy and disp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ighted proximity: weighted d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523520"/>
            <a:ext cx="3962160" cy="441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pace is modelised as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weighte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, expressing heterogeneous properties in spac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perties are considered as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isotropic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are constant with respect to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800000"/>
                </a:solidFill>
                <a:latin typeface="Arial"/>
              </a:rPr>
              <a:t>Model of space: Isotropic weighted spa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324480" y="3657600"/>
            <a:ext cx="1981440" cy="210492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5148360" y="4129200"/>
            <a:ext cx="802440" cy="1731240"/>
            <a:chOff x="5148360" y="4129200"/>
            <a:chExt cx="802440" cy="1731240"/>
          </a:xfrm>
        </p:grpSpPr>
        <p:grpSp>
          <p:nvGrpSpPr>
            <p:cNvPr id="113" name=""/>
            <p:cNvGrpSpPr/>
            <p:nvPr/>
          </p:nvGrpSpPr>
          <p:grpSpPr>
            <a:xfrm>
              <a:off x="5151240" y="4789800"/>
              <a:ext cx="799560" cy="1070640"/>
              <a:chOff x="5151240" y="4789800"/>
              <a:chExt cx="799560" cy="1070640"/>
            </a:xfrm>
          </p:grpSpPr>
          <p:sp>
            <p:nvSpPr>
              <p:cNvPr id="114" name=""/>
              <p:cNvSpPr/>
              <p:nvPr/>
            </p:nvSpPr>
            <p:spPr>
              <a:xfrm flipV="1">
                <a:off x="5151240" y="4789800"/>
                <a:ext cx="799560" cy="1836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151240" y="4973400"/>
                <a:ext cx="246960" cy="8870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flipV="1">
              <a:off x="5148360" y="4129200"/>
              <a:ext cx="0" cy="8380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809680" y="4782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66880" y="5562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43320" y="40384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800000"/>
                </a:solidFill>
                <a:latin typeface="Arial"/>
              </a:rPr>
              <a:t>Weighting of geometric properti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44400" y="15238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6699ff"/>
                </a:solidFill>
                <a:latin typeface="Arial"/>
              </a:rPr>
              <a:t>Neighborhood relationships are describes by indices that combine geometric and thematic properties using </a:t>
            </a:r>
            <a:r>
              <a:rPr b="1" i="1" lang="en-US" sz="1900" spc="-1" strike="noStrike" u="sng">
                <a:solidFill>
                  <a:srgbClr val="6699ff"/>
                </a:solidFill>
                <a:uFillTx/>
                <a:latin typeface="Arial"/>
              </a:rPr>
              <a:t>weighting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matic properties assigned to space locations or features may express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the weight of featu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xpressing their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impor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ir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influ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their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attractivi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Such properties allow the definition of a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field of influ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each feature (area of largest weighted proxim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the friction of loc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space, expressing the difficulty of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ac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f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mov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proxim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features (weighted distanc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44400" y="1980720"/>
            <a:ext cx="384840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t is a modification of the metrics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lnSpc>
                <a:spcPct val="100000"/>
              </a:lnSpc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weight of featur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is weighting allows to define a </a:t>
            </a:r>
            <a:r>
              <a:rPr b="1" lang="en-US" sz="1900" spc="-1" strike="noStrike">
                <a:solidFill>
                  <a:srgbClr val="cc0066"/>
                </a:solidFill>
                <a:latin typeface="Arial"/>
              </a:rPr>
              <a:t>potential field of influenc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for each of the features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 is divided into areas of largest weighted proxim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4720" y="1980720"/>
            <a:ext cx="384804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Weighting: Weight of featur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1371600"/>
            <a:ext cx="75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99ff"/>
                </a:solidFill>
                <a:latin typeface="Arial"/>
              </a:rPr>
              <a:t>Geometrical properties are weighted by the relative importance of featur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57800" y="2286000"/>
            <a:ext cx="2590920" cy="25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2590920"/>
            <a:ext cx="514080" cy="685800"/>
          </a:xfrm>
          <a:custGeom>
            <a:avLst/>
            <a:gdLst/>
            <a:ahLst/>
            <a:rect l="l" t="t" r="r" b="b"/>
            <a:pathLst>
              <a:path w="432" h="576">
                <a:moveTo>
                  <a:pt x="0" y="192"/>
                </a:moveTo>
                <a:lnTo>
                  <a:pt x="96" y="0"/>
                </a:lnTo>
                <a:lnTo>
                  <a:pt x="432" y="144"/>
                </a:lnTo>
                <a:lnTo>
                  <a:pt x="432" y="576"/>
                </a:lnTo>
                <a:lnTo>
                  <a:pt x="192" y="528"/>
                </a:lnTo>
                <a:lnTo>
                  <a:pt x="144" y="288"/>
                </a:lnTo>
                <a:lnTo>
                  <a:pt x="0" y="192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5800" y="3048120"/>
            <a:ext cx="454320" cy="990360"/>
          </a:xfrm>
          <a:custGeom>
            <a:avLst/>
            <a:gdLst/>
            <a:ahLst/>
            <a:rect l="l" t="t" r="r" b="b"/>
            <a:pathLst>
              <a:path w="352" h="768">
                <a:moveTo>
                  <a:pt x="0" y="0"/>
                </a:moveTo>
                <a:cubicBezTo>
                  <a:pt x="4" y="80"/>
                  <a:pt x="8" y="160"/>
                  <a:pt x="48" y="192"/>
                </a:cubicBezTo>
                <a:cubicBezTo>
                  <a:pt x="88" y="224"/>
                  <a:pt x="192" y="152"/>
                  <a:pt x="240" y="192"/>
                </a:cubicBezTo>
                <a:cubicBezTo>
                  <a:pt x="288" y="232"/>
                  <a:pt x="352" y="368"/>
                  <a:pt x="336" y="432"/>
                </a:cubicBezTo>
                <a:cubicBezTo>
                  <a:pt x="320" y="496"/>
                  <a:pt x="200" y="520"/>
                  <a:pt x="144" y="576"/>
                </a:cubicBezTo>
                <a:cubicBezTo>
                  <a:pt x="88" y="632"/>
                  <a:pt x="44" y="700"/>
                  <a:pt x="0" y="768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4343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9320" y="5056200"/>
            <a:ext cx="1499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vy weigh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rate weigh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weigh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5986080" y="4506840"/>
            <a:ext cx="22860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257800" y="2285640"/>
            <a:ext cx="2286000" cy="2591280"/>
            <a:chOff x="5257800" y="2285640"/>
            <a:chExt cx="2286000" cy="2591280"/>
          </a:xfrm>
        </p:grpSpPr>
        <p:sp>
          <p:nvSpPr>
            <p:cNvPr id="133" name=""/>
            <p:cNvSpPr/>
            <p:nvPr/>
          </p:nvSpPr>
          <p:spPr>
            <a:xfrm flipH="1" flipV="1">
              <a:off x="6857640" y="3428640"/>
              <a:ext cx="304920" cy="22860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57800" y="3505320"/>
              <a:ext cx="838080" cy="7596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95880" y="3581280"/>
              <a:ext cx="533520" cy="7632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7086600" y="3657600"/>
              <a:ext cx="76320" cy="38088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86600" y="4267080"/>
              <a:ext cx="457200" cy="60984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6781680" y="3048120"/>
              <a:ext cx="76320" cy="38088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6781680" y="2590920"/>
              <a:ext cx="76320" cy="45720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858000" y="2285640"/>
              <a:ext cx="228600" cy="30492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629400" y="3428640"/>
              <a:ext cx="228600" cy="22860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86600" y="403848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 flipH="1">
            <a:off x="5333400" y="422424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rot="5400000">
            <a:off x="5835600" y="374508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4213080"/>
            <a:ext cx="609840" cy="381240"/>
          </a:xfrm>
          <a:prstGeom prst="rightArrow">
            <a:avLst>
              <a:gd name="adj1" fmla="val 50000"/>
              <a:gd name="adj2" fmla="val 39991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400000">
            <a:off x="7162200" y="419076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rot="5400000">
            <a:off x="7123680" y="270504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2487600">
            <a:off x="7543800" y="3809880"/>
            <a:ext cx="228600" cy="152640"/>
          </a:xfrm>
          <a:prstGeom prst="rightArrow">
            <a:avLst>
              <a:gd name="adj1" fmla="val 50000"/>
              <a:gd name="adj2" fmla="val 37441"/>
            </a:avLst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5964480" y="3319920"/>
            <a:ext cx="18576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291280" y="29718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rot="9142200">
            <a:off x="6095160" y="23997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294200">
            <a:off x="6171840" y="29718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rot="1811400">
            <a:off x="6858000" y="2856960"/>
            <a:ext cx="266760" cy="114120"/>
          </a:xfrm>
          <a:prstGeom prst="rightArrow">
            <a:avLst>
              <a:gd name="adj1" fmla="val 50000"/>
              <a:gd name="adj2" fmla="val 58438"/>
            </a:avLst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51055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2760" y="5648400"/>
            <a:ext cx="3049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45320" y="5311800"/>
            <a:ext cx="228600" cy="228600"/>
          </a:xfrm>
          <a:prstGeom prst="pentagon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44400" y="1980720"/>
            <a:ext cx="384840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t is a modification of the metrics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 / weight of feature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: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  d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 = d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 * </a:t>
            </a:r>
            <a:r>
              <a:rPr b="1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coefficient of friction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llows to define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3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area of weighted dist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each fe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3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minimum weighted dist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rom each location in space to 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ff"/>
                </a:solidFill>
                <a:latin typeface="Arial"/>
              </a:rPr>
              <a:t>Further concepts of pathway, barrier (obstacle), force and anisotropy will be considered in Lesson dedicated to accessibilit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4720" y="1980720"/>
            <a:ext cx="384804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2286000"/>
            <a:ext cx="2590920" cy="25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2590920"/>
            <a:ext cx="514080" cy="685800"/>
          </a:xfrm>
          <a:custGeom>
            <a:avLst/>
            <a:gdLst/>
            <a:ahLst/>
            <a:rect l="l" t="t" r="r" b="b"/>
            <a:pathLst>
              <a:path w="432" h="576">
                <a:moveTo>
                  <a:pt x="0" y="192"/>
                </a:moveTo>
                <a:lnTo>
                  <a:pt x="96" y="0"/>
                </a:lnTo>
                <a:lnTo>
                  <a:pt x="432" y="144"/>
                </a:lnTo>
                <a:lnTo>
                  <a:pt x="432" y="576"/>
                </a:lnTo>
                <a:lnTo>
                  <a:pt x="192" y="528"/>
                </a:lnTo>
                <a:lnTo>
                  <a:pt x="144" y="288"/>
                </a:lnTo>
                <a:lnTo>
                  <a:pt x="0" y="192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65800" y="3048120"/>
            <a:ext cx="454320" cy="990360"/>
          </a:xfrm>
          <a:custGeom>
            <a:avLst/>
            <a:gdLst/>
            <a:ahLst/>
            <a:rect l="l" t="t" r="r" b="b"/>
            <a:pathLst>
              <a:path w="352" h="768">
                <a:moveTo>
                  <a:pt x="0" y="0"/>
                </a:moveTo>
                <a:cubicBezTo>
                  <a:pt x="4" y="80"/>
                  <a:pt x="8" y="160"/>
                  <a:pt x="48" y="192"/>
                </a:cubicBezTo>
                <a:cubicBezTo>
                  <a:pt x="88" y="224"/>
                  <a:pt x="192" y="152"/>
                  <a:pt x="240" y="192"/>
                </a:cubicBezTo>
                <a:cubicBezTo>
                  <a:pt x="288" y="232"/>
                  <a:pt x="352" y="368"/>
                  <a:pt x="336" y="432"/>
                </a:cubicBezTo>
                <a:cubicBezTo>
                  <a:pt x="320" y="496"/>
                  <a:pt x="200" y="520"/>
                  <a:pt x="144" y="576"/>
                </a:cubicBezTo>
                <a:cubicBezTo>
                  <a:pt x="88" y="632"/>
                  <a:pt x="44" y="700"/>
                  <a:pt x="0" y="768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4343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93640" y="5056200"/>
            <a:ext cx="337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friction, high accessibil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rate friction, moderate accessibil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vy friction, low accessibil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20867400">
            <a:off x="5781600" y="4101840"/>
            <a:ext cx="1295640" cy="152280"/>
          </a:xfrm>
          <a:prstGeom prst="rightArrow">
            <a:avLst>
              <a:gd name="adj1" fmla="val 50000"/>
              <a:gd name="adj2" fmla="val 212707"/>
            </a:avLst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rot="8949000">
            <a:off x="6666840" y="331416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rot="2134800">
            <a:off x="6095520" y="327636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rot="6379800">
            <a:off x="5411880" y="3637080"/>
            <a:ext cx="903600" cy="225720"/>
          </a:xfrm>
          <a:prstGeom prst="rightArrow">
            <a:avLst>
              <a:gd name="adj1" fmla="val 50000"/>
              <a:gd name="adj2" fmla="val 100080"/>
            </a:avLst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5120" y="51055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0600" y="5648400"/>
            <a:ext cx="3049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3160" y="5311800"/>
            <a:ext cx="228600" cy="228600"/>
          </a:xfrm>
          <a:prstGeom prst="pentagon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672160" y="4299120"/>
            <a:ext cx="76320" cy="759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53080" y="3559320"/>
            <a:ext cx="76320" cy="759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49760" y="3162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57520" y="4137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 rot="18005400">
            <a:off x="6029280" y="3809520"/>
            <a:ext cx="677880" cy="380520"/>
          </a:xfrm>
          <a:prstGeom prst="rightArrow">
            <a:avLst>
              <a:gd name="adj1" fmla="val 50000"/>
              <a:gd name="adj2" fmla="val 44536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650400">
            <a:off x="5781240" y="416880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Weighting: Proximity to featur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1371600"/>
            <a:ext cx="75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99ff"/>
                </a:solidFill>
                <a:latin typeface="Arial"/>
              </a:rPr>
              <a:t>Geometrical properties are weighted by the relative friction of accessibility to featur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44400" y="15998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6699ff"/>
                </a:solidFill>
                <a:latin typeface="Arial"/>
              </a:rPr>
              <a:t>Proposed indices of pattern and neighborhood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dices and statistics of weightedspatial pattern and neighborhood are presented according to the type of spatial features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27108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27108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27108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533520" y="9140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Arial"/>
              </a:rPr>
              <a:t>Description of spatial pattern and neighborhood</a:t>
            </a:r>
            <a:endParaRPr b="1" lang="en-US" sz="25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065240" y="2263680"/>
          <a:ext cx="7164360" cy="145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2263680"/>
                    <a:ext cx="7164360" cy="14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yintM</cp:lastModifiedBy>
  <cp:lastPrinted>2003-05-23T13:29:34Z</cp:lastPrinted>
  <dcterms:modified xsi:type="dcterms:W3CDTF">2003-11-12T12:33:50Z</dcterms:modified>
  <cp:revision>565</cp:revision>
  <dc:subject/>
  <dc:title>Leçon 2: Variables spatiales discrètes  Unité 1: Introduction</dc:title>
</cp:coreProperties>
</file>