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wmf" ContentType="image/x-wmf"/>
  <Override PartName="/ppt/media/image10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8.png" ContentType="image/png"/>
  <Override PartName="/ppt/media/image12.wmf" ContentType="image/x-wmf"/>
  <Override PartName="/ppt/media/image13.png" ContentType="image/png"/>
  <Override PartName="/ppt/media/image9.wmf" ContentType="image/x-wmf"/>
  <Override PartName="/ppt/media/image1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732588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44400" y="11426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44400" y="1980720"/>
            <a:ext cx="784872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44400" y="4010760"/>
            <a:ext cx="784872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44400" y="11426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44400" y="1980720"/>
            <a:ext cx="383004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6320" y="1980720"/>
            <a:ext cx="383004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4400" y="4010760"/>
            <a:ext cx="383004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6320" y="4010760"/>
            <a:ext cx="383004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44400" y="11426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44400" y="1980720"/>
            <a:ext cx="252720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98320" y="1980720"/>
            <a:ext cx="252720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52240" y="1980720"/>
            <a:ext cx="252720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44400" y="4010760"/>
            <a:ext cx="252720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98320" y="4010760"/>
            <a:ext cx="252720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52240" y="4010760"/>
            <a:ext cx="252720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44400" y="11426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44400" y="1980720"/>
            <a:ext cx="7848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44400" y="11426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44400" y="1980720"/>
            <a:ext cx="784872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44400" y="11426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44400" y="1980720"/>
            <a:ext cx="383004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6320" y="1980720"/>
            <a:ext cx="383004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44400" y="11426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44400" y="1142640"/>
            <a:ext cx="78487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44400" y="11426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44400" y="1980720"/>
            <a:ext cx="383004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6320" y="1980720"/>
            <a:ext cx="383004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44400" y="4010760"/>
            <a:ext cx="383004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44400" y="11426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44400" y="1980720"/>
            <a:ext cx="7848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44400" y="11426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44400" y="1980720"/>
            <a:ext cx="383004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6320" y="1980720"/>
            <a:ext cx="383004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66320" y="4010760"/>
            <a:ext cx="383004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44400" y="11426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44400" y="1980720"/>
            <a:ext cx="383004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6320" y="1980720"/>
            <a:ext cx="383004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44400" y="4010760"/>
            <a:ext cx="784872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44400" y="11426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44400" y="1980720"/>
            <a:ext cx="784872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44400" y="4010760"/>
            <a:ext cx="784872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44400" y="11426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44400" y="1980720"/>
            <a:ext cx="383004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6320" y="1980720"/>
            <a:ext cx="383004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44400" y="4010760"/>
            <a:ext cx="383004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66320" y="4010760"/>
            <a:ext cx="383004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44400" y="11426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44400" y="1980720"/>
            <a:ext cx="252720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98320" y="1980720"/>
            <a:ext cx="252720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952240" y="1980720"/>
            <a:ext cx="252720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44400" y="4010760"/>
            <a:ext cx="252720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98320" y="4010760"/>
            <a:ext cx="252720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952240" y="4010760"/>
            <a:ext cx="252720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44400" y="11426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44400" y="1980720"/>
            <a:ext cx="784872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44400" y="11426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44400" y="1980720"/>
            <a:ext cx="383004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6320" y="1980720"/>
            <a:ext cx="383004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44400" y="11426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44400" y="1142640"/>
            <a:ext cx="78487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44400" y="11426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44400" y="1980720"/>
            <a:ext cx="383004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6320" y="1980720"/>
            <a:ext cx="383004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44400" y="4010760"/>
            <a:ext cx="383004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44400" y="11426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44400" y="1980720"/>
            <a:ext cx="383004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6320" y="1980720"/>
            <a:ext cx="383004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6320" y="4010760"/>
            <a:ext cx="383004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44400" y="11426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44400" y="1980720"/>
            <a:ext cx="383004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6320" y="1980720"/>
            <a:ext cx="383004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44400" y="4010760"/>
            <a:ext cx="784872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44400" y="11426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44400" y="1980720"/>
            <a:ext cx="784872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151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5480">
              <a:spcBef>
                <a:spcPts val="1151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316160" indent="-228600">
              <a:spcBef>
                <a:spcPts val="1151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825560" indent="-228600">
              <a:spcBef>
                <a:spcPts val="1151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92480" indent="-228600">
              <a:spcBef>
                <a:spcPts val="1151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5" marL="2292480" indent="-228600">
              <a:spcBef>
                <a:spcPts val="11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6" marL="2292480" indent="-228600">
              <a:spcBef>
                <a:spcPts val="11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17680" y="6384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610480" y="640080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BD28B-09BA-4C61-A55B-44024CB965E3}" type="slidenum">
              <a:rPr b="0" lang="de-CH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309760" y="6172200"/>
            <a:ext cx="1455840" cy="326880"/>
          </a:xfrm>
          <a:prstGeom prst="rect">
            <a:avLst/>
          </a:prstGeom>
          <a:solidFill>
            <a:srgbClr val="e1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6261120"/>
            <a:ext cx="1557360" cy="590400"/>
          </a:xfrm>
          <a:prstGeom prst="rect">
            <a:avLst/>
          </a:prstGeom>
          <a:solidFill>
            <a:srgbClr val="d9f2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rcRect l="0" t="0" r="0" b="10652"/>
          <a:stretch/>
        </p:blipFill>
        <p:spPr>
          <a:xfrm>
            <a:off x="7696080" y="5607000"/>
            <a:ext cx="1143000" cy="122544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4801680" y="615960"/>
            <a:ext cx="3735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4d4d4d"/>
                </a:solidFill>
                <a:latin typeface="Verdana"/>
              </a:rPr>
              <a:t>G</a:t>
            </a:r>
            <a:r>
              <a:rPr b="0" lang="en-US" sz="1100" spc="-1" strike="noStrike">
                <a:solidFill>
                  <a:srgbClr val="4d4d4d"/>
                </a:solidFill>
                <a:latin typeface="Verdana"/>
              </a:rPr>
              <a:t>eographic </a:t>
            </a:r>
            <a:r>
              <a:rPr b="1" lang="en-US" sz="1100" spc="-1" strike="noStrike">
                <a:solidFill>
                  <a:srgbClr val="4d4d4d"/>
                </a:solidFill>
                <a:latin typeface="Verdana"/>
              </a:rPr>
              <a:t>I</a:t>
            </a:r>
            <a:r>
              <a:rPr b="0" lang="en-US" sz="1100" spc="-1" strike="noStrike">
                <a:solidFill>
                  <a:srgbClr val="4d4d4d"/>
                </a:solidFill>
                <a:latin typeface="Verdana"/>
              </a:rPr>
              <a:t>nformation </a:t>
            </a:r>
            <a:r>
              <a:rPr b="1" lang="en-US" sz="1100" spc="-1" strike="noStrike">
                <a:solidFill>
                  <a:srgbClr val="4d4d4d"/>
                </a:solidFill>
                <a:latin typeface="Verdana"/>
              </a:rPr>
              <a:t>T</a:t>
            </a:r>
            <a:r>
              <a:rPr b="0" lang="en-US" sz="1100" spc="-1" strike="noStrike">
                <a:solidFill>
                  <a:srgbClr val="4d4d4d"/>
                </a:solidFill>
                <a:latin typeface="Verdana"/>
              </a:rPr>
              <a:t>echnology </a:t>
            </a:r>
            <a:r>
              <a:rPr b="1" lang="en-US" sz="1100" spc="-1" strike="noStrike">
                <a:solidFill>
                  <a:srgbClr val="4d4d4d"/>
                </a:solidFill>
                <a:latin typeface="Verdana"/>
              </a:rPr>
              <a:t>T</a:t>
            </a:r>
            <a:r>
              <a:rPr b="0" lang="en-US" sz="1100" spc="-1" strike="noStrike">
                <a:solidFill>
                  <a:srgbClr val="4d4d4d"/>
                </a:solidFill>
                <a:latin typeface="Verdana"/>
              </a:rPr>
              <a:t>raining </a:t>
            </a:r>
            <a:r>
              <a:rPr b="1" lang="en-US" sz="1100" spc="-1" strike="noStrike">
                <a:solidFill>
                  <a:srgbClr val="4d4d4d"/>
                </a:solidFill>
                <a:latin typeface="Verdana"/>
              </a:rPr>
              <a:t>A</a:t>
            </a:r>
            <a:r>
              <a:rPr b="0" lang="en-US" sz="1100" spc="-1" strike="noStrike">
                <a:solidFill>
                  <a:srgbClr val="4d4d4d"/>
                </a:solidFill>
                <a:latin typeface="Verdana"/>
              </a:rPr>
              <a:t>lliance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 flipH="1" flipV="1">
            <a:off x="2238480" y="836640"/>
            <a:ext cx="6324480" cy="1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81080" cy="1190520"/>
          </a:xfrm>
          <a:prstGeom prst="rect">
            <a:avLst/>
          </a:prstGeom>
          <a:ln w="0">
            <a:noFill/>
          </a:ln>
        </p:spPr>
      </p:pic>
      <p:pic>
        <p:nvPicPr>
          <p:cNvPr id="10" name="C_logo_bleu" descr=""/>
          <p:cNvPicPr/>
          <p:nvPr/>
        </p:nvPicPr>
        <p:blipFill>
          <a:blip r:embed="rId4"/>
          <a:stretch/>
        </p:blipFill>
        <p:spPr>
          <a:xfrm>
            <a:off x="65160" y="6172200"/>
            <a:ext cx="620640" cy="620640"/>
          </a:xfrm>
          <a:prstGeom prst="rect">
            <a:avLst/>
          </a:prstGeom>
          <a:ln w="0">
            <a:noFill/>
          </a:ln>
        </p:spPr>
      </p:pic>
      <p:sp>
        <p:nvSpPr>
          <p:cNvPr id="11" name=""/>
          <p:cNvSpPr/>
          <p:nvPr/>
        </p:nvSpPr>
        <p:spPr>
          <a:xfrm>
            <a:off x="762120" y="6248520"/>
            <a:ext cx="152388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4d4d4d"/>
                </a:solidFill>
                <a:latin typeface="Arial"/>
              </a:rPr>
              <a:t>B-AN / L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4d4d4d"/>
                </a:solidFill>
                <a:latin typeface="Arial"/>
              </a:rPr>
              <a:t>Discrete spatial variable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2252520" y="6095880"/>
            <a:ext cx="1557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d4d4d"/>
                </a:solidFill>
                <a:latin typeface="Arial"/>
              </a:rPr>
              <a:t>U3: Weighted spatial patter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5181480" y="6248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Arial"/>
              </a:rPr>
              <a:t>June 14 200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2209320"/>
            <a:ext cx="1752480" cy="2210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17680" y="6384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057560" cy="24382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2185920" y="4987800"/>
            <a:ext cx="3757680" cy="594000"/>
          </a:xfrm>
          <a:prstGeom prst="rect">
            <a:avLst/>
          </a:prstGeom>
          <a:solidFill>
            <a:srgbClr val="e1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53920" y="1162080"/>
            <a:ext cx="40669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4d4d4d"/>
                </a:solidFill>
                <a:latin typeface="Arial"/>
              </a:rPr>
              <a:t>G</a:t>
            </a:r>
            <a:r>
              <a:rPr b="0" lang="en-US" sz="1300" spc="-1" strike="noStrike">
                <a:solidFill>
                  <a:srgbClr val="4d4d4d"/>
                </a:solidFill>
                <a:latin typeface="Arial"/>
              </a:rPr>
              <a:t>eographic </a:t>
            </a:r>
            <a:r>
              <a:rPr b="1" lang="en-US" sz="1300" spc="-1" strike="noStrike">
                <a:solidFill>
                  <a:srgbClr val="4d4d4d"/>
                </a:solidFill>
                <a:latin typeface="Arial"/>
              </a:rPr>
              <a:t>I</a:t>
            </a:r>
            <a:r>
              <a:rPr b="0" lang="en-US" sz="1300" spc="-1" strike="noStrike">
                <a:solidFill>
                  <a:srgbClr val="4d4d4d"/>
                </a:solidFill>
                <a:latin typeface="Arial"/>
              </a:rPr>
              <a:t>nformation </a:t>
            </a:r>
            <a:r>
              <a:rPr b="1" lang="en-US" sz="1300" spc="-1" strike="noStrike">
                <a:solidFill>
                  <a:srgbClr val="4d4d4d"/>
                </a:solidFill>
                <a:latin typeface="Arial"/>
              </a:rPr>
              <a:t>T</a:t>
            </a:r>
            <a:r>
              <a:rPr b="0" lang="en-US" sz="1300" spc="-1" strike="noStrike">
                <a:solidFill>
                  <a:srgbClr val="4d4d4d"/>
                </a:solidFill>
                <a:latin typeface="Arial"/>
              </a:rPr>
              <a:t>echnology </a:t>
            </a:r>
            <a:r>
              <a:rPr b="1" lang="en-US" sz="1300" spc="-1" strike="noStrike">
                <a:solidFill>
                  <a:srgbClr val="4d4d4d"/>
                </a:solidFill>
                <a:latin typeface="Arial"/>
              </a:rPr>
              <a:t>T</a:t>
            </a:r>
            <a:r>
              <a:rPr b="0" lang="en-US" sz="1300" spc="-1" strike="noStrike">
                <a:solidFill>
                  <a:srgbClr val="4d4d4d"/>
                </a:solidFill>
                <a:latin typeface="Arial"/>
              </a:rPr>
              <a:t>raining </a:t>
            </a:r>
            <a:r>
              <a:rPr b="1" lang="en-US" sz="1300" spc="-1" strike="noStrike">
                <a:solidFill>
                  <a:srgbClr val="4d4d4d"/>
                </a:solidFill>
                <a:latin typeface="Arial"/>
              </a:rPr>
              <a:t>A</a:t>
            </a:r>
            <a:r>
              <a:rPr b="0" lang="en-US" sz="1300" spc="-1" strike="noStrike">
                <a:solidFill>
                  <a:srgbClr val="4d4d4d"/>
                </a:solidFill>
                <a:latin typeface="Arial"/>
              </a:rPr>
              <a:t>lliance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3962520" y="1420920"/>
            <a:ext cx="4556160" cy="1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168640" y="2514600"/>
            <a:ext cx="0" cy="20574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3"/>
          <a:srcRect l="0" t="0" r="0" b="10652"/>
          <a:stretch/>
        </p:blipFill>
        <p:spPr>
          <a:xfrm>
            <a:off x="7696080" y="5607000"/>
            <a:ext cx="1143000" cy="1225440"/>
          </a:xfrm>
          <a:prstGeom prst="rect">
            <a:avLst/>
          </a:prstGeom>
          <a:ln w="0">
            <a:noFill/>
          </a:ln>
        </p:spPr>
      </p:pic>
      <p:pic>
        <p:nvPicPr>
          <p:cNvPr id="58" name="C_logo_bleu" descr=""/>
          <p:cNvPicPr/>
          <p:nvPr/>
        </p:nvPicPr>
        <p:blipFill>
          <a:blip r:embed="rId4"/>
          <a:stretch/>
        </p:blipFill>
        <p:spPr>
          <a:xfrm>
            <a:off x="762120" y="5334120"/>
            <a:ext cx="1447560" cy="144756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3417120" y="5929200"/>
            <a:ext cx="32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Humanst521 Bd BT"/>
              </a:rPr>
              <a:t>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975040" y="5987880"/>
            <a:ext cx="410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partment of Geosciences - Geograph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786040" y="5105520"/>
            <a:ext cx="24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-AN   Lesson 2 / Unit 4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44400" y="11426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Arial"/>
              </a:rPr>
              <a:t>Content of Lesson 2</a:t>
            </a: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68440" y="1981080"/>
            <a:ext cx="811836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520560" indent="-520560">
              <a:lnSpc>
                <a:spcPct val="100000"/>
              </a:lnSpc>
              <a:spcBef>
                <a:spcPts val="1151"/>
              </a:spcBef>
              <a:tabLst>
                <a:tab algn="l" pos="0"/>
                <a:tab algn="l" pos="133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cc00"/>
                </a:solidFill>
                <a:latin typeface="Arial"/>
              </a:rPr>
              <a:t>Unit 1: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300" spc="-1" strike="noStrike">
                <a:solidFill>
                  <a:srgbClr val="4d4d4d"/>
                </a:solidFill>
                <a:latin typeface="Arial"/>
              </a:rPr>
              <a:t>Introduction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marL="520560" indent="-520560">
              <a:lnSpc>
                <a:spcPct val="100000"/>
              </a:lnSpc>
              <a:spcBef>
                <a:spcPts val="1151"/>
              </a:spcBef>
              <a:tabLst>
                <a:tab algn="l" pos="0"/>
                <a:tab algn="l" pos="133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cc00"/>
                </a:solidFill>
                <a:latin typeface="Arial"/>
              </a:rPr>
              <a:t>Unit 2: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300" spc="-1" strike="noStrike">
                <a:solidFill>
                  <a:srgbClr val="4d4d4d"/>
                </a:solidFill>
                <a:latin typeface="Arial"/>
              </a:rPr>
              <a:t>Individual spatial properties of features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marL="520560" indent="-520560">
              <a:lnSpc>
                <a:spcPct val="100000"/>
              </a:lnSpc>
              <a:spcBef>
                <a:spcPts val="1151"/>
              </a:spcBef>
              <a:tabLst>
                <a:tab algn="l" pos="0"/>
                <a:tab algn="l" pos="133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cc00"/>
                </a:solidFill>
                <a:latin typeface="Arial"/>
              </a:rPr>
              <a:t>Unit 3: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300" spc="-1" strike="noStrike">
                <a:solidFill>
                  <a:srgbClr val="4d4d4d"/>
                </a:solidFill>
                <a:latin typeface="Arial"/>
              </a:rPr>
              <a:t>Spatial pattern and neighborhood of features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marL="520560" indent="-520560">
              <a:lnSpc>
                <a:spcPct val="100000"/>
              </a:lnSpc>
              <a:spcBef>
                <a:spcPts val="1151"/>
              </a:spcBef>
              <a:tabLst>
                <a:tab algn="l" pos="0"/>
                <a:tab algn="l" pos="133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cc00"/>
                </a:solidFill>
                <a:latin typeface="Arial"/>
              </a:rPr>
              <a:t>Unit 4: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Weighted spatial pattern and neighborhood 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marL="520560" indent="-520560">
              <a:lnSpc>
                <a:spcPct val="100000"/>
              </a:lnSpc>
              <a:spcBef>
                <a:spcPts val="1151"/>
              </a:spcBef>
              <a:tabLst>
                <a:tab algn="l" pos="0"/>
                <a:tab algn="l" pos="133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cc00"/>
                </a:solidFill>
                <a:latin typeface="Arial"/>
              </a:rPr>
              <a:t>Unit 5: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300" spc="-1" strike="noStrike">
                <a:solidFill>
                  <a:srgbClr val="4d4d4d"/>
                </a:solidFill>
                <a:latin typeface="Arial"/>
              </a:rPr>
              <a:t>Regionalization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marL="520560" indent="-520560">
              <a:lnSpc>
                <a:spcPct val="100000"/>
              </a:lnSpc>
              <a:spcBef>
                <a:spcPts val="1151"/>
              </a:spcBef>
              <a:tabLst>
                <a:tab algn="l" pos="0"/>
                <a:tab algn="l" pos="133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cc00"/>
                </a:solidFill>
                <a:latin typeface="Arial"/>
              </a:rPr>
              <a:t>Unit </a:t>
            </a:r>
            <a:r>
              <a:rPr b="1" lang="de-CH" sz="2300" spc="-1" strike="noStrike">
                <a:solidFill>
                  <a:srgbClr val="ffcc00"/>
                </a:solidFill>
                <a:latin typeface="Arial"/>
              </a:rPr>
              <a:t>6</a:t>
            </a:r>
            <a:r>
              <a:rPr b="1" lang="en-US" sz="2300" spc="-1" strike="noStrike">
                <a:solidFill>
                  <a:srgbClr val="ffcc00"/>
                </a:solidFill>
                <a:latin typeface="Arial"/>
              </a:rPr>
              <a:t>: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300" spc="-1" strike="noStrike">
                <a:solidFill>
                  <a:srgbClr val="4d4d4d"/>
                </a:solidFill>
                <a:latin typeface="Arial"/>
              </a:rPr>
              <a:t>Transformation of spatial features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marL="520560" indent="-520560">
              <a:lnSpc>
                <a:spcPct val="100000"/>
              </a:lnSpc>
              <a:spcBef>
                <a:spcPts val="1151"/>
              </a:spcBef>
              <a:tabLst>
                <a:tab algn="l" pos="0"/>
                <a:tab algn="l" pos="133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marL="520560" indent="-520560">
              <a:lnSpc>
                <a:spcPct val="100000"/>
              </a:lnSpc>
              <a:spcBef>
                <a:spcPts val="1151"/>
              </a:spcBef>
              <a:tabLst>
                <a:tab algn="l" pos="0"/>
                <a:tab algn="l" pos="133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3" name=""/>
          <p:cNvGrpSpPr/>
          <p:nvPr/>
        </p:nvGrpSpPr>
        <p:grpSpPr>
          <a:xfrm>
            <a:off x="428760" y="1630440"/>
            <a:ext cx="1162080" cy="1341360"/>
            <a:chOff x="428760" y="1630440"/>
            <a:chExt cx="1162080" cy="1341360"/>
          </a:xfrm>
        </p:grpSpPr>
        <p:sp>
          <p:nvSpPr>
            <p:cNvPr id="184" name=""/>
            <p:cNvSpPr/>
            <p:nvPr/>
          </p:nvSpPr>
          <p:spPr>
            <a:xfrm rot="5400000">
              <a:off x="338760" y="1720080"/>
              <a:ext cx="1341360" cy="1162080"/>
            </a:xfrm>
            <a:prstGeom prst="triangle">
              <a:avLst>
                <a:gd name="adj" fmla="val 50000"/>
              </a:avLst>
            </a:prstGeom>
            <a:solidFill>
              <a:srgbClr val="800000"/>
            </a:solidFill>
            <a:ln w="0">
              <a:noFill/>
            </a:ln>
            <a:effectLst>
              <a:outerShdw dist="17819" dir="2700000" blurRad="0" rotWithShape="0">
                <a:srgbClr val="0000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2600" y="1905120"/>
              <a:ext cx="5007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CH" sz="4400" spc="-1" strike="noStrike">
                  <a:solidFill>
                    <a:srgbClr val="ffffff"/>
                  </a:solidFill>
                  <a:latin typeface="Verdana"/>
                </a:rPr>
                <a:t>2</a:t>
              </a:r>
              <a:endParaRPr b="0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135160" y="2016000"/>
            <a:ext cx="6399360" cy="1793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800000"/>
                </a:solidFill>
                <a:latin typeface="Arial"/>
              </a:rPr>
              <a:t>Weighted spatial pattern and neighborhood of point features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44400" y="9140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800000"/>
                </a:solidFill>
                <a:latin typeface="Arial"/>
              </a:rPr>
              <a:t>Point features: Weighted pattern and neighborhood</a:t>
            </a:r>
            <a:endParaRPr b="1" lang="en-US" sz="23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076960" cy="419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699ff"/>
                </a:solidFill>
                <a:latin typeface="Arial"/>
              </a:rPr>
              <a:t>Different indicators for the spatial distribution and relationships of point featur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tial distribution description: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5480">
              <a:spcBef>
                <a:spcPts val="49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istical indices of location: central tendenc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5480">
              <a:spcBef>
                <a:spcPts val="49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istical indices of dispersion: vari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eighborhood relationships description: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5480">
              <a:spcBef>
                <a:spcPts val="49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ighted distance to feat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5480">
              <a:spcBef>
                <a:spcPts val="524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eas of largest weighted proximity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644400" y="1752480"/>
            <a:ext cx="3927600" cy="4114800"/>
          </a:xfrm>
          <a:prstGeom prst="rect">
            <a:avLst/>
          </a:prstGeom>
          <a:noFill/>
          <a:ln w="12600">
            <a:solidFill>
              <a:srgbClr val="333333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291960"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cc0066"/>
                </a:solidFill>
                <a:latin typeface="Arial"/>
              </a:rPr>
              <a:t>Location and weight of 8 points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723920" y="1752480"/>
            <a:ext cx="3768840" cy="4114800"/>
          </a:xfrm>
          <a:prstGeom prst="rect">
            <a:avLst/>
          </a:prstGeom>
          <a:noFill/>
          <a:ln w="12600">
            <a:solidFill>
              <a:srgbClr val="333333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cc0066"/>
                </a:solidFill>
                <a:latin typeface="Arial"/>
              </a:rPr>
              <a:t>Spatial distribution of the 8 points with their respective weigh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67520" y="2438280"/>
            <a:ext cx="38214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 u="sng">
                <a:solidFill>
                  <a:srgbClr val="000000"/>
                </a:solidFill>
                <a:uFillTx/>
                <a:latin typeface="Arial"/>
              </a:rPr>
              <a:t>Point</a:t>
            </a:r>
            <a:r>
              <a:rPr b="1" lang="fr-FR" sz="16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fr-FR" sz="1600" spc="-1" strike="noStrike" u="sng">
                <a:solidFill>
                  <a:srgbClr val="000000"/>
                </a:solidFill>
                <a:uFillTx/>
                <a:latin typeface="Arial"/>
              </a:rPr>
              <a:t>X(m)</a:t>
            </a:r>
            <a:r>
              <a:rPr b="1" lang="fr-FR" sz="16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fr-FR" sz="1600" spc="-1" strike="noStrike" u="sng">
                <a:solidFill>
                  <a:srgbClr val="000000"/>
                </a:solidFill>
                <a:uFillTx/>
                <a:latin typeface="Arial"/>
              </a:rPr>
              <a:t>Y(m)</a:t>
            </a:r>
            <a:r>
              <a:rPr b="1" lang="fr-FR" sz="16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Z(weight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2.0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3.0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    4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3.0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1.0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    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6.0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2.0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    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5.0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3.0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    4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4.0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5.0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    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7.0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4.0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    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7.0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6.0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    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9.0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9.0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    4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824440" y="3887640"/>
            <a:ext cx="184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161040" y="464328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885000" y="441468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399360" y="3728880"/>
            <a:ext cx="7596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118280" y="395748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118280" y="350028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534440" y="2744640"/>
            <a:ext cx="166680" cy="166680"/>
          </a:xfrm>
          <a:prstGeom prst="ellipse">
            <a:avLst/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129360" y="4397400"/>
            <a:ext cx="183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885000" y="4495680"/>
            <a:ext cx="22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594480" y="3875040"/>
            <a:ext cx="22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294600" y="3508200"/>
            <a:ext cx="22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7209000" y="3919680"/>
            <a:ext cx="22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7056360" y="3243240"/>
            <a:ext cx="22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615080" y="2881440"/>
            <a:ext cx="22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5320080" y="2516040"/>
            <a:ext cx="2618280" cy="2665080"/>
            <a:chOff x="5320080" y="2516040"/>
            <a:chExt cx="2618280" cy="2665080"/>
          </a:xfrm>
        </p:grpSpPr>
        <p:sp>
          <p:nvSpPr>
            <p:cNvPr id="207" name=""/>
            <p:cNvSpPr/>
            <p:nvPr/>
          </p:nvSpPr>
          <p:spPr>
            <a:xfrm flipV="1">
              <a:off x="5478480" y="2584080"/>
              <a:ext cx="1440" cy="235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 flipH="1">
              <a:off x="5443200" y="4939920"/>
              <a:ext cx="349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5460480" y="4821120"/>
              <a:ext cx="17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371920" y="48700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 flipH="1">
              <a:off x="5443200" y="4703400"/>
              <a:ext cx="349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flipH="1">
              <a:off x="5460480" y="4586040"/>
              <a:ext cx="17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371920" y="46353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 flipH="1">
              <a:off x="5443200" y="4468680"/>
              <a:ext cx="34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 flipH="1">
              <a:off x="5460480" y="4350960"/>
              <a:ext cx="176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371920" y="44002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 flipH="1">
              <a:off x="5443200" y="4233600"/>
              <a:ext cx="34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 flipH="1">
              <a:off x="5460480" y="4114440"/>
              <a:ext cx="176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371920" y="41637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H="1">
              <a:off x="5443200" y="3997080"/>
              <a:ext cx="34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H="1">
              <a:off x="5460480" y="3879720"/>
              <a:ext cx="17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371920" y="39286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>
              <a:off x="5443200" y="3762000"/>
              <a:ext cx="349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H="1">
              <a:off x="5460480" y="3644640"/>
              <a:ext cx="17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371920" y="36939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 flipH="1">
              <a:off x="5443200" y="3527280"/>
              <a:ext cx="34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flipH="1">
              <a:off x="5460480" y="3408120"/>
              <a:ext cx="17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371920" y="34574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 flipH="1">
              <a:off x="5443200" y="3290760"/>
              <a:ext cx="34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flipH="1">
              <a:off x="5460480" y="3173040"/>
              <a:ext cx="176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371920" y="32223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 flipH="1">
              <a:off x="5443200" y="3055680"/>
              <a:ext cx="34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H="1">
              <a:off x="5460480" y="2938320"/>
              <a:ext cx="17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371920" y="29872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H="1">
              <a:off x="5443200" y="2820600"/>
              <a:ext cx="349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 flipH="1">
              <a:off x="5460480" y="2701800"/>
              <a:ext cx="17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5371920" y="27507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 flipH="1">
              <a:off x="5443200" y="2579400"/>
              <a:ext cx="34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320080" y="2516040"/>
              <a:ext cx="113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5724360" y="4939920"/>
              <a:ext cx="21481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478480" y="4939920"/>
              <a:ext cx="144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850000" y="4939920"/>
              <a:ext cx="144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700600" y="50576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5967360" y="4939920"/>
              <a:ext cx="180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091200" y="4939920"/>
              <a:ext cx="144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943600" y="50576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324480" y="4939920"/>
              <a:ext cx="180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6176880" y="50576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440400" y="4939920"/>
              <a:ext cx="180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566040" y="4939920"/>
              <a:ext cx="144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416640" y="50576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6681600" y="4939920"/>
              <a:ext cx="180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6807240" y="4939920"/>
              <a:ext cx="144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659640" y="50576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915240" y="4939920"/>
              <a:ext cx="144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7040520" y="4939920"/>
              <a:ext cx="144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891480" y="50576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7281720" y="4939920"/>
              <a:ext cx="180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134120" y="50576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7397640" y="4939920"/>
              <a:ext cx="180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523280" y="4939920"/>
              <a:ext cx="144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375680" y="50576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7630920" y="4939920"/>
              <a:ext cx="180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754760" y="4939920"/>
              <a:ext cx="180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607160" y="50576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7872480" y="4939920"/>
              <a:ext cx="144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7824960" y="5057640"/>
              <a:ext cx="113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479920" y="2579400"/>
              <a:ext cx="23925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>
              <a:off x="7872480" y="2584080"/>
              <a:ext cx="1440" cy="235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479920" y="4939920"/>
              <a:ext cx="23925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>
              <a:off x="5478480" y="2584080"/>
              <a:ext cx="1440" cy="235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605560" y="4941720"/>
              <a:ext cx="144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457960" y="50590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722920" y="4941720"/>
              <a:ext cx="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205680" y="4939920"/>
              <a:ext cx="144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7148520" y="4939920"/>
              <a:ext cx="144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7" name=""/>
          <p:cNvSpPr/>
          <p:nvPr/>
        </p:nvSpPr>
        <p:spPr>
          <a:xfrm>
            <a:off x="6600960" y="4125960"/>
            <a:ext cx="166680" cy="166680"/>
          </a:xfrm>
          <a:prstGeom prst="ellipse">
            <a:avLst/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867280" y="4135320"/>
            <a:ext cx="166680" cy="166680"/>
          </a:xfrm>
          <a:prstGeom prst="ellipse">
            <a:avLst/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85800" y="4876920"/>
            <a:ext cx="38098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143000"/>
                <a:tab algn="l" pos="2286000"/>
                <a:tab algn="l" pos="2641680"/>
                <a:tab algn="l" pos="3301920"/>
                <a:tab algn="l" pos="3962520"/>
                <a:tab algn="l" pos="4622760"/>
                <a:tab algn="l" pos="5283360"/>
                <a:tab algn="l" pos="5943600"/>
                <a:tab algn="l" pos="6603840"/>
                <a:tab algn="l" pos="7264440"/>
                <a:tab algn="l" pos="7924680"/>
                <a:tab algn="l" pos="8585280"/>
                <a:tab algn="l" pos="9245520"/>
                <a:tab algn="l" pos="9906120"/>
                <a:tab algn="l" pos="10566360"/>
              </a:tabLst>
            </a:pPr>
            <a:r>
              <a:rPr b="1" i="1" lang="en-US" sz="1400" spc="-1" strike="noStrike">
                <a:solidFill>
                  <a:srgbClr val="6699ff"/>
                </a:solidFill>
                <a:latin typeface="Arial"/>
              </a:rPr>
              <a:t>Thematic properties of points are heterogeneous. They are considered as relative weights for the computation of spatio-thematic indic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029200" y="5616720"/>
            <a:ext cx="76320" cy="75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934320" y="5584680"/>
            <a:ext cx="166680" cy="166680"/>
          </a:xfrm>
          <a:prstGeom prst="ellipse">
            <a:avLst/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81480" y="55166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43000"/>
                <a:tab algn="l" pos="2286000"/>
                <a:tab algn="l" pos="2641680"/>
                <a:tab algn="l" pos="3301920"/>
                <a:tab algn="l" pos="3962520"/>
                <a:tab algn="l" pos="4622760"/>
                <a:tab algn="l" pos="5283360"/>
                <a:tab algn="l" pos="5943600"/>
                <a:tab algn="l" pos="6603840"/>
                <a:tab algn="l" pos="7264440"/>
                <a:tab algn="l" pos="7924680"/>
                <a:tab algn="l" pos="8585280"/>
                <a:tab algn="l" pos="9245520"/>
                <a:tab algn="l" pos="9906120"/>
                <a:tab algn="l" pos="105663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eight = 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7238880" y="55166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43000"/>
                <a:tab algn="l" pos="2286000"/>
                <a:tab algn="l" pos="2641680"/>
                <a:tab algn="l" pos="3301920"/>
                <a:tab algn="l" pos="3962520"/>
                <a:tab algn="l" pos="4622760"/>
                <a:tab algn="l" pos="5283360"/>
                <a:tab algn="l" pos="5943600"/>
                <a:tab algn="l" pos="6603840"/>
                <a:tab algn="l" pos="7264440"/>
                <a:tab algn="l" pos="7924680"/>
                <a:tab algn="l" pos="8585280"/>
                <a:tab algn="l" pos="9245520"/>
                <a:tab algn="l" pos="9906120"/>
                <a:tab algn="l" pos="105663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eight = 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 type="title"/>
          </p:nvPr>
        </p:nvSpPr>
        <p:spPr>
          <a:xfrm>
            <a:off x="644400" y="9903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Arial"/>
              </a:rPr>
              <a:t>Point features : Example of a distribution</a:t>
            </a: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5127480" y="5135400"/>
            <a:ext cx="310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143000"/>
                <a:tab algn="l" pos="2286000"/>
                <a:tab algn="l" pos="2641680"/>
                <a:tab algn="l" pos="3301920"/>
                <a:tab algn="l" pos="3962520"/>
                <a:tab algn="l" pos="4622760"/>
                <a:tab algn="l" pos="5283360"/>
                <a:tab algn="l" pos="5943600"/>
                <a:tab algn="l" pos="6603840"/>
                <a:tab algn="l" pos="7264440"/>
                <a:tab algn="l" pos="7924680"/>
                <a:tab algn="l" pos="8585280"/>
                <a:tab algn="l" pos="9245520"/>
                <a:tab algn="l" pos="9906120"/>
                <a:tab algn="l" pos="105663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ordinate X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H="1" rot="16200000">
            <a:off x="4555440" y="3476520"/>
            <a:ext cx="113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ordinate 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/>
          </p:nvPr>
        </p:nvSpPr>
        <p:spPr>
          <a:xfrm>
            <a:off x="533520" y="1600200"/>
            <a:ext cx="8076960" cy="419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6699ff"/>
                </a:solidFill>
                <a:latin typeface="Arial"/>
              </a:rPr>
              <a:t>Based on the weighted mean of X and Y coordinates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ean center </a:t>
            </a:r>
            <a:r>
              <a:rPr b="1" lang="en-US" sz="2200" spc="-1" strike="noStrike">
                <a:solidFill>
                  <a:srgbClr val="cc0066"/>
                </a:solidFill>
                <a:latin typeface="Arial"/>
              </a:rPr>
              <a:t>MC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(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,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) or ( x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mean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, y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mean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) :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49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is the </a:t>
            </a:r>
            <a:r>
              <a:rPr b="0" lang="en-US" sz="2000" spc="-1" strike="noStrike">
                <a:solidFill>
                  <a:srgbClr val="cc0066"/>
                </a:solidFill>
                <a:latin typeface="Arial"/>
              </a:rPr>
              <a:t>weighted center of gravit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r the </a:t>
            </a:r>
            <a:r>
              <a:rPr b="0" lang="en-US" sz="2000" spc="-1" strike="noStrike">
                <a:solidFill>
                  <a:srgbClr val="cc0066"/>
                </a:solidFill>
                <a:latin typeface="Arial"/>
              </a:rPr>
              <a:t>weighted barycent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or the point dis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767600" y="3809880"/>
            <a:ext cx="3831840" cy="3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1" lang="fr-FR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 = thematic value (weight) for point 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9" name=""/>
              <p:cNvSpPr txBox="1"/>
              <p:nvPr/>
            </p:nvSpPr>
            <p:spPr>
              <a:xfrm>
                <a:off x="3276720" y="1990800"/>
                <a:ext cx="23472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x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0" name=""/>
              <p:cNvSpPr txBox="1"/>
              <p:nvPr/>
            </p:nvSpPr>
            <p:spPr>
              <a:xfrm>
                <a:off x="3784680" y="1992240"/>
                <a:ext cx="234720" cy="5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y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1" name=""/>
              <p:cNvSpPr txBox="1"/>
              <p:nvPr/>
            </p:nvSpPr>
            <p:spPr>
              <a:xfrm>
                <a:off x="1685880" y="2666880"/>
                <a:ext cx="2244600" cy="92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w</m:t>
                            </m:r>
                          </m:sub>
                        </m:sSub>
                      </m:e>
                    </m:ba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/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2" name=""/>
              <p:cNvSpPr txBox="1"/>
              <p:nvPr/>
            </p:nvSpPr>
            <p:spPr>
              <a:xfrm>
                <a:off x="5343480" y="2666880"/>
                <a:ext cx="2244600" cy="92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w</m:t>
                            </m:r>
                          </m:sub>
                        </m:sSub>
                      </m:e>
                    </m:ba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/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93" name="PlaceHolder 2"/>
          <p:cNvSpPr>
            <a:spLocks noGrp="1"/>
          </p:cNvSpPr>
          <p:nvPr>
            <p:ph type="title"/>
          </p:nvPr>
        </p:nvSpPr>
        <p:spPr>
          <a:xfrm>
            <a:off x="644400" y="9903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Arial"/>
              </a:rPr>
              <a:t>Point features : Central tendency index</a:t>
            </a: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/>
          </p:nvPr>
        </p:nvSpPr>
        <p:spPr>
          <a:xfrm>
            <a:off x="644040" y="1752480"/>
            <a:ext cx="3775320" cy="4114800"/>
          </a:xfrm>
          <a:prstGeom prst="rect">
            <a:avLst/>
          </a:prstGeom>
          <a:noFill/>
          <a:ln w="12600">
            <a:solidFill>
              <a:srgbClr val="333333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29196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723920" y="1752480"/>
            <a:ext cx="3768840" cy="4114800"/>
          </a:xfrm>
          <a:prstGeom prst="rect">
            <a:avLst/>
          </a:prstGeom>
          <a:noFill/>
          <a:ln w="12600">
            <a:solidFill>
              <a:srgbClr val="333333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5867280" y="5091120"/>
            <a:ext cx="167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143000"/>
                <a:tab algn="l" pos="2286000"/>
                <a:tab algn="l" pos="2641680"/>
                <a:tab algn="l" pos="3301920"/>
                <a:tab algn="l" pos="3962520"/>
                <a:tab algn="l" pos="4622760"/>
                <a:tab algn="l" pos="5283360"/>
                <a:tab algn="l" pos="5943600"/>
                <a:tab algn="l" pos="6603840"/>
                <a:tab algn="l" pos="7264440"/>
                <a:tab algn="l" pos="7924680"/>
                <a:tab algn="l" pos="8585280"/>
                <a:tab algn="l" pos="9245520"/>
                <a:tab algn="l" pos="9906120"/>
                <a:tab algn="l" pos="1056636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Coordonnée X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 flipH="1" rot="16200000">
            <a:off x="4554360" y="3466440"/>
            <a:ext cx="122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Coordonnée 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486400" y="3618000"/>
            <a:ext cx="14158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 flipV="1">
            <a:off x="6902280" y="3618000"/>
            <a:ext cx="0" cy="1334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845400" y="3567240"/>
            <a:ext cx="108000" cy="10800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597720" y="4879800"/>
            <a:ext cx="56520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Xw</a:t>
            </a:r>
            <a:r>
              <a:rPr b="1" lang="fr-FR" sz="1000" spc="-1" strike="noStrike" baseline="-25000">
                <a:solidFill>
                  <a:srgbClr val="000000"/>
                </a:solidFill>
                <a:latin typeface="Arial"/>
              </a:rPr>
              <a:t>moy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 rot="16200000">
            <a:off x="5064840" y="3521160"/>
            <a:ext cx="60804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Yw</a:t>
            </a:r>
            <a:r>
              <a:rPr b="1" lang="fr-FR" sz="1000" spc="-1" strike="noStrike" baseline="-25000">
                <a:solidFill>
                  <a:srgbClr val="000000"/>
                </a:solidFill>
                <a:latin typeface="Arial"/>
              </a:rPr>
              <a:t>moy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952880" y="1828800"/>
            <a:ext cx="335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143000"/>
                <a:tab algn="l" pos="2286000"/>
                <a:tab algn="l" pos="2641680"/>
                <a:tab algn="l" pos="3301920"/>
                <a:tab algn="l" pos="3962520"/>
                <a:tab algn="l" pos="4622760"/>
                <a:tab algn="l" pos="5283360"/>
                <a:tab algn="l" pos="5943600"/>
                <a:tab algn="l" pos="6603840"/>
                <a:tab algn="l" pos="7264440"/>
                <a:tab algn="l" pos="7924680"/>
                <a:tab algn="l" pos="8585280"/>
                <a:tab algn="l" pos="9245520"/>
                <a:tab algn="l" pos="9906120"/>
                <a:tab algn="l" pos="10566360"/>
              </a:tabLst>
            </a:pPr>
            <a:r>
              <a:rPr b="1" lang="en-US" sz="1800" spc="-1" strike="noStrike">
                <a:solidFill>
                  <a:srgbClr val="cc0066"/>
                </a:solidFill>
                <a:latin typeface="Arial"/>
              </a:rPr>
              <a:t>Weighted mean cent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867280" y="3735360"/>
            <a:ext cx="184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299280" y="4413240"/>
            <a:ext cx="7596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7023240" y="4184640"/>
            <a:ext cx="7596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537240" y="349884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7256520" y="372744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7256520" y="327024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267600" y="4167360"/>
            <a:ext cx="183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7023240" y="4265640"/>
            <a:ext cx="22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6637320" y="3710160"/>
            <a:ext cx="22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432480" y="3278160"/>
            <a:ext cx="22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7346880" y="3689280"/>
            <a:ext cx="22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7194600" y="3013200"/>
            <a:ext cx="22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7753320" y="2651040"/>
            <a:ext cx="22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17" name=""/>
          <p:cNvGrpSpPr/>
          <p:nvPr/>
        </p:nvGrpSpPr>
        <p:grpSpPr>
          <a:xfrm>
            <a:off x="5458320" y="2286000"/>
            <a:ext cx="2618280" cy="2665080"/>
            <a:chOff x="5458320" y="2286000"/>
            <a:chExt cx="2618280" cy="2665080"/>
          </a:xfrm>
        </p:grpSpPr>
        <p:sp>
          <p:nvSpPr>
            <p:cNvPr id="318" name=""/>
            <p:cNvSpPr/>
            <p:nvPr/>
          </p:nvSpPr>
          <p:spPr>
            <a:xfrm flipV="1">
              <a:off x="5616720" y="2354040"/>
              <a:ext cx="1440" cy="235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flipH="1">
              <a:off x="5581440" y="4709880"/>
              <a:ext cx="349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H="1">
              <a:off x="5598720" y="4591080"/>
              <a:ext cx="17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5510160" y="46400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 flipH="1">
              <a:off x="5581440" y="4473360"/>
              <a:ext cx="349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H="1">
              <a:off x="5598720" y="4356000"/>
              <a:ext cx="17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510160" y="44053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 flipH="1">
              <a:off x="5581440" y="4238640"/>
              <a:ext cx="34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H="1">
              <a:off x="5598720" y="4120920"/>
              <a:ext cx="176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510160" y="41702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 flipH="1">
              <a:off x="5581440" y="4003560"/>
              <a:ext cx="34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>
              <a:off x="5598720" y="3884400"/>
              <a:ext cx="176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510160" y="39337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 flipH="1">
              <a:off x="5581440" y="3767040"/>
              <a:ext cx="34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 flipH="1">
              <a:off x="5598720" y="3649680"/>
              <a:ext cx="17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510160" y="36986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H="1">
              <a:off x="5581440" y="3531960"/>
              <a:ext cx="349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5598720" y="3414600"/>
              <a:ext cx="17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510160" y="34639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H="1">
              <a:off x="5581440" y="3297240"/>
              <a:ext cx="34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H="1">
              <a:off x="5598720" y="3178080"/>
              <a:ext cx="17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510160" y="32274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H="1">
              <a:off x="5581440" y="3060720"/>
              <a:ext cx="34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H="1">
              <a:off x="5598720" y="2943000"/>
              <a:ext cx="176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510160" y="29923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H="1">
              <a:off x="5581440" y="2825640"/>
              <a:ext cx="34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H="1">
              <a:off x="5598720" y="2708280"/>
              <a:ext cx="17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510160" y="27572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H="1">
              <a:off x="5581440" y="2590560"/>
              <a:ext cx="349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 flipH="1">
              <a:off x="5598720" y="2471760"/>
              <a:ext cx="17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5510160" y="25207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 flipH="1">
              <a:off x="5581440" y="2349360"/>
              <a:ext cx="34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5458320" y="2286000"/>
              <a:ext cx="113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5862600" y="4709880"/>
              <a:ext cx="21481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5616720" y="4709880"/>
              <a:ext cx="144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5988240" y="4709880"/>
              <a:ext cx="144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838840" y="48276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6105600" y="4709880"/>
              <a:ext cx="180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29440" y="4709880"/>
              <a:ext cx="144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081840" y="48276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462720" y="4709880"/>
              <a:ext cx="180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315120" y="48276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578640" y="4709880"/>
              <a:ext cx="180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6704280" y="4709880"/>
              <a:ext cx="144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554880" y="48276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6819840" y="4709880"/>
              <a:ext cx="180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6945480" y="4709880"/>
              <a:ext cx="144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797880" y="48276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053480" y="4709880"/>
              <a:ext cx="144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178760" y="4709880"/>
              <a:ext cx="144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029720" y="48276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7419960" y="4709880"/>
              <a:ext cx="180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7272360" y="48276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7535880" y="4709880"/>
              <a:ext cx="180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7661520" y="4709880"/>
              <a:ext cx="144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7513920" y="48276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7769160" y="4709880"/>
              <a:ext cx="180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7893000" y="4709880"/>
              <a:ext cx="180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7745400" y="48276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8010720" y="4709880"/>
              <a:ext cx="144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963200" y="4827600"/>
              <a:ext cx="113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5618160" y="2349360"/>
              <a:ext cx="23925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 flipV="1">
              <a:off x="8010720" y="2354040"/>
              <a:ext cx="1440" cy="235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618160" y="4709880"/>
              <a:ext cx="23925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 flipV="1">
              <a:off x="5616720" y="2354040"/>
              <a:ext cx="1440" cy="235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743800" y="4711680"/>
              <a:ext cx="144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596200" y="48290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5861160" y="4711680"/>
              <a:ext cx="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43920" y="4709880"/>
              <a:ext cx="144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7286760" y="4709880"/>
              <a:ext cx="144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685800" y="4495680"/>
            <a:ext cx="1828800" cy="549360"/>
            <a:chOff x="685800" y="4495680"/>
            <a:chExt cx="1828800" cy="549360"/>
          </a:xfrm>
        </p:grpSpPr>
        <p:sp>
          <p:nvSpPr>
            <p:cNvPr id="389" name=""/>
            <p:cNvSpPr/>
            <p:nvPr/>
          </p:nvSpPr>
          <p:spPr>
            <a:xfrm>
              <a:off x="685800" y="4495680"/>
              <a:ext cx="182880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r>
                <a:rPr b="1" lang="fr-FR" sz="1400" spc="-1" strike="noStrike" baseline="-25000">
                  <a:solidFill>
                    <a:srgbClr val="000000"/>
                  </a:solidFill>
                  <a:latin typeface="Arial"/>
                </a:rPr>
                <a:t>w</a:t>
              </a:r>
              <a:r>
                <a:rPr b="1" lang="fr-FR" sz="1400" spc="-1" strike="noStrike">
                  <a:solidFill>
                    <a:srgbClr val="000000"/>
                  </a:solidFill>
                  <a:latin typeface="Arial"/>
                </a:rPr>
                <a:t>  = 78 / 17 = 4.588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784080" y="4538520"/>
              <a:ext cx="98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91" name=""/>
          <p:cNvGrpSpPr/>
          <p:nvPr/>
        </p:nvGrpSpPr>
        <p:grpSpPr>
          <a:xfrm>
            <a:off x="685800" y="4191120"/>
            <a:ext cx="1828800" cy="549360"/>
            <a:chOff x="685800" y="4191120"/>
            <a:chExt cx="1828800" cy="549360"/>
          </a:xfrm>
        </p:grpSpPr>
        <p:sp>
          <p:nvSpPr>
            <p:cNvPr id="392" name=""/>
            <p:cNvSpPr/>
            <p:nvPr/>
          </p:nvSpPr>
          <p:spPr>
            <a:xfrm>
              <a:off x="685800" y="4191120"/>
              <a:ext cx="182880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lang="fr-FR" sz="1400" spc="-1" strike="noStrike" baseline="-25000">
                  <a:solidFill>
                    <a:srgbClr val="000000"/>
                  </a:solidFill>
                  <a:latin typeface="Arial"/>
                </a:rPr>
                <a:t>w</a:t>
              </a:r>
              <a:r>
                <a:rPr b="1" lang="fr-FR" sz="1400" spc="-1" strike="noStrike">
                  <a:solidFill>
                    <a:srgbClr val="000000"/>
                  </a:solidFill>
                  <a:latin typeface="Arial"/>
                </a:rPr>
                <a:t>  = 91 / 17 = 5.34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784080" y="4238640"/>
              <a:ext cx="98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394" name=""/>
          <p:cNvGraphicFramePr/>
          <p:nvPr/>
        </p:nvGraphicFramePr>
        <p:xfrm>
          <a:off x="730080" y="2062080"/>
          <a:ext cx="3575160" cy="1960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0080" y="2062080"/>
                    <a:ext cx="3575160" cy="196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6" name=""/>
          <p:cNvSpPr/>
          <p:nvPr/>
        </p:nvSpPr>
        <p:spPr>
          <a:xfrm>
            <a:off x="676440" y="4892760"/>
            <a:ext cx="371124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99ff"/>
                </a:solidFill>
                <a:latin typeface="Arial"/>
              </a:rPr>
              <a:t>Comment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Arial"/>
              </a:rPr>
              <a:t>Compared with the mean center, the weighted mean center is slightly displaced toward H poi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5029200" y="5456160"/>
            <a:ext cx="108000" cy="10800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48280" y="5692680"/>
            <a:ext cx="76320" cy="76320"/>
          </a:xfrm>
          <a:prstGeom prst="ellipse">
            <a:avLst/>
          </a:prstGeom>
          <a:solidFill>
            <a:srgbClr val="99ffcc"/>
          </a:solidFill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6867360" y="3691080"/>
            <a:ext cx="79560" cy="79200"/>
          </a:xfrm>
          <a:prstGeom prst="ellipse">
            <a:avLst/>
          </a:prstGeom>
          <a:solidFill>
            <a:srgbClr val="99ffcc"/>
          </a:solidFill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129640" y="5370480"/>
            <a:ext cx="3160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tion of the weighted mean cent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tion of the mean cent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7704000" y="2514600"/>
            <a:ext cx="166680" cy="166680"/>
          </a:xfrm>
          <a:prstGeom prst="ellipse">
            <a:avLst/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6748560" y="3895560"/>
            <a:ext cx="166680" cy="166680"/>
          </a:xfrm>
          <a:prstGeom prst="ellipse">
            <a:avLst/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6014880" y="3905280"/>
            <a:ext cx="166680" cy="166680"/>
          </a:xfrm>
          <a:prstGeom prst="ellipse">
            <a:avLst/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 type="title"/>
          </p:nvPr>
        </p:nvSpPr>
        <p:spPr>
          <a:xfrm>
            <a:off x="644400" y="9903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Arial"/>
              </a:rPr>
              <a:t>Point features : Weighted mean center</a:t>
            </a: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/>
          </p:nvPr>
        </p:nvSpPr>
        <p:spPr>
          <a:xfrm>
            <a:off x="533520" y="1600200"/>
            <a:ext cx="8076960" cy="419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6699ff"/>
                </a:solidFill>
                <a:latin typeface="Arial"/>
              </a:rPr>
              <a:t>Based on the combined dispersion of X and Y coordinates, weighted feature’s properties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10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eighted standard distance </a:t>
            </a:r>
            <a:r>
              <a:rPr b="1" lang="en-US" sz="2200" spc="-1" strike="noStrike">
                <a:solidFill>
                  <a:srgbClr val="cc0066"/>
                </a:solidFill>
                <a:latin typeface="Arial"/>
              </a:rPr>
              <a:t>SD</a:t>
            </a:r>
            <a:r>
              <a:rPr b="1" lang="en-US" sz="2200" spc="-1" strike="noStrike" baseline="-25000">
                <a:solidFill>
                  <a:srgbClr val="cc0066"/>
                </a:solidFill>
                <a:latin typeface="Arial"/>
              </a:rPr>
              <a:t>w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45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45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45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45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45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45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cc0066"/>
                </a:solidFill>
                <a:latin typeface="Arial"/>
              </a:rPr>
              <a:t>This is a measure of common dispersion in X and Y, with respect to the weighted mean center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1386720" y="4997520"/>
            <a:ext cx="3831840" cy="3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= thematic value (weight) for point 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7" name=""/>
              <p:cNvSpPr txBox="1"/>
              <p:nvPr/>
            </p:nvSpPr>
            <p:spPr>
              <a:xfrm>
                <a:off x="1317600" y="2819520"/>
                <a:ext cx="5662800" cy="20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e>
                      <m:sub>
                        <m:r>
                          <m:t xml:space="preserve">w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nary>
                            <m:r>
                              <m:t xml:space="preserve">+</m:t>
                            </m:r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y</m:t>
                                    </m:r>
                                  </m:e>
                                </m:bar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nary>
                          </m:num>
                          <m:den>
                            <m:sSub>
                              <m:e>
                                <m:nary>
                                  <m:naryPr>
                                    <m:chr m:val="∑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=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  <m:sup>
                                    <m:r>
                                      <m:t xml:space="preserve">n</m:t>
                                    </m:r>
                                  </m:sup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nary>
                              </m:e>
                              <m:sub/>
                            </m:sSub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408" name="PlaceHolder 2"/>
          <p:cNvSpPr>
            <a:spLocks noGrp="1"/>
          </p:cNvSpPr>
          <p:nvPr>
            <p:ph type="title"/>
          </p:nvPr>
        </p:nvSpPr>
        <p:spPr>
          <a:xfrm>
            <a:off x="644400" y="990360"/>
            <a:ext cx="79660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Point features : Global index of weighted dispersion</a:t>
            </a: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764640" y="4065480"/>
            <a:ext cx="1325160" cy="3988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0000"/>
                </a:solidFill>
                <a:latin typeface="Arial"/>
              </a:rPr>
              <a:t>Modifier 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/>
          </p:nvPr>
        </p:nvSpPr>
        <p:spPr>
          <a:xfrm>
            <a:off x="644040" y="1752480"/>
            <a:ext cx="3775320" cy="4114800"/>
          </a:xfrm>
          <a:prstGeom prst="rect">
            <a:avLst/>
          </a:prstGeom>
          <a:noFill/>
          <a:ln w="12600">
            <a:solidFill>
              <a:srgbClr val="333333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29196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723920" y="1752480"/>
            <a:ext cx="3768840" cy="4114800"/>
          </a:xfrm>
          <a:prstGeom prst="rect">
            <a:avLst/>
          </a:prstGeom>
          <a:noFill/>
          <a:ln w="12600">
            <a:solidFill>
              <a:srgbClr val="333333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5259240" y="5499000"/>
            <a:ext cx="30481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SD</a:t>
            </a:r>
            <a:r>
              <a:rPr b="1" lang="fr-FR" sz="14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 = 3.72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96160" y="2733840"/>
            <a:ext cx="0" cy="888840"/>
          </a:xfrm>
          <a:prstGeom prst="line">
            <a:avLst/>
          </a:prstGeom>
          <a:ln w="381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4" name=""/>
              <p:cNvSpPr txBox="1"/>
              <p:nvPr/>
            </p:nvSpPr>
            <p:spPr>
              <a:xfrm>
                <a:off x="1452600" y="2203560"/>
                <a:ext cx="1390680" cy="12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x</m:t>
                                </m:r>
                              </m:e>
                            </m:ba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num>
                      <m:den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15" name=""/>
          <p:cNvSpPr/>
          <p:nvPr/>
        </p:nvSpPr>
        <p:spPr>
          <a:xfrm>
            <a:off x="1372320" y="4984920"/>
            <a:ext cx="2043000" cy="91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SD</a:t>
            </a:r>
            <a:r>
              <a:rPr b="1" lang="fr-FR" sz="14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fr-FR" sz="24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 (6.582 + 7.28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SD</a:t>
            </a:r>
            <a:r>
              <a:rPr b="1" lang="fr-FR" sz="14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 = 3.72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2899800" y="2689200"/>
            <a:ext cx="78120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= 6.58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= 7.28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7" name=""/>
              <p:cNvSpPr txBox="1"/>
              <p:nvPr/>
            </p:nvSpPr>
            <p:spPr>
              <a:xfrm>
                <a:off x="1452600" y="3692520"/>
                <a:ext cx="1390680" cy="12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y</m:t>
                                </m:r>
                              </m:e>
                            </m:ba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num>
                      <m:den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18" name=""/>
          <p:cNvSpPr/>
          <p:nvPr/>
        </p:nvSpPr>
        <p:spPr>
          <a:xfrm>
            <a:off x="5467320" y="362916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V="1">
            <a:off x="6902280" y="3628800"/>
            <a:ext cx="0" cy="1130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20" name=""/>
          <p:cNvGrpSpPr/>
          <p:nvPr/>
        </p:nvGrpSpPr>
        <p:grpSpPr>
          <a:xfrm>
            <a:off x="5962680" y="2584440"/>
            <a:ext cx="2019240" cy="1957680"/>
            <a:chOff x="5962680" y="2584440"/>
            <a:chExt cx="2019240" cy="1957680"/>
          </a:xfrm>
        </p:grpSpPr>
        <p:sp>
          <p:nvSpPr>
            <p:cNvPr id="421" name=""/>
            <p:cNvSpPr/>
            <p:nvPr/>
          </p:nvSpPr>
          <p:spPr>
            <a:xfrm>
              <a:off x="5962680" y="3735360"/>
              <a:ext cx="184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6051600" y="3956040"/>
              <a:ext cx="76320" cy="76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6299280" y="4413240"/>
              <a:ext cx="76320" cy="76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7023240" y="4184640"/>
              <a:ext cx="76320" cy="76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6789960" y="3956040"/>
              <a:ext cx="75960" cy="76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537600" y="3498840"/>
              <a:ext cx="75960" cy="76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7256520" y="3727440"/>
              <a:ext cx="76320" cy="76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7256520" y="3270240"/>
              <a:ext cx="76320" cy="76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7743960" y="2584440"/>
              <a:ext cx="76320" cy="76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6267600" y="4167360"/>
              <a:ext cx="183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7023240" y="4265640"/>
              <a:ext cx="228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732720" y="3710160"/>
              <a:ext cx="228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6432840" y="3278160"/>
              <a:ext cx="228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7347240" y="3689280"/>
              <a:ext cx="228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7194600" y="3013200"/>
              <a:ext cx="228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7753320" y="2651040"/>
              <a:ext cx="228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458320" y="2286000"/>
            <a:ext cx="2618280" cy="2665080"/>
            <a:chOff x="5458320" y="2286000"/>
            <a:chExt cx="2618280" cy="2665080"/>
          </a:xfrm>
        </p:grpSpPr>
        <p:sp>
          <p:nvSpPr>
            <p:cNvPr id="438" name=""/>
            <p:cNvSpPr/>
            <p:nvPr/>
          </p:nvSpPr>
          <p:spPr>
            <a:xfrm flipV="1">
              <a:off x="5616720" y="2354040"/>
              <a:ext cx="1440" cy="235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 flipH="1">
              <a:off x="5581440" y="4709880"/>
              <a:ext cx="349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 flipH="1">
              <a:off x="5598720" y="4591080"/>
              <a:ext cx="17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5510160" y="46400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 flipH="1">
              <a:off x="5581440" y="4473360"/>
              <a:ext cx="349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 flipH="1">
              <a:off x="5598720" y="4356000"/>
              <a:ext cx="17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5510160" y="44053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 flipH="1">
              <a:off x="5581440" y="4238640"/>
              <a:ext cx="34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 flipH="1">
              <a:off x="5598720" y="4120920"/>
              <a:ext cx="176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5510160" y="41702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 flipH="1">
              <a:off x="5581440" y="4003560"/>
              <a:ext cx="34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 flipH="1">
              <a:off x="5598720" y="3884400"/>
              <a:ext cx="176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5510160" y="39337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H="1">
              <a:off x="5581440" y="3767040"/>
              <a:ext cx="34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>
              <a:off x="5598720" y="3649680"/>
              <a:ext cx="17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510160" y="36986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 flipH="1">
              <a:off x="5581440" y="3531960"/>
              <a:ext cx="349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 flipH="1">
              <a:off x="5598720" y="3414600"/>
              <a:ext cx="17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5510160" y="34639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 flipH="1">
              <a:off x="5581440" y="3297240"/>
              <a:ext cx="34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 flipH="1">
              <a:off x="5598720" y="3178080"/>
              <a:ext cx="17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5510160" y="32274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 flipH="1">
              <a:off x="5581440" y="3060720"/>
              <a:ext cx="34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flipH="1">
              <a:off x="5598720" y="2943000"/>
              <a:ext cx="176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510160" y="29923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flipH="1">
              <a:off x="5581440" y="2825640"/>
              <a:ext cx="34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 flipH="1">
              <a:off x="5598720" y="2708280"/>
              <a:ext cx="17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5510160" y="27572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 flipH="1">
              <a:off x="5581440" y="2590560"/>
              <a:ext cx="349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H="1">
              <a:off x="5598720" y="2471760"/>
              <a:ext cx="17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510160" y="25207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flipH="1">
              <a:off x="5581440" y="2349360"/>
              <a:ext cx="34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5458320" y="2286000"/>
              <a:ext cx="113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5862600" y="4709880"/>
              <a:ext cx="21481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5616720" y="4709880"/>
              <a:ext cx="144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5988240" y="4709880"/>
              <a:ext cx="144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838840" y="48276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6105600" y="4709880"/>
              <a:ext cx="180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6229440" y="4709880"/>
              <a:ext cx="144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6081840" y="48276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6462720" y="4709880"/>
              <a:ext cx="180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6315120" y="48276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6578640" y="4709880"/>
              <a:ext cx="180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6704280" y="4709880"/>
              <a:ext cx="144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6554880" y="48276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6819840" y="4709880"/>
              <a:ext cx="180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6945480" y="4709880"/>
              <a:ext cx="144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6797880" y="48276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7053480" y="4709880"/>
              <a:ext cx="144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7178760" y="4709880"/>
              <a:ext cx="144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029720" y="48276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7419960" y="4709880"/>
              <a:ext cx="180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7272360" y="48276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7535880" y="4709880"/>
              <a:ext cx="180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7661520" y="4709880"/>
              <a:ext cx="144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7513920" y="48276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7769160" y="4709880"/>
              <a:ext cx="180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7893000" y="4709880"/>
              <a:ext cx="180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7745400" y="48276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8010720" y="4709880"/>
              <a:ext cx="144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7963200" y="4827600"/>
              <a:ext cx="113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5618160" y="2349360"/>
              <a:ext cx="23925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 flipV="1">
              <a:off x="8010720" y="2354040"/>
              <a:ext cx="1440" cy="235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5618160" y="4709880"/>
              <a:ext cx="23925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 flipV="1">
              <a:off x="5616720" y="2354040"/>
              <a:ext cx="1440" cy="235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5743800" y="4711680"/>
              <a:ext cx="144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5596200" y="48290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5861160" y="4711680"/>
              <a:ext cx="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6343920" y="4709880"/>
              <a:ext cx="144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7286760" y="4709880"/>
              <a:ext cx="144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08" name=""/>
          <p:cNvSpPr/>
          <p:nvPr/>
        </p:nvSpPr>
        <p:spPr>
          <a:xfrm>
            <a:off x="6848640" y="3583080"/>
            <a:ext cx="88560" cy="88920"/>
          </a:xfrm>
          <a:prstGeom prst="ellipse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5823000" y="5638680"/>
            <a:ext cx="349200" cy="0"/>
          </a:xfrm>
          <a:prstGeom prst="line">
            <a:avLst/>
          </a:prstGeom>
          <a:ln w="5724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704000" y="2514600"/>
            <a:ext cx="166680" cy="166680"/>
          </a:xfrm>
          <a:prstGeom prst="ellipse">
            <a:avLst/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6748560" y="3895560"/>
            <a:ext cx="166680" cy="166680"/>
          </a:xfrm>
          <a:prstGeom prst="ellipse">
            <a:avLst/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6014880" y="3905280"/>
            <a:ext cx="166680" cy="166680"/>
          </a:xfrm>
          <a:prstGeom prst="ellipse">
            <a:avLst/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6019920" y="2732040"/>
            <a:ext cx="1752480" cy="1752480"/>
          </a:xfrm>
          <a:prstGeom prst="ellipse">
            <a:avLst/>
          </a:prstGeom>
          <a:noFill/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1523880" y="1828800"/>
            <a:ext cx="198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143000"/>
                <a:tab algn="l" pos="2286000"/>
                <a:tab algn="l" pos="2641680"/>
                <a:tab algn="l" pos="3301920"/>
                <a:tab algn="l" pos="3962520"/>
                <a:tab algn="l" pos="4622760"/>
                <a:tab algn="l" pos="5283360"/>
                <a:tab algn="l" pos="5943600"/>
                <a:tab algn="l" pos="6603840"/>
                <a:tab algn="l" pos="7264440"/>
                <a:tab algn="l" pos="7924680"/>
                <a:tab algn="l" pos="8585280"/>
                <a:tab algn="l" pos="9245520"/>
                <a:tab algn="l" pos="9906120"/>
                <a:tab algn="l" pos="10566360"/>
              </a:tabLst>
            </a:pPr>
            <a:r>
              <a:rPr b="1" lang="fr-FR" sz="2000" spc="-1" strike="noStrike">
                <a:solidFill>
                  <a:srgbClr val="cc0066"/>
                </a:solidFill>
                <a:latin typeface="Arial"/>
              </a:rPr>
              <a:t>Comput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4724280" y="1828800"/>
            <a:ext cx="37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143000"/>
                <a:tab algn="l" pos="2286000"/>
                <a:tab algn="l" pos="2641680"/>
                <a:tab algn="l" pos="3301920"/>
                <a:tab algn="l" pos="3962520"/>
                <a:tab algn="l" pos="4622760"/>
                <a:tab algn="l" pos="5283360"/>
                <a:tab algn="l" pos="5943600"/>
                <a:tab algn="l" pos="6603840"/>
                <a:tab algn="l" pos="7264440"/>
                <a:tab algn="l" pos="7924680"/>
                <a:tab algn="l" pos="8585280"/>
                <a:tab algn="l" pos="9245520"/>
                <a:tab algn="l" pos="9906120"/>
                <a:tab algn="l" pos="10566360"/>
              </a:tabLst>
            </a:pPr>
            <a:r>
              <a:rPr b="1" lang="en-US" sz="1800" spc="-1" strike="noStrike">
                <a:solidFill>
                  <a:srgbClr val="cc0066"/>
                </a:solidFill>
                <a:latin typeface="Arial"/>
              </a:rPr>
              <a:t>Weighted standard distan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 type="title"/>
          </p:nvPr>
        </p:nvSpPr>
        <p:spPr>
          <a:xfrm>
            <a:off x="644400" y="9903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Arial"/>
              </a:rPr>
              <a:t>Point features : Weighted standard distance</a:t>
            </a: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5127480" y="4960800"/>
            <a:ext cx="310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143000"/>
                <a:tab algn="l" pos="2286000"/>
                <a:tab algn="l" pos="2641680"/>
                <a:tab algn="l" pos="3301920"/>
                <a:tab algn="l" pos="3962520"/>
                <a:tab algn="l" pos="4622760"/>
                <a:tab algn="l" pos="5283360"/>
                <a:tab algn="l" pos="5943600"/>
                <a:tab algn="l" pos="6603840"/>
                <a:tab algn="l" pos="7264440"/>
                <a:tab algn="l" pos="7924680"/>
                <a:tab algn="l" pos="8585280"/>
                <a:tab algn="l" pos="9245520"/>
                <a:tab algn="l" pos="9906120"/>
                <a:tab algn="l" pos="105663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ordinate X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 flipH="1" rot="16200000">
            <a:off x="4631760" y="3400200"/>
            <a:ext cx="113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ordinate 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"/>
          <p:cNvSpPr txBox="1"/>
          <p:nvPr/>
        </p:nvSpPr>
        <p:spPr>
          <a:xfrm>
            <a:off x="686880" y="1829520"/>
            <a:ext cx="7770240" cy="3884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76320" bIns="76320" anchor="t">
            <a:normAutofit/>
          </a:bodyPr>
          <a:p>
            <a:pPr marL="284040" indent="-284040"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n-US" sz="2400" spc="-1" strike="noStrike">
                <a:solidFill>
                  <a:srgbClr val="6699ff"/>
                </a:solidFill>
                <a:latin typeface="Arial"/>
              </a:rPr>
              <a:t>The most common neighborhood relationship is the measure of weighted proximity to featur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90000"/>
              </a:lnSpc>
              <a:spcBef>
                <a:spcPts val="119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object mode 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4880" indent="-230040">
              <a:lnSpc>
                <a:spcPct val="90000"/>
              </a:lnSpc>
              <a:spcBef>
                <a:spcPts val="55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eas of largest weighted proxim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03400" indent="-227160">
              <a:lnSpc>
                <a:spcPct val="90000"/>
              </a:lnSpc>
              <a:spcBef>
                <a:spcPts val="524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delimited by weighted equidistance line segments between point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03400" indent="-227160">
              <a:lnSpc>
                <a:spcPct val="90000"/>
              </a:lnSpc>
              <a:spcBef>
                <a:spcPts val="524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ey are polygon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90000"/>
              </a:lnSpc>
              <a:spcBef>
                <a:spcPts val="119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image mode 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4880" indent="-230040">
              <a:lnSpc>
                <a:spcPct val="90000"/>
              </a:lnSpc>
              <a:spcBef>
                <a:spcPts val="55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weighted distance to the nearest point reg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4880" indent="-230040">
              <a:lnSpc>
                <a:spcPct val="90000"/>
              </a:lnSpc>
              <a:spcBef>
                <a:spcPts val="55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ions of largest weighted proxim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Point features : Weighted neighborhood relationships</a:t>
            </a: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/>
          </p:nvPr>
        </p:nvSpPr>
        <p:spPr>
          <a:xfrm>
            <a:off x="644040" y="1752480"/>
            <a:ext cx="3775320" cy="4114800"/>
          </a:xfrm>
          <a:prstGeom prst="rect">
            <a:avLst/>
          </a:prstGeom>
          <a:noFill/>
          <a:ln w="12600">
            <a:solidFill>
              <a:srgbClr val="333333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2919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79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geometrical proximity to the 8 point features is weighted by their relative influ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79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y location within each area is closer to its center than to any oth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79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se areas of largest weighted proximity are called </a:t>
            </a:r>
            <a:r>
              <a:rPr b="1" lang="en-US" sz="1600" spc="-1" strike="noStrike">
                <a:solidFill>
                  <a:srgbClr val="cc0066"/>
                </a:solidFill>
                <a:latin typeface="Arial"/>
              </a:rPr>
              <a:t>weighted Thiessen ’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US" sz="1600" spc="-1" strike="noStrike">
                <a:solidFill>
                  <a:srgbClr val="cc0066"/>
                </a:solidFill>
                <a:latin typeface="Arial"/>
              </a:rPr>
              <a:t>Voronoï ’s polyg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723920" y="1752480"/>
            <a:ext cx="3768840" cy="4114800"/>
          </a:xfrm>
          <a:prstGeom prst="rect">
            <a:avLst/>
          </a:prstGeom>
          <a:noFill/>
          <a:ln w="12600">
            <a:solidFill>
              <a:srgbClr val="333333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5977080" y="2502000"/>
            <a:ext cx="1892160" cy="2341080"/>
            <a:chOff x="5977080" y="2502000"/>
            <a:chExt cx="1892160" cy="2341080"/>
          </a:xfrm>
        </p:grpSpPr>
        <p:grpSp>
          <p:nvGrpSpPr>
            <p:cNvPr id="524" name=""/>
            <p:cNvGrpSpPr/>
            <p:nvPr/>
          </p:nvGrpSpPr>
          <p:grpSpPr>
            <a:xfrm>
              <a:off x="5977080" y="2502000"/>
              <a:ext cx="1892160" cy="2341080"/>
              <a:chOff x="5977080" y="2502000"/>
              <a:chExt cx="1892160" cy="2341080"/>
            </a:xfrm>
          </p:grpSpPr>
          <p:sp>
            <p:nvSpPr>
              <p:cNvPr id="525" name=""/>
              <p:cNvSpPr/>
              <p:nvPr/>
            </p:nvSpPr>
            <p:spPr>
              <a:xfrm>
                <a:off x="5977080" y="2502000"/>
                <a:ext cx="360360" cy="405000"/>
              </a:xfrm>
              <a:prstGeom prst="line">
                <a:avLst/>
              </a:prstGeom>
              <a:ln w="28440">
                <a:solidFill>
                  <a:srgbClr val="cc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6337440" y="2907000"/>
                <a:ext cx="0" cy="1936080"/>
              </a:xfrm>
              <a:prstGeom prst="line">
                <a:avLst/>
              </a:prstGeom>
              <a:ln w="28440">
                <a:solidFill>
                  <a:srgbClr val="cc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6337440" y="2907000"/>
                <a:ext cx="1531800" cy="1035720"/>
              </a:xfrm>
              <a:prstGeom prst="line">
                <a:avLst/>
              </a:prstGeom>
              <a:ln w="28440">
                <a:solidFill>
                  <a:srgbClr val="cc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28" name=""/>
            <p:cNvSpPr/>
            <p:nvPr/>
          </p:nvSpPr>
          <p:spPr>
            <a:xfrm rot="2044800">
              <a:off x="6932160" y="3299400"/>
              <a:ext cx="450360" cy="3150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6303600" y="3520440"/>
              <a:ext cx="270000" cy="2700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7052760" y="3757320"/>
              <a:ext cx="270000" cy="3034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6095160" y="4533840"/>
              <a:ext cx="270000" cy="2700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6844320" y="4325760"/>
              <a:ext cx="180000" cy="1800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33" name=""/>
          <p:cNvSpPr/>
          <p:nvPr/>
        </p:nvSpPr>
        <p:spPr>
          <a:xfrm>
            <a:off x="5791320" y="3808440"/>
            <a:ext cx="183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5913360" y="410832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6161040" y="456552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6885000" y="433692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6651720" y="4108320"/>
            <a:ext cx="7596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6399360" y="3651120"/>
            <a:ext cx="7596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7118280" y="387972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118280" y="342252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605720" y="273672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6162840" y="4591080"/>
            <a:ext cx="183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6962760" y="4417920"/>
            <a:ext cx="22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6594480" y="3862440"/>
            <a:ext cx="22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6316560" y="3463920"/>
            <a:ext cx="22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7153200" y="3808440"/>
            <a:ext cx="22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6956280" y="3243240"/>
            <a:ext cx="22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7391520" y="2803680"/>
            <a:ext cx="22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49" name=""/>
          <p:cNvGrpSpPr/>
          <p:nvPr/>
        </p:nvGrpSpPr>
        <p:grpSpPr>
          <a:xfrm>
            <a:off x="5320080" y="2438280"/>
            <a:ext cx="2618280" cy="2665080"/>
            <a:chOff x="5320080" y="2438280"/>
            <a:chExt cx="2618280" cy="2665080"/>
          </a:xfrm>
        </p:grpSpPr>
        <p:sp>
          <p:nvSpPr>
            <p:cNvPr id="550" name=""/>
            <p:cNvSpPr/>
            <p:nvPr/>
          </p:nvSpPr>
          <p:spPr>
            <a:xfrm flipV="1">
              <a:off x="5478480" y="2506320"/>
              <a:ext cx="1440" cy="235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H="1">
              <a:off x="5443200" y="4862160"/>
              <a:ext cx="349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 flipH="1">
              <a:off x="5460480" y="4743360"/>
              <a:ext cx="17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371920" y="47923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 flipH="1">
              <a:off x="5443200" y="4625640"/>
              <a:ext cx="349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 flipH="1">
              <a:off x="5460480" y="4508280"/>
              <a:ext cx="17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5371920" y="45576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 flipH="1">
              <a:off x="5443200" y="4390920"/>
              <a:ext cx="34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 flipH="1">
              <a:off x="5460480" y="4273200"/>
              <a:ext cx="176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5371920" y="43225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H="1">
              <a:off x="5443200" y="4155840"/>
              <a:ext cx="34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 flipH="1">
              <a:off x="5460480" y="4036680"/>
              <a:ext cx="176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371920" y="40860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 flipH="1">
              <a:off x="5443200" y="3919320"/>
              <a:ext cx="34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 flipH="1">
              <a:off x="5460480" y="3801960"/>
              <a:ext cx="17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5371920" y="38509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 flipH="1">
              <a:off x="5443200" y="3684240"/>
              <a:ext cx="349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 flipH="1">
              <a:off x="5460480" y="3566880"/>
              <a:ext cx="17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5371920" y="36162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 flipH="1">
              <a:off x="5443200" y="3449520"/>
              <a:ext cx="34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 flipH="1">
              <a:off x="5460480" y="3330360"/>
              <a:ext cx="17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5371920" y="33796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 flipH="1">
              <a:off x="5443200" y="3213000"/>
              <a:ext cx="34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 flipH="1">
              <a:off x="5460480" y="3095280"/>
              <a:ext cx="176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371920" y="31446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 flipH="1">
              <a:off x="5443200" y="2977920"/>
              <a:ext cx="34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 flipH="1">
              <a:off x="5460480" y="2860560"/>
              <a:ext cx="17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371920" y="29095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 flipH="1">
              <a:off x="5443200" y="2742840"/>
              <a:ext cx="349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 flipH="1">
              <a:off x="5460480" y="2624040"/>
              <a:ext cx="17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5371920" y="26730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 flipH="1">
              <a:off x="5443200" y="2501640"/>
              <a:ext cx="34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320080" y="2438280"/>
              <a:ext cx="113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724360" y="4862160"/>
              <a:ext cx="21481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478480" y="4862160"/>
              <a:ext cx="144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5850000" y="4862160"/>
              <a:ext cx="144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5700600" y="49798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5967360" y="4862160"/>
              <a:ext cx="180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6091200" y="4862160"/>
              <a:ext cx="144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5943600" y="49798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6324480" y="4862160"/>
              <a:ext cx="180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6176880" y="49798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6440400" y="4862160"/>
              <a:ext cx="180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6566040" y="4862160"/>
              <a:ext cx="144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6416640" y="49798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6681600" y="4862160"/>
              <a:ext cx="180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6807240" y="4862160"/>
              <a:ext cx="144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59640" y="49798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6915240" y="4862160"/>
              <a:ext cx="144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7040520" y="4862160"/>
              <a:ext cx="144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891480" y="49798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281720" y="4862160"/>
              <a:ext cx="180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134120" y="49798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7397640" y="4862160"/>
              <a:ext cx="180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7523280" y="4862160"/>
              <a:ext cx="144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7375680" y="49798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7630920" y="4862160"/>
              <a:ext cx="180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754760" y="4862160"/>
              <a:ext cx="180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607160" y="49798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872480" y="4862160"/>
              <a:ext cx="144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824960" y="4979880"/>
              <a:ext cx="113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479920" y="2501640"/>
              <a:ext cx="23925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 flipV="1">
              <a:off x="7872480" y="2506320"/>
              <a:ext cx="1440" cy="235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5479920" y="4862160"/>
              <a:ext cx="23925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 flipV="1">
              <a:off x="5478480" y="2506320"/>
              <a:ext cx="1440" cy="235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5605560" y="4863960"/>
              <a:ext cx="144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5457960" y="49813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722920" y="4863960"/>
              <a:ext cx="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6205680" y="4862160"/>
              <a:ext cx="144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7148520" y="4862160"/>
              <a:ext cx="144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20" name=""/>
          <p:cNvSpPr/>
          <p:nvPr/>
        </p:nvSpPr>
        <p:spPr>
          <a:xfrm>
            <a:off x="4800600" y="5356080"/>
            <a:ext cx="3657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The geometrical proximity is weighted by their relative influence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1523880" y="1812960"/>
            <a:ext cx="198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143000"/>
                <a:tab algn="l" pos="2286000"/>
                <a:tab algn="l" pos="2641680"/>
                <a:tab algn="l" pos="3301920"/>
                <a:tab algn="l" pos="3962520"/>
                <a:tab algn="l" pos="4622760"/>
                <a:tab algn="l" pos="5283360"/>
                <a:tab algn="l" pos="5943600"/>
                <a:tab algn="l" pos="6603840"/>
                <a:tab algn="l" pos="7264440"/>
                <a:tab algn="l" pos="7924680"/>
                <a:tab algn="l" pos="8585280"/>
                <a:tab algn="l" pos="9245520"/>
                <a:tab algn="l" pos="9906120"/>
                <a:tab algn="l" pos="1056636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Arial"/>
              </a:rPr>
              <a:t>Properti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4800600" y="182880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143000"/>
                <a:tab algn="l" pos="2286000"/>
                <a:tab algn="l" pos="2641680"/>
                <a:tab algn="l" pos="3301920"/>
                <a:tab algn="l" pos="3962520"/>
                <a:tab algn="l" pos="4622760"/>
                <a:tab algn="l" pos="5283360"/>
                <a:tab algn="l" pos="5943600"/>
                <a:tab algn="l" pos="6603840"/>
                <a:tab algn="l" pos="7264440"/>
                <a:tab algn="l" pos="7924680"/>
                <a:tab algn="l" pos="8585280"/>
                <a:tab algn="l" pos="9245520"/>
                <a:tab algn="l" pos="9906120"/>
                <a:tab algn="l" pos="10566360"/>
              </a:tabLst>
            </a:pPr>
            <a:r>
              <a:rPr b="1" lang="en-US" sz="1800" spc="-1" strike="noStrike">
                <a:solidFill>
                  <a:srgbClr val="cc0066"/>
                </a:solidFill>
                <a:latin typeface="Arial"/>
              </a:rPr>
              <a:t>Areas of largest weighted proximity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 type="title"/>
          </p:nvPr>
        </p:nvSpPr>
        <p:spPr>
          <a:xfrm>
            <a:off x="644400" y="9140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Arial"/>
              </a:rPr>
              <a:t>Point objects : Areas of largest proximity</a:t>
            </a: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5127480" y="5059440"/>
            <a:ext cx="310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143000"/>
                <a:tab algn="l" pos="2286000"/>
                <a:tab algn="l" pos="2641680"/>
                <a:tab algn="l" pos="3301920"/>
                <a:tab algn="l" pos="3962520"/>
                <a:tab algn="l" pos="4622760"/>
                <a:tab algn="l" pos="5283360"/>
                <a:tab algn="l" pos="5943600"/>
                <a:tab algn="l" pos="6603840"/>
                <a:tab algn="l" pos="7264440"/>
                <a:tab algn="l" pos="7924680"/>
                <a:tab algn="l" pos="8585280"/>
                <a:tab algn="l" pos="9245520"/>
                <a:tab algn="l" pos="9906120"/>
                <a:tab algn="l" pos="105663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ordinate X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 flipH="1" rot="16200000">
            <a:off x="4631760" y="3498480"/>
            <a:ext cx="113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ordinate 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/>
          </p:nvPr>
        </p:nvSpPr>
        <p:spPr>
          <a:xfrm>
            <a:off x="644040" y="1752480"/>
            <a:ext cx="3775320" cy="4114800"/>
          </a:xfrm>
          <a:prstGeom prst="rect">
            <a:avLst/>
          </a:prstGeom>
          <a:noFill/>
          <a:ln w="12600">
            <a:solidFill>
              <a:srgbClr val="333333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2919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79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ighted distance image from each cell to the nearest point region, the </a:t>
            </a:r>
            <a:r>
              <a:rPr b="1" lang="en-US" sz="1600" spc="-1" strike="noStrike">
                <a:solidFill>
                  <a:srgbClr val="cc0066"/>
                </a:solidFill>
                <a:latin typeface="Arial"/>
              </a:rPr>
              <a:t>weighted minimum dista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79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graphical representation suggests limits of areas of largest weighted proximit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79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mage values express the </a:t>
            </a:r>
            <a:r>
              <a:rPr b="1" lang="en-US" sz="1600" spc="-1" strike="noStrike">
                <a:solidFill>
                  <a:srgbClr val="cc0066"/>
                </a:solidFill>
                <a:latin typeface="Arial"/>
              </a:rPr>
              <a:t>proximit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(weighted distance) to the nearest point region, but without identifying it !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723920" y="1752480"/>
            <a:ext cx="3768840" cy="4114800"/>
          </a:xfrm>
          <a:prstGeom prst="rect">
            <a:avLst/>
          </a:prstGeom>
          <a:noFill/>
          <a:ln w="12600">
            <a:solidFill>
              <a:srgbClr val="333333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8" name="" descr=""/>
          <p:cNvPicPr/>
          <p:nvPr/>
        </p:nvPicPr>
        <p:blipFill>
          <a:blip r:embed="rId1"/>
          <a:stretch/>
        </p:blipFill>
        <p:spPr>
          <a:xfrm>
            <a:off x="5497560" y="2455920"/>
            <a:ext cx="2841480" cy="2328840"/>
          </a:xfrm>
          <a:prstGeom prst="rect">
            <a:avLst/>
          </a:prstGeom>
          <a:ln w="0">
            <a:noFill/>
          </a:ln>
        </p:spPr>
      </p:pic>
      <p:grpSp>
        <p:nvGrpSpPr>
          <p:cNvPr id="629" name=""/>
          <p:cNvGrpSpPr/>
          <p:nvPr/>
        </p:nvGrpSpPr>
        <p:grpSpPr>
          <a:xfrm>
            <a:off x="5320080" y="2363760"/>
            <a:ext cx="2618280" cy="2665080"/>
            <a:chOff x="5320080" y="2363760"/>
            <a:chExt cx="2618280" cy="2665080"/>
          </a:xfrm>
        </p:grpSpPr>
        <p:sp>
          <p:nvSpPr>
            <p:cNvPr id="630" name=""/>
            <p:cNvSpPr/>
            <p:nvPr/>
          </p:nvSpPr>
          <p:spPr>
            <a:xfrm flipV="1">
              <a:off x="5478480" y="2431800"/>
              <a:ext cx="1440" cy="235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 flipH="1">
              <a:off x="5443200" y="4787640"/>
              <a:ext cx="349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 flipH="1">
              <a:off x="5460480" y="4668840"/>
              <a:ext cx="17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5371920" y="47178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 flipH="1">
              <a:off x="5443200" y="4551120"/>
              <a:ext cx="349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 flipH="1">
              <a:off x="5460480" y="4433760"/>
              <a:ext cx="17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5371920" y="44830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 flipH="1">
              <a:off x="5443200" y="4316400"/>
              <a:ext cx="34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 flipH="1">
              <a:off x="5460480" y="4198680"/>
              <a:ext cx="176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5371920" y="42480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 flipH="1">
              <a:off x="5443200" y="4081320"/>
              <a:ext cx="34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 flipH="1">
              <a:off x="5460480" y="3962160"/>
              <a:ext cx="176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5371920" y="40114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 flipH="1">
              <a:off x="5443200" y="3844800"/>
              <a:ext cx="34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 flipH="1">
              <a:off x="5460480" y="3727440"/>
              <a:ext cx="17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5371920" y="37764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>
              <a:off x="5443200" y="3609720"/>
              <a:ext cx="349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>
              <a:off x="5460480" y="3492360"/>
              <a:ext cx="17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371920" y="35416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 flipH="1">
              <a:off x="5443200" y="3375000"/>
              <a:ext cx="34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 flipH="1">
              <a:off x="5460480" y="3255840"/>
              <a:ext cx="17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5371920" y="33051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5443200" y="3138480"/>
              <a:ext cx="34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5460480" y="3020760"/>
              <a:ext cx="176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5371920" y="30700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 flipH="1">
              <a:off x="5443200" y="2903400"/>
              <a:ext cx="34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 flipH="1">
              <a:off x="5460480" y="2786040"/>
              <a:ext cx="17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5371920" y="28350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5443200" y="2668320"/>
              <a:ext cx="349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5460480" y="2549520"/>
              <a:ext cx="17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5371920" y="25984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 flipH="1">
              <a:off x="5443200" y="2427120"/>
              <a:ext cx="34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5320080" y="2363760"/>
              <a:ext cx="113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724360" y="4787640"/>
              <a:ext cx="21481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5478480" y="4787640"/>
              <a:ext cx="144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5850000" y="4787640"/>
              <a:ext cx="144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700600" y="49053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967360" y="4787640"/>
              <a:ext cx="180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6091200" y="4787640"/>
              <a:ext cx="144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943600" y="49053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6324480" y="4787640"/>
              <a:ext cx="180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6176880" y="49053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6440400" y="4787640"/>
              <a:ext cx="180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6566040" y="4787640"/>
              <a:ext cx="144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6416640" y="49053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6681600" y="4787640"/>
              <a:ext cx="180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807240" y="4787640"/>
              <a:ext cx="144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6659640" y="49053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6915240" y="4787640"/>
              <a:ext cx="144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7040520" y="4787640"/>
              <a:ext cx="144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6891480" y="49053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7281720" y="4787640"/>
              <a:ext cx="180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7134120" y="49053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397640" y="4787640"/>
              <a:ext cx="180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523280" y="4787640"/>
              <a:ext cx="144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7375680" y="49053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7630920" y="4787640"/>
              <a:ext cx="180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7754760" y="4787640"/>
              <a:ext cx="180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7607160" y="49053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7872480" y="4787640"/>
              <a:ext cx="144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7824960" y="4905360"/>
              <a:ext cx="113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5479920" y="2427120"/>
              <a:ext cx="23925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 flipV="1">
              <a:off x="7872480" y="2431800"/>
              <a:ext cx="1440" cy="235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5479920" y="4787640"/>
              <a:ext cx="23925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 flipV="1">
              <a:off x="5478480" y="2431800"/>
              <a:ext cx="1440" cy="235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5605560" y="4789440"/>
              <a:ext cx="144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5457960" y="49068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5722920" y="4789440"/>
              <a:ext cx="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6205680" y="4787640"/>
              <a:ext cx="144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7148520" y="4787640"/>
              <a:ext cx="144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00" name=""/>
          <p:cNvGrpSpPr/>
          <p:nvPr/>
        </p:nvGrpSpPr>
        <p:grpSpPr>
          <a:xfrm>
            <a:off x="5715000" y="2743200"/>
            <a:ext cx="2063520" cy="1802160"/>
            <a:chOff x="5715000" y="2743200"/>
            <a:chExt cx="2063520" cy="1802160"/>
          </a:xfrm>
        </p:grpSpPr>
        <p:sp>
          <p:nvSpPr>
            <p:cNvPr id="701" name=""/>
            <p:cNvSpPr/>
            <p:nvPr/>
          </p:nvSpPr>
          <p:spPr>
            <a:xfrm>
              <a:off x="5715000" y="4011840"/>
              <a:ext cx="183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6103800" y="4273560"/>
              <a:ext cx="1843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6897600" y="4299120"/>
              <a:ext cx="228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6546600" y="4087800"/>
              <a:ext cx="228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6288120" y="3375000"/>
              <a:ext cx="228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7235640" y="3786480"/>
              <a:ext cx="228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7083360" y="3146400"/>
              <a:ext cx="228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7549920" y="2743200"/>
              <a:ext cx="228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09" name=""/>
          <p:cNvSpPr/>
          <p:nvPr/>
        </p:nvSpPr>
        <p:spPr>
          <a:xfrm>
            <a:off x="1523880" y="1812960"/>
            <a:ext cx="198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143000"/>
                <a:tab algn="l" pos="2286000"/>
                <a:tab algn="l" pos="2641680"/>
                <a:tab algn="l" pos="3301920"/>
                <a:tab algn="l" pos="3962520"/>
                <a:tab algn="l" pos="4622760"/>
                <a:tab algn="l" pos="5283360"/>
                <a:tab algn="l" pos="5943600"/>
                <a:tab algn="l" pos="6603840"/>
                <a:tab algn="l" pos="7264440"/>
                <a:tab algn="l" pos="7924680"/>
                <a:tab algn="l" pos="8585280"/>
                <a:tab algn="l" pos="9245520"/>
                <a:tab algn="l" pos="9906120"/>
                <a:tab algn="l" pos="1056636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Arial"/>
              </a:rPr>
              <a:t>Properti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4724280" y="1828800"/>
            <a:ext cx="37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143000"/>
                <a:tab algn="l" pos="2286000"/>
                <a:tab algn="l" pos="2641680"/>
                <a:tab algn="l" pos="3301920"/>
                <a:tab algn="l" pos="3962520"/>
                <a:tab algn="l" pos="4622760"/>
                <a:tab algn="l" pos="5283360"/>
                <a:tab algn="l" pos="5943600"/>
                <a:tab algn="l" pos="6603840"/>
                <a:tab algn="l" pos="7264440"/>
                <a:tab algn="l" pos="7924680"/>
                <a:tab algn="l" pos="8585280"/>
                <a:tab algn="l" pos="9245520"/>
                <a:tab algn="l" pos="9906120"/>
                <a:tab algn="l" pos="10566360"/>
              </a:tabLst>
            </a:pPr>
            <a:r>
              <a:rPr b="1" lang="en-US" sz="1800" spc="-1" strike="noStrike">
                <a:solidFill>
                  <a:srgbClr val="cc0066"/>
                </a:solidFill>
                <a:latin typeface="Arial"/>
              </a:rPr>
              <a:t>Weighted minimum distan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4800600" y="5356080"/>
            <a:ext cx="3657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66"/>
                </a:solidFill>
                <a:latin typeface="Arial"/>
              </a:rPr>
              <a:t>Maximum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of minimum distances: 1.8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66"/>
                </a:solidFill>
                <a:latin typeface="Arial"/>
              </a:rPr>
              <a:t>Mean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of minimum distances:  0.7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 type="title"/>
          </p:nvPr>
        </p:nvSpPr>
        <p:spPr>
          <a:xfrm>
            <a:off x="644400" y="9140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Arial"/>
              </a:rPr>
              <a:t>Point regions : Weighted minimum distance</a:t>
            </a: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5127480" y="4960800"/>
            <a:ext cx="310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143000"/>
                <a:tab algn="l" pos="2286000"/>
                <a:tab algn="l" pos="2641680"/>
                <a:tab algn="l" pos="3301920"/>
                <a:tab algn="l" pos="3962520"/>
                <a:tab algn="l" pos="4622760"/>
                <a:tab algn="l" pos="5283360"/>
                <a:tab algn="l" pos="5943600"/>
                <a:tab algn="l" pos="6603840"/>
                <a:tab algn="l" pos="7264440"/>
                <a:tab algn="l" pos="7924680"/>
                <a:tab algn="l" pos="8585280"/>
                <a:tab algn="l" pos="9245520"/>
                <a:tab algn="l" pos="9906120"/>
                <a:tab algn="l" pos="105663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ordinate X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 flipH="1" rot="16200000">
            <a:off x="4631760" y="3400200"/>
            <a:ext cx="113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ordinate 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Arial"/>
              </a:rPr>
              <a:t>Unit 4: Weighted spatial pattern and neighborhood</a:t>
            </a: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68440" y="1981080"/>
            <a:ext cx="811836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520560" indent="-520560">
              <a:lnSpc>
                <a:spcPct val="100000"/>
              </a:lnSpc>
              <a:spcBef>
                <a:spcPts val="1151"/>
              </a:spcBef>
              <a:tabLst>
                <a:tab algn="l" pos="0"/>
                <a:tab algn="l" pos="133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A: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marL="520560" indent="-520560">
              <a:lnSpc>
                <a:spcPct val="100000"/>
              </a:lnSpc>
              <a:spcBef>
                <a:spcPts val="1151"/>
              </a:spcBef>
              <a:tabLst>
                <a:tab algn="l" pos="0"/>
                <a:tab algn="l" pos="133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B: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Weighted spatial pattern and neighborhood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lvl="1" marL="920880" indent="-285840">
              <a:lnSpc>
                <a:spcPct val="100000"/>
              </a:lnSpc>
              <a:spcBef>
                <a:spcPts val="55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133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r point feature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920880" indent="-285840">
              <a:lnSpc>
                <a:spcPct val="100000"/>
              </a:lnSpc>
              <a:spcBef>
                <a:spcPts val="55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133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r linear feature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920880" indent="-285840">
              <a:lnSpc>
                <a:spcPct val="100000"/>
              </a:lnSpc>
              <a:spcBef>
                <a:spcPts val="55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133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r areal feature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5" name="" descr=""/>
          <p:cNvPicPr/>
          <p:nvPr/>
        </p:nvPicPr>
        <p:blipFill>
          <a:blip r:embed="rId1"/>
          <a:stretch/>
        </p:blipFill>
        <p:spPr>
          <a:xfrm>
            <a:off x="5486400" y="2438280"/>
            <a:ext cx="2655720" cy="2354400"/>
          </a:xfrm>
          <a:prstGeom prst="rect">
            <a:avLst/>
          </a:prstGeom>
          <a:ln w="0">
            <a:noFill/>
          </a:ln>
        </p:spPr>
      </p:pic>
      <p:grpSp>
        <p:nvGrpSpPr>
          <p:cNvPr id="716" name=""/>
          <p:cNvGrpSpPr/>
          <p:nvPr/>
        </p:nvGrpSpPr>
        <p:grpSpPr>
          <a:xfrm>
            <a:off x="5334120" y="2363760"/>
            <a:ext cx="2604240" cy="2665080"/>
            <a:chOff x="5334120" y="2363760"/>
            <a:chExt cx="2604240" cy="2665080"/>
          </a:xfrm>
        </p:grpSpPr>
        <p:sp>
          <p:nvSpPr>
            <p:cNvPr id="717" name=""/>
            <p:cNvSpPr/>
            <p:nvPr/>
          </p:nvSpPr>
          <p:spPr>
            <a:xfrm flipV="1">
              <a:off x="5491800" y="2431800"/>
              <a:ext cx="1080" cy="235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flipH="1">
              <a:off x="5457240" y="4787640"/>
              <a:ext cx="345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 flipH="1">
              <a:off x="5474160" y="4668840"/>
              <a:ext cx="172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385960" y="47178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 flipH="1">
              <a:off x="5457240" y="4551120"/>
              <a:ext cx="345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 flipH="1">
              <a:off x="5474160" y="4433760"/>
              <a:ext cx="172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5385960" y="44830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 flipH="1">
              <a:off x="5457240" y="4316400"/>
              <a:ext cx="345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 flipH="1">
              <a:off x="5474160" y="4198680"/>
              <a:ext cx="172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5385960" y="42480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 flipH="1">
              <a:off x="5457240" y="4081320"/>
              <a:ext cx="345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 flipH="1">
              <a:off x="5474160" y="3962160"/>
              <a:ext cx="172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5385960" y="40114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 flipH="1">
              <a:off x="5457240" y="3844800"/>
              <a:ext cx="345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 flipH="1">
              <a:off x="5474160" y="3727440"/>
              <a:ext cx="172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5385960" y="37764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 flipH="1">
              <a:off x="5457240" y="3609720"/>
              <a:ext cx="345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 flipH="1">
              <a:off x="5474160" y="3492360"/>
              <a:ext cx="172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5385960" y="35416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 flipH="1">
              <a:off x="5457240" y="3375000"/>
              <a:ext cx="345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 flipH="1">
              <a:off x="5474160" y="3255840"/>
              <a:ext cx="172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5385960" y="33051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 flipH="1">
              <a:off x="5457240" y="3138480"/>
              <a:ext cx="345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 flipH="1">
              <a:off x="5474160" y="3020760"/>
              <a:ext cx="172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5385960" y="30700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 flipH="1">
              <a:off x="5457240" y="2903400"/>
              <a:ext cx="345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 flipH="1">
              <a:off x="5474160" y="2786040"/>
              <a:ext cx="172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5385960" y="28350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 flipH="1">
              <a:off x="5457240" y="2668320"/>
              <a:ext cx="345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 flipH="1">
              <a:off x="5474160" y="2549520"/>
              <a:ext cx="172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5385960" y="25984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 flipH="1">
              <a:off x="5457240" y="2427120"/>
              <a:ext cx="345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5334120" y="2363760"/>
              <a:ext cx="113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5736240" y="4787640"/>
              <a:ext cx="21362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5491800" y="4787640"/>
              <a:ext cx="108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5861160" y="4787640"/>
              <a:ext cx="108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5713200" y="49053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5978160" y="4787640"/>
              <a:ext cx="144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6101280" y="4787640"/>
              <a:ext cx="108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5954400" y="49053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6333120" y="4787640"/>
              <a:ext cx="144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6186240" y="49053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448320" y="4787640"/>
              <a:ext cx="144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6573240" y="4787640"/>
              <a:ext cx="108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424920" y="49053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688440" y="4787640"/>
              <a:ext cx="144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6813360" y="4787640"/>
              <a:ext cx="108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6666120" y="49053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920640" y="4787640"/>
              <a:ext cx="108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7045200" y="4787640"/>
              <a:ext cx="108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6897600" y="49053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7285320" y="4787640"/>
              <a:ext cx="144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7138440" y="49053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400520" y="4787640"/>
              <a:ext cx="144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7525440" y="4787640"/>
              <a:ext cx="108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7378200" y="49053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7632360" y="4787640"/>
              <a:ext cx="144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7755480" y="4787640"/>
              <a:ext cx="144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7608960" y="49053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7872840" y="4787640"/>
              <a:ext cx="108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7824960" y="4905360"/>
              <a:ext cx="113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5493240" y="2427120"/>
              <a:ext cx="23792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V="1">
              <a:off x="7872840" y="2431800"/>
              <a:ext cx="1080" cy="235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5493240" y="4787640"/>
              <a:ext cx="23792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 flipV="1">
              <a:off x="5491800" y="2431800"/>
              <a:ext cx="1080" cy="235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5618160" y="4789440"/>
              <a:ext cx="108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5471640" y="49068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5734800" y="4789440"/>
              <a:ext cx="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6215040" y="4787640"/>
              <a:ext cx="108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7152840" y="4787640"/>
              <a:ext cx="108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87" name=""/>
          <p:cNvSpPr/>
          <p:nvPr/>
        </p:nvSpPr>
        <p:spPr>
          <a:xfrm>
            <a:off x="5791320" y="3581280"/>
            <a:ext cx="183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6170760" y="4505400"/>
            <a:ext cx="183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6864480" y="4210200"/>
            <a:ext cx="22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6705720" y="3886200"/>
            <a:ext cx="22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6332400" y="3408480"/>
            <a:ext cx="22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7162920" y="3733920"/>
            <a:ext cx="22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F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7162920" y="3260880"/>
            <a:ext cx="22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4d4d4d"/>
                </a:solidFill>
                <a:latin typeface="Arial"/>
              </a:rPr>
              <a:t>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7238880" y="2743200"/>
            <a:ext cx="22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/>
          </p:nvPr>
        </p:nvSpPr>
        <p:spPr>
          <a:xfrm>
            <a:off x="644040" y="1752480"/>
            <a:ext cx="3775320" cy="4114800"/>
          </a:xfrm>
          <a:prstGeom prst="rect">
            <a:avLst/>
          </a:prstGeom>
          <a:noFill/>
          <a:ln w="12600">
            <a:solidFill>
              <a:srgbClr val="333333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2919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79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mage cells are assigned to the point region with the largest weighted proximit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79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pace is divided into areal regions of </a:t>
            </a:r>
            <a:r>
              <a:rPr b="1" lang="en-US" sz="1600" spc="-1" strike="noStrike">
                <a:solidFill>
                  <a:srgbClr val="cc0066"/>
                </a:solidFill>
                <a:latin typeface="Arial"/>
              </a:rPr>
              <a:t>largest weighted proximit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to their cen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79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mage values </a:t>
            </a:r>
            <a:r>
              <a:rPr b="1" lang="en-US" sz="1600" spc="-1" strike="noStrike">
                <a:solidFill>
                  <a:srgbClr val="cc0066"/>
                </a:solidFill>
                <a:latin typeface="Arial"/>
              </a:rPr>
              <a:t>identify the point reg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having the largest weighted proximity. This information adds to the distance value computed abo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4723920" y="1752480"/>
            <a:ext cx="3768840" cy="4114800"/>
          </a:xfrm>
          <a:prstGeom prst="rect">
            <a:avLst/>
          </a:prstGeom>
          <a:noFill/>
          <a:ln w="12600">
            <a:solidFill>
              <a:srgbClr val="333333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1523880" y="1812960"/>
            <a:ext cx="198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143000"/>
                <a:tab algn="l" pos="2286000"/>
                <a:tab algn="l" pos="2641680"/>
                <a:tab algn="l" pos="3301920"/>
                <a:tab algn="l" pos="3962520"/>
                <a:tab algn="l" pos="4622760"/>
                <a:tab algn="l" pos="5283360"/>
                <a:tab algn="l" pos="5943600"/>
                <a:tab algn="l" pos="6603840"/>
                <a:tab algn="l" pos="7264440"/>
                <a:tab algn="l" pos="7924680"/>
                <a:tab algn="l" pos="8585280"/>
                <a:tab algn="l" pos="9245520"/>
                <a:tab algn="l" pos="9906120"/>
                <a:tab algn="l" pos="1056636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Arial"/>
              </a:rPr>
              <a:t>Properti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4670280" y="175248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143000"/>
                <a:tab algn="l" pos="2286000"/>
                <a:tab algn="l" pos="2641680"/>
                <a:tab algn="l" pos="3301920"/>
                <a:tab algn="l" pos="3962520"/>
                <a:tab algn="l" pos="4622760"/>
                <a:tab algn="l" pos="5283360"/>
                <a:tab algn="l" pos="5943600"/>
                <a:tab algn="l" pos="6603840"/>
                <a:tab algn="l" pos="7264440"/>
                <a:tab algn="l" pos="7924680"/>
                <a:tab algn="l" pos="8585280"/>
                <a:tab algn="l" pos="9245520"/>
                <a:tab algn="l" pos="9906120"/>
                <a:tab algn="l" pos="10566360"/>
              </a:tabLst>
            </a:pPr>
            <a:r>
              <a:rPr b="1" lang="en-US" sz="1800" spc="-1" strike="noStrike">
                <a:solidFill>
                  <a:srgbClr val="cc0066"/>
                </a:solidFill>
                <a:latin typeface="Arial"/>
              </a:rPr>
              <a:t>Regions of largest weighted proximit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 type="title"/>
          </p:nvPr>
        </p:nvSpPr>
        <p:spPr>
          <a:xfrm>
            <a:off x="644400" y="914040"/>
            <a:ext cx="8042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Point regions : Regions of largest weighted proximity</a:t>
            </a: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>
            <a:off x="5127480" y="4960800"/>
            <a:ext cx="310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143000"/>
                <a:tab algn="l" pos="2286000"/>
                <a:tab algn="l" pos="2641680"/>
                <a:tab algn="l" pos="3301920"/>
                <a:tab algn="l" pos="3962520"/>
                <a:tab algn="l" pos="4622760"/>
                <a:tab algn="l" pos="5283360"/>
                <a:tab algn="l" pos="5943600"/>
                <a:tab algn="l" pos="6603840"/>
                <a:tab algn="l" pos="7264440"/>
                <a:tab algn="l" pos="7924680"/>
                <a:tab algn="l" pos="8585280"/>
                <a:tab algn="l" pos="9245520"/>
                <a:tab algn="l" pos="9906120"/>
                <a:tab algn="l" pos="105663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ordinate X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 flipH="1" rot="16200000">
            <a:off x="4631760" y="3400200"/>
            <a:ext cx="113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ordinate 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4876920" y="5410080"/>
            <a:ext cx="343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ttribution to the closest point region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3" name=""/>
          <p:cNvGrpSpPr/>
          <p:nvPr/>
        </p:nvGrpSpPr>
        <p:grpSpPr>
          <a:xfrm>
            <a:off x="428760" y="1630440"/>
            <a:ext cx="1162080" cy="1341360"/>
            <a:chOff x="428760" y="1630440"/>
            <a:chExt cx="1162080" cy="1341360"/>
          </a:xfrm>
        </p:grpSpPr>
        <p:sp>
          <p:nvSpPr>
            <p:cNvPr id="804" name=""/>
            <p:cNvSpPr/>
            <p:nvPr/>
          </p:nvSpPr>
          <p:spPr>
            <a:xfrm rot="5400000">
              <a:off x="338760" y="1720080"/>
              <a:ext cx="1341360" cy="1162080"/>
            </a:xfrm>
            <a:prstGeom prst="triangle">
              <a:avLst>
                <a:gd name="adj" fmla="val 50000"/>
              </a:avLst>
            </a:prstGeom>
            <a:solidFill>
              <a:srgbClr val="800000"/>
            </a:solidFill>
            <a:ln w="0">
              <a:noFill/>
            </a:ln>
            <a:effectLst>
              <a:outerShdw dist="17819" dir="2700000" blurRad="0" rotWithShape="0">
                <a:srgbClr val="0000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552600" y="1905120"/>
              <a:ext cx="5007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CH" sz="4400" spc="-1" strike="noStrike">
                  <a:solidFill>
                    <a:srgbClr val="ffffff"/>
                  </a:solidFill>
                  <a:latin typeface="Verdana"/>
                </a:rPr>
                <a:t>3</a:t>
              </a:r>
              <a:endParaRPr b="0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06" name=""/>
          <p:cNvSpPr/>
          <p:nvPr/>
        </p:nvSpPr>
        <p:spPr>
          <a:xfrm>
            <a:off x="2135160" y="2016000"/>
            <a:ext cx="6399360" cy="1793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800000"/>
                </a:solidFill>
                <a:latin typeface="Arial"/>
              </a:rPr>
              <a:t>Weighted neighborhood of linear features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/>
          </p:nvPr>
        </p:nvSpPr>
        <p:spPr>
          <a:xfrm>
            <a:off x="533520" y="1600200"/>
            <a:ext cx="8076960" cy="419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699ff"/>
                </a:solidFill>
                <a:latin typeface="Arial"/>
              </a:rPr>
              <a:t>Different indicators for the spatial relationships of linear featur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eighborhood relationships description: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5480">
              <a:spcBef>
                <a:spcPts val="49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ighted distance to feat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5480">
              <a:spcBef>
                <a:spcPts val="524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eas and regions of largest weighted proximity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 type="title"/>
          </p:nvPr>
        </p:nvSpPr>
        <p:spPr>
          <a:xfrm>
            <a:off x="644400" y="9140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Arial"/>
              </a:rPr>
              <a:t>Linear features: Weighted spatial neighborhood</a:t>
            </a: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/>
          </p:nvPr>
        </p:nvSpPr>
        <p:spPr>
          <a:xfrm>
            <a:off x="644400" y="1752480"/>
            <a:ext cx="3927600" cy="4114800"/>
          </a:xfrm>
          <a:prstGeom prst="rect">
            <a:avLst/>
          </a:prstGeom>
          <a:noFill/>
          <a:ln w="12600">
            <a:solidFill>
              <a:srgbClr val="333333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291960"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cc0066"/>
                </a:solidFill>
                <a:latin typeface="Arial"/>
              </a:rPr>
              <a:t>Thematic properties of features (weight)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91960"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4723920" y="1752480"/>
            <a:ext cx="3768840" cy="4114800"/>
          </a:xfrm>
          <a:prstGeom prst="rect">
            <a:avLst/>
          </a:prstGeom>
          <a:noFill/>
          <a:ln w="12600">
            <a:solidFill>
              <a:srgbClr val="333333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cc0066"/>
                </a:solidFill>
                <a:latin typeface="Arial"/>
              </a:rPr>
              <a:t>Spatial distribution of the 8 linear featur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6221520" y="2903400"/>
            <a:ext cx="177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ff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 flipV="1">
            <a:off x="5983200" y="2928600"/>
            <a:ext cx="214560" cy="469800"/>
          </a:xfrm>
          <a:prstGeom prst="line">
            <a:avLst/>
          </a:prstGeom>
          <a:ln w="572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 flipV="1">
            <a:off x="6197760" y="2693520"/>
            <a:ext cx="715680" cy="235080"/>
          </a:xfrm>
          <a:prstGeom prst="line">
            <a:avLst/>
          </a:prstGeom>
          <a:ln w="572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 flipV="1">
            <a:off x="5983200" y="3879360"/>
            <a:ext cx="214560" cy="236520"/>
          </a:xfrm>
          <a:prstGeom prst="line">
            <a:avLst/>
          </a:prstGeom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6197760" y="3879720"/>
            <a:ext cx="500040" cy="236520"/>
          </a:xfrm>
          <a:prstGeom prst="line">
            <a:avLst/>
          </a:prstGeom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6424560" y="3649680"/>
            <a:ext cx="287280" cy="471600"/>
          </a:xfrm>
          <a:prstGeom prst="line">
            <a:avLst/>
          </a:prstGeom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6697800" y="4121280"/>
            <a:ext cx="215640" cy="234720"/>
          </a:xfrm>
          <a:prstGeom prst="line">
            <a:avLst/>
          </a:prstGeom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6178680" y="4576680"/>
            <a:ext cx="287280" cy="0"/>
          </a:xfrm>
          <a:prstGeom prst="line">
            <a:avLst/>
          </a:prstGeom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 flipV="1">
            <a:off x="6461280" y="4346640"/>
            <a:ext cx="428400" cy="234720"/>
          </a:xfrm>
          <a:prstGeom prst="line">
            <a:avLst/>
          </a:prstGeom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 flipV="1">
            <a:off x="6899400" y="3879720"/>
            <a:ext cx="285480" cy="471600"/>
          </a:xfrm>
          <a:prstGeom prst="line">
            <a:avLst/>
          </a:prstGeom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 flipV="1">
            <a:off x="7418520" y="3875040"/>
            <a:ext cx="214200" cy="706320"/>
          </a:xfrm>
          <a:prstGeom prst="line">
            <a:avLst/>
          </a:prstGeom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7140600" y="3409920"/>
            <a:ext cx="501480" cy="469800"/>
          </a:xfrm>
          <a:prstGeom prst="line">
            <a:avLst/>
          </a:prstGeom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 flipV="1">
            <a:off x="7155000" y="2693880"/>
            <a:ext cx="500040" cy="704880"/>
          </a:xfrm>
          <a:prstGeom prst="line">
            <a:avLst/>
          </a:prstGeom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6172200" y="3851280"/>
            <a:ext cx="50760" cy="554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5924520" y="4075200"/>
            <a:ext cx="82440" cy="921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6154560" y="4533840"/>
            <a:ext cx="84240" cy="921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6429240" y="4552920"/>
            <a:ext cx="50760" cy="554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6413400" y="3595680"/>
            <a:ext cx="82800" cy="921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6653160" y="4075200"/>
            <a:ext cx="84240" cy="921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6870600" y="4303800"/>
            <a:ext cx="84240" cy="921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7129440" y="3832200"/>
            <a:ext cx="82440" cy="921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7128000" y="3360600"/>
            <a:ext cx="82440" cy="9072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7365960" y="4533840"/>
            <a:ext cx="84240" cy="921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7608960" y="3851280"/>
            <a:ext cx="50760" cy="554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7593120" y="2654280"/>
            <a:ext cx="82440" cy="903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5924520" y="3360600"/>
            <a:ext cx="82440" cy="9072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6172200" y="2903400"/>
            <a:ext cx="50760" cy="558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6869160" y="2654280"/>
            <a:ext cx="84240" cy="903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5992920" y="3689280"/>
            <a:ext cx="17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ff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6566040" y="3689280"/>
            <a:ext cx="177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ff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7066080" y="4003560"/>
            <a:ext cx="17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ff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6477120" y="4514760"/>
            <a:ext cx="17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ff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6647040" y="4154400"/>
            <a:ext cx="17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ff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7209000" y="2825640"/>
            <a:ext cx="17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ff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7642080" y="3917880"/>
            <a:ext cx="179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ff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46" name=""/>
          <p:cNvGrpSpPr/>
          <p:nvPr/>
        </p:nvGrpSpPr>
        <p:grpSpPr>
          <a:xfrm>
            <a:off x="5334480" y="2394000"/>
            <a:ext cx="2618280" cy="2665080"/>
            <a:chOff x="5334480" y="2394000"/>
            <a:chExt cx="2618280" cy="2665080"/>
          </a:xfrm>
        </p:grpSpPr>
        <p:sp>
          <p:nvSpPr>
            <p:cNvPr id="847" name=""/>
            <p:cNvSpPr/>
            <p:nvPr/>
          </p:nvSpPr>
          <p:spPr>
            <a:xfrm flipV="1">
              <a:off x="5492880" y="2462040"/>
              <a:ext cx="1440" cy="235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 flipH="1">
              <a:off x="5457600" y="4817880"/>
              <a:ext cx="349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 flipH="1">
              <a:off x="5474880" y="4699080"/>
              <a:ext cx="17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386320" y="47480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 flipH="1">
              <a:off x="5457600" y="4581360"/>
              <a:ext cx="349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 flipH="1">
              <a:off x="5474880" y="4464000"/>
              <a:ext cx="17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386320" y="45133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 flipH="1">
              <a:off x="5457600" y="4346640"/>
              <a:ext cx="34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 flipH="1">
              <a:off x="5474880" y="4228920"/>
              <a:ext cx="176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386320" y="42782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 flipH="1">
              <a:off x="5457600" y="4111560"/>
              <a:ext cx="34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 flipH="1">
              <a:off x="5474880" y="3992400"/>
              <a:ext cx="176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5386320" y="40417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 flipH="1">
              <a:off x="5457600" y="3875040"/>
              <a:ext cx="34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 flipH="1">
              <a:off x="5474880" y="3757680"/>
              <a:ext cx="17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5386320" y="38066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 flipH="1">
              <a:off x="5457600" y="3639960"/>
              <a:ext cx="349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 flipH="1">
              <a:off x="5474880" y="3522600"/>
              <a:ext cx="17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5386320" y="35719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flipH="1">
              <a:off x="5457600" y="3405240"/>
              <a:ext cx="34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 flipH="1">
              <a:off x="5474880" y="3286080"/>
              <a:ext cx="17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5386320" y="33354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 flipH="1">
              <a:off x="5457600" y="3168720"/>
              <a:ext cx="34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 flipH="1">
              <a:off x="5474880" y="3051000"/>
              <a:ext cx="176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5386320" y="31003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 flipH="1">
              <a:off x="5457600" y="2933640"/>
              <a:ext cx="34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 flipH="1">
              <a:off x="5474880" y="2816280"/>
              <a:ext cx="17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386320" y="28652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 flipH="1">
              <a:off x="5457600" y="2698560"/>
              <a:ext cx="349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 flipH="1">
              <a:off x="5474880" y="2579760"/>
              <a:ext cx="17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5386320" y="26287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 flipH="1">
              <a:off x="5457600" y="2457360"/>
              <a:ext cx="34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5334480" y="2394000"/>
              <a:ext cx="113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5738760" y="4817880"/>
              <a:ext cx="21481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5492880" y="4817880"/>
              <a:ext cx="144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5864400" y="4817880"/>
              <a:ext cx="144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715000" y="49356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5981760" y="4817880"/>
              <a:ext cx="180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6105600" y="4817880"/>
              <a:ext cx="144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5958000" y="49356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6338880" y="4817880"/>
              <a:ext cx="180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6191280" y="49356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454800" y="4817880"/>
              <a:ext cx="180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6580440" y="4817880"/>
              <a:ext cx="144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6431040" y="49356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6696000" y="4817880"/>
              <a:ext cx="180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6821640" y="4817880"/>
              <a:ext cx="144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6674040" y="49356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6929640" y="4817880"/>
              <a:ext cx="144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7054920" y="4817880"/>
              <a:ext cx="144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6905880" y="49356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7296120" y="4817880"/>
              <a:ext cx="180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7148520" y="49356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7412040" y="4817880"/>
              <a:ext cx="180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7537680" y="4817880"/>
              <a:ext cx="144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7390080" y="49356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7645320" y="4817880"/>
              <a:ext cx="180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7769160" y="4817880"/>
              <a:ext cx="180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7621560" y="49356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7886880" y="4817880"/>
              <a:ext cx="144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7839360" y="4935600"/>
              <a:ext cx="113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5494320" y="2457360"/>
              <a:ext cx="23925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 flipV="1">
              <a:off x="7886880" y="2462040"/>
              <a:ext cx="1440" cy="235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5494320" y="4817880"/>
              <a:ext cx="23925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 flipV="1">
              <a:off x="5492880" y="2462040"/>
              <a:ext cx="1440" cy="235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5619960" y="4819680"/>
              <a:ext cx="144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5472360" y="49370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5737320" y="4819680"/>
              <a:ext cx="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6220080" y="4817880"/>
              <a:ext cx="144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7162920" y="4817880"/>
              <a:ext cx="144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917" name=""/>
          <p:cNvGraphicFramePr/>
          <p:nvPr/>
        </p:nvGraphicFramePr>
        <p:xfrm>
          <a:off x="1752480" y="2743200"/>
          <a:ext cx="1911600" cy="2482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743200"/>
                    <a:ext cx="1911600" cy="248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19" name=""/>
          <p:cNvSpPr/>
          <p:nvPr/>
        </p:nvSpPr>
        <p:spPr>
          <a:xfrm>
            <a:off x="6781680" y="5378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Weight 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7924680" y="5137200"/>
            <a:ext cx="457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7620120" y="5291280"/>
            <a:ext cx="228600" cy="0"/>
          </a:xfrm>
          <a:prstGeom prst="line">
            <a:avLst/>
          </a:prstGeom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7620120" y="5497560"/>
            <a:ext cx="228600" cy="0"/>
          </a:xfrm>
          <a:prstGeom prst="line">
            <a:avLst/>
          </a:prstGeom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7620120" y="5715000"/>
            <a:ext cx="228600" cy="0"/>
          </a:xfrm>
          <a:prstGeom prst="line">
            <a:avLst/>
          </a:prstGeom>
          <a:ln w="572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5102280" y="5410080"/>
            <a:ext cx="1069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n : identifi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 type="title"/>
          </p:nvPr>
        </p:nvSpPr>
        <p:spPr>
          <a:xfrm>
            <a:off x="644400" y="9140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Arial"/>
              </a:rPr>
              <a:t>Linear features: Example of a distribution</a:t>
            </a: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26" name=""/>
          <p:cNvSpPr/>
          <p:nvPr/>
        </p:nvSpPr>
        <p:spPr>
          <a:xfrm>
            <a:off x="5127480" y="5079960"/>
            <a:ext cx="310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143000"/>
                <a:tab algn="l" pos="2286000"/>
                <a:tab algn="l" pos="2641680"/>
                <a:tab algn="l" pos="3301920"/>
                <a:tab algn="l" pos="3962520"/>
                <a:tab algn="l" pos="4622760"/>
                <a:tab algn="l" pos="5283360"/>
                <a:tab algn="l" pos="5943600"/>
                <a:tab algn="l" pos="6603840"/>
                <a:tab algn="l" pos="7264440"/>
                <a:tab algn="l" pos="7924680"/>
                <a:tab algn="l" pos="8585280"/>
                <a:tab algn="l" pos="9245520"/>
                <a:tab algn="l" pos="9906120"/>
                <a:tab algn="l" pos="105663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ordinate X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 flipH="1" rot="16200000">
            <a:off x="4631760" y="3400200"/>
            <a:ext cx="113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ordinate 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/>
          </p:nvPr>
        </p:nvSpPr>
        <p:spPr>
          <a:xfrm>
            <a:off x="4648320" y="1752480"/>
            <a:ext cx="3962160" cy="4114800"/>
          </a:xfrm>
          <a:prstGeom prst="rect">
            <a:avLst/>
          </a:prstGeom>
          <a:noFill/>
          <a:ln w="12600">
            <a:solidFill>
              <a:srgbClr val="333333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 flipV="1">
            <a:off x="5983200" y="2973240"/>
            <a:ext cx="214560" cy="470160"/>
          </a:xfrm>
          <a:prstGeom prst="line">
            <a:avLst/>
          </a:prstGeom>
          <a:ln w="572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 flipV="1">
            <a:off x="6197760" y="2738520"/>
            <a:ext cx="715680" cy="234720"/>
          </a:xfrm>
          <a:prstGeom prst="line">
            <a:avLst/>
          </a:prstGeom>
          <a:ln w="572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 flipV="1">
            <a:off x="5983200" y="3924000"/>
            <a:ext cx="214560" cy="236520"/>
          </a:xfrm>
          <a:prstGeom prst="line">
            <a:avLst/>
          </a:prstGeom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6197760" y="3924360"/>
            <a:ext cx="500040" cy="236520"/>
          </a:xfrm>
          <a:prstGeom prst="line">
            <a:avLst/>
          </a:prstGeom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6424560" y="3693960"/>
            <a:ext cx="287280" cy="471600"/>
          </a:xfrm>
          <a:prstGeom prst="line">
            <a:avLst/>
          </a:prstGeom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6697800" y="4165560"/>
            <a:ext cx="215640" cy="235080"/>
          </a:xfrm>
          <a:prstGeom prst="line">
            <a:avLst/>
          </a:prstGeom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178680" y="4621320"/>
            <a:ext cx="287280" cy="0"/>
          </a:xfrm>
          <a:prstGeom prst="line">
            <a:avLst/>
          </a:prstGeom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 flipV="1">
            <a:off x="6461280" y="4390560"/>
            <a:ext cx="428400" cy="235080"/>
          </a:xfrm>
          <a:prstGeom prst="line">
            <a:avLst/>
          </a:prstGeom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 flipV="1">
            <a:off x="6899400" y="3924360"/>
            <a:ext cx="285480" cy="471600"/>
          </a:xfrm>
          <a:prstGeom prst="line">
            <a:avLst/>
          </a:prstGeom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 flipV="1">
            <a:off x="7418520" y="3919680"/>
            <a:ext cx="214200" cy="706320"/>
          </a:xfrm>
          <a:prstGeom prst="line">
            <a:avLst/>
          </a:prstGeom>
          <a:ln w="381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7140600" y="3454560"/>
            <a:ext cx="501480" cy="469800"/>
          </a:xfrm>
          <a:prstGeom prst="line">
            <a:avLst/>
          </a:prstGeom>
          <a:ln w="381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 flipV="1">
            <a:off x="7155000" y="2738520"/>
            <a:ext cx="500040" cy="704880"/>
          </a:xfrm>
          <a:prstGeom prst="line">
            <a:avLst/>
          </a:prstGeom>
          <a:ln w="381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6172200" y="3895560"/>
            <a:ext cx="50760" cy="558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924520" y="4119480"/>
            <a:ext cx="82440" cy="92160"/>
          </a:xfrm>
          <a:prstGeom prst="rect">
            <a:avLst/>
          </a:prstGeom>
          <a:solidFill>
            <a:srgbClr val="ffff00"/>
          </a:solidFill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6154560" y="4578480"/>
            <a:ext cx="84240" cy="91800"/>
          </a:xfrm>
          <a:prstGeom prst="rect">
            <a:avLst/>
          </a:prstGeom>
          <a:solidFill>
            <a:srgbClr val="ffff00"/>
          </a:solidFill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6429240" y="4597560"/>
            <a:ext cx="50760" cy="554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6413400" y="3639960"/>
            <a:ext cx="82800" cy="92160"/>
          </a:xfrm>
          <a:prstGeom prst="rect">
            <a:avLst/>
          </a:prstGeom>
          <a:solidFill>
            <a:srgbClr val="ffff00"/>
          </a:solidFill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6653160" y="4119480"/>
            <a:ext cx="84240" cy="92160"/>
          </a:xfrm>
          <a:prstGeom prst="rect">
            <a:avLst/>
          </a:prstGeom>
          <a:solidFill>
            <a:srgbClr val="ffff00"/>
          </a:solidFill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6870600" y="4348080"/>
            <a:ext cx="84240" cy="92160"/>
          </a:xfrm>
          <a:prstGeom prst="rect">
            <a:avLst/>
          </a:prstGeom>
          <a:solidFill>
            <a:srgbClr val="ffff00"/>
          </a:solidFill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7129440" y="3876840"/>
            <a:ext cx="82440" cy="91800"/>
          </a:xfrm>
          <a:prstGeom prst="rect">
            <a:avLst/>
          </a:prstGeom>
          <a:solidFill>
            <a:srgbClr val="ffff00"/>
          </a:solidFill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7128000" y="3405240"/>
            <a:ext cx="82440" cy="90360"/>
          </a:xfrm>
          <a:prstGeom prst="rect">
            <a:avLst/>
          </a:prstGeom>
          <a:solidFill>
            <a:srgbClr val="ffff00"/>
          </a:solidFill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7365960" y="4578480"/>
            <a:ext cx="84240" cy="91800"/>
          </a:xfrm>
          <a:prstGeom prst="rect">
            <a:avLst/>
          </a:prstGeom>
          <a:solidFill>
            <a:srgbClr val="ffff00"/>
          </a:solidFill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7608960" y="3895560"/>
            <a:ext cx="50760" cy="558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7593120" y="2698920"/>
            <a:ext cx="82440" cy="90360"/>
          </a:xfrm>
          <a:prstGeom prst="rect">
            <a:avLst/>
          </a:prstGeom>
          <a:solidFill>
            <a:srgbClr val="ffff00"/>
          </a:solidFill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5924520" y="3405240"/>
            <a:ext cx="82440" cy="90360"/>
          </a:xfrm>
          <a:prstGeom prst="rect">
            <a:avLst/>
          </a:prstGeom>
          <a:solidFill>
            <a:srgbClr val="ffff00"/>
          </a:solidFill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6172200" y="2948040"/>
            <a:ext cx="50760" cy="554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6869160" y="2698920"/>
            <a:ext cx="84240" cy="90360"/>
          </a:xfrm>
          <a:prstGeom prst="rect">
            <a:avLst/>
          </a:prstGeom>
          <a:solidFill>
            <a:srgbClr val="ffff00"/>
          </a:solidFill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56" name=""/>
          <p:cNvGrpSpPr/>
          <p:nvPr/>
        </p:nvGrpSpPr>
        <p:grpSpPr>
          <a:xfrm>
            <a:off x="5334480" y="2438280"/>
            <a:ext cx="2618280" cy="2665080"/>
            <a:chOff x="5334480" y="2438280"/>
            <a:chExt cx="2618280" cy="2665080"/>
          </a:xfrm>
        </p:grpSpPr>
        <p:sp>
          <p:nvSpPr>
            <p:cNvPr id="957" name=""/>
            <p:cNvSpPr/>
            <p:nvPr/>
          </p:nvSpPr>
          <p:spPr>
            <a:xfrm flipV="1">
              <a:off x="5492880" y="2506320"/>
              <a:ext cx="1440" cy="235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 flipH="1">
              <a:off x="5457600" y="4862160"/>
              <a:ext cx="349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 flipH="1">
              <a:off x="5474880" y="4743360"/>
              <a:ext cx="17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5386320" y="47923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 flipH="1">
              <a:off x="5457600" y="4625640"/>
              <a:ext cx="349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 flipH="1">
              <a:off x="5474880" y="4508280"/>
              <a:ext cx="17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5386320" y="45576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 flipH="1">
              <a:off x="5457600" y="4390920"/>
              <a:ext cx="34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 flipH="1">
              <a:off x="5474880" y="4273200"/>
              <a:ext cx="176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5386320" y="43225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 flipH="1">
              <a:off x="5457600" y="4155840"/>
              <a:ext cx="34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 flipH="1">
              <a:off x="5474880" y="4036680"/>
              <a:ext cx="176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5386320" y="40860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 flipH="1">
              <a:off x="5457600" y="3919320"/>
              <a:ext cx="34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 flipH="1">
              <a:off x="5474880" y="3801960"/>
              <a:ext cx="17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5386320" y="38509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 flipH="1">
              <a:off x="5457600" y="3684240"/>
              <a:ext cx="349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 flipH="1">
              <a:off x="5474880" y="3566880"/>
              <a:ext cx="17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5386320" y="36162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 flipH="1">
              <a:off x="5457600" y="3449520"/>
              <a:ext cx="34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 flipH="1">
              <a:off x="5474880" y="3330360"/>
              <a:ext cx="17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5386320" y="33796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 flipH="1">
              <a:off x="5457600" y="3213000"/>
              <a:ext cx="34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 flipH="1">
              <a:off x="5474880" y="3095280"/>
              <a:ext cx="176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5386320" y="31446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 flipH="1">
              <a:off x="5457600" y="2977920"/>
              <a:ext cx="34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 flipH="1">
              <a:off x="5474880" y="2860560"/>
              <a:ext cx="17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5386320" y="29095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 flipH="1">
              <a:off x="5457600" y="2742840"/>
              <a:ext cx="349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 flipH="1">
              <a:off x="5474880" y="2624040"/>
              <a:ext cx="17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5386320" y="26730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 flipH="1">
              <a:off x="5457600" y="2501640"/>
              <a:ext cx="34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5334480" y="2438280"/>
              <a:ext cx="113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5738760" y="4862160"/>
              <a:ext cx="21481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5492880" y="4862160"/>
              <a:ext cx="144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5864400" y="4862160"/>
              <a:ext cx="144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5715000" y="49798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5981760" y="4862160"/>
              <a:ext cx="180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6105600" y="4862160"/>
              <a:ext cx="144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5958000" y="49798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6338880" y="4862160"/>
              <a:ext cx="180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6191280" y="49798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6454800" y="4862160"/>
              <a:ext cx="180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6580440" y="4862160"/>
              <a:ext cx="144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6431040" y="49798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6696000" y="4862160"/>
              <a:ext cx="180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6821640" y="4862160"/>
              <a:ext cx="144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6674040" y="49798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6929640" y="4862160"/>
              <a:ext cx="144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7054920" y="4862160"/>
              <a:ext cx="144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6905880" y="49798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7296120" y="4862160"/>
              <a:ext cx="180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7148520" y="49798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7412040" y="4862160"/>
              <a:ext cx="180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7537680" y="4862160"/>
              <a:ext cx="144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7390080" y="49798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7645320" y="4862160"/>
              <a:ext cx="180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7769160" y="4862160"/>
              <a:ext cx="180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7621560" y="49798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7886880" y="4862160"/>
              <a:ext cx="144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7839360" y="4979880"/>
              <a:ext cx="113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5494320" y="2501640"/>
              <a:ext cx="23925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 flipV="1">
              <a:off x="7886880" y="2506320"/>
              <a:ext cx="1440" cy="235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5494320" y="4862160"/>
              <a:ext cx="23925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 flipV="1">
              <a:off x="5492880" y="2506320"/>
              <a:ext cx="1440" cy="235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5619960" y="4863960"/>
              <a:ext cx="144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5472360" y="49813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5737320" y="4863960"/>
              <a:ext cx="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6220080" y="4862160"/>
              <a:ext cx="144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7162920" y="4862160"/>
              <a:ext cx="144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27" name=""/>
          <p:cNvSpPr/>
          <p:nvPr/>
        </p:nvSpPr>
        <p:spPr>
          <a:xfrm flipH="1">
            <a:off x="6689520" y="4141800"/>
            <a:ext cx="45720" cy="46080"/>
          </a:xfrm>
          <a:prstGeom prst="line">
            <a:avLst/>
          </a:prstGeom>
          <a:ln w="2844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6221520" y="2948040"/>
            <a:ext cx="177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ff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6145200" y="3992400"/>
            <a:ext cx="17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ff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6589800" y="3505320"/>
            <a:ext cx="177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ff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7066080" y="4048200"/>
            <a:ext cx="17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ff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6602400" y="4559400"/>
            <a:ext cx="17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ff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6761160" y="4078440"/>
            <a:ext cx="17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ff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7516800" y="3002040"/>
            <a:ext cx="17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ff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7642080" y="4068720"/>
            <a:ext cx="179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ff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36" name=""/>
          <p:cNvGrpSpPr/>
          <p:nvPr/>
        </p:nvGrpSpPr>
        <p:grpSpPr>
          <a:xfrm>
            <a:off x="5530320" y="2503080"/>
            <a:ext cx="2329200" cy="2372040"/>
            <a:chOff x="5530320" y="2503080"/>
            <a:chExt cx="2329200" cy="2372040"/>
          </a:xfrm>
        </p:grpSpPr>
        <p:sp>
          <p:nvSpPr>
            <p:cNvPr id="1037" name=""/>
            <p:cNvSpPr/>
            <p:nvPr/>
          </p:nvSpPr>
          <p:spPr>
            <a:xfrm flipV="1">
              <a:off x="5667480" y="3965040"/>
              <a:ext cx="148320" cy="90720"/>
            </a:xfrm>
            <a:prstGeom prst="line">
              <a:avLst/>
            </a:prstGeom>
            <a:ln w="2844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 flipV="1">
              <a:off x="5804640" y="3828240"/>
              <a:ext cx="267120" cy="136440"/>
            </a:xfrm>
            <a:prstGeom prst="line">
              <a:avLst/>
            </a:prstGeom>
            <a:ln w="2844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 flipV="1">
              <a:off x="6071760" y="3737160"/>
              <a:ext cx="182520" cy="91080"/>
            </a:xfrm>
            <a:prstGeom prst="line">
              <a:avLst/>
            </a:prstGeom>
            <a:ln w="2844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 flipV="1">
              <a:off x="6763680" y="3191040"/>
              <a:ext cx="182520" cy="181800"/>
            </a:xfrm>
            <a:prstGeom prst="line">
              <a:avLst/>
            </a:prstGeom>
            <a:ln w="2844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 flipV="1">
              <a:off x="6946560" y="2912400"/>
              <a:ext cx="273960" cy="278280"/>
            </a:xfrm>
            <a:prstGeom prst="line">
              <a:avLst/>
            </a:prstGeom>
            <a:ln w="2844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 flipV="1">
              <a:off x="7220520" y="2775960"/>
              <a:ext cx="91080" cy="136440"/>
            </a:xfrm>
            <a:prstGeom prst="line">
              <a:avLst/>
            </a:prstGeom>
            <a:ln w="2844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 flipV="1">
              <a:off x="7311600" y="2639520"/>
              <a:ext cx="45720" cy="136440"/>
            </a:xfrm>
            <a:prstGeom prst="line">
              <a:avLst/>
            </a:prstGeom>
            <a:ln w="2844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 flipV="1">
              <a:off x="7357680" y="2503080"/>
              <a:ext cx="0" cy="136440"/>
            </a:xfrm>
            <a:prstGeom prst="line">
              <a:avLst/>
            </a:prstGeom>
            <a:ln w="2844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6261480" y="3737520"/>
              <a:ext cx="426960" cy="417960"/>
            </a:xfrm>
            <a:prstGeom prst="line">
              <a:avLst/>
            </a:prstGeom>
            <a:ln w="2844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 flipH="1">
              <a:off x="6670800" y="4141440"/>
              <a:ext cx="45720" cy="45360"/>
            </a:xfrm>
            <a:prstGeom prst="line">
              <a:avLst/>
            </a:prstGeom>
            <a:ln w="2844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 flipH="1">
              <a:off x="6579720" y="4186800"/>
              <a:ext cx="91080" cy="136440"/>
            </a:xfrm>
            <a:prstGeom prst="line">
              <a:avLst/>
            </a:prstGeom>
            <a:ln w="2844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 flipH="1">
              <a:off x="6305760" y="4323600"/>
              <a:ext cx="273960" cy="0"/>
            </a:xfrm>
            <a:prstGeom prst="line">
              <a:avLst/>
            </a:prstGeom>
            <a:ln w="2844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 flipH="1">
              <a:off x="5620680" y="4323600"/>
              <a:ext cx="685080" cy="318240"/>
            </a:xfrm>
            <a:prstGeom prst="line">
              <a:avLst/>
            </a:prstGeom>
            <a:ln w="2844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 flipH="1">
              <a:off x="5530320" y="4641840"/>
              <a:ext cx="90360" cy="96480"/>
            </a:xfrm>
            <a:prstGeom prst="line">
              <a:avLst/>
            </a:prstGeom>
            <a:ln w="2844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 flipV="1">
              <a:off x="6717240" y="4004640"/>
              <a:ext cx="182520" cy="136440"/>
            </a:xfrm>
            <a:prstGeom prst="line">
              <a:avLst/>
            </a:prstGeom>
            <a:ln w="2844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6899760" y="4005000"/>
              <a:ext cx="45360" cy="409320"/>
            </a:xfrm>
            <a:prstGeom prst="line">
              <a:avLst/>
            </a:prstGeom>
            <a:ln w="2844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 flipH="1" flipV="1">
              <a:off x="6580080" y="4323600"/>
              <a:ext cx="365040" cy="90720"/>
            </a:xfrm>
            <a:prstGeom prst="line">
              <a:avLst/>
            </a:prstGeom>
            <a:ln w="2844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6945480" y="4414320"/>
              <a:ext cx="183600" cy="141840"/>
            </a:xfrm>
            <a:prstGeom prst="line">
              <a:avLst/>
            </a:prstGeom>
            <a:ln w="2844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6717960" y="3464280"/>
              <a:ext cx="182520" cy="363960"/>
            </a:xfrm>
            <a:prstGeom prst="line">
              <a:avLst/>
            </a:prstGeom>
            <a:ln w="2844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 flipH="1">
              <a:off x="6899760" y="3828600"/>
              <a:ext cx="720" cy="176040"/>
            </a:xfrm>
            <a:prstGeom prst="line">
              <a:avLst/>
            </a:prstGeom>
            <a:ln w="2844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6991920" y="3782880"/>
              <a:ext cx="182520" cy="0"/>
            </a:xfrm>
            <a:prstGeom prst="line">
              <a:avLst/>
            </a:prstGeom>
            <a:ln w="2844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7174800" y="3782880"/>
              <a:ext cx="91080" cy="136440"/>
            </a:xfrm>
            <a:prstGeom prst="line">
              <a:avLst/>
            </a:prstGeom>
            <a:ln w="2844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 flipH="1">
              <a:off x="7129080" y="3919680"/>
              <a:ext cx="136800" cy="636840"/>
            </a:xfrm>
            <a:prstGeom prst="line">
              <a:avLst/>
            </a:prstGeom>
            <a:ln w="2844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 flipH="1">
              <a:off x="6900840" y="4556520"/>
              <a:ext cx="228240" cy="318240"/>
            </a:xfrm>
            <a:prstGeom prst="line">
              <a:avLst/>
            </a:prstGeom>
            <a:ln w="2844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6946560" y="3191400"/>
              <a:ext cx="272880" cy="267120"/>
            </a:xfrm>
            <a:prstGeom prst="line">
              <a:avLst/>
            </a:prstGeom>
            <a:ln w="2844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7219440" y="3458880"/>
              <a:ext cx="640080" cy="5400"/>
            </a:xfrm>
            <a:prstGeom prst="line">
              <a:avLst/>
            </a:prstGeom>
            <a:ln w="2844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5530680" y="4738680"/>
              <a:ext cx="0" cy="136440"/>
            </a:xfrm>
            <a:prstGeom prst="line">
              <a:avLst/>
            </a:prstGeom>
            <a:ln w="2844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 flipH="1">
              <a:off x="5576040" y="4056120"/>
              <a:ext cx="91080" cy="90720"/>
            </a:xfrm>
            <a:prstGeom prst="line">
              <a:avLst/>
            </a:prstGeom>
            <a:ln w="2844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 flipH="1">
              <a:off x="5530320" y="4146840"/>
              <a:ext cx="45720" cy="136440"/>
            </a:xfrm>
            <a:prstGeom prst="line">
              <a:avLst/>
            </a:prstGeom>
            <a:ln w="2844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5530680" y="4283640"/>
              <a:ext cx="0" cy="227520"/>
            </a:xfrm>
            <a:prstGeom prst="line">
              <a:avLst/>
            </a:prstGeom>
            <a:ln w="2844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5530680" y="4511160"/>
              <a:ext cx="91080" cy="136440"/>
            </a:xfrm>
            <a:prstGeom prst="line">
              <a:avLst/>
            </a:prstGeom>
            <a:ln w="2844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 flipV="1">
              <a:off x="6261480" y="3509640"/>
              <a:ext cx="91080" cy="227160"/>
            </a:xfrm>
            <a:prstGeom prst="line">
              <a:avLst/>
            </a:prstGeom>
            <a:ln w="2844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 flipV="1">
              <a:off x="6352560" y="3418920"/>
              <a:ext cx="228240" cy="90720"/>
            </a:xfrm>
            <a:prstGeom prst="line">
              <a:avLst/>
            </a:prstGeom>
            <a:ln w="2844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6580800" y="3418920"/>
              <a:ext cx="136800" cy="45000"/>
            </a:xfrm>
            <a:prstGeom prst="line">
              <a:avLst/>
            </a:prstGeom>
            <a:ln w="2844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 flipH="1">
              <a:off x="6900480" y="3782880"/>
              <a:ext cx="91080" cy="45360"/>
            </a:xfrm>
            <a:prstGeom prst="line">
              <a:avLst/>
            </a:prstGeom>
            <a:ln w="2844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 flipH="1">
              <a:off x="6717600" y="3373560"/>
              <a:ext cx="45720" cy="90720"/>
            </a:xfrm>
            <a:prstGeom prst="line">
              <a:avLst/>
            </a:prstGeom>
            <a:ln w="2844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644040" y="1752480"/>
            <a:ext cx="3775320" cy="4114800"/>
          </a:xfrm>
          <a:prstGeom prst="rect">
            <a:avLst/>
          </a:prstGeom>
          <a:noFill/>
          <a:ln w="12600">
            <a:solidFill>
              <a:srgbClr val="333333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2919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79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space is divided into areas with the largest weighted proximity to each linear fea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79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y location within each area is closer to its linear feature than any oth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79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se areas of largest weighted proximity can be associated to the previously presented </a:t>
            </a:r>
            <a:r>
              <a:rPr b="1" lang="en-US" sz="1600" spc="-1" strike="noStrike">
                <a:solidFill>
                  <a:srgbClr val="cc0066"/>
                </a:solidFill>
                <a:latin typeface="Arial"/>
              </a:rPr>
              <a:t>Thiessen’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US" sz="1600" spc="-1" strike="noStrike">
                <a:solidFill>
                  <a:srgbClr val="cc0066"/>
                </a:solidFill>
                <a:latin typeface="Arial"/>
              </a:rPr>
              <a:t>Voronoï ’s polygon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"/>
          <p:cNvSpPr/>
          <p:nvPr/>
        </p:nvSpPr>
        <p:spPr>
          <a:xfrm>
            <a:off x="1523880" y="1812960"/>
            <a:ext cx="198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143000"/>
                <a:tab algn="l" pos="2286000"/>
                <a:tab algn="l" pos="2641680"/>
                <a:tab algn="l" pos="3301920"/>
                <a:tab algn="l" pos="3962520"/>
                <a:tab algn="l" pos="4622760"/>
                <a:tab algn="l" pos="5283360"/>
                <a:tab algn="l" pos="5943600"/>
                <a:tab algn="l" pos="6603840"/>
                <a:tab algn="l" pos="7264440"/>
                <a:tab algn="l" pos="7924680"/>
                <a:tab algn="l" pos="8585280"/>
                <a:tab algn="l" pos="9245520"/>
                <a:tab algn="l" pos="9906120"/>
                <a:tab algn="l" pos="1056636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Arial"/>
              </a:rPr>
              <a:t>Properti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4746600" y="1828800"/>
            <a:ext cx="37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143000"/>
                <a:tab algn="l" pos="2286000"/>
                <a:tab algn="l" pos="2641680"/>
                <a:tab algn="l" pos="3301920"/>
                <a:tab algn="l" pos="3962520"/>
                <a:tab algn="l" pos="4622760"/>
                <a:tab algn="l" pos="5283360"/>
                <a:tab algn="l" pos="5943600"/>
                <a:tab algn="l" pos="6603840"/>
                <a:tab algn="l" pos="7264440"/>
                <a:tab algn="l" pos="7924680"/>
                <a:tab algn="l" pos="8585280"/>
                <a:tab algn="l" pos="9245520"/>
                <a:tab algn="l" pos="9906120"/>
                <a:tab algn="l" pos="10566360"/>
              </a:tabLst>
            </a:pPr>
            <a:r>
              <a:rPr b="1" lang="en-US" sz="1800" spc="-1" strike="noStrike">
                <a:solidFill>
                  <a:srgbClr val="cc0066"/>
                </a:solidFill>
                <a:latin typeface="Arial"/>
              </a:rPr>
              <a:t>Areas of largest proximit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 type="title"/>
          </p:nvPr>
        </p:nvSpPr>
        <p:spPr>
          <a:xfrm>
            <a:off x="644400" y="936360"/>
            <a:ext cx="8042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800000"/>
                </a:solidFill>
                <a:latin typeface="Arial"/>
              </a:rPr>
              <a:t>Linear objects: Areas of largest weighted proximity</a:t>
            </a:r>
            <a:endParaRPr b="1" lang="en-US" sz="25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77" name=""/>
          <p:cNvSpPr/>
          <p:nvPr/>
        </p:nvSpPr>
        <p:spPr>
          <a:xfrm>
            <a:off x="4648320" y="5421240"/>
            <a:ext cx="3809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The geometrical proximity is weighted by the relative influence of objects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5127480" y="5059440"/>
            <a:ext cx="310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143000"/>
                <a:tab algn="l" pos="2286000"/>
                <a:tab algn="l" pos="2641680"/>
                <a:tab algn="l" pos="3301920"/>
                <a:tab algn="l" pos="3962520"/>
                <a:tab algn="l" pos="4622760"/>
                <a:tab algn="l" pos="5283360"/>
                <a:tab algn="l" pos="5943600"/>
                <a:tab algn="l" pos="6603840"/>
                <a:tab algn="l" pos="7264440"/>
                <a:tab algn="l" pos="7924680"/>
                <a:tab algn="l" pos="8585280"/>
                <a:tab algn="l" pos="9245520"/>
                <a:tab algn="l" pos="9906120"/>
                <a:tab algn="l" pos="105663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ordinate X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 flipH="1" rot="16200000">
            <a:off x="4631760" y="3400200"/>
            <a:ext cx="113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ordinate 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/>
          </p:nvPr>
        </p:nvSpPr>
        <p:spPr>
          <a:xfrm>
            <a:off x="4723920" y="1752480"/>
            <a:ext cx="3768840" cy="4114800"/>
          </a:xfrm>
          <a:prstGeom prst="rect">
            <a:avLst/>
          </a:prstGeom>
          <a:noFill/>
          <a:ln w="12600">
            <a:solidFill>
              <a:srgbClr val="333333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1" name="" descr=""/>
          <p:cNvPicPr/>
          <p:nvPr/>
        </p:nvPicPr>
        <p:blipFill>
          <a:blip r:embed="rId1"/>
          <a:stretch/>
        </p:blipFill>
        <p:spPr>
          <a:xfrm>
            <a:off x="5497560" y="2362320"/>
            <a:ext cx="2838240" cy="2400120"/>
          </a:xfrm>
          <a:prstGeom prst="rect">
            <a:avLst/>
          </a:prstGeom>
          <a:ln w="0">
            <a:noFill/>
          </a:ln>
        </p:spPr>
      </p:pic>
      <p:grpSp>
        <p:nvGrpSpPr>
          <p:cNvPr id="1082" name=""/>
          <p:cNvGrpSpPr/>
          <p:nvPr/>
        </p:nvGrpSpPr>
        <p:grpSpPr>
          <a:xfrm>
            <a:off x="5320080" y="2286000"/>
            <a:ext cx="2618280" cy="2739240"/>
            <a:chOff x="5320080" y="2286000"/>
            <a:chExt cx="2618280" cy="2739240"/>
          </a:xfrm>
        </p:grpSpPr>
        <p:sp>
          <p:nvSpPr>
            <p:cNvPr id="1083" name=""/>
            <p:cNvSpPr/>
            <p:nvPr/>
          </p:nvSpPr>
          <p:spPr>
            <a:xfrm flipV="1">
              <a:off x="5478480" y="2355480"/>
              <a:ext cx="1440" cy="242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 flipH="1">
              <a:off x="5443200" y="4780440"/>
              <a:ext cx="349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 flipH="1">
              <a:off x="5460480" y="4658040"/>
              <a:ext cx="17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5371920" y="47084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 flipH="1">
              <a:off x="5443200" y="4537080"/>
              <a:ext cx="349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 flipH="1">
              <a:off x="5460480" y="4416120"/>
              <a:ext cx="17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5371920" y="44668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 flipH="1">
              <a:off x="5443200" y="4295520"/>
              <a:ext cx="34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 flipH="1">
              <a:off x="5460480" y="4174200"/>
              <a:ext cx="176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5371920" y="42249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 flipH="1">
              <a:off x="5443200" y="4053600"/>
              <a:ext cx="34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 flipH="1">
              <a:off x="5460480" y="3930840"/>
              <a:ext cx="176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5371920" y="39816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 flipH="1">
              <a:off x="5443200" y="3810240"/>
              <a:ext cx="34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 flipH="1">
              <a:off x="5460480" y="3689280"/>
              <a:ext cx="17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5371920" y="37396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 flipH="1">
              <a:off x="5443200" y="3568320"/>
              <a:ext cx="349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 flipH="1">
              <a:off x="5460480" y="3447360"/>
              <a:ext cx="17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5371920" y="34981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 flipH="1">
              <a:off x="5443200" y="3326760"/>
              <a:ext cx="34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 flipH="1">
              <a:off x="5460480" y="3204000"/>
              <a:ext cx="17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5371920" y="32547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 flipH="1">
              <a:off x="5443200" y="3083040"/>
              <a:ext cx="34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 flipH="1">
              <a:off x="5460480" y="2962080"/>
              <a:ext cx="176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5371920" y="30128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 flipH="1">
              <a:off x="5443200" y="2841120"/>
              <a:ext cx="34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 flipH="1">
              <a:off x="5460480" y="2720520"/>
              <a:ext cx="17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5371920" y="27709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 flipH="1">
              <a:off x="5443200" y="2599200"/>
              <a:ext cx="349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 flipH="1">
              <a:off x="5460480" y="2477160"/>
              <a:ext cx="17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5371920" y="25275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 flipH="1">
              <a:off x="5443200" y="2351160"/>
              <a:ext cx="34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5320080" y="2286000"/>
              <a:ext cx="113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5724360" y="4780440"/>
              <a:ext cx="21481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5478480" y="4780440"/>
              <a:ext cx="1440" cy="39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5850000" y="4780440"/>
              <a:ext cx="1440" cy="1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5700600" y="49017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5967360" y="4780440"/>
              <a:ext cx="1800" cy="39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6091200" y="4780440"/>
              <a:ext cx="1440" cy="1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5943600" y="49017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6324480" y="4780440"/>
              <a:ext cx="1800" cy="1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6176880" y="49017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6440400" y="4780440"/>
              <a:ext cx="1800" cy="39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6566040" y="4780440"/>
              <a:ext cx="1440" cy="1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6416640" y="49017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6681600" y="4780440"/>
              <a:ext cx="1800" cy="39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6807240" y="4780440"/>
              <a:ext cx="1440" cy="1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6659640" y="49017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6915240" y="4780440"/>
              <a:ext cx="1440" cy="39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7040520" y="4780440"/>
              <a:ext cx="1440" cy="1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6891480" y="49017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7281720" y="4780440"/>
              <a:ext cx="1800" cy="1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7134120" y="49017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7397640" y="4780440"/>
              <a:ext cx="1800" cy="39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7523280" y="4780440"/>
              <a:ext cx="1440" cy="1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7375680" y="49017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7630920" y="4780440"/>
              <a:ext cx="1800" cy="39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7754760" y="4780440"/>
              <a:ext cx="1800" cy="1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7607160" y="49017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7872480" y="4780440"/>
              <a:ext cx="1440" cy="39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7824960" y="4901760"/>
              <a:ext cx="113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5479920" y="2351160"/>
              <a:ext cx="23925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 flipV="1">
              <a:off x="7872480" y="2355480"/>
              <a:ext cx="1440" cy="242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5479920" y="4780440"/>
              <a:ext cx="23925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 flipV="1">
              <a:off x="5478480" y="2355480"/>
              <a:ext cx="1440" cy="242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5605560" y="4782240"/>
              <a:ext cx="1440" cy="1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5457960" y="49032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5722920" y="4782240"/>
              <a:ext cx="0" cy="39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6205680" y="4780440"/>
              <a:ext cx="1440" cy="39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7148520" y="4780440"/>
              <a:ext cx="1440" cy="39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53" name=""/>
          <p:cNvGrpSpPr/>
          <p:nvPr/>
        </p:nvGrpSpPr>
        <p:grpSpPr>
          <a:xfrm>
            <a:off x="6021360" y="2763720"/>
            <a:ext cx="1631520" cy="1965600"/>
            <a:chOff x="6021360" y="2763720"/>
            <a:chExt cx="1631520" cy="1965600"/>
          </a:xfrm>
        </p:grpSpPr>
        <p:sp>
          <p:nvSpPr>
            <p:cNvPr id="1154" name=""/>
            <p:cNvSpPr/>
            <p:nvPr/>
          </p:nvSpPr>
          <p:spPr>
            <a:xfrm>
              <a:off x="6249600" y="2841480"/>
              <a:ext cx="17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ff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6021360" y="3627360"/>
              <a:ext cx="179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ff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6594120" y="3627360"/>
              <a:ext cx="17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ff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7094160" y="3941640"/>
              <a:ext cx="179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ff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6505200" y="4452840"/>
              <a:ext cx="179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ff"/>
                  </a:solidFill>
                  <a:latin typeface="Arial"/>
                </a:rPr>
                <a:t>6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6675120" y="4092480"/>
              <a:ext cx="179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ff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7237080" y="2763720"/>
              <a:ext cx="179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ff"/>
                  </a:solidFill>
                  <a:latin typeface="Arial"/>
                </a:rPr>
                <a:t>7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7473600" y="3809880"/>
              <a:ext cx="179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ff"/>
                  </a:solidFill>
                  <a:latin typeface="Arial"/>
                </a:rPr>
                <a:t>8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644040" y="1752480"/>
            <a:ext cx="3775320" cy="4114800"/>
          </a:xfrm>
          <a:prstGeom prst="rect">
            <a:avLst/>
          </a:prstGeom>
          <a:noFill/>
          <a:ln w="12600">
            <a:solidFill>
              <a:srgbClr val="333333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2919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79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ighted distance image from each cell to the nearest linear region, the </a:t>
            </a:r>
            <a:r>
              <a:rPr b="1" lang="en-US" sz="1600" spc="-1" strike="noStrike">
                <a:solidFill>
                  <a:srgbClr val="cc0066"/>
                </a:solidFill>
                <a:latin typeface="Arial"/>
              </a:rPr>
              <a:t>weighted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cc0066"/>
                </a:solidFill>
                <a:latin typeface="Arial"/>
              </a:rPr>
              <a:t>minimum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cc0066"/>
                </a:solidFill>
                <a:latin typeface="Arial"/>
              </a:rPr>
              <a:t>dista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79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graphical representation suggests limits of areas of largest weighted proximit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79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mage values express the </a:t>
            </a:r>
            <a:r>
              <a:rPr b="1" lang="en-US" sz="1600" spc="-1" strike="noStrike">
                <a:solidFill>
                  <a:srgbClr val="cc0066"/>
                </a:solidFill>
                <a:latin typeface="Arial"/>
              </a:rPr>
              <a:t>proximit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(weighted distance) to the nearest linear region, but without identifying it !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 type="title"/>
          </p:nvPr>
        </p:nvSpPr>
        <p:spPr>
          <a:xfrm>
            <a:off x="644400" y="9363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Arial"/>
              </a:rPr>
              <a:t>Linear regions: Weighted minimum distance</a:t>
            </a: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164" name=""/>
          <p:cNvSpPr/>
          <p:nvPr/>
        </p:nvSpPr>
        <p:spPr>
          <a:xfrm>
            <a:off x="1523880" y="1812960"/>
            <a:ext cx="198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143000"/>
                <a:tab algn="l" pos="2286000"/>
                <a:tab algn="l" pos="2641680"/>
                <a:tab algn="l" pos="3301920"/>
                <a:tab algn="l" pos="3962520"/>
                <a:tab algn="l" pos="4622760"/>
                <a:tab algn="l" pos="5283360"/>
                <a:tab algn="l" pos="5943600"/>
                <a:tab algn="l" pos="6603840"/>
                <a:tab algn="l" pos="7264440"/>
                <a:tab algn="l" pos="7924680"/>
                <a:tab algn="l" pos="8585280"/>
                <a:tab algn="l" pos="9245520"/>
                <a:tab algn="l" pos="9906120"/>
                <a:tab algn="l" pos="1056636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Arial"/>
              </a:rPr>
              <a:t>Properti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4800600" y="1828800"/>
            <a:ext cx="365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143000"/>
                <a:tab algn="l" pos="2286000"/>
                <a:tab algn="l" pos="2641680"/>
                <a:tab algn="l" pos="3301920"/>
                <a:tab algn="l" pos="3962520"/>
                <a:tab algn="l" pos="4622760"/>
                <a:tab algn="l" pos="5283360"/>
                <a:tab algn="l" pos="5943600"/>
                <a:tab algn="l" pos="6603840"/>
                <a:tab algn="l" pos="7264440"/>
                <a:tab algn="l" pos="7924680"/>
                <a:tab algn="l" pos="8585280"/>
                <a:tab algn="l" pos="9245520"/>
                <a:tab algn="l" pos="9906120"/>
                <a:tab algn="l" pos="10566360"/>
              </a:tabLst>
            </a:pPr>
            <a:r>
              <a:rPr b="1" lang="en-US" sz="1800" spc="-1" strike="noStrike">
                <a:solidFill>
                  <a:srgbClr val="cc0066"/>
                </a:solidFill>
                <a:latin typeface="Arial"/>
              </a:rPr>
              <a:t>Weighted minimum distan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>
            <a:off x="4800600" y="5356080"/>
            <a:ext cx="3657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66"/>
                </a:solidFill>
                <a:latin typeface="Arial"/>
              </a:rPr>
              <a:t>Maximum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of minimum distances: 3.14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66"/>
                </a:solidFill>
                <a:latin typeface="Arial"/>
              </a:rPr>
              <a:t>Mean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of minimum distances:  0.6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5127480" y="5059440"/>
            <a:ext cx="310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143000"/>
                <a:tab algn="l" pos="2286000"/>
                <a:tab algn="l" pos="2641680"/>
                <a:tab algn="l" pos="3301920"/>
                <a:tab algn="l" pos="3962520"/>
                <a:tab algn="l" pos="4622760"/>
                <a:tab algn="l" pos="5283360"/>
                <a:tab algn="l" pos="5943600"/>
                <a:tab algn="l" pos="6603840"/>
                <a:tab algn="l" pos="7264440"/>
                <a:tab algn="l" pos="7924680"/>
                <a:tab algn="l" pos="8585280"/>
                <a:tab algn="l" pos="9245520"/>
                <a:tab algn="l" pos="9906120"/>
                <a:tab algn="l" pos="105663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ordinate X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 flipH="1" rot="16200000">
            <a:off x="4631760" y="3400200"/>
            <a:ext cx="113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ordinate 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/>
          </p:nvPr>
        </p:nvSpPr>
        <p:spPr>
          <a:xfrm>
            <a:off x="4723920" y="1752480"/>
            <a:ext cx="3768840" cy="4114800"/>
          </a:xfrm>
          <a:prstGeom prst="rect">
            <a:avLst/>
          </a:prstGeom>
          <a:noFill/>
          <a:ln w="12600">
            <a:solidFill>
              <a:srgbClr val="333333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0" name="" descr=""/>
          <p:cNvPicPr/>
          <p:nvPr/>
        </p:nvPicPr>
        <p:blipFill>
          <a:blip r:embed="rId1"/>
          <a:stretch/>
        </p:blipFill>
        <p:spPr>
          <a:xfrm>
            <a:off x="5486400" y="2432160"/>
            <a:ext cx="2646360" cy="2363760"/>
          </a:xfrm>
          <a:prstGeom prst="rect">
            <a:avLst/>
          </a:prstGeom>
          <a:ln w="0">
            <a:noFill/>
          </a:ln>
        </p:spPr>
      </p:pic>
      <p:grpSp>
        <p:nvGrpSpPr>
          <p:cNvPr id="1171" name=""/>
          <p:cNvGrpSpPr/>
          <p:nvPr/>
        </p:nvGrpSpPr>
        <p:grpSpPr>
          <a:xfrm>
            <a:off x="5334120" y="2363760"/>
            <a:ext cx="2604240" cy="2665080"/>
            <a:chOff x="5334120" y="2363760"/>
            <a:chExt cx="2604240" cy="2665080"/>
          </a:xfrm>
        </p:grpSpPr>
        <p:sp>
          <p:nvSpPr>
            <p:cNvPr id="1172" name=""/>
            <p:cNvSpPr/>
            <p:nvPr/>
          </p:nvSpPr>
          <p:spPr>
            <a:xfrm flipV="1">
              <a:off x="5491800" y="2431800"/>
              <a:ext cx="1080" cy="235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 flipH="1">
              <a:off x="5457240" y="4787640"/>
              <a:ext cx="345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 flipH="1">
              <a:off x="5474160" y="4668840"/>
              <a:ext cx="172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5385960" y="47178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 flipH="1">
              <a:off x="5457240" y="4551120"/>
              <a:ext cx="345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 flipH="1">
              <a:off x="5474160" y="4433760"/>
              <a:ext cx="172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5385960" y="44830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 flipH="1">
              <a:off x="5457240" y="4316400"/>
              <a:ext cx="345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 flipH="1">
              <a:off x="5474160" y="4198680"/>
              <a:ext cx="172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5385960" y="42480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 flipH="1">
              <a:off x="5457240" y="4081320"/>
              <a:ext cx="345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 flipH="1">
              <a:off x="5474160" y="3962160"/>
              <a:ext cx="172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5385960" y="40114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 flipH="1">
              <a:off x="5457240" y="3844800"/>
              <a:ext cx="345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 flipH="1">
              <a:off x="5474160" y="3727440"/>
              <a:ext cx="172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5385960" y="37764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 flipH="1">
              <a:off x="5457240" y="3609720"/>
              <a:ext cx="345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 flipH="1">
              <a:off x="5474160" y="3492360"/>
              <a:ext cx="172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5385960" y="35416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 flipH="1">
              <a:off x="5457240" y="3375000"/>
              <a:ext cx="345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 flipH="1">
              <a:off x="5474160" y="3255840"/>
              <a:ext cx="172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5385960" y="33051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 flipH="1">
              <a:off x="5457240" y="3138480"/>
              <a:ext cx="345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 flipH="1">
              <a:off x="5474160" y="3020760"/>
              <a:ext cx="172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5385960" y="30700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 flipH="1">
              <a:off x="5457240" y="2903400"/>
              <a:ext cx="345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 flipH="1">
              <a:off x="5474160" y="2786040"/>
              <a:ext cx="172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5385960" y="28350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 flipH="1">
              <a:off x="5457240" y="2668320"/>
              <a:ext cx="345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 flipH="1">
              <a:off x="5474160" y="2549520"/>
              <a:ext cx="172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5385960" y="25984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 flipH="1">
              <a:off x="5457240" y="2427120"/>
              <a:ext cx="345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5334120" y="2363760"/>
              <a:ext cx="113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5736240" y="4787640"/>
              <a:ext cx="21362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5491800" y="4787640"/>
              <a:ext cx="108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5861160" y="4787640"/>
              <a:ext cx="108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5713200" y="49053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5978160" y="4787640"/>
              <a:ext cx="144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6101280" y="4787640"/>
              <a:ext cx="108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5954400" y="49053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6333120" y="4787640"/>
              <a:ext cx="144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6186240" y="49053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6448320" y="4787640"/>
              <a:ext cx="144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6573240" y="4787640"/>
              <a:ext cx="108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6424920" y="49053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6688440" y="4787640"/>
              <a:ext cx="144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6813360" y="4787640"/>
              <a:ext cx="108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6666120" y="49053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6920640" y="4787640"/>
              <a:ext cx="108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7045200" y="4787640"/>
              <a:ext cx="108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6897600" y="49053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7285320" y="4787640"/>
              <a:ext cx="144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7138440" y="49053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7400520" y="4787640"/>
              <a:ext cx="144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7525440" y="4787640"/>
              <a:ext cx="108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7378200" y="49053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7632360" y="4787640"/>
              <a:ext cx="144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7755480" y="4787640"/>
              <a:ext cx="144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7608960" y="49053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7872840" y="4787640"/>
              <a:ext cx="108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7824960" y="4905360"/>
              <a:ext cx="113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5493240" y="2427120"/>
              <a:ext cx="23792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 flipV="1">
              <a:off x="7872840" y="2431800"/>
              <a:ext cx="1080" cy="235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5493240" y="4787640"/>
              <a:ext cx="23792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 flipV="1">
              <a:off x="5491800" y="2431800"/>
              <a:ext cx="1080" cy="235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5618160" y="4789440"/>
              <a:ext cx="108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5471640" y="49068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5734800" y="4789440"/>
              <a:ext cx="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6215040" y="4787640"/>
              <a:ext cx="108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7152840" y="4787640"/>
              <a:ext cx="108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42" name=""/>
          <p:cNvGrpSpPr/>
          <p:nvPr/>
        </p:nvGrpSpPr>
        <p:grpSpPr>
          <a:xfrm>
            <a:off x="5764320" y="2771640"/>
            <a:ext cx="1931760" cy="1986120"/>
            <a:chOff x="5764320" y="2771640"/>
            <a:chExt cx="1931760" cy="1986120"/>
          </a:xfrm>
        </p:grpSpPr>
        <p:sp>
          <p:nvSpPr>
            <p:cNvPr id="1243" name=""/>
            <p:cNvSpPr/>
            <p:nvPr/>
          </p:nvSpPr>
          <p:spPr>
            <a:xfrm>
              <a:off x="5943600" y="2771640"/>
              <a:ext cx="177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5764320" y="3944880"/>
              <a:ext cx="179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6477120" y="3457440"/>
              <a:ext cx="177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7053120" y="3936960"/>
              <a:ext cx="179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6248520" y="4481280"/>
              <a:ext cx="179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6691320" y="4066920"/>
              <a:ext cx="179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7494480" y="2954160"/>
              <a:ext cx="179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ffffff"/>
                  </a:solidFill>
                  <a:latin typeface="Arial"/>
                </a:rPr>
                <a:t>7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7516800" y="4020840"/>
              <a:ext cx="179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ffffff"/>
                  </a:solidFill>
                  <a:latin typeface="Arial"/>
                </a:rPr>
                <a:t>8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51" name="PlaceHolder 2"/>
          <p:cNvSpPr>
            <a:spLocks noGrp="1"/>
          </p:cNvSpPr>
          <p:nvPr>
            <p:ph/>
          </p:nvPr>
        </p:nvSpPr>
        <p:spPr>
          <a:xfrm>
            <a:off x="644040" y="1752480"/>
            <a:ext cx="3775320" cy="4114800"/>
          </a:xfrm>
          <a:prstGeom prst="rect">
            <a:avLst/>
          </a:prstGeom>
          <a:noFill/>
          <a:ln w="12600">
            <a:solidFill>
              <a:srgbClr val="333333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2919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79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mage cells are assigned to the linear region with the largest weighted proximit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79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pace is divided into areal regions of </a:t>
            </a:r>
            <a:r>
              <a:rPr b="1" lang="en-US" sz="1600" spc="-1" strike="noStrike">
                <a:solidFill>
                  <a:srgbClr val="cc0066"/>
                </a:solidFill>
                <a:latin typeface="Arial"/>
              </a:rPr>
              <a:t>largest weighted proximit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to their linear fea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79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mage values </a:t>
            </a:r>
            <a:r>
              <a:rPr b="1" lang="en-US" sz="1600" spc="-1" strike="noStrike">
                <a:solidFill>
                  <a:srgbClr val="cc0066"/>
                </a:solidFill>
                <a:latin typeface="Arial"/>
              </a:rPr>
              <a:t>identify the linear reg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having the largest weighted proximity. This information adds to the distance value computed abo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PlaceHolder 3"/>
          <p:cNvSpPr>
            <a:spLocks noGrp="1"/>
          </p:cNvSpPr>
          <p:nvPr>
            <p:ph type="title"/>
          </p:nvPr>
        </p:nvSpPr>
        <p:spPr>
          <a:xfrm>
            <a:off x="533520" y="936360"/>
            <a:ext cx="807696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Linear regions: Regions of largest weighted proximity</a:t>
            </a: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253" name=""/>
          <p:cNvSpPr/>
          <p:nvPr/>
        </p:nvSpPr>
        <p:spPr>
          <a:xfrm>
            <a:off x="4876920" y="5410080"/>
            <a:ext cx="343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ttribution to the closest linear region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1523880" y="1812960"/>
            <a:ext cx="198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143000"/>
                <a:tab algn="l" pos="2286000"/>
                <a:tab algn="l" pos="2641680"/>
                <a:tab algn="l" pos="3301920"/>
                <a:tab algn="l" pos="3962520"/>
                <a:tab algn="l" pos="4622760"/>
                <a:tab algn="l" pos="5283360"/>
                <a:tab algn="l" pos="5943600"/>
                <a:tab algn="l" pos="6603840"/>
                <a:tab algn="l" pos="7264440"/>
                <a:tab algn="l" pos="7924680"/>
                <a:tab algn="l" pos="8585280"/>
                <a:tab algn="l" pos="9245520"/>
                <a:tab algn="l" pos="9906120"/>
                <a:tab algn="l" pos="1056636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Arial"/>
              </a:rPr>
              <a:t>Properti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4670280" y="175248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143000"/>
                <a:tab algn="l" pos="2286000"/>
                <a:tab algn="l" pos="2641680"/>
                <a:tab algn="l" pos="3301920"/>
                <a:tab algn="l" pos="3962520"/>
                <a:tab algn="l" pos="4622760"/>
                <a:tab algn="l" pos="5283360"/>
                <a:tab algn="l" pos="5943600"/>
                <a:tab algn="l" pos="6603840"/>
                <a:tab algn="l" pos="7264440"/>
                <a:tab algn="l" pos="7924680"/>
                <a:tab algn="l" pos="8585280"/>
                <a:tab algn="l" pos="9245520"/>
                <a:tab algn="l" pos="9906120"/>
                <a:tab algn="l" pos="10566360"/>
              </a:tabLst>
            </a:pPr>
            <a:r>
              <a:rPr b="1" lang="en-US" sz="1800" spc="-1" strike="noStrike">
                <a:solidFill>
                  <a:srgbClr val="cc0066"/>
                </a:solidFill>
                <a:latin typeface="Arial"/>
              </a:rPr>
              <a:t>Regions of largest weighted proximit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5127480" y="5059440"/>
            <a:ext cx="310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143000"/>
                <a:tab algn="l" pos="2286000"/>
                <a:tab algn="l" pos="2641680"/>
                <a:tab algn="l" pos="3301920"/>
                <a:tab algn="l" pos="3962520"/>
                <a:tab algn="l" pos="4622760"/>
                <a:tab algn="l" pos="5283360"/>
                <a:tab algn="l" pos="5943600"/>
                <a:tab algn="l" pos="6603840"/>
                <a:tab algn="l" pos="7264440"/>
                <a:tab algn="l" pos="7924680"/>
                <a:tab algn="l" pos="8585280"/>
                <a:tab algn="l" pos="9245520"/>
                <a:tab algn="l" pos="9906120"/>
                <a:tab algn="l" pos="105663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ordinate X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 flipH="1" rot="16200000">
            <a:off x="4631760" y="3400200"/>
            <a:ext cx="113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ordinate 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8" name=""/>
          <p:cNvGrpSpPr/>
          <p:nvPr/>
        </p:nvGrpSpPr>
        <p:grpSpPr>
          <a:xfrm>
            <a:off x="428760" y="1630440"/>
            <a:ext cx="1162080" cy="1341360"/>
            <a:chOff x="428760" y="1630440"/>
            <a:chExt cx="1162080" cy="1341360"/>
          </a:xfrm>
        </p:grpSpPr>
        <p:sp>
          <p:nvSpPr>
            <p:cNvPr id="1259" name=""/>
            <p:cNvSpPr/>
            <p:nvPr/>
          </p:nvSpPr>
          <p:spPr>
            <a:xfrm rot="5400000">
              <a:off x="338760" y="1720080"/>
              <a:ext cx="1341360" cy="1162080"/>
            </a:xfrm>
            <a:prstGeom prst="triangle">
              <a:avLst>
                <a:gd name="adj" fmla="val 50000"/>
              </a:avLst>
            </a:prstGeom>
            <a:solidFill>
              <a:srgbClr val="800000"/>
            </a:solidFill>
            <a:ln w="0">
              <a:noFill/>
            </a:ln>
            <a:effectLst>
              <a:outerShdw dist="17819" dir="2700000" blurRad="0" rotWithShape="0">
                <a:srgbClr val="0000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552600" y="1905120"/>
              <a:ext cx="5007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CH" sz="4400" spc="-1" strike="noStrike">
                  <a:solidFill>
                    <a:srgbClr val="ffffff"/>
                  </a:solidFill>
                  <a:latin typeface="Verdana"/>
                </a:rPr>
                <a:t>4</a:t>
              </a:r>
              <a:endParaRPr b="0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61" name=""/>
          <p:cNvSpPr/>
          <p:nvPr/>
        </p:nvSpPr>
        <p:spPr>
          <a:xfrm>
            <a:off x="2135160" y="2016000"/>
            <a:ext cx="6399360" cy="1793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800000"/>
                </a:solidFill>
                <a:latin typeface="Arial"/>
              </a:rPr>
              <a:t>Weighted spatial neighborhood of areal features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PlaceHolder 1"/>
          <p:cNvSpPr>
            <a:spLocks noGrp="1"/>
          </p:cNvSpPr>
          <p:nvPr>
            <p:ph/>
          </p:nvPr>
        </p:nvSpPr>
        <p:spPr>
          <a:xfrm>
            <a:off x="533520" y="1600200"/>
            <a:ext cx="8076960" cy="419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699ff"/>
                </a:solidFill>
                <a:latin typeface="Arial"/>
              </a:rPr>
              <a:t>Different indicators for the spatial relationships of areal featur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eighborhood relationships description: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5480">
              <a:spcBef>
                <a:spcPts val="49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ighted distance to areal feat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5480">
              <a:spcBef>
                <a:spcPts val="524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eas and regions of largest weighted proximity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PlaceHolder 2"/>
          <p:cNvSpPr>
            <a:spLocks noGrp="1"/>
          </p:cNvSpPr>
          <p:nvPr>
            <p:ph type="title"/>
          </p:nvPr>
        </p:nvSpPr>
        <p:spPr>
          <a:xfrm>
            <a:off x="644400" y="9140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Arial"/>
              </a:rPr>
              <a:t>Areal features: Weighted spatial neighborhood</a:t>
            </a: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/>
          </p:nvPr>
        </p:nvSpPr>
        <p:spPr>
          <a:xfrm>
            <a:off x="4723920" y="1752480"/>
            <a:ext cx="3768840" cy="4114800"/>
          </a:xfrm>
          <a:prstGeom prst="rect">
            <a:avLst/>
          </a:prstGeom>
          <a:noFill/>
          <a:ln w="12600">
            <a:solidFill>
              <a:srgbClr val="333333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cc0066"/>
                </a:solidFill>
                <a:latin typeface="Arial"/>
              </a:rPr>
              <a:t>Spatial distribution of the 4 areal features with their weigh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5" name=""/>
          <p:cNvGrpSpPr/>
          <p:nvPr/>
        </p:nvGrpSpPr>
        <p:grpSpPr>
          <a:xfrm>
            <a:off x="5334120" y="2394000"/>
            <a:ext cx="2604240" cy="2665080"/>
            <a:chOff x="5334120" y="2394000"/>
            <a:chExt cx="2604240" cy="2665080"/>
          </a:xfrm>
        </p:grpSpPr>
        <p:sp>
          <p:nvSpPr>
            <p:cNvPr id="1266" name=""/>
            <p:cNvSpPr/>
            <p:nvPr/>
          </p:nvSpPr>
          <p:spPr>
            <a:xfrm flipV="1">
              <a:off x="5491800" y="2462040"/>
              <a:ext cx="1080" cy="235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 flipH="1">
              <a:off x="5457240" y="4817880"/>
              <a:ext cx="345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 flipH="1">
              <a:off x="5474160" y="4699080"/>
              <a:ext cx="172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5385960" y="47480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 flipH="1">
              <a:off x="5457240" y="4581360"/>
              <a:ext cx="345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 flipH="1">
              <a:off x="5474160" y="4464000"/>
              <a:ext cx="172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5385960" y="45133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 flipH="1">
              <a:off x="5457240" y="4346640"/>
              <a:ext cx="345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 flipH="1">
              <a:off x="5474160" y="4228920"/>
              <a:ext cx="172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5385960" y="42782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 flipH="1">
              <a:off x="5457240" y="4111560"/>
              <a:ext cx="345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 flipH="1">
              <a:off x="5474160" y="3992400"/>
              <a:ext cx="172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5385960" y="40417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 flipH="1">
              <a:off x="5457240" y="3875040"/>
              <a:ext cx="345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 flipH="1">
              <a:off x="5474160" y="3757680"/>
              <a:ext cx="172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5385960" y="38066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 flipH="1">
              <a:off x="5457240" y="3639960"/>
              <a:ext cx="345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 flipH="1">
              <a:off x="5474160" y="3522600"/>
              <a:ext cx="172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5385960" y="35719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 flipH="1">
              <a:off x="5457240" y="3405240"/>
              <a:ext cx="345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 flipH="1">
              <a:off x="5474160" y="3286080"/>
              <a:ext cx="172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5385960" y="33354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 flipH="1">
              <a:off x="5457240" y="3168720"/>
              <a:ext cx="345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 flipH="1">
              <a:off x="5474160" y="3051000"/>
              <a:ext cx="172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5385960" y="31003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 flipH="1">
              <a:off x="5457240" y="2933640"/>
              <a:ext cx="345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 flipH="1">
              <a:off x="5474160" y="2816280"/>
              <a:ext cx="172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5385960" y="28652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 flipH="1">
              <a:off x="5457240" y="2698560"/>
              <a:ext cx="345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 flipH="1">
              <a:off x="5474160" y="2579760"/>
              <a:ext cx="172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5385960" y="26287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 flipH="1">
              <a:off x="5457240" y="2457360"/>
              <a:ext cx="345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5334120" y="2394000"/>
              <a:ext cx="113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5736240" y="4817880"/>
              <a:ext cx="21362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5491800" y="4817880"/>
              <a:ext cx="108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5861160" y="4817880"/>
              <a:ext cx="108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5713200" y="49356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5978160" y="4817880"/>
              <a:ext cx="144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6101280" y="4817880"/>
              <a:ext cx="108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5954400" y="49356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6333120" y="4817880"/>
              <a:ext cx="144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6186240" y="49356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6448320" y="4817880"/>
              <a:ext cx="144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6573240" y="4817880"/>
              <a:ext cx="108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6424920" y="49356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6688440" y="4817880"/>
              <a:ext cx="144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6813360" y="4817880"/>
              <a:ext cx="108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6666120" y="49356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6920640" y="4817880"/>
              <a:ext cx="108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7045200" y="4817880"/>
              <a:ext cx="108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6897600" y="49356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7285320" y="4817880"/>
              <a:ext cx="144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7138440" y="49356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7400520" y="4817880"/>
              <a:ext cx="144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7525440" y="4817880"/>
              <a:ext cx="108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7378200" y="49356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7632360" y="4817880"/>
              <a:ext cx="144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7755480" y="4817880"/>
              <a:ext cx="144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7608960" y="49356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7872840" y="4817880"/>
              <a:ext cx="108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7824960" y="4935600"/>
              <a:ext cx="113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5493240" y="2457360"/>
              <a:ext cx="23792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 flipV="1">
              <a:off x="7872840" y="2462040"/>
              <a:ext cx="1080" cy="235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5493240" y="4817880"/>
              <a:ext cx="23792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 flipV="1">
              <a:off x="5491800" y="2462040"/>
              <a:ext cx="1080" cy="235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5618160" y="4819680"/>
              <a:ext cx="108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5471640" y="49370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5734800" y="4819680"/>
              <a:ext cx="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6215040" y="4817880"/>
              <a:ext cx="108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7152840" y="4817880"/>
              <a:ext cx="108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36" name=""/>
          <p:cNvSpPr/>
          <p:nvPr/>
        </p:nvSpPr>
        <p:spPr>
          <a:xfrm>
            <a:off x="5838840" y="2685960"/>
            <a:ext cx="1758960" cy="19843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>
            <a:off x="5838840" y="2919240"/>
            <a:ext cx="352440" cy="465480"/>
          </a:xfrm>
          <a:custGeom>
            <a:avLst/>
            <a:gdLst/>
            <a:ahLst/>
            <a:rect l="l" t="t" r="r" b="b"/>
            <a:pathLst>
              <a:path w="1608" h="2134">
                <a:moveTo>
                  <a:pt x="536" y="0"/>
                </a:moveTo>
                <a:lnTo>
                  <a:pt x="1608" y="1067"/>
                </a:lnTo>
                <a:lnTo>
                  <a:pt x="536" y="2134"/>
                </a:lnTo>
                <a:lnTo>
                  <a:pt x="0" y="1067"/>
                </a:lnTo>
                <a:lnTo>
                  <a:pt x="536" y="0"/>
                </a:lnTo>
                <a:close/>
              </a:path>
            </a:pathLst>
          </a:custGeom>
          <a:solidFill>
            <a:srgbClr val="6699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>
            <a:off x="6894360" y="2685960"/>
            <a:ext cx="703440" cy="933480"/>
          </a:xfrm>
          <a:custGeom>
            <a:avLst/>
            <a:gdLst/>
            <a:ahLst/>
            <a:rect l="l" t="t" r="r" b="b"/>
            <a:pathLst>
              <a:path w="3215" h="4269">
                <a:moveTo>
                  <a:pt x="2679" y="1067"/>
                </a:moveTo>
                <a:lnTo>
                  <a:pt x="3215" y="3201"/>
                </a:lnTo>
                <a:lnTo>
                  <a:pt x="2143" y="4269"/>
                </a:lnTo>
                <a:lnTo>
                  <a:pt x="0" y="3201"/>
                </a:lnTo>
                <a:lnTo>
                  <a:pt x="0" y="1067"/>
                </a:lnTo>
                <a:lnTo>
                  <a:pt x="1607" y="0"/>
                </a:lnTo>
                <a:lnTo>
                  <a:pt x="2679" y="1067"/>
                </a:lnTo>
                <a:close/>
              </a:path>
            </a:pathLst>
          </a:custGeom>
          <a:solidFill>
            <a:srgbClr val="99cc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>
            <a:off x="5958000" y="3852720"/>
            <a:ext cx="583920" cy="700200"/>
          </a:xfrm>
          <a:custGeom>
            <a:avLst/>
            <a:gdLst/>
            <a:ahLst/>
            <a:rect l="l" t="t" r="r" b="b"/>
            <a:pathLst>
              <a:path w="2679" h="3202">
                <a:moveTo>
                  <a:pt x="0" y="1068"/>
                </a:moveTo>
                <a:lnTo>
                  <a:pt x="1607" y="0"/>
                </a:lnTo>
                <a:lnTo>
                  <a:pt x="2679" y="1601"/>
                </a:lnTo>
                <a:lnTo>
                  <a:pt x="2143" y="3202"/>
                </a:lnTo>
                <a:lnTo>
                  <a:pt x="536" y="2668"/>
                </a:lnTo>
                <a:lnTo>
                  <a:pt x="0" y="1068"/>
                </a:lnTo>
                <a:close/>
              </a:path>
            </a:pathLst>
          </a:custGeom>
          <a:solidFill>
            <a:srgbClr val="cc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>
            <a:off x="6426360" y="3970440"/>
            <a:ext cx="819000" cy="699840"/>
          </a:xfrm>
          <a:custGeom>
            <a:avLst/>
            <a:gdLst/>
            <a:ahLst/>
            <a:rect l="l" t="t" r="r" b="b"/>
            <a:pathLst>
              <a:path w="3749" h="3201">
                <a:moveTo>
                  <a:pt x="3749" y="2134"/>
                </a:moveTo>
                <a:lnTo>
                  <a:pt x="2142" y="3201"/>
                </a:lnTo>
                <a:lnTo>
                  <a:pt x="0" y="2668"/>
                </a:lnTo>
                <a:lnTo>
                  <a:pt x="536" y="1067"/>
                </a:lnTo>
                <a:lnTo>
                  <a:pt x="2142" y="0"/>
                </a:lnTo>
                <a:lnTo>
                  <a:pt x="3749" y="534"/>
                </a:lnTo>
                <a:lnTo>
                  <a:pt x="3749" y="2134"/>
                </a:lnTo>
                <a:close/>
              </a:path>
            </a:pathLst>
          </a:custGeom>
          <a:solidFill>
            <a:srgbClr val="cc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>
            <a:off x="5910120" y="3032280"/>
            <a:ext cx="184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>
            <a:off x="7130880" y="3052800"/>
            <a:ext cx="184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3" name=""/>
          <p:cNvSpPr/>
          <p:nvPr/>
        </p:nvSpPr>
        <p:spPr>
          <a:xfrm>
            <a:off x="6176880" y="4105440"/>
            <a:ext cx="184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>
            <a:off x="6784920" y="4195800"/>
            <a:ext cx="184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>
            <a:off x="7432560" y="2905200"/>
            <a:ext cx="81000" cy="8712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6" name=""/>
          <p:cNvSpPr/>
          <p:nvPr/>
        </p:nvSpPr>
        <p:spPr>
          <a:xfrm>
            <a:off x="6164280" y="3125880"/>
            <a:ext cx="49320" cy="540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>
            <a:off x="6504120" y="4146480"/>
            <a:ext cx="81000" cy="8748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680" bIns="406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>
            <a:off x="5934240" y="4064040"/>
            <a:ext cx="48960" cy="522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9720" bIns="-9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9" name=""/>
          <p:cNvSpPr/>
          <p:nvPr/>
        </p:nvSpPr>
        <p:spPr>
          <a:xfrm>
            <a:off x="6384960" y="4513320"/>
            <a:ext cx="81000" cy="8712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0" name=""/>
          <p:cNvSpPr/>
          <p:nvPr/>
        </p:nvSpPr>
        <p:spPr>
          <a:xfrm>
            <a:off x="6862680" y="2905200"/>
            <a:ext cx="49320" cy="540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1" name=""/>
          <p:cNvSpPr/>
          <p:nvPr/>
        </p:nvSpPr>
        <p:spPr>
          <a:xfrm>
            <a:off x="5911920" y="2855880"/>
            <a:ext cx="81000" cy="8748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680" bIns="406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2" name=""/>
          <p:cNvSpPr/>
          <p:nvPr/>
        </p:nvSpPr>
        <p:spPr>
          <a:xfrm>
            <a:off x="5938920" y="3355920"/>
            <a:ext cx="48960" cy="540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>
            <a:off x="5815080" y="3125880"/>
            <a:ext cx="49320" cy="540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>
            <a:off x="7219800" y="2666880"/>
            <a:ext cx="49320" cy="540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5" name=""/>
          <p:cNvSpPr/>
          <p:nvPr/>
        </p:nvSpPr>
        <p:spPr>
          <a:xfrm>
            <a:off x="6867360" y="3346560"/>
            <a:ext cx="47880" cy="540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6" name=""/>
          <p:cNvSpPr/>
          <p:nvPr/>
        </p:nvSpPr>
        <p:spPr>
          <a:xfrm>
            <a:off x="7578720" y="3346560"/>
            <a:ext cx="49320" cy="540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7" name=""/>
          <p:cNvSpPr/>
          <p:nvPr/>
        </p:nvSpPr>
        <p:spPr>
          <a:xfrm>
            <a:off x="7335720" y="3598920"/>
            <a:ext cx="49320" cy="540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>
            <a:off x="6035760" y="4403880"/>
            <a:ext cx="48960" cy="540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9" name=""/>
          <p:cNvSpPr/>
          <p:nvPr/>
        </p:nvSpPr>
        <p:spPr>
          <a:xfrm>
            <a:off x="6278400" y="3828960"/>
            <a:ext cx="49320" cy="540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0" name=""/>
          <p:cNvSpPr/>
          <p:nvPr/>
        </p:nvSpPr>
        <p:spPr>
          <a:xfrm>
            <a:off x="6867360" y="3935520"/>
            <a:ext cx="47880" cy="522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9720" bIns="-9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>
            <a:off x="7216920" y="4054320"/>
            <a:ext cx="47520" cy="540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>
            <a:off x="7216920" y="4425840"/>
            <a:ext cx="47520" cy="540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3" name=""/>
          <p:cNvSpPr/>
          <p:nvPr/>
        </p:nvSpPr>
        <p:spPr>
          <a:xfrm>
            <a:off x="6862680" y="4641840"/>
            <a:ext cx="49320" cy="540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4" name="PlaceHolder 2"/>
          <p:cNvSpPr>
            <a:spLocks noGrp="1"/>
          </p:cNvSpPr>
          <p:nvPr>
            <p:ph/>
          </p:nvPr>
        </p:nvSpPr>
        <p:spPr>
          <a:xfrm>
            <a:off x="644400" y="1752480"/>
            <a:ext cx="3927600" cy="4114800"/>
          </a:xfrm>
          <a:prstGeom prst="rect">
            <a:avLst/>
          </a:prstGeom>
          <a:noFill/>
          <a:ln w="12600">
            <a:solidFill>
              <a:srgbClr val="333333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291960"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cc0066"/>
                </a:solidFill>
                <a:latin typeface="Arial"/>
              </a:rPr>
              <a:t>Thematic properties of features (weight)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91960"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"/>
          <p:cNvSpPr/>
          <p:nvPr/>
        </p:nvSpPr>
        <p:spPr>
          <a:xfrm>
            <a:off x="7696080" y="5192640"/>
            <a:ext cx="152640" cy="15264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6" name=""/>
          <p:cNvSpPr/>
          <p:nvPr/>
        </p:nvSpPr>
        <p:spPr>
          <a:xfrm>
            <a:off x="7696080" y="5421240"/>
            <a:ext cx="152640" cy="152640"/>
          </a:xfrm>
          <a:prstGeom prst="rect">
            <a:avLst/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7" name=""/>
          <p:cNvSpPr/>
          <p:nvPr/>
        </p:nvSpPr>
        <p:spPr>
          <a:xfrm>
            <a:off x="7696080" y="5649840"/>
            <a:ext cx="152640" cy="152640"/>
          </a:xfrm>
          <a:prstGeom prst="rect">
            <a:avLst/>
          </a:prstGeom>
          <a:solidFill>
            <a:srgbClr val="66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6781680" y="5378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eight 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>
            <a:off x="7924680" y="5137200"/>
            <a:ext cx="457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70" name=""/>
          <p:cNvGraphicFramePr/>
          <p:nvPr/>
        </p:nvGraphicFramePr>
        <p:xfrm>
          <a:off x="1747800" y="2744640"/>
          <a:ext cx="1938240" cy="1535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47800" y="2744640"/>
                    <a:ext cx="1938240" cy="153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72" name=""/>
          <p:cNvSpPr/>
          <p:nvPr/>
        </p:nvSpPr>
        <p:spPr>
          <a:xfrm>
            <a:off x="5483160" y="5364000"/>
            <a:ext cx="1069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 : identifi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3" name="PlaceHolder 3"/>
          <p:cNvSpPr>
            <a:spLocks noGrp="1"/>
          </p:cNvSpPr>
          <p:nvPr>
            <p:ph type="title"/>
          </p:nvPr>
        </p:nvSpPr>
        <p:spPr>
          <a:xfrm>
            <a:off x="644400" y="9140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Arial"/>
              </a:rPr>
              <a:t>Areal features: Example of a distribution</a:t>
            </a: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374" name=""/>
          <p:cNvSpPr/>
          <p:nvPr/>
        </p:nvSpPr>
        <p:spPr>
          <a:xfrm>
            <a:off x="5127480" y="5079960"/>
            <a:ext cx="310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143000"/>
                <a:tab algn="l" pos="2286000"/>
                <a:tab algn="l" pos="2641680"/>
                <a:tab algn="l" pos="3301920"/>
                <a:tab algn="l" pos="3962520"/>
                <a:tab algn="l" pos="4622760"/>
                <a:tab algn="l" pos="5283360"/>
                <a:tab algn="l" pos="5943600"/>
                <a:tab algn="l" pos="6603840"/>
                <a:tab algn="l" pos="7264440"/>
                <a:tab algn="l" pos="7924680"/>
                <a:tab algn="l" pos="8585280"/>
                <a:tab algn="l" pos="9245520"/>
                <a:tab algn="l" pos="9906120"/>
                <a:tab algn="l" pos="105663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ordinate X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5" name=""/>
          <p:cNvSpPr/>
          <p:nvPr/>
        </p:nvSpPr>
        <p:spPr>
          <a:xfrm flipH="1" rot="16200000">
            <a:off x="4631760" y="3400200"/>
            <a:ext cx="113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ordinate 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2135160" y="2016000"/>
            <a:ext cx="6399360" cy="1793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500" spc="-1" strike="noStrike">
                <a:solidFill>
                  <a:srgbClr val="800000"/>
                </a:solidFill>
                <a:latin typeface="Arial"/>
              </a:rPr>
              <a:t>Introduction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428760" y="1630440"/>
            <a:ext cx="1162080" cy="1341360"/>
            <a:chOff x="428760" y="1630440"/>
            <a:chExt cx="1162080" cy="1341360"/>
          </a:xfrm>
        </p:grpSpPr>
        <p:sp>
          <p:nvSpPr>
            <p:cNvPr id="104" name=""/>
            <p:cNvSpPr/>
            <p:nvPr/>
          </p:nvSpPr>
          <p:spPr>
            <a:xfrm rot="5400000">
              <a:off x="338760" y="1720080"/>
              <a:ext cx="1341360" cy="1162080"/>
            </a:xfrm>
            <a:prstGeom prst="triangle">
              <a:avLst>
                <a:gd name="adj" fmla="val 50000"/>
              </a:avLst>
            </a:prstGeom>
            <a:solidFill>
              <a:srgbClr val="800000"/>
            </a:solidFill>
            <a:ln w="0">
              <a:noFill/>
            </a:ln>
            <a:effectLst>
              <a:outerShdw dist="17819" dir="2700000" blurRad="0" rotWithShape="0">
                <a:srgbClr val="0000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52600" y="1905120"/>
              <a:ext cx="5007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CH" sz="4400" spc="-1" strike="noStrike">
                  <a:solidFill>
                    <a:srgbClr val="ffffff"/>
                  </a:solidFill>
                  <a:latin typeface="Verdana"/>
                </a:rPr>
                <a:t>1</a:t>
              </a:r>
              <a:endParaRPr b="0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6" name="PlaceHolder 1"/>
          <p:cNvSpPr>
            <a:spLocks noGrp="1"/>
          </p:cNvSpPr>
          <p:nvPr>
            <p:ph/>
          </p:nvPr>
        </p:nvSpPr>
        <p:spPr>
          <a:xfrm>
            <a:off x="4723920" y="1752480"/>
            <a:ext cx="3768840" cy="4114800"/>
          </a:xfrm>
          <a:prstGeom prst="rect">
            <a:avLst/>
          </a:prstGeom>
          <a:noFill/>
          <a:ln w="12600">
            <a:solidFill>
              <a:srgbClr val="333333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7" name=""/>
          <p:cNvGrpSpPr/>
          <p:nvPr/>
        </p:nvGrpSpPr>
        <p:grpSpPr>
          <a:xfrm>
            <a:off x="5334120" y="2394000"/>
            <a:ext cx="2604240" cy="2665080"/>
            <a:chOff x="5334120" y="2394000"/>
            <a:chExt cx="2604240" cy="2665080"/>
          </a:xfrm>
        </p:grpSpPr>
        <p:sp>
          <p:nvSpPr>
            <p:cNvPr id="1378" name=""/>
            <p:cNvSpPr/>
            <p:nvPr/>
          </p:nvSpPr>
          <p:spPr>
            <a:xfrm flipV="1">
              <a:off x="5491800" y="2462040"/>
              <a:ext cx="1080" cy="235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9" name=""/>
            <p:cNvSpPr/>
            <p:nvPr/>
          </p:nvSpPr>
          <p:spPr>
            <a:xfrm flipH="1">
              <a:off x="5457240" y="4817880"/>
              <a:ext cx="345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0" name=""/>
            <p:cNvSpPr/>
            <p:nvPr/>
          </p:nvSpPr>
          <p:spPr>
            <a:xfrm flipH="1">
              <a:off x="5474160" y="4699080"/>
              <a:ext cx="172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5385960" y="47480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2" name=""/>
            <p:cNvSpPr/>
            <p:nvPr/>
          </p:nvSpPr>
          <p:spPr>
            <a:xfrm flipH="1">
              <a:off x="5457240" y="4581360"/>
              <a:ext cx="345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3" name=""/>
            <p:cNvSpPr/>
            <p:nvPr/>
          </p:nvSpPr>
          <p:spPr>
            <a:xfrm flipH="1">
              <a:off x="5474160" y="4464000"/>
              <a:ext cx="172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5385960" y="45133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 flipH="1">
              <a:off x="5457240" y="4346640"/>
              <a:ext cx="345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 flipH="1">
              <a:off x="5474160" y="4228920"/>
              <a:ext cx="172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5385960" y="42782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 flipH="1">
              <a:off x="5457240" y="4111560"/>
              <a:ext cx="345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 flipH="1">
              <a:off x="5474160" y="3992400"/>
              <a:ext cx="172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5385960" y="40417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 flipH="1">
              <a:off x="5457240" y="3875040"/>
              <a:ext cx="345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 flipH="1">
              <a:off x="5474160" y="3757680"/>
              <a:ext cx="172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5385960" y="38066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 flipH="1">
              <a:off x="5457240" y="3639960"/>
              <a:ext cx="345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5" name=""/>
            <p:cNvSpPr/>
            <p:nvPr/>
          </p:nvSpPr>
          <p:spPr>
            <a:xfrm flipH="1">
              <a:off x="5474160" y="3522600"/>
              <a:ext cx="172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5385960" y="35719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7" name=""/>
            <p:cNvSpPr/>
            <p:nvPr/>
          </p:nvSpPr>
          <p:spPr>
            <a:xfrm flipH="1">
              <a:off x="5457240" y="3405240"/>
              <a:ext cx="345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8" name=""/>
            <p:cNvSpPr/>
            <p:nvPr/>
          </p:nvSpPr>
          <p:spPr>
            <a:xfrm flipH="1">
              <a:off x="5474160" y="3286080"/>
              <a:ext cx="172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5385960" y="33354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0" name=""/>
            <p:cNvSpPr/>
            <p:nvPr/>
          </p:nvSpPr>
          <p:spPr>
            <a:xfrm flipH="1">
              <a:off x="5457240" y="3168720"/>
              <a:ext cx="345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1" name=""/>
            <p:cNvSpPr/>
            <p:nvPr/>
          </p:nvSpPr>
          <p:spPr>
            <a:xfrm flipH="1">
              <a:off x="5474160" y="3051000"/>
              <a:ext cx="172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5385960" y="31003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 flipH="1">
              <a:off x="5457240" y="2933640"/>
              <a:ext cx="345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4" name=""/>
            <p:cNvSpPr/>
            <p:nvPr/>
          </p:nvSpPr>
          <p:spPr>
            <a:xfrm flipH="1">
              <a:off x="5474160" y="2816280"/>
              <a:ext cx="172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5385960" y="28652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 flipH="1">
              <a:off x="5457240" y="2698560"/>
              <a:ext cx="345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 flipH="1">
              <a:off x="5474160" y="2579760"/>
              <a:ext cx="172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5385960" y="26287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 flipH="1">
              <a:off x="5457240" y="2457360"/>
              <a:ext cx="345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5334120" y="2394000"/>
              <a:ext cx="113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5736240" y="4817880"/>
              <a:ext cx="21362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5491800" y="4817880"/>
              <a:ext cx="108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5861160" y="4817880"/>
              <a:ext cx="108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5713200" y="49356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5978160" y="4817880"/>
              <a:ext cx="144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6101280" y="4817880"/>
              <a:ext cx="108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5954400" y="49356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6333120" y="4817880"/>
              <a:ext cx="144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6186240" y="49356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6448320" y="4817880"/>
              <a:ext cx="144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6573240" y="4817880"/>
              <a:ext cx="108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6424920" y="49356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6688440" y="4817880"/>
              <a:ext cx="144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6813360" y="4817880"/>
              <a:ext cx="108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6666120" y="49356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6920640" y="4817880"/>
              <a:ext cx="108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7045200" y="4817880"/>
              <a:ext cx="108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6897600" y="49356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7285320" y="4817880"/>
              <a:ext cx="144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7138440" y="49356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7400520" y="4817880"/>
              <a:ext cx="144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2" name=""/>
            <p:cNvSpPr/>
            <p:nvPr/>
          </p:nvSpPr>
          <p:spPr>
            <a:xfrm>
              <a:off x="7525440" y="4817880"/>
              <a:ext cx="108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7378200" y="49356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7632360" y="4817880"/>
              <a:ext cx="144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7755480" y="4817880"/>
              <a:ext cx="144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7608960" y="49356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7872840" y="4817880"/>
              <a:ext cx="108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7824960" y="4935600"/>
              <a:ext cx="113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5493240" y="2457360"/>
              <a:ext cx="23792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0" name=""/>
            <p:cNvSpPr/>
            <p:nvPr/>
          </p:nvSpPr>
          <p:spPr>
            <a:xfrm flipV="1">
              <a:off x="7872840" y="2462040"/>
              <a:ext cx="1080" cy="235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5493240" y="4817880"/>
              <a:ext cx="23792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2" name=""/>
            <p:cNvSpPr/>
            <p:nvPr/>
          </p:nvSpPr>
          <p:spPr>
            <a:xfrm flipV="1">
              <a:off x="5491800" y="2462040"/>
              <a:ext cx="1080" cy="235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5618160" y="4819680"/>
              <a:ext cx="108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5471640" y="49370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5734800" y="4819680"/>
              <a:ext cx="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6215040" y="4817880"/>
              <a:ext cx="108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7152840" y="4817880"/>
              <a:ext cx="108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48" name=""/>
          <p:cNvSpPr/>
          <p:nvPr/>
        </p:nvSpPr>
        <p:spPr>
          <a:xfrm>
            <a:off x="5838840" y="2685960"/>
            <a:ext cx="1758960" cy="19843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9" name=""/>
          <p:cNvSpPr/>
          <p:nvPr/>
        </p:nvSpPr>
        <p:spPr>
          <a:xfrm>
            <a:off x="5838840" y="2919240"/>
            <a:ext cx="352440" cy="465480"/>
          </a:xfrm>
          <a:custGeom>
            <a:avLst/>
            <a:gdLst/>
            <a:ahLst/>
            <a:rect l="l" t="t" r="r" b="b"/>
            <a:pathLst>
              <a:path w="1608" h="2134">
                <a:moveTo>
                  <a:pt x="536" y="0"/>
                </a:moveTo>
                <a:lnTo>
                  <a:pt x="1608" y="1067"/>
                </a:lnTo>
                <a:lnTo>
                  <a:pt x="536" y="2134"/>
                </a:lnTo>
                <a:lnTo>
                  <a:pt x="0" y="1067"/>
                </a:lnTo>
                <a:lnTo>
                  <a:pt x="536" y="0"/>
                </a:lnTo>
                <a:close/>
              </a:path>
            </a:pathLst>
          </a:custGeom>
          <a:solidFill>
            <a:srgbClr val="6699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0" name=""/>
          <p:cNvSpPr/>
          <p:nvPr/>
        </p:nvSpPr>
        <p:spPr>
          <a:xfrm>
            <a:off x="6894360" y="2685960"/>
            <a:ext cx="703440" cy="933480"/>
          </a:xfrm>
          <a:custGeom>
            <a:avLst/>
            <a:gdLst/>
            <a:ahLst/>
            <a:rect l="l" t="t" r="r" b="b"/>
            <a:pathLst>
              <a:path w="3215" h="4269">
                <a:moveTo>
                  <a:pt x="2679" y="1067"/>
                </a:moveTo>
                <a:lnTo>
                  <a:pt x="3215" y="3201"/>
                </a:lnTo>
                <a:lnTo>
                  <a:pt x="2143" y="4269"/>
                </a:lnTo>
                <a:lnTo>
                  <a:pt x="0" y="3201"/>
                </a:lnTo>
                <a:lnTo>
                  <a:pt x="0" y="1067"/>
                </a:lnTo>
                <a:lnTo>
                  <a:pt x="1607" y="0"/>
                </a:lnTo>
                <a:lnTo>
                  <a:pt x="2679" y="1067"/>
                </a:lnTo>
                <a:close/>
              </a:path>
            </a:pathLst>
          </a:custGeom>
          <a:solidFill>
            <a:srgbClr val="99cc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1" name=""/>
          <p:cNvSpPr/>
          <p:nvPr/>
        </p:nvSpPr>
        <p:spPr>
          <a:xfrm>
            <a:off x="5958000" y="3852720"/>
            <a:ext cx="583920" cy="700200"/>
          </a:xfrm>
          <a:custGeom>
            <a:avLst/>
            <a:gdLst/>
            <a:ahLst/>
            <a:rect l="l" t="t" r="r" b="b"/>
            <a:pathLst>
              <a:path w="2679" h="3202">
                <a:moveTo>
                  <a:pt x="0" y="1068"/>
                </a:moveTo>
                <a:lnTo>
                  <a:pt x="1607" y="0"/>
                </a:lnTo>
                <a:lnTo>
                  <a:pt x="2679" y="1601"/>
                </a:lnTo>
                <a:lnTo>
                  <a:pt x="2143" y="3202"/>
                </a:lnTo>
                <a:lnTo>
                  <a:pt x="536" y="2668"/>
                </a:lnTo>
                <a:lnTo>
                  <a:pt x="0" y="1068"/>
                </a:lnTo>
                <a:close/>
              </a:path>
            </a:pathLst>
          </a:custGeom>
          <a:solidFill>
            <a:srgbClr val="cc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2" name=""/>
          <p:cNvSpPr/>
          <p:nvPr/>
        </p:nvSpPr>
        <p:spPr>
          <a:xfrm>
            <a:off x="6426360" y="3970440"/>
            <a:ext cx="819000" cy="699840"/>
          </a:xfrm>
          <a:custGeom>
            <a:avLst/>
            <a:gdLst/>
            <a:ahLst/>
            <a:rect l="l" t="t" r="r" b="b"/>
            <a:pathLst>
              <a:path w="3749" h="3201">
                <a:moveTo>
                  <a:pt x="3749" y="2134"/>
                </a:moveTo>
                <a:lnTo>
                  <a:pt x="2142" y="3201"/>
                </a:lnTo>
                <a:lnTo>
                  <a:pt x="0" y="2668"/>
                </a:lnTo>
                <a:lnTo>
                  <a:pt x="536" y="1067"/>
                </a:lnTo>
                <a:lnTo>
                  <a:pt x="2142" y="0"/>
                </a:lnTo>
                <a:lnTo>
                  <a:pt x="3749" y="534"/>
                </a:lnTo>
                <a:lnTo>
                  <a:pt x="3749" y="2134"/>
                </a:lnTo>
                <a:close/>
              </a:path>
            </a:pathLst>
          </a:custGeom>
          <a:solidFill>
            <a:srgbClr val="cc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3" name=""/>
          <p:cNvSpPr/>
          <p:nvPr/>
        </p:nvSpPr>
        <p:spPr>
          <a:xfrm>
            <a:off x="7432560" y="2905200"/>
            <a:ext cx="81000" cy="8712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4" name=""/>
          <p:cNvSpPr/>
          <p:nvPr/>
        </p:nvSpPr>
        <p:spPr>
          <a:xfrm>
            <a:off x="6164280" y="3125880"/>
            <a:ext cx="49320" cy="540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5" name=""/>
          <p:cNvSpPr/>
          <p:nvPr/>
        </p:nvSpPr>
        <p:spPr>
          <a:xfrm>
            <a:off x="6504120" y="4146480"/>
            <a:ext cx="81000" cy="8748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680" bIns="406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6" name=""/>
          <p:cNvSpPr/>
          <p:nvPr/>
        </p:nvSpPr>
        <p:spPr>
          <a:xfrm>
            <a:off x="5934240" y="4064040"/>
            <a:ext cx="48960" cy="522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9720" bIns="-9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7" name=""/>
          <p:cNvSpPr/>
          <p:nvPr/>
        </p:nvSpPr>
        <p:spPr>
          <a:xfrm>
            <a:off x="6384960" y="4513320"/>
            <a:ext cx="81000" cy="8712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8" name=""/>
          <p:cNvSpPr/>
          <p:nvPr/>
        </p:nvSpPr>
        <p:spPr>
          <a:xfrm>
            <a:off x="6862680" y="2905200"/>
            <a:ext cx="49320" cy="540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9" name=""/>
          <p:cNvSpPr/>
          <p:nvPr/>
        </p:nvSpPr>
        <p:spPr>
          <a:xfrm>
            <a:off x="5911920" y="2855880"/>
            <a:ext cx="81000" cy="8748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680" bIns="406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0" name=""/>
          <p:cNvSpPr/>
          <p:nvPr/>
        </p:nvSpPr>
        <p:spPr>
          <a:xfrm>
            <a:off x="5938920" y="3355920"/>
            <a:ext cx="48960" cy="540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1" name=""/>
          <p:cNvSpPr/>
          <p:nvPr/>
        </p:nvSpPr>
        <p:spPr>
          <a:xfrm>
            <a:off x="5815080" y="3125880"/>
            <a:ext cx="49320" cy="540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2" name=""/>
          <p:cNvSpPr/>
          <p:nvPr/>
        </p:nvSpPr>
        <p:spPr>
          <a:xfrm>
            <a:off x="7219800" y="2666880"/>
            <a:ext cx="49320" cy="540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3" name=""/>
          <p:cNvSpPr/>
          <p:nvPr/>
        </p:nvSpPr>
        <p:spPr>
          <a:xfrm>
            <a:off x="6867360" y="3346560"/>
            <a:ext cx="47880" cy="540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4" name=""/>
          <p:cNvSpPr/>
          <p:nvPr/>
        </p:nvSpPr>
        <p:spPr>
          <a:xfrm>
            <a:off x="7578720" y="3346560"/>
            <a:ext cx="49320" cy="540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5" name=""/>
          <p:cNvSpPr/>
          <p:nvPr/>
        </p:nvSpPr>
        <p:spPr>
          <a:xfrm>
            <a:off x="7335720" y="3598920"/>
            <a:ext cx="49320" cy="540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6" name=""/>
          <p:cNvSpPr/>
          <p:nvPr/>
        </p:nvSpPr>
        <p:spPr>
          <a:xfrm>
            <a:off x="6035760" y="4403880"/>
            <a:ext cx="48960" cy="540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7" name=""/>
          <p:cNvSpPr/>
          <p:nvPr/>
        </p:nvSpPr>
        <p:spPr>
          <a:xfrm>
            <a:off x="6278400" y="3828960"/>
            <a:ext cx="49320" cy="540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8" name=""/>
          <p:cNvSpPr/>
          <p:nvPr/>
        </p:nvSpPr>
        <p:spPr>
          <a:xfrm>
            <a:off x="6867360" y="3935520"/>
            <a:ext cx="47880" cy="522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9720" bIns="-9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9" name=""/>
          <p:cNvSpPr/>
          <p:nvPr/>
        </p:nvSpPr>
        <p:spPr>
          <a:xfrm>
            <a:off x="7216920" y="4054320"/>
            <a:ext cx="47520" cy="540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0" name=""/>
          <p:cNvSpPr/>
          <p:nvPr/>
        </p:nvSpPr>
        <p:spPr>
          <a:xfrm>
            <a:off x="7216920" y="4425840"/>
            <a:ext cx="47520" cy="540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1" name=""/>
          <p:cNvSpPr/>
          <p:nvPr/>
        </p:nvSpPr>
        <p:spPr>
          <a:xfrm>
            <a:off x="6862680" y="4641840"/>
            <a:ext cx="49320" cy="540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2" name=""/>
          <p:cNvSpPr/>
          <p:nvPr/>
        </p:nvSpPr>
        <p:spPr>
          <a:xfrm>
            <a:off x="6172200" y="2774880"/>
            <a:ext cx="184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ff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3" name=""/>
          <p:cNvSpPr/>
          <p:nvPr/>
        </p:nvSpPr>
        <p:spPr>
          <a:xfrm>
            <a:off x="7543800" y="3613320"/>
            <a:ext cx="184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ff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4" name=""/>
          <p:cNvSpPr/>
          <p:nvPr/>
        </p:nvSpPr>
        <p:spPr>
          <a:xfrm>
            <a:off x="5715000" y="4146480"/>
            <a:ext cx="184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ff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5" name=""/>
          <p:cNvSpPr/>
          <p:nvPr/>
        </p:nvSpPr>
        <p:spPr>
          <a:xfrm>
            <a:off x="7391520" y="4299120"/>
            <a:ext cx="183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ff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76" name=""/>
          <p:cNvGrpSpPr/>
          <p:nvPr/>
        </p:nvGrpSpPr>
        <p:grpSpPr>
          <a:xfrm>
            <a:off x="5497560" y="2449440"/>
            <a:ext cx="2362320" cy="2361960"/>
            <a:chOff x="5497560" y="2449440"/>
            <a:chExt cx="2362320" cy="2361960"/>
          </a:xfrm>
        </p:grpSpPr>
        <p:sp>
          <p:nvSpPr>
            <p:cNvPr id="1477" name=""/>
            <p:cNvSpPr/>
            <p:nvPr/>
          </p:nvSpPr>
          <p:spPr>
            <a:xfrm>
              <a:off x="6542280" y="2449440"/>
              <a:ext cx="0" cy="317880"/>
            </a:xfrm>
            <a:prstGeom prst="line">
              <a:avLst/>
            </a:prstGeom>
            <a:ln w="2844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6542280" y="2767320"/>
              <a:ext cx="45360" cy="272520"/>
            </a:xfrm>
            <a:prstGeom prst="line">
              <a:avLst/>
            </a:prstGeom>
            <a:ln w="2844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6587640" y="3039840"/>
              <a:ext cx="0" cy="227160"/>
            </a:xfrm>
            <a:prstGeom prst="line">
              <a:avLst/>
            </a:prstGeom>
            <a:ln w="2844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0" name=""/>
            <p:cNvSpPr/>
            <p:nvPr/>
          </p:nvSpPr>
          <p:spPr>
            <a:xfrm flipH="1">
              <a:off x="6542280" y="3267000"/>
              <a:ext cx="45360" cy="226800"/>
            </a:xfrm>
            <a:prstGeom prst="line">
              <a:avLst/>
            </a:prstGeom>
            <a:ln w="2844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1" name=""/>
            <p:cNvSpPr/>
            <p:nvPr/>
          </p:nvSpPr>
          <p:spPr>
            <a:xfrm>
              <a:off x="6542280" y="3494160"/>
              <a:ext cx="0" cy="181800"/>
            </a:xfrm>
            <a:prstGeom prst="line">
              <a:avLst/>
            </a:prstGeom>
            <a:ln w="2844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2" name=""/>
            <p:cNvSpPr/>
            <p:nvPr/>
          </p:nvSpPr>
          <p:spPr>
            <a:xfrm flipH="1" flipV="1">
              <a:off x="6405840" y="3630600"/>
              <a:ext cx="136080" cy="45360"/>
            </a:xfrm>
            <a:prstGeom prst="line">
              <a:avLst/>
            </a:prstGeom>
            <a:ln w="2844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3" name=""/>
            <p:cNvSpPr/>
            <p:nvPr/>
          </p:nvSpPr>
          <p:spPr>
            <a:xfrm flipH="1">
              <a:off x="6224400" y="3630600"/>
              <a:ext cx="181440" cy="45360"/>
            </a:xfrm>
            <a:prstGeom prst="line">
              <a:avLst/>
            </a:prstGeom>
            <a:ln w="2844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4" name=""/>
            <p:cNvSpPr/>
            <p:nvPr/>
          </p:nvSpPr>
          <p:spPr>
            <a:xfrm flipH="1">
              <a:off x="5905800" y="3675960"/>
              <a:ext cx="317880" cy="181440"/>
            </a:xfrm>
            <a:prstGeom prst="line">
              <a:avLst/>
            </a:prstGeom>
            <a:ln w="2844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5" name=""/>
            <p:cNvSpPr/>
            <p:nvPr/>
          </p:nvSpPr>
          <p:spPr>
            <a:xfrm flipH="1">
              <a:off x="5724360" y="3857760"/>
              <a:ext cx="181440" cy="45360"/>
            </a:xfrm>
            <a:prstGeom prst="line">
              <a:avLst/>
            </a:prstGeom>
            <a:ln w="2844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6" name=""/>
            <p:cNvSpPr/>
            <p:nvPr/>
          </p:nvSpPr>
          <p:spPr>
            <a:xfrm flipH="1">
              <a:off x="5497560" y="3903120"/>
              <a:ext cx="226800" cy="226800"/>
            </a:xfrm>
            <a:prstGeom prst="line">
              <a:avLst/>
            </a:prstGeom>
            <a:ln w="2844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6542280" y="3675960"/>
              <a:ext cx="90720" cy="90720"/>
            </a:xfrm>
            <a:prstGeom prst="line">
              <a:avLst/>
            </a:prstGeom>
            <a:ln w="2844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6633360" y="3766680"/>
              <a:ext cx="272520" cy="0"/>
            </a:xfrm>
            <a:prstGeom prst="line">
              <a:avLst/>
            </a:prstGeom>
            <a:ln w="2844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6905880" y="3766680"/>
              <a:ext cx="545040" cy="181800"/>
            </a:xfrm>
            <a:prstGeom prst="line">
              <a:avLst/>
            </a:prstGeom>
            <a:ln w="2844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0" name=""/>
            <p:cNvSpPr/>
            <p:nvPr/>
          </p:nvSpPr>
          <p:spPr>
            <a:xfrm>
              <a:off x="7450920" y="3948480"/>
              <a:ext cx="136080" cy="136080"/>
            </a:xfrm>
            <a:prstGeom prst="line">
              <a:avLst/>
            </a:prstGeom>
            <a:ln w="2844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7587360" y="4084920"/>
              <a:ext cx="272520" cy="272520"/>
            </a:xfrm>
            <a:prstGeom prst="line">
              <a:avLst/>
            </a:prstGeom>
            <a:ln w="2844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2" name=""/>
            <p:cNvSpPr/>
            <p:nvPr/>
          </p:nvSpPr>
          <p:spPr>
            <a:xfrm flipH="1">
              <a:off x="6542280" y="3766680"/>
              <a:ext cx="90720" cy="454320"/>
            </a:xfrm>
            <a:prstGeom prst="line">
              <a:avLst/>
            </a:prstGeom>
            <a:ln w="2844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3" name=""/>
            <p:cNvSpPr/>
            <p:nvPr/>
          </p:nvSpPr>
          <p:spPr>
            <a:xfrm flipH="1">
              <a:off x="6405840" y="4221360"/>
              <a:ext cx="136080" cy="363240"/>
            </a:xfrm>
            <a:prstGeom prst="line">
              <a:avLst/>
            </a:prstGeom>
            <a:ln w="2844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4" name=""/>
            <p:cNvSpPr/>
            <p:nvPr/>
          </p:nvSpPr>
          <p:spPr>
            <a:xfrm flipH="1">
              <a:off x="6360120" y="4584600"/>
              <a:ext cx="45000" cy="226800"/>
            </a:xfrm>
            <a:prstGeom prst="line">
              <a:avLst/>
            </a:prstGeom>
            <a:ln w="2844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95" name="PlaceHolder 2"/>
          <p:cNvSpPr>
            <a:spLocks noGrp="1"/>
          </p:cNvSpPr>
          <p:nvPr>
            <p:ph/>
          </p:nvPr>
        </p:nvSpPr>
        <p:spPr>
          <a:xfrm>
            <a:off x="644040" y="1752480"/>
            <a:ext cx="3775320" cy="4114800"/>
          </a:xfrm>
          <a:prstGeom prst="rect">
            <a:avLst/>
          </a:prstGeom>
          <a:noFill/>
          <a:ln w="12600">
            <a:solidFill>
              <a:srgbClr val="333333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2919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79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geometrical proximity to the 4 areal objects is weighted by their relative influ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79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y location within each area is closer to its areal feature than to any oth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79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se areas of largest weighted proximity are often called </a:t>
            </a:r>
            <a:r>
              <a:rPr b="1" lang="en-US" sz="1600" spc="-1" strike="noStrike">
                <a:solidFill>
                  <a:srgbClr val="cc0066"/>
                </a:solidFill>
                <a:latin typeface="Arial"/>
              </a:rPr>
              <a:t>Thiessen’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US" sz="1600" spc="-1" strike="noStrike">
                <a:solidFill>
                  <a:srgbClr val="cc0066"/>
                </a:solidFill>
                <a:latin typeface="Arial"/>
              </a:rPr>
              <a:t>Voronoï ’s polygon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"/>
          <p:cNvSpPr/>
          <p:nvPr/>
        </p:nvSpPr>
        <p:spPr>
          <a:xfrm>
            <a:off x="1523880" y="1812960"/>
            <a:ext cx="198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143000"/>
                <a:tab algn="l" pos="2286000"/>
                <a:tab algn="l" pos="2641680"/>
                <a:tab algn="l" pos="3301920"/>
                <a:tab algn="l" pos="3962520"/>
                <a:tab algn="l" pos="4622760"/>
                <a:tab algn="l" pos="5283360"/>
                <a:tab algn="l" pos="5943600"/>
                <a:tab algn="l" pos="6603840"/>
                <a:tab algn="l" pos="7264440"/>
                <a:tab algn="l" pos="7924680"/>
                <a:tab algn="l" pos="8585280"/>
                <a:tab algn="l" pos="9245520"/>
                <a:tab algn="l" pos="9906120"/>
                <a:tab algn="l" pos="1056636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Arial"/>
              </a:rPr>
              <a:t>Properti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7" name=""/>
          <p:cNvSpPr/>
          <p:nvPr/>
        </p:nvSpPr>
        <p:spPr>
          <a:xfrm>
            <a:off x="4746600" y="1752480"/>
            <a:ext cx="373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143000"/>
                <a:tab algn="l" pos="2286000"/>
                <a:tab algn="l" pos="2641680"/>
                <a:tab algn="l" pos="3301920"/>
                <a:tab algn="l" pos="3962520"/>
                <a:tab algn="l" pos="4622760"/>
                <a:tab algn="l" pos="5283360"/>
                <a:tab algn="l" pos="5943600"/>
                <a:tab algn="l" pos="6603840"/>
                <a:tab algn="l" pos="7264440"/>
                <a:tab algn="l" pos="7924680"/>
                <a:tab algn="l" pos="8585280"/>
                <a:tab algn="l" pos="9245520"/>
                <a:tab algn="l" pos="9906120"/>
                <a:tab algn="l" pos="10566360"/>
              </a:tabLst>
            </a:pPr>
            <a:r>
              <a:rPr b="1" lang="en-US" sz="1800" spc="-1" strike="noStrike">
                <a:solidFill>
                  <a:srgbClr val="cc0066"/>
                </a:solidFill>
                <a:latin typeface="Arial"/>
              </a:rPr>
              <a:t>Areas of largest weighted proximit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8" name="PlaceHolder 3"/>
          <p:cNvSpPr>
            <a:spLocks noGrp="1"/>
          </p:cNvSpPr>
          <p:nvPr>
            <p:ph type="title"/>
          </p:nvPr>
        </p:nvSpPr>
        <p:spPr>
          <a:xfrm>
            <a:off x="644400" y="936360"/>
            <a:ext cx="79660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800000"/>
                </a:solidFill>
                <a:latin typeface="Arial"/>
              </a:rPr>
              <a:t>Areal objects: Areas of largest weighted proximity</a:t>
            </a:r>
            <a:endParaRPr b="1" lang="en-US" sz="25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499" name=""/>
          <p:cNvSpPr/>
          <p:nvPr/>
        </p:nvSpPr>
        <p:spPr>
          <a:xfrm>
            <a:off x="4648320" y="5421240"/>
            <a:ext cx="3809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Areas of largest weighted proximity to the 4 areal features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0" name=""/>
          <p:cNvSpPr/>
          <p:nvPr/>
        </p:nvSpPr>
        <p:spPr>
          <a:xfrm>
            <a:off x="5127480" y="5059440"/>
            <a:ext cx="310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143000"/>
                <a:tab algn="l" pos="2286000"/>
                <a:tab algn="l" pos="2641680"/>
                <a:tab algn="l" pos="3301920"/>
                <a:tab algn="l" pos="3962520"/>
                <a:tab algn="l" pos="4622760"/>
                <a:tab algn="l" pos="5283360"/>
                <a:tab algn="l" pos="5943600"/>
                <a:tab algn="l" pos="6603840"/>
                <a:tab algn="l" pos="7264440"/>
                <a:tab algn="l" pos="7924680"/>
                <a:tab algn="l" pos="8585280"/>
                <a:tab algn="l" pos="9245520"/>
                <a:tab algn="l" pos="9906120"/>
                <a:tab algn="l" pos="105663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ordinate X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1" name=""/>
          <p:cNvSpPr/>
          <p:nvPr/>
        </p:nvSpPr>
        <p:spPr>
          <a:xfrm flipH="1" rot="16200000">
            <a:off x="4631760" y="3400200"/>
            <a:ext cx="113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ordinate 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/>
          </p:nvPr>
        </p:nvSpPr>
        <p:spPr>
          <a:xfrm>
            <a:off x="4723920" y="1752480"/>
            <a:ext cx="3768840" cy="4114800"/>
          </a:xfrm>
          <a:prstGeom prst="rect">
            <a:avLst/>
          </a:prstGeom>
          <a:noFill/>
          <a:ln w="12600">
            <a:solidFill>
              <a:srgbClr val="333333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3" name="" descr=""/>
          <p:cNvPicPr/>
          <p:nvPr/>
        </p:nvPicPr>
        <p:blipFill>
          <a:blip r:embed="rId1"/>
          <a:stretch/>
        </p:blipFill>
        <p:spPr>
          <a:xfrm>
            <a:off x="5475240" y="2368440"/>
            <a:ext cx="2862360" cy="2421000"/>
          </a:xfrm>
          <a:prstGeom prst="rect">
            <a:avLst/>
          </a:prstGeom>
          <a:ln w="0">
            <a:noFill/>
          </a:ln>
        </p:spPr>
      </p:pic>
      <p:grpSp>
        <p:nvGrpSpPr>
          <p:cNvPr id="1504" name=""/>
          <p:cNvGrpSpPr/>
          <p:nvPr/>
        </p:nvGrpSpPr>
        <p:grpSpPr>
          <a:xfrm>
            <a:off x="5320080" y="2286000"/>
            <a:ext cx="2618280" cy="2739240"/>
            <a:chOff x="5320080" y="2286000"/>
            <a:chExt cx="2618280" cy="2739240"/>
          </a:xfrm>
        </p:grpSpPr>
        <p:sp>
          <p:nvSpPr>
            <p:cNvPr id="1505" name=""/>
            <p:cNvSpPr/>
            <p:nvPr/>
          </p:nvSpPr>
          <p:spPr>
            <a:xfrm flipV="1">
              <a:off x="5478480" y="2355480"/>
              <a:ext cx="1440" cy="242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6" name=""/>
            <p:cNvSpPr/>
            <p:nvPr/>
          </p:nvSpPr>
          <p:spPr>
            <a:xfrm flipH="1">
              <a:off x="5443200" y="4780440"/>
              <a:ext cx="349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7" name=""/>
            <p:cNvSpPr/>
            <p:nvPr/>
          </p:nvSpPr>
          <p:spPr>
            <a:xfrm flipH="1">
              <a:off x="5460480" y="4658040"/>
              <a:ext cx="17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5371920" y="47084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9" name=""/>
            <p:cNvSpPr/>
            <p:nvPr/>
          </p:nvSpPr>
          <p:spPr>
            <a:xfrm flipH="1">
              <a:off x="5443200" y="4537080"/>
              <a:ext cx="349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0" name=""/>
            <p:cNvSpPr/>
            <p:nvPr/>
          </p:nvSpPr>
          <p:spPr>
            <a:xfrm flipH="1">
              <a:off x="5460480" y="4416120"/>
              <a:ext cx="17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5371920" y="44668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2" name=""/>
            <p:cNvSpPr/>
            <p:nvPr/>
          </p:nvSpPr>
          <p:spPr>
            <a:xfrm flipH="1">
              <a:off x="5443200" y="4295520"/>
              <a:ext cx="34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3" name=""/>
            <p:cNvSpPr/>
            <p:nvPr/>
          </p:nvSpPr>
          <p:spPr>
            <a:xfrm flipH="1">
              <a:off x="5460480" y="4174200"/>
              <a:ext cx="176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5371920" y="42249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5" name=""/>
            <p:cNvSpPr/>
            <p:nvPr/>
          </p:nvSpPr>
          <p:spPr>
            <a:xfrm flipH="1">
              <a:off x="5443200" y="4053600"/>
              <a:ext cx="34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6" name=""/>
            <p:cNvSpPr/>
            <p:nvPr/>
          </p:nvSpPr>
          <p:spPr>
            <a:xfrm flipH="1">
              <a:off x="5460480" y="3930840"/>
              <a:ext cx="176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5371920" y="39816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8" name=""/>
            <p:cNvSpPr/>
            <p:nvPr/>
          </p:nvSpPr>
          <p:spPr>
            <a:xfrm flipH="1">
              <a:off x="5443200" y="3810240"/>
              <a:ext cx="34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9" name=""/>
            <p:cNvSpPr/>
            <p:nvPr/>
          </p:nvSpPr>
          <p:spPr>
            <a:xfrm flipH="1">
              <a:off x="5460480" y="3689280"/>
              <a:ext cx="17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5371920" y="37396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1" name=""/>
            <p:cNvSpPr/>
            <p:nvPr/>
          </p:nvSpPr>
          <p:spPr>
            <a:xfrm flipH="1">
              <a:off x="5443200" y="3568320"/>
              <a:ext cx="349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2" name=""/>
            <p:cNvSpPr/>
            <p:nvPr/>
          </p:nvSpPr>
          <p:spPr>
            <a:xfrm flipH="1">
              <a:off x="5460480" y="3447360"/>
              <a:ext cx="17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5371920" y="34981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4" name=""/>
            <p:cNvSpPr/>
            <p:nvPr/>
          </p:nvSpPr>
          <p:spPr>
            <a:xfrm flipH="1">
              <a:off x="5443200" y="3326760"/>
              <a:ext cx="34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5" name=""/>
            <p:cNvSpPr/>
            <p:nvPr/>
          </p:nvSpPr>
          <p:spPr>
            <a:xfrm flipH="1">
              <a:off x="5460480" y="3204000"/>
              <a:ext cx="17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6" name=""/>
            <p:cNvSpPr/>
            <p:nvPr/>
          </p:nvSpPr>
          <p:spPr>
            <a:xfrm>
              <a:off x="5371920" y="32547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7" name=""/>
            <p:cNvSpPr/>
            <p:nvPr/>
          </p:nvSpPr>
          <p:spPr>
            <a:xfrm flipH="1">
              <a:off x="5443200" y="3083040"/>
              <a:ext cx="34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8" name=""/>
            <p:cNvSpPr/>
            <p:nvPr/>
          </p:nvSpPr>
          <p:spPr>
            <a:xfrm flipH="1">
              <a:off x="5460480" y="2962080"/>
              <a:ext cx="176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9" name=""/>
            <p:cNvSpPr/>
            <p:nvPr/>
          </p:nvSpPr>
          <p:spPr>
            <a:xfrm>
              <a:off x="5371920" y="30128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0" name=""/>
            <p:cNvSpPr/>
            <p:nvPr/>
          </p:nvSpPr>
          <p:spPr>
            <a:xfrm flipH="1">
              <a:off x="5443200" y="2841120"/>
              <a:ext cx="34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1" name=""/>
            <p:cNvSpPr/>
            <p:nvPr/>
          </p:nvSpPr>
          <p:spPr>
            <a:xfrm flipH="1">
              <a:off x="5460480" y="2720520"/>
              <a:ext cx="17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2" name=""/>
            <p:cNvSpPr/>
            <p:nvPr/>
          </p:nvSpPr>
          <p:spPr>
            <a:xfrm>
              <a:off x="5371920" y="27709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3" name=""/>
            <p:cNvSpPr/>
            <p:nvPr/>
          </p:nvSpPr>
          <p:spPr>
            <a:xfrm flipH="1">
              <a:off x="5443200" y="2599200"/>
              <a:ext cx="349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4" name=""/>
            <p:cNvSpPr/>
            <p:nvPr/>
          </p:nvSpPr>
          <p:spPr>
            <a:xfrm flipH="1">
              <a:off x="5460480" y="2477160"/>
              <a:ext cx="17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5" name=""/>
            <p:cNvSpPr/>
            <p:nvPr/>
          </p:nvSpPr>
          <p:spPr>
            <a:xfrm>
              <a:off x="5371920" y="25275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6" name=""/>
            <p:cNvSpPr/>
            <p:nvPr/>
          </p:nvSpPr>
          <p:spPr>
            <a:xfrm flipH="1">
              <a:off x="5443200" y="2351160"/>
              <a:ext cx="34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7" name=""/>
            <p:cNvSpPr/>
            <p:nvPr/>
          </p:nvSpPr>
          <p:spPr>
            <a:xfrm>
              <a:off x="5320080" y="2286000"/>
              <a:ext cx="113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5724360" y="4780440"/>
              <a:ext cx="21481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9" name=""/>
            <p:cNvSpPr/>
            <p:nvPr/>
          </p:nvSpPr>
          <p:spPr>
            <a:xfrm>
              <a:off x="5478480" y="4780440"/>
              <a:ext cx="1440" cy="39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5850000" y="4780440"/>
              <a:ext cx="1440" cy="1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1" name=""/>
            <p:cNvSpPr/>
            <p:nvPr/>
          </p:nvSpPr>
          <p:spPr>
            <a:xfrm>
              <a:off x="5700600" y="49017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2" name=""/>
            <p:cNvSpPr/>
            <p:nvPr/>
          </p:nvSpPr>
          <p:spPr>
            <a:xfrm>
              <a:off x="5967360" y="4780440"/>
              <a:ext cx="1800" cy="39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3" name=""/>
            <p:cNvSpPr/>
            <p:nvPr/>
          </p:nvSpPr>
          <p:spPr>
            <a:xfrm>
              <a:off x="6091200" y="4780440"/>
              <a:ext cx="1440" cy="1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4" name=""/>
            <p:cNvSpPr/>
            <p:nvPr/>
          </p:nvSpPr>
          <p:spPr>
            <a:xfrm>
              <a:off x="5943600" y="49017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5" name=""/>
            <p:cNvSpPr/>
            <p:nvPr/>
          </p:nvSpPr>
          <p:spPr>
            <a:xfrm>
              <a:off x="6324480" y="4780440"/>
              <a:ext cx="1800" cy="1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6" name=""/>
            <p:cNvSpPr/>
            <p:nvPr/>
          </p:nvSpPr>
          <p:spPr>
            <a:xfrm>
              <a:off x="6176880" y="49017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7" name=""/>
            <p:cNvSpPr/>
            <p:nvPr/>
          </p:nvSpPr>
          <p:spPr>
            <a:xfrm>
              <a:off x="6440400" y="4780440"/>
              <a:ext cx="1800" cy="39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8" name=""/>
            <p:cNvSpPr/>
            <p:nvPr/>
          </p:nvSpPr>
          <p:spPr>
            <a:xfrm>
              <a:off x="6566040" y="4780440"/>
              <a:ext cx="1440" cy="1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9" name=""/>
            <p:cNvSpPr/>
            <p:nvPr/>
          </p:nvSpPr>
          <p:spPr>
            <a:xfrm>
              <a:off x="6416640" y="49017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0" name=""/>
            <p:cNvSpPr/>
            <p:nvPr/>
          </p:nvSpPr>
          <p:spPr>
            <a:xfrm>
              <a:off x="6681600" y="4780440"/>
              <a:ext cx="1800" cy="39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1" name=""/>
            <p:cNvSpPr/>
            <p:nvPr/>
          </p:nvSpPr>
          <p:spPr>
            <a:xfrm>
              <a:off x="6807240" y="4780440"/>
              <a:ext cx="1440" cy="1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2" name=""/>
            <p:cNvSpPr/>
            <p:nvPr/>
          </p:nvSpPr>
          <p:spPr>
            <a:xfrm>
              <a:off x="6659640" y="49017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3" name=""/>
            <p:cNvSpPr/>
            <p:nvPr/>
          </p:nvSpPr>
          <p:spPr>
            <a:xfrm>
              <a:off x="6915240" y="4780440"/>
              <a:ext cx="1440" cy="39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4" name=""/>
            <p:cNvSpPr/>
            <p:nvPr/>
          </p:nvSpPr>
          <p:spPr>
            <a:xfrm>
              <a:off x="7040520" y="4780440"/>
              <a:ext cx="1440" cy="1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5" name=""/>
            <p:cNvSpPr/>
            <p:nvPr/>
          </p:nvSpPr>
          <p:spPr>
            <a:xfrm>
              <a:off x="6891480" y="49017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6" name=""/>
            <p:cNvSpPr/>
            <p:nvPr/>
          </p:nvSpPr>
          <p:spPr>
            <a:xfrm>
              <a:off x="7281720" y="4780440"/>
              <a:ext cx="1800" cy="1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7" name=""/>
            <p:cNvSpPr/>
            <p:nvPr/>
          </p:nvSpPr>
          <p:spPr>
            <a:xfrm>
              <a:off x="7134120" y="49017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8" name=""/>
            <p:cNvSpPr/>
            <p:nvPr/>
          </p:nvSpPr>
          <p:spPr>
            <a:xfrm>
              <a:off x="7397640" y="4780440"/>
              <a:ext cx="1800" cy="39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9" name=""/>
            <p:cNvSpPr/>
            <p:nvPr/>
          </p:nvSpPr>
          <p:spPr>
            <a:xfrm>
              <a:off x="7523280" y="4780440"/>
              <a:ext cx="1440" cy="1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0" name=""/>
            <p:cNvSpPr/>
            <p:nvPr/>
          </p:nvSpPr>
          <p:spPr>
            <a:xfrm>
              <a:off x="7375680" y="49017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1" name=""/>
            <p:cNvSpPr/>
            <p:nvPr/>
          </p:nvSpPr>
          <p:spPr>
            <a:xfrm>
              <a:off x="7630920" y="4780440"/>
              <a:ext cx="1800" cy="39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2" name=""/>
            <p:cNvSpPr/>
            <p:nvPr/>
          </p:nvSpPr>
          <p:spPr>
            <a:xfrm>
              <a:off x="7754760" y="4780440"/>
              <a:ext cx="1800" cy="1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3" name=""/>
            <p:cNvSpPr/>
            <p:nvPr/>
          </p:nvSpPr>
          <p:spPr>
            <a:xfrm>
              <a:off x="7607160" y="49017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4" name=""/>
            <p:cNvSpPr/>
            <p:nvPr/>
          </p:nvSpPr>
          <p:spPr>
            <a:xfrm>
              <a:off x="7872480" y="4780440"/>
              <a:ext cx="1440" cy="39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5" name=""/>
            <p:cNvSpPr/>
            <p:nvPr/>
          </p:nvSpPr>
          <p:spPr>
            <a:xfrm>
              <a:off x="7824960" y="4901760"/>
              <a:ext cx="113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6" name=""/>
            <p:cNvSpPr/>
            <p:nvPr/>
          </p:nvSpPr>
          <p:spPr>
            <a:xfrm>
              <a:off x="5479920" y="2351160"/>
              <a:ext cx="23925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7" name=""/>
            <p:cNvSpPr/>
            <p:nvPr/>
          </p:nvSpPr>
          <p:spPr>
            <a:xfrm flipV="1">
              <a:off x="7872480" y="2355480"/>
              <a:ext cx="1440" cy="242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8" name=""/>
            <p:cNvSpPr/>
            <p:nvPr/>
          </p:nvSpPr>
          <p:spPr>
            <a:xfrm>
              <a:off x="5479920" y="4780440"/>
              <a:ext cx="23925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9" name=""/>
            <p:cNvSpPr/>
            <p:nvPr/>
          </p:nvSpPr>
          <p:spPr>
            <a:xfrm flipV="1">
              <a:off x="5478480" y="2355480"/>
              <a:ext cx="1440" cy="242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0" name=""/>
            <p:cNvSpPr/>
            <p:nvPr/>
          </p:nvSpPr>
          <p:spPr>
            <a:xfrm>
              <a:off x="5605560" y="4782240"/>
              <a:ext cx="1440" cy="1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5457960" y="49032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2" name=""/>
            <p:cNvSpPr/>
            <p:nvPr/>
          </p:nvSpPr>
          <p:spPr>
            <a:xfrm>
              <a:off x="5722920" y="4782240"/>
              <a:ext cx="0" cy="39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3" name=""/>
            <p:cNvSpPr/>
            <p:nvPr/>
          </p:nvSpPr>
          <p:spPr>
            <a:xfrm>
              <a:off x="6205680" y="4780440"/>
              <a:ext cx="1440" cy="39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4" name=""/>
            <p:cNvSpPr/>
            <p:nvPr/>
          </p:nvSpPr>
          <p:spPr>
            <a:xfrm>
              <a:off x="7148520" y="4780440"/>
              <a:ext cx="1440" cy="39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75" name=""/>
          <p:cNvGrpSpPr/>
          <p:nvPr/>
        </p:nvGrpSpPr>
        <p:grpSpPr>
          <a:xfrm>
            <a:off x="5932440" y="2949480"/>
            <a:ext cx="1382760" cy="1441800"/>
            <a:chOff x="5932440" y="2949480"/>
            <a:chExt cx="1382760" cy="1441800"/>
          </a:xfrm>
        </p:grpSpPr>
        <p:sp>
          <p:nvSpPr>
            <p:cNvPr id="1576" name=""/>
            <p:cNvSpPr/>
            <p:nvPr/>
          </p:nvSpPr>
          <p:spPr>
            <a:xfrm>
              <a:off x="5932440" y="2949480"/>
              <a:ext cx="177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7" name=""/>
            <p:cNvSpPr/>
            <p:nvPr/>
          </p:nvSpPr>
          <p:spPr>
            <a:xfrm>
              <a:off x="7135920" y="2971800"/>
              <a:ext cx="179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8" name=""/>
            <p:cNvSpPr/>
            <p:nvPr/>
          </p:nvSpPr>
          <p:spPr>
            <a:xfrm>
              <a:off x="6172200" y="4038480"/>
              <a:ext cx="177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6896160" y="4114800"/>
              <a:ext cx="179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80" name="PlaceHolder 2"/>
          <p:cNvSpPr>
            <a:spLocks noGrp="1"/>
          </p:cNvSpPr>
          <p:nvPr>
            <p:ph/>
          </p:nvPr>
        </p:nvSpPr>
        <p:spPr>
          <a:xfrm>
            <a:off x="644040" y="1752480"/>
            <a:ext cx="3775320" cy="4114800"/>
          </a:xfrm>
          <a:prstGeom prst="rect">
            <a:avLst/>
          </a:prstGeom>
          <a:noFill/>
          <a:ln w="12600">
            <a:solidFill>
              <a:srgbClr val="333333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2919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79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ighted distance image from each cell to the nearest areal region, the </a:t>
            </a:r>
            <a:r>
              <a:rPr b="1" lang="en-US" sz="1600" spc="-1" strike="noStrike">
                <a:solidFill>
                  <a:srgbClr val="cc0066"/>
                </a:solidFill>
                <a:latin typeface="Arial"/>
              </a:rPr>
              <a:t>weighted minimum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cc0066"/>
                </a:solidFill>
                <a:latin typeface="Arial"/>
              </a:rPr>
              <a:t>dista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79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graphical representation suggests limits of areas of largest weighted proximit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79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mage values express the </a:t>
            </a:r>
            <a:r>
              <a:rPr b="1" lang="en-US" sz="1600" spc="-1" strike="noStrike">
                <a:solidFill>
                  <a:srgbClr val="cc0066"/>
                </a:solidFill>
                <a:latin typeface="Arial"/>
              </a:rPr>
              <a:t>proximit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(weighted distance) to the nearest areal region, but without identifying it !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1" name="PlaceHolder 3"/>
          <p:cNvSpPr>
            <a:spLocks noGrp="1"/>
          </p:cNvSpPr>
          <p:nvPr>
            <p:ph type="title"/>
          </p:nvPr>
        </p:nvSpPr>
        <p:spPr>
          <a:xfrm>
            <a:off x="644400" y="9363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Arial"/>
              </a:rPr>
              <a:t>Areal regions: Weighted minimum distance</a:t>
            </a: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82" name=""/>
          <p:cNvSpPr/>
          <p:nvPr/>
        </p:nvSpPr>
        <p:spPr>
          <a:xfrm>
            <a:off x="1523880" y="1812960"/>
            <a:ext cx="198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143000"/>
                <a:tab algn="l" pos="2286000"/>
                <a:tab algn="l" pos="2641680"/>
                <a:tab algn="l" pos="3301920"/>
                <a:tab algn="l" pos="3962520"/>
                <a:tab algn="l" pos="4622760"/>
                <a:tab algn="l" pos="5283360"/>
                <a:tab algn="l" pos="5943600"/>
                <a:tab algn="l" pos="6603840"/>
                <a:tab algn="l" pos="7264440"/>
                <a:tab algn="l" pos="7924680"/>
                <a:tab algn="l" pos="8585280"/>
                <a:tab algn="l" pos="9245520"/>
                <a:tab algn="l" pos="9906120"/>
                <a:tab algn="l" pos="1056636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Arial"/>
              </a:rPr>
              <a:t>Properti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3" name=""/>
          <p:cNvSpPr/>
          <p:nvPr/>
        </p:nvSpPr>
        <p:spPr>
          <a:xfrm>
            <a:off x="4800600" y="1828800"/>
            <a:ext cx="365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143000"/>
                <a:tab algn="l" pos="2286000"/>
                <a:tab algn="l" pos="2641680"/>
                <a:tab algn="l" pos="3301920"/>
                <a:tab algn="l" pos="3962520"/>
                <a:tab algn="l" pos="4622760"/>
                <a:tab algn="l" pos="5283360"/>
                <a:tab algn="l" pos="5943600"/>
                <a:tab algn="l" pos="6603840"/>
                <a:tab algn="l" pos="7264440"/>
                <a:tab algn="l" pos="7924680"/>
                <a:tab algn="l" pos="8585280"/>
                <a:tab algn="l" pos="9245520"/>
                <a:tab algn="l" pos="9906120"/>
                <a:tab algn="l" pos="10566360"/>
              </a:tabLst>
            </a:pPr>
            <a:r>
              <a:rPr b="1" lang="en-US" sz="1800" spc="-1" strike="noStrike">
                <a:solidFill>
                  <a:srgbClr val="cc0066"/>
                </a:solidFill>
                <a:latin typeface="Arial"/>
              </a:rPr>
              <a:t>Weighted minimum distan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4" name=""/>
          <p:cNvSpPr/>
          <p:nvPr/>
        </p:nvSpPr>
        <p:spPr>
          <a:xfrm>
            <a:off x="4800600" y="5356080"/>
            <a:ext cx="3657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66"/>
                </a:solidFill>
                <a:latin typeface="Arial"/>
              </a:rPr>
              <a:t>Maximum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of minimum distances: 2.9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66"/>
                </a:solidFill>
                <a:latin typeface="Arial"/>
              </a:rPr>
              <a:t>Mean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of minimum distances:  0.6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5" name=""/>
          <p:cNvSpPr/>
          <p:nvPr/>
        </p:nvSpPr>
        <p:spPr>
          <a:xfrm>
            <a:off x="5127480" y="5059440"/>
            <a:ext cx="310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143000"/>
                <a:tab algn="l" pos="2286000"/>
                <a:tab algn="l" pos="2641680"/>
                <a:tab algn="l" pos="3301920"/>
                <a:tab algn="l" pos="3962520"/>
                <a:tab algn="l" pos="4622760"/>
                <a:tab algn="l" pos="5283360"/>
                <a:tab algn="l" pos="5943600"/>
                <a:tab algn="l" pos="6603840"/>
                <a:tab algn="l" pos="7264440"/>
                <a:tab algn="l" pos="7924680"/>
                <a:tab algn="l" pos="8585280"/>
                <a:tab algn="l" pos="9245520"/>
                <a:tab algn="l" pos="9906120"/>
                <a:tab algn="l" pos="105663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ordinate X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6" name=""/>
          <p:cNvSpPr/>
          <p:nvPr/>
        </p:nvSpPr>
        <p:spPr>
          <a:xfrm flipH="1" rot="16200000">
            <a:off x="4631760" y="3400200"/>
            <a:ext cx="113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ordinate 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7" name="PlaceHolder 1"/>
          <p:cNvSpPr>
            <a:spLocks noGrp="1"/>
          </p:cNvSpPr>
          <p:nvPr>
            <p:ph/>
          </p:nvPr>
        </p:nvSpPr>
        <p:spPr>
          <a:xfrm>
            <a:off x="4723920" y="1752480"/>
            <a:ext cx="3768840" cy="4114800"/>
          </a:xfrm>
          <a:prstGeom prst="rect">
            <a:avLst/>
          </a:prstGeom>
          <a:noFill/>
          <a:ln w="12600">
            <a:solidFill>
              <a:srgbClr val="333333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8" name="" descr=""/>
          <p:cNvPicPr/>
          <p:nvPr/>
        </p:nvPicPr>
        <p:blipFill>
          <a:blip r:embed="rId1"/>
          <a:stretch/>
        </p:blipFill>
        <p:spPr>
          <a:xfrm>
            <a:off x="5475240" y="2468520"/>
            <a:ext cx="2671920" cy="2438280"/>
          </a:xfrm>
          <a:prstGeom prst="rect">
            <a:avLst/>
          </a:prstGeom>
          <a:ln w="0">
            <a:noFill/>
          </a:ln>
        </p:spPr>
      </p:pic>
      <p:grpSp>
        <p:nvGrpSpPr>
          <p:cNvPr id="1589" name=""/>
          <p:cNvGrpSpPr/>
          <p:nvPr/>
        </p:nvGrpSpPr>
        <p:grpSpPr>
          <a:xfrm>
            <a:off x="5320080" y="2392200"/>
            <a:ext cx="2618280" cy="2739600"/>
            <a:chOff x="5320080" y="2392200"/>
            <a:chExt cx="2618280" cy="2739600"/>
          </a:xfrm>
        </p:grpSpPr>
        <p:sp>
          <p:nvSpPr>
            <p:cNvPr id="1590" name=""/>
            <p:cNvSpPr/>
            <p:nvPr/>
          </p:nvSpPr>
          <p:spPr>
            <a:xfrm flipV="1">
              <a:off x="5478480" y="2462040"/>
              <a:ext cx="1440" cy="2424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1" name=""/>
            <p:cNvSpPr/>
            <p:nvPr/>
          </p:nvSpPr>
          <p:spPr>
            <a:xfrm flipH="1">
              <a:off x="5443200" y="4887000"/>
              <a:ext cx="349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2" name=""/>
            <p:cNvSpPr/>
            <p:nvPr/>
          </p:nvSpPr>
          <p:spPr>
            <a:xfrm flipH="1">
              <a:off x="5460480" y="4764600"/>
              <a:ext cx="17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3" name=""/>
            <p:cNvSpPr/>
            <p:nvPr/>
          </p:nvSpPr>
          <p:spPr>
            <a:xfrm>
              <a:off x="5371920" y="48150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4" name=""/>
            <p:cNvSpPr/>
            <p:nvPr/>
          </p:nvSpPr>
          <p:spPr>
            <a:xfrm flipH="1">
              <a:off x="5443200" y="4643640"/>
              <a:ext cx="349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5" name=""/>
            <p:cNvSpPr/>
            <p:nvPr/>
          </p:nvSpPr>
          <p:spPr>
            <a:xfrm flipH="1">
              <a:off x="5460480" y="4522680"/>
              <a:ext cx="17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6" name=""/>
            <p:cNvSpPr/>
            <p:nvPr/>
          </p:nvSpPr>
          <p:spPr>
            <a:xfrm>
              <a:off x="5371920" y="45734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7" name=""/>
            <p:cNvSpPr/>
            <p:nvPr/>
          </p:nvSpPr>
          <p:spPr>
            <a:xfrm flipH="1">
              <a:off x="5443200" y="4402080"/>
              <a:ext cx="34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8" name=""/>
            <p:cNvSpPr/>
            <p:nvPr/>
          </p:nvSpPr>
          <p:spPr>
            <a:xfrm flipH="1">
              <a:off x="5460480" y="4280760"/>
              <a:ext cx="176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9" name=""/>
            <p:cNvSpPr/>
            <p:nvPr/>
          </p:nvSpPr>
          <p:spPr>
            <a:xfrm>
              <a:off x="5371920" y="43315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0" name=""/>
            <p:cNvSpPr/>
            <p:nvPr/>
          </p:nvSpPr>
          <p:spPr>
            <a:xfrm flipH="1">
              <a:off x="5443200" y="4159800"/>
              <a:ext cx="34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1" name=""/>
            <p:cNvSpPr/>
            <p:nvPr/>
          </p:nvSpPr>
          <p:spPr>
            <a:xfrm flipH="1">
              <a:off x="5460480" y="4037400"/>
              <a:ext cx="176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2" name=""/>
            <p:cNvSpPr/>
            <p:nvPr/>
          </p:nvSpPr>
          <p:spPr>
            <a:xfrm>
              <a:off x="5371920" y="40881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3" name=""/>
            <p:cNvSpPr/>
            <p:nvPr/>
          </p:nvSpPr>
          <p:spPr>
            <a:xfrm flipH="1">
              <a:off x="5443200" y="3916440"/>
              <a:ext cx="34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4" name=""/>
            <p:cNvSpPr/>
            <p:nvPr/>
          </p:nvSpPr>
          <p:spPr>
            <a:xfrm flipH="1">
              <a:off x="5460480" y="3795840"/>
              <a:ext cx="17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5" name=""/>
            <p:cNvSpPr/>
            <p:nvPr/>
          </p:nvSpPr>
          <p:spPr>
            <a:xfrm>
              <a:off x="5371920" y="38462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6" name=""/>
            <p:cNvSpPr/>
            <p:nvPr/>
          </p:nvSpPr>
          <p:spPr>
            <a:xfrm flipH="1">
              <a:off x="5443200" y="3674520"/>
              <a:ext cx="349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7" name=""/>
            <p:cNvSpPr/>
            <p:nvPr/>
          </p:nvSpPr>
          <p:spPr>
            <a:xfrm flipH="1">
              <a:off x="5460480" y="3553560"/>
              <a:ext cx="17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8" name=""/>
            <p:cNvSpPr/>
            <p:nvPr/>
          </p:nvSpPr>
          <p:spPr>
            <a:xfrm>
              <a:off x="5371920" y="36046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9" name=""/>
            <p:cNvSpPr/>
            <p:nvPr/>
          </p:nvSpPr>
          <p:spPr>
            <a:xfrm flipH="1">
              <a:off x="5443200" y="3432960"/>
              <a:ext cx="34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0" name=""/>
            <p:cNvSpPr/>
            <p:nvPr/>
          </p:nvSpPr>
          <p:spPr>
            <a:xfrm flipH="1">
              <a:off x="5460480" y="3310200"/>
              <a:ext cx="17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5371920" y="33609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2" name=""/>
            <p:cNvSpPr/>
            <p:nvPr/>
          </p:nvSpPr>
          <p:spPr>
            <a:xfrm flipH="1">
              <a:off x="5443200" y="3189600"/>
              <a:ext cx="34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3" name=""/>
            <p:cNvSpPr/>
            <p:nvPr/>
          </p:nvSpPr>
          <p:spPr>
            <a:xfrm flipH="1">
              <a:off x="5460480" y="3068280"/>
              <a:ext cx="176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4" name=""/>
            <p:cNvSpPr/>
            <p:nvPr/>
          </p:nvSpPr>
          <p:spPr>
            <a:xfrm>
              <a:off x="5371920" y="31190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5" name=""/>
            <p:cNvSpPr/>
            <p:nvPr/>
          </p:nvSpPr>
          <p:spPr>
            <a:xfrm flipH="1">
              <a:off x="5443200" y="2947320"/>
              <a:ext cx="34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6" name=""/>
            <p:cNvSpPr/>
            <p:nvPr/>
          </p:nvSpPr>
          <p:spPr>
            <a:xfrm flipH="1">
              <a:off x="5460480" y="2826720"/>
              <a:ext cx="17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7" name=""/>
            <p:cNvSpPr/>
            <p:nvPr/>
          </p:nvSpPr>
          <p:spPr>
            <a:xfrm>
              <a:off x="5371920" y="28771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8" name=""/>
            <p:cNvSpPr/>
            <p:nvPr/>
          </p:nvSpPr>
          <p:spPr>
            <a:xfrm flipH="1">
              <a:off x="5443200" y="2705400"/>
              <a:ext cx="349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9" name=""/>
            <p:cNvSpPr/>
            <p:nvPr/>
          </p:nvSpPr>
          <p:spPr>
            <a:xfrm flipH="1">
              <a:off x="5460480" y="2583360"/>
              <a:ext cx="17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0" name=""/>
            <p:cNvSpPr/>
            <p:nvPr/>
          </p:nvSpPr>
          <p:spPr>
            <a:xfrm>
              <a:off x="5371920" y="26337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1" name=""/>
            <p:cNvSpPr/>
            <p:nvPr/>
          </p:nvSpPr>
          <p:spPr>
            <a:xfrm flipH="1">
              <a:off x="5443200" y="2457360"/>
              <a:ext cx="34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2" name=""/>
            <p:cNvSpPr/>
            <p:nvPr/>
          </p:nvSpPr>
          <p:spPr>
            <a:xfrm>
              <a:off x="5320080" y="2392200"/>
              <a:ext cx="113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3" name=""/>
            <p:cNvSpPr/>
            <p:nvPr/>
          </p:nvSpPr>
          <p:spPr>
            <a:xfrm>
              <a:off x="5724360" y="4887000"/>
              <a:ext cx="21481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4" name=""/>
            <p:cNvSpPr/>
            <p:nvPr/>
          </p:nvSpPr>
          <p:spPr>
            <a:xfrm>
              <a:off x="5478480" y="4887000"/>
              <a:ext cx="1440" cy="39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5" name=""/>
            <p:cNvSpPr/>
            <p:nvPr/>
          </p:nvSpPr>
          <p:spPr>
            <a:xfrm>
              <a:off x="5850000" y="4887000"/>
              <a:ext cx="1440" cy="1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6" name=""/>
            <p:cNvSpPr/>
            <p:nvPr/>
          </p:nvSpPr>
          <p:spPr>
            <a:xfrm>
              <a:off x="5700600" y="50083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7" name=""/>
            <p:cNvSpPr/>
            <p:nvPr/>
          </p:nvSpPr>
          <p:spPr>
            <a:xfrm>
              <a:off x="5967360" y="4887000"/>
              <a:ext cx="1800" cy="39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8" name=""/>
            <p:cNvSpPr/>
            <p:nvPr/>
          </p:nvSpPr>
          <p:spPr>
            <a:xfrm>
              <a:off x="6091200" y="4887000"/>
              <a:ext cx="1440" cy="1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9" name=""/>
            <p:cNvSpPr/>
            <p:nvPr/>
          </p:nvSpPr>
          <p:spPr>
            <a:xfrm>
              <a:off x="5943600" y="50083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0" name=""/>
            <p:cNvSpPr/>
            <p:nvPr/>
          </p:nvSpPr>
          <p:spPr>
            <a:xfrm>
              <a:off x="6324480" y="4887000"/>
              <a:ext cx="1800" cy="1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1" name=""/>
            <p:cNvSpPr/>
            <p:nvPr/>
          </p:nvSpPr>
          <p:spPr>
            <a:xfrm>
              <a:off x="6176880" y="50083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2" name=""/>
            <p:cNvSpPr/>
            <p:nvPr/>
          </p:nvSpPr>
          <p:spPr>
            <a:xfrm>
              <a:off x="6440400" y="4887000"/>
              <a:ext cx="1800" cy="39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3" name=""/>
            <p:cNvSpPr/>
            <p:nvPr/>
          </p:nvSpPr>
          <p:spPr>
            <a:xfrm>
              <a:off x="6566040" y="4887000"/>
              <a:ext cx="1440" cy="1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4" name=""/>
            <p:cNvSpPr/>
            <p:nvPr/>
          </p:nvSpPr>
          <p:spPr>
            <a:xfrm>
              <a:off x="6416640" y="50083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6681600" y="4887000"/>
              <a:ext cx="1800" cy="39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6" name=""/>
            <p:cNvSpPr/>
            <p:nvPr/>
          </p:nvSpPr>
          <p:spPr>
            <a:xfrm>
              <a:off x="6807240" y="4887000"/>
              <a:ext cx="1440" cy="1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6659640" y="50083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8" name=""/>
            <p:cNvSpPr/>
            <p:nvPr/>
          </p:nvSpPr>
          <p:spPr>
            <a:xfrm>
              <a:off x="6915240" y="4887000"/>
              <a:ext cx="1440" cy="39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9" name=""/>
            <p:cNvSpPr/>
            <p:nvPr/>
          </p:nvSpPr>
          <p:spPr>
            <a:xfrm>
              <a:off x="7040520" y="4887000"/>
              <a:ext cx="1440" cy="1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6891480" y="50083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1" name=""/>
            <p:cNvSpPr/>
            <p:nvPr/>
          </p:nvSpPr>
          <p:spPr>
            <a:xfrm>
              <a:off x="7281720" y="4887000"/>
              <a:ext cx="1800" cy="1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2" name=""/>
            <p:cNvSpPr/>
            <p:nvPr/>
          </p:nvSpPr>
          <p:spPr>
            <a:xfrm>
              <a:off x="7134120" y="50083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7397640" y="4887000"/>
              <a:ext cx="1800" cy="39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4" name=""/>
            <p:cNvSpPr/>
            <p:nvPr/>
          </p:nvSpPr>
          <p:spPr>
            <a:xfrm>
              <a:off x="7523280" y="4887000"/>
              <a:ext cx="1440" cy="1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7375680" y="50083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6" name=""/>
            <p:cNvSpPr/>
            <p:nvPr/>
          </p:nvSpPr>
          <p:spPr>
            <a:xfrm>
              <a:off x="7630920" y="4887000"/>
              <a:ext cx="1800" cy="39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7754760" y="4887000"/>
              <a:ext cx="1800" cy="1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8" name=""/>
            <p:cNvSpPr/>
            <p:nvPr/>
          </p:nvSpPr>
          <p:spPr>
            <a:xfrm>
              <a:off x="7607160" y="50083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7872480" y="4887000"/>
              <a:ext cx="1440" cy="39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0" name=""/>
            <p:cNvSpPr/>
            <p:nvPr/>
          </p:nvSpPr>
          <p:spPr>
            <a:xfrm>
              <a:off x="7824960" y="5008320"/>
              <a:ext cx="113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1" name=""/>
            <p:cNvSpPr/>
            <p:nvPr/>
          </p:nvSpPr>
          <p:spPr>
            <a:xfrm>
              <a:off x="5479920" y="2457360"/>
              <a:ext cx="23925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2" name=""/>
            <p:cNvSpPr/>
            <p:nvPr/>
          </p:nvSpPr>
          <p:spPr>
            <a:xfrm flipV="1">
              <a:off x="7872480" y="2462040"/>
              <a:ext cx="1440" cy="2424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3" name=""/>
            <p:cNvSpPr/>
            <p:nvPr/>
          </p:nvSpPr>
          <p:spPr>
            <a:xfrm>
              <a:off x="5479920" y="4887000"/>
              <a:ext cx="23925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4" name=""/>
            <p:cNvSpPr/>
            <p:nvPr/>
          </p:nvSpPr>
          <p:spPr>
            <a:xfrm flipV="1">
              <a:off x="5478480" y="2462040"/>
              <a:ext cx="1440" cy="2424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5" name=""/>
            <p:cNvSpPr/>
            <p:nvPr/>
          </p:nvSpPr>
          <p:spPr>
            <a:xfrm>
              <a:off x="5605560" y="4888800"/>
              <a:ext cx="1440" cy="1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6" name=""/>
            <p:cNvSpPr/>
            <p:nvPr/>
          </p:nvSpPr>
          <p:spPr>
            <a:xfrm>
              <a:off x="5457960" y="50097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7" name=""/>
            <p:cNvSpPr/>
            <p:nvPr/>
          </p:nvSpPr>
          <p:spPr>
            <a:xfrm>
              <a:off x="5722920" y="4888800"/>
              <a:ext cx="0" cy="39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6205680" y="4887000"/>
              <a:ext cx="1440" cy="39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9" name=""/>
            <p:cNvSpPr/>
            <p:nvPr/>
          </p:nvSpPr>
          <p:spPr>
            <a:xfrm>
              <a:off x="7148520" y="4887000"/>
              <a:ext cx="1440" cy="39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60" name=""/>
          <p:cNvGrpSpPr/>
          <p:nvPr/>
        </p:nvGrpSpPr>
        <p:grpSpPr>
          <a:xfrm>
            <a:off x="5931000" y="3002040"/>
            <a:ext cx="1460520" cy="1540080"/>
            <a:chOff x="5931000" y="3002040"/>
            <a:chExt cx="1460520" cy="1540080"/>
          </a:xfrm>
        </p:grpSpPr>
        <p:sp>
          <p:nvSpPr>
            <p:cNvPr id="1661" name=""/>
            <p:cNvSpPr/>
            <p:nvPr/>
          </p:nvSpPr>
          <p:spPr>
            <a:xfrm>
              <a:off x="5931000" y="3078360"/>
              <a:ext cx="177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cc0066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2" name=""/>
            <p:cNvSpPr/>
            <p:nvPr/>
          </p:nvSpPr>
          <p:spPr>
            <a:xfrm>
              <a:off x="7211880" y="3002040"/>
              <a:ext cx="179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cc0066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3" name=""/>
            <p:cNvSpPr/>
            <p:nvPr/>
          </p:nvSpPr>
          <p:spPr>
            <a:xfrm>
              <a:off x="6137280" y="4145040"/>
              <a:ext cx="177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cc0066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4" name=""/>
            <p:cNvSpPr/>
            <p:nvPr/>
          </p:nvSpPr>
          <p:spPr>
            <a:xfrm>
              <a:off x="7010280" y="4265640"/>
              <a:ext cx="179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cc0066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65" name="PlaceHolder 2"/>
          <p:cNvSpPr>
            <a:spLocks noGrp="1"/>
          </p:cNvSpPr>
          <p:nvPr>
            <p:ph/>
          </p:nvPr>
        </p:nvSpPr>
        <p:spPr>
          <a:xfrm>
            <a:off x="644040" y="1752480"/>
            <a:ext cx="3775320" cy="4114800"/>
          </a:xfrm>
          <a:prstGeom prst="rect">
            <a:avLst/>
          </a:prstGeom>
          <a:noFill/>
          <a:ln w="12600">
            <a:solidFill>
              <a:srgbClr val="333333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2919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79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mage cells are assigned to the areal region with the largest weighted proximit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79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pace is divided into areal regions of </a:t>
            </a:r>
            <a:r>
              <a:rPr b="1" lang="en-US" sz="1600" spc="-1" strike="noStrike">
                <a:solidFill>
                  <a:srgbClr val="cc0066"/>
                </a:solidFill>
                <a:latin typeface="Arial"/>
              </a:rPr>
              <a:t>largest weighted proximit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to their areal fea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79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mage values </a:t>
            </a:r>
            <a:r>
              <a:rPr b="1" lang="en-US" sz="1600" spc="-1" strike="noStrike">
                <a:solidFill>
                  <a:srgbClr val="cc0066"/>
                </a:solidFill>
                <a:latin typeface="Arial"/>
              </a:rPr>
              <a:t>identify the areal reg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having the largest weighted proximity. This information adds to the distance value computed abo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6" name="PlaceHolder 3"/>
          <p:cNvSpPr>
            <a:spLocks noGrp="1"/>
          </p:cNvSpPr>
          <p:nvPr>
            <p:ph type="title"/>
          </p:nvPr>
        </p:nvSpPr>
        <p:spPr>
          <a:xfrm>
            <a:off x="644400" y="936360"/>
            <a:ext cx="79660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Areal regions: Regions of largest weighted proximity</a:t>
            </a: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667" name=""/>
          <p:cNvSpPr/>
          <p:nvPr/>
        </p:nvSpPr>
        <p:spPr>
          <a:xfrm>
            <a:off x="4876920" y="5349960"/>
            <a:ext cx="3430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ttribution to the closest areal region of weighted proximity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8" name=""/>
          <p:cNvSpPr/>
          <p:nvPr/>
        </p:nvSpPr>
        <p:spPr>
          <a:xfrm>
            <a:off x="1523880" y="1812960"/>
            <a:ext cx="198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143000"/>
                <a:tab algn="l" pos="2286000"/>
                <a:tab algn="l" pos="2641680"/>
                <a:tab algn="l" pos="3301920"/>
                <a:tab algn="l" pos="3962520"/>
                <a:tab algn="l" pos="4622760"/>
                <a:tab algn="l" pos="5283360"/>
                <a:tab algn="l" pos="5943600"/>
                <a:tab algn="l" pos="6603840"/>
                <a:tab algn="l" pos="7264440"/>
                <a:tab algn="l" pos="7924680"/>
                <a:tab algn="l" pos="8585280"/>
                <a:tab algn="l" pos="9245520"/>
                <a:tab algn="l" pos="9906120"/>
                <a:tab algn="l" pos="1056636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Arial"/>
              </a:rPr>
              <a:t>Properti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9" name=""/>
          <p:cNvSpPr/>
          <p:nvPr/>
        </p:nvSpPr>
        <p:spPr>
          <a:xfrm>
            <a:off x="4670280" y="1828800"/>
            <a:ext cx="388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143000"/>
                <a:tab algn="l" pos="2286000"/>
                <a:tab algn="l" pos="2641680"/>
                <a:tab algn="l" pos="3301920"/>
                <a:tab algn="l" pos="3962520"/>
                <a:tab algn="l" pos="4622760"/>
                <a:tab algn="l" pos="5283360"/>
                <a:tab algn="l" pos="5943600"/>
                <a:tab algn="l" pos="6603840"/>
                <a:tab algn="l" pos="7264440"/>
                <a:tab algn="l" pos="7924680"/>
                <a:tab algn="l" pos="8585280"/>
                <a:tab algn="l" pos="9245520"/>
                <a:tab algn="l" pos="9906120"/>
                <a:tab algn="l" pos="10566360"/>
              </a:tabLst>
            </a:pPr>
            <a:r>
              <a:rPr b="1" lang="en-US" sz="1800" spc="-1" strike="noStrike">
                <a:solidFill>
                  <a:srgbClr val="cc0066"/>
                </a:solidFill>
                <a:latin typeface="Arial"/>
              </a:rPr>
              <a:t>Regions of largest proximit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0" name=""/>
          <p:cNvSpPr/>
          <p:nvPr/>
        </p:nvSpPr>
        <p:spPr>
          <a:xfrm>
            <a:off x="5127480" y="5059440"/>
            <a:ext cx="310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143000"/>
                <a:tab algn="l" pos="2286000"/>
                <a:tab algn="l" pos="2641680"/>
                <a:tab algn="l" pos="3301920"/>
                <a:tab algn="l" pos="3962520"/>
                <a:tab algn="l" pos="4622760"/>
                <a:tab algn="l" pos="5283360"/>
                <a:tab algn="l" pos="5943600"/>
                <a:tab algn="l" pos="6603840"/>
                <a:tab algn="l" pos="7264440"/>
                <a:tab algn="l" pos="7924680"/>
                <a:tab algn="l" pos="8585280"/>
                <a:tab algn="l" pos="9245520"/>
                <a:tab algn="l" pos="9906120"/>
                <a:tab algn="l" pos="105663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ordinate X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1" name=""/>
          <p:cNvSpPr/>
          <p:nvPr/>
        </p:nvSpPr>
        <p:spPr>
          <a:xfrm flipH="1" rot="16200000">
            <a:off x="4631760" y="3400200"/>
            <a:ext cx="113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ordinate 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2" name=""/>
          <p:cNvSpPr/>
          <p:nvPr/>
        </p:nvSpPr>
        <p:spPr>
          <a:xfrm rot="5400000">
            <a:off x="338760" y="1720080"/>
            <a:ext cx="1341360" cy="1162080"/>
          </a:xfrm>
          <a:prstGeom prst="triangle">
            <a:avLst>
              <a:gd name="adj" fmla="val 50000"/>
            </a:avLst>
          </a:prstGeom>
          <a:solidFill>
            <a:srgbClr val="800000"/>
          </a:solidFill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3" name=""/>
          <p:cNvSpPr/>
          <p:nvPr/>
        </p:nvSpPr>
        <p:spPr>
          <a:xfrm>
            <a:off x="2135160" y="2016000"/>
            <a:ext cx="6399360" cy="1793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500" spc="-1" strike="noStrike">
                <a:solidFill>
                  <a:srgbClr val="800000"/>
                </a:solidFill>
                <a:latin typeface="Arial"/>
              </a:rPr>
              <a:t>End of Unit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44400" y="83808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Arial"/>
              </a:rPr>
              <a:t>Weighted spatial pattern and neighborhood</a:t>
            </a: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44400" y="1523880"/>
            <a:ext cx="7848720" cy="426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0" algn="ctr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6699ff"/>
                </a:solidFill>
                <a:latin typeface="Arial"/>
              </a:rPr>
              <a:t>Our everyday experience suggests that spatial pattern and neighborhood are influenced by thematic properties of features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1301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t is then necessary to </a:t>
            </a:r>
            <a:r>
              <a:rPr b="1" lang="en-US" sz="2600" spc="-1" strike="noStrike">
                <a:solidFill>
                  <a:srgbClr val="cc0066"/>
                </a:solidFill>
                <a:latin typeface="Arial"/>
              </a:rPr>
              <a:t>combine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their </a:t>
            </a:r>
            <a:r>
              <a:rPr b="1" lang="en-US" sz="2600" spc="-1" strike="noStrike">
                <a:solidFill>
                  <a:srgbClr val="cc0066"/>
                </a:solidFill>
                <a:latin typeface="Arial"/>
              </a:rPr>
              <a:t>geometrical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properties with their </a:t>
            </a:r>
            <a:r>
              <a:rPr b="1" lang="en-US" sz="2600" spc="-1" strike="noStrike">
                <a:solidFill>
                  <a:srgbClr val="cc0066"/>
                </a:solidFill>
                <a:latin typeface="Arial"/>
              </a:rPr>
              <a:t>thematic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properties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11080" indent="-271080">
              <a:spcBef>
                <a:spcPts val="476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This combination is obtained by </a:t>
            </a:r>
            <a:r>
              <a:rPr b="0" lang="en-US" sz="1900" spc="-1" strike="noStrike">
                <a:solidFill>
                  <a:srgbClr val="cc0066"/>
                </a:solidFill>
                <a:latin typeface="Arial"/>
              </a:rPr>
              <a:t>weighting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their geometry as well as the spatial relationships between feature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1301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t is therefore necessary to choose a spatial model that integrates the two spatial and thematic dimension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11080" indent="-271080">
              <a:spcBef>
                <a:spcPts val="476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 u="sng">
                <a:solidFill>
                  <a:srgbClr val="cc0066"/>
                </a:solidFill>
                <a:uFillTx/>
                <a:latin typeface="Arial"/>
              </a:rPr>
              <a:t>Isotropic weighted space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: a space with </a:t>
            </a:r>
            <a:r>
              <a:rPr b="0" lang="en-US" sz="1900" spc="-1" strike="noStrike">
                <a:solidFill>
                  <a:srgbClr val="cc0066"/>
                </a:solidFill>
                <a:latin typeface="Arial"/>
              </a:rPr>
              <a:t>heterogeneous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properties, weighted distanc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644400" y="1523520"/>
            <a:ext cx="3848400" cy="441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85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Properties within the space are </a:t>
            </a:r>
            <a:r>
              <a:rPr b="1" lang="en-US" sz="1700" spc="-1" strike="noStrike">
                <a:solidFill>
                  <a:srgbClr val="cc0066"/>
                </a:solidFill>
                <a:latin typeface="Arial"/>
              </a:rPr>
              <a:t>heterogeneous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, they influence properties of arrangement and neighborhood: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5480">
              <a:spcBef>
                <a:spcPts val="40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patial and thematic properties should be considered simultaneous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The description of features pattern and neighborhood </a:t>
            </a:r>
            <a:r>
              <a:rPr b="1" lang="en-US" sz="1700" spc="-1" strike="noStrike">
                <a:solidFill>
                  <a:srgbClr val="cc0066"/>
                </a:solidFill>
                <a:latin typeface="Arial"/>
              </a:rPr>
              <a:t>combines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geometric and thematic properties by </a:t>
            </a:r>
            <a:r>
              <a:rPr b="1" lang="en-US" sz="1700" spc="-1" strike="noStrike">
                <a:solidFill>
                  <a:srgbClr val="cc0066"/>
                </a:solidFill>
                <a:latin typeface="Arial"/>
              </a:rPr>
              <a:t>weighting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5480">
              <a:spcBef>
                <a:spcPts val="40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ighted central tendancy and disper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5480">
              <a:spcBef>
                <a:spcPts val="40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ighted proximity: weighted dist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648320" y="1523520"/>
            <a:ext cx="3962160" cy="441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85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Space is modelised as </a:t>
            </a:r>
            <a:r>
              <a:rPr b="1" lang="en-US" sz="1700" spc="-1" strike="noStrike">
                <a:solidFill>
                  <a:srgbClr val="cc0066"/>
                </a:solidFill>
                <a:latin typeface="Arial"/>
              </a:rPr>
              <a:t>weighted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, expressing heterogeneous properties in space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Properties are considered as </a:t>
            </a:r>
            <a:r>
              <a:rPr b="1" lang="en-US" sz="1700" spc="-1" strike="noStrike">
                <a:solidFill>
                  <a:srgbClr val="cc0066"/>
                </a:solidFill>
                <a:latin typeface="Arial"/>
              </a:rPr>
              <a:t>isotropic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y are constant with respect to di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title"/>
          </p:nvPr>
        </p:nvSpPr>
        <p:spPr>
          <a:xfrm>
            <a:off x="644400" y="83808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800000"/>
                </a:solidFill>
                <a:latin typeface="Arial"/>
              </a:rPr>
              <a:t>Model of space: Isotropic weighted space</a:t>
            </a: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6324480" y="3657600"/>
            <a:ext cx="1981440" cy="2104920"/>
          </a:xfrm>
          <a:prstGeom prst="rect">
            <a:avLst/>
          </a:prstGeom>
          <a:ln w="0">
            <a:noFill/>
          </a:ln>
        </p:spPr>
      </p:pic>
      <p:grpSp>
        <p:nvGrpSpPr>
          <p:cNvPr id="112" name=""/>
          <p:cNvGrpSpPr/>
          <p:nvPr/>
        </p:nvGrpSpPr>
        <p:grpSpPr>
          <a:xfrm>
            <a:off x="5148360" y="4129200"/>
            <a:ext cx="802440" cy="1731240"/>
            <a:chOff x="5148360" y="4129200"/>
            <a:chExt cx="802440" cy="1731240"/>
          </a:xfrm>
        </p:grpSpPr>
        <p:grpSp>
          <p:nvGrpSpPr>
            <p:cNvPr id="113" name=""/>
            <p:cNvGrpSpPr/>
            <p:nvPr/>
          </p:nvGrpSpPr>
          <p:grpSpPr>
            <a:xfrm>
              <a:off x="5151240" y="4789800"/>
              <a:ext cx="799560" cy="1070640"/>
              <a:chOff x="5151240" y="4789800"/>
              <a:chExt cx="799560" cy="1070640"/>
            </a:xfrm>
          </p:grpSpPr>
          <p:sp>
            <p:nvSpPr>
              <p:cNvPr id="114" name=""/>
              <p:cNvSpPr/>
              <p:nvPr/>
            </p:nvSpPr>
            <p:spPr>
              <a:xfrm flipV="1">
                <a:off x="5151240" y="4789800"/>
                <a:ext cx="799560" cy="18360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151240" y="4973400"/>
                <a:ext cx="246960" cy="88704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6" name=""/>
            <p:cNvSpPr/>
            <p:nvPr/>
          </p:nvSpPr>
          <p:spPr>
            <a:xfrm flipV="1">
              <a:off x="5148360" y="4129200"/>
              <a:ext cx="0" cy="83808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7" name=""/>
          <p:cNvSpPr/>
          <p:nvPr/>
        </p:nvSpPr>
        <p:spPr>
          <a:xfrm>
            <a:off x="5809680" y="47829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ff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366880" y="55627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ff"/>
                </a:solidFill>
                <a:latin typeface="Arial"/>
              </a:rPr>
              <a:t>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43320" y="403848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ff"/>
                </a:solidFill>
                <a:latin typeface="Arial"/>
              </a:rPr>
              <a:t>z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44400" y="83808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800000"/>
                </a:solidFill>
                <a:latin typeface="Arial"/>
              </a:rPr>
              <a:t>Weighting of geometric properties</a:t>
            </a: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44400" y="1523880"/>
            <a:ext cx="7848720" cy="426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6699ff"/>
                </a:solidFill>
                <a:latin typeface="Arial"/>
              </a:rPr>
              <a:t>Neighborhood relationships are describes by indices that combine geometric and thematic properties using </a:t>
            </a:r>
            <a:r>
              <a:rPr b="1" i="1" lang="en-US" sz="1900" spc="-1" strike="noStrike" u="sng">
                <a:solidFill>
                  <a:srgbClr val="6699ff"/>
                </a:solidFill>
                <a:uFillTx/>
                <a:latin typeface="Arial"/>
              </a:rPr>
              <a:t>weighting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Thematic properties assigned to space locations or features may express: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5480">
              <a:spcBef>
                <a:spcPts val="49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Arial"/>
              </a:rPr>
              <a:t>the weight of featur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expressing their </a:t>
            </a:r>
            <a:r>
              <a:rPr b="0" lang="en-US" sz="2000" spc="-1" strike="noStrike">
                <a:solidFill>
                  <a:srgbClr val="cc0066"/>
                </a:solidFill>
                <a:latin typeface="Arial"/>
              </a:rPr>
              <a:t>impor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their </a:t>
            </a:r>
            <a:r>
              <a:rPr b="0" lang="en-US" sz="2000" spc="-1" strike="noStrike">
                <a:solidFill>
                  <a:srgbClr val="cc0066"/>
                </a:solidFill>
                <a:latin typeface="Arial"/>
              </a:rPr>
              <a:t>influe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r their </a:t>
            </a:r>
            <a:r>
              <a:rPr b="0" lang="en-US" sz="2000" spc="-1" strike="noStrike">
                <a:solidFill>
                  <a:srgbClr val="cc0066"/>
                </a:solidFill>
                <a:latin typeface="Arial"/>
              </a:rPr>
              <a:t>attractivines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Such properties allow the definition of a </a:t>
            </a:r>
            <a:r>
              <a:rPr b="0" lang="en-US" sz="2000" spc="-1" strike="noStrike">
                <a:solidFill>
                  <a:srgbClr val="cc0066"/>
                </a:solidFill>
                <a:latin typeface="Arial"/>
              </a:rPr>
              <a:t>field of influe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or each feature (area of largest weighted proximit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5480">
              <a:spcBef>
                <a:spcPts val="49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Arial"/>
              </a:rPr>
              <a:t>the friction of location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 space, expressing the difficulty of </a:t>
            </a:r>
            <a:r>
              <a:rPr b="0" lang="en-US" sz="2000" spc="-1" strike="noStrike">
                <a:solidFill>
                  <a:srgbClr val="cc0066"/>
                </a:solidFill>
                <a:latin typeface="Arial"/>
              </a:rPr>
              <a:t>acces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of </a:t>
            </a:r>
            <a:r>
              <a:rPr b="0" lang="en-US" sz="2000" spc="-1" strike="noStrike">
                <a:solidFill>
                  <a:srgbClr val="cc0066"/>
                </a:solidFill>
                <a:latin typeface="Arial"/>
              </a:rPr>
              <a:t>movem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r the </a:t>
            </a:r>
            <a:r>
              <a:rPr b="0" lang="en-US" sz="2000" spc="-1" strike="noStrike">
                <a:solidFill>
                  <a:srgbClr val="cc0066"/>
                </a:solidFill>
                <a:latin typeface="Arial"/>
              </a:rPr>
              <a:t>proximit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o features (weighted distance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644400" y="1980720"/>
            <a:ext cx="3848400" cy="3886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95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It is a modification of the metrics: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5480">
              <a:lnSpc>
                <a:spcPct val="100000"/>
              </a:lnSpc>
              <a:spcBef>
                <a:spcPts val="451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= weight of feature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5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This weighting allows to define a </a:t>
            </a:r>
            <a:r>
              <a:rPr b="1" lang="en-US" sz="1900" spc="-1" strike="noStrike">
                <a:solidFill>
                  <a:srgbClr val="cc0066"/>
                </a:solidFill>
                <a:latin typeface="Arial"/>
              </a:rPr>
              <a:t>potential field of influence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for each of the features: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5480">
              <a:spcBef>
                <a:spcPts val="451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ace is divided into areas of largest weighted proxim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644720" y="1980720"/>
            <a:ext cx="3848040" cy="3886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title"/>
          </p:nvPr>
        </p:nvSpPr>
        <p:spPr>
          <a:xfrm>
            <a:off x="644400" y="83808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Arial"/>
              </a:rPr>
              <a:t>Weighting: Weight of features</a:t>
            </a: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838080" y="1371600"/>
            <a:ext cx="755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99ff"/>
                </a:solidFill>
                <a:latin typeface="Arial"/>
              </a:rPr>
              <a:t>Geometrical properties are weighted by the relative importance of feature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257800" y="2286000"/>
            <a:ext cx="2590920" cy="2590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2590920"/>
            <a:ext cx="514080" cy="685800"/>
          </a:xfrm>
          <a:custGeom>
            <a:avLst/>
            <a:gdLst/>
            <a:ahLst/>
            <a:rect l="l" t="t" r="r" b="b"/>
            <a:pathLst>
              <a:path w="432" h="576">
                <a:moveTo>
                  <a:pt x="0" y="192"/>
                </a:moveTo>
                <a:lnTo>
                  <a:pt x="96" y="0"/>
                </a:lnTo>
                <a:lnTo>
                  <a:pt x="432" y="144"/>
                </a:lnTo>
                <a:lnTo>
                  <a:pt x="432" y="576"/>
                </a:lnTo>
                <a:lnTo>
                  <a:pt x="192" y="528"/>
                </a:lnTo>
                <a:lnTo>
                  <a:pt x="144" y="288"/>
                </a:lnTo>
                <a:lnTo>
                  <a:pt x="0" y="192"/>
                </a:lnTo>
                <a:close/>
              </a:path>
            </a:pathLst>
          </a:custGeom>
          <a:solidFill>
            <a:srgbClr val="ffcc99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165800" y="3048120"/>
            <a:ext cx="454320" cy="990360"/>
          </a:xfrm>
          <a:custGeom>
            <a:avLst/>
            <a:gdLst/>
            <a:ahLst/>
            <a:rect l="l" t="t" r="r" b="b"/>
            <a:pathLst>
              <a:path w="352" h="768">
                <a:moveTo>
                  <a:pt x="0" y="0"/>
                </a:moveTo>
                <a:cubicBezTo>
                  <a:pt x="4" y="80"/>
                  <a:pt x="8" y="160"/>
                  <a:pt x="48" y="192"/>
                </a:cubicBezTo>
                <a:cubicBezTo>
                  <a:pt x="88" y="224"/>
                  <a:pt x="192" y="152"/>
                  <a:pt x="240" y="192"/>
                </a:cubicBezTo>
                <a:cubicBezTo>
                  <a:pt x="288" y="232"/>
                  <a:pt x="352" y="368"/>
                  <a:pt x="336" y="432"/>
                </a:cubicBezTo>
                <a:cubicBezTo>
                  <a:pt x="320" y="496"/>
                  <a:pt x="200" y="520"/>
                  <a:pt x="144" y="576"/>
                </a:cubicBezTo>
                <a:cubicBezTo>
                  <a:pt x="88" y="632"/>
                  <a:pt x="44" y="700"/>
                  <a:pt x="0" y="768"/>
                </a:cubicBezTo>
              </a:path>
            </a:pathLst>
          </a:custGeom>
          <a:noFill/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019920" y="434340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79320" y="5056200"/>
            <a:ext cx="14990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eavy weigh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erate weigh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w weigh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rot="5400000">
            <a:off x="5986080" y="4506840"/>
            <a:ext cx="228600" cy="3812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257800" y="2285640"/>
            <a:ext cx="2286000" cy="2591280"/>
            <a:chOff x="5257800" y="2285640"/>
            <a:chExt cx="2286000" cy="2591280"/>
          </a:xfrm>
        </p:grpSpPr>
        <p:sp>
          <p:nvSpPr>
            <p:cNvPr id="133" name=""/>
            <p:cNvSpPr/>
            <p:nvPr/>
          </p:nvSpPr>
          <p:spPr>
            <a:xfrm flipH="1" flipV="1">
              <a:off x="6857640" y="3428640"/>
              <a:ext cx="304920" cy="228600"/>
            </a:xfrm>
            <a:prstGeom prst="line">
              <a:avLst/>
            </a:prstGeom>
            <a:ln w="19080">
              <a:solidFill>
                <a:srgbClr val="cc00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257800" y="3505320"/>
              <a:ext cx="838080" cy="75960"/>
            </a:xfrm>
            <a:prstGeom prst="line">
              <a:avLst/>
            </a:prstGeom>
            <a:ln w="19080">
              <a:solidFill>
                <a:srgbClr val="cc00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095880" y="3581280"/>
              <a:ext cx="533520" cy="76320"/>
            </a:xfrm>
            <a:prstGeom prst="line">
              <a:avLst/>
            </a:prstGeom>
            <a:ln w="19080">
              <a:solidFill>
                <a:srgbClr val="cc00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 flipH="1">
              <a:off x="7086600" y="3657600"/>
              <a:ext cx="76320" cy="380880"/>
            </a:xfrm>
            <a:prstGeom prst="line">
              <a:avLst/>
            </a:prstGeom>
            <a:ln w="19080">
              <a:solidFill>
                <a:srgbClr val="cc00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086600" y="4267080"/>
              <a:ext cx="457200" cy="609840"/>
            </a:xfrm>
            <a:prstGeom prst="line">
              <a:avLst/>
            </a:prstGeom>
            <a:ln w="19080">
              <a:solidFill>
                <a:srgbClr val="cc00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 flipV="1">
              <a:off x="6781680" y="3048120"/>
              <a:ext cx="76320" cy="380880"/>
            </a:xfrm>
            <a:prstGeom prst="line">
              <a:avLst/>
            </a:prstGeom>
            <a:ln w="19080">
              <a:solidFill>
                <a:srgbClr val="cc00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 flipV="1">
              <a:off x="6781680" y="2590920"/>
              <a:ext cx="76320" cy="457200"/>
            </a:xfrm>
            <a:prstGeom prst="line">
              <a:avLst/>
            </a:prstGeom>
            <a:ln w="19080">
              <a:solidFill>
                <a:srgbClr val="cc00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 flipV="1">
              <a:off x="6858000" y="2285640"/>
              <a:ext cx="228600" cy="304920"/>
            </a:xfrm>
            <a:prstGeom prst="line">
              <a:avLst/>
            </a:prstGeom>
            <a:ln w="19080">
              <a:solidFill>
                <a:srgbClr val="cc00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 flipV="1">
              <a:off x="6629400" y="3428640"/>
              <a:ext cx="228600" cy="228600"/>
            </a:xfrm>
            <a:prstGeom prst="line">
              <a:avLst/>
            </a:prstGeom>
            <a:ln w="19080">
              <a:solidFill>
                <a:srgbClr val="cc00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086600" y="4038480"/>
              <a:ext cx="0" cy="228600"/>
            </a:xfrm>
            <a:prstGeom prst="line">
              <a:avLst/>
            </a:prstGeom>
            <a:ln w="19080">
              <a:solidFill>
                <a:srgbClr val="cc00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3" name=""/>
          <p:cNvSpPr/>
          <p:nvPr/>
        </p:nvSpPr>
        <p:spPr>
          <a:xfrm flipH="1">
            <a:off x="5333400" y="4224240"/>
            <a:ext cx="609480" cy="381240"/>
          </a:xfrm>
          <a:prstGeom prst="rightArrow">
            <a:avLst>
              <a:gd name="adj1" fmla="val 50000"/>
              <a:gd name="adj2" fmla="val 39967"/>
            </a:avLst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 rot="5400000">
            <a:off x="5835600" y="3745080"/>
            <a:ext cx="533520" cy="380880"/>
          </a:xfrm>
          <a:prstGeom prst="rightArrow">
            <a:avLst>
              <a:gd name="adj1" fmla="val 50000"/>
              <a:gd name="adj2" fmla="val 35019"/>
            </a:avLst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324480" y="4213080"/>
            <a:ext cx="609840" cy="381240"/>
          </a:xfrm>
          <a:prstGeom prst="rightArrow">
            <a:avLst>
              <a:gd name="adj1" fmla="val 50000"/>
              <a:gd name="adj2" fmla="val 39991"/>
            </a:avLst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rot="5400000">
            <a:off x="7162200" y="4190760"/>
            <a:ext cx="457200" cy="152280"/>
          </a:xfrm>
          <a:prstGeom prst="rightArrow">
            <a:avLst>
              <a:gd name="adj1" fmla="val 50000"/>
              <a:gd name="adj2" fmla="val 75059"/>
            </a:avLst>
          </a:prstGeom>
          <a:solidFill>
            <a:srgbClr val="0000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H="1" rot="5400000">
            <a:off x="7123680" y="2705040"/>
            <a:ext cx="533520" cy="152280"/>
          </a:xfrm>
          <a:prstGeom prst="rightArrow">
            <a:avLst>
              <a:gd name="adj1" fmla="val 50000"/>
              <a:gd name="adj2" fmla="val 87589"/>
            </a:avLst>
          </a:prstGeom>
          <a:solidFill>
            <a:srgbClr val="0000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rot="2487600">
            <a:off x="7543800" y="3809880"/>
            <a:ext cx="228600" cy="152640"/>
          </a:xfrm>
          <a:prstGeom prst="rightArrow">
            <a:avLst>
              <a:gd name="adj1" fmla="val 50000"/>
              <a:gd name="adj2" fmla="val 37441"/>
            </a:avLst>
          </a:prstGeom>
          <a:solidFill>
            <a:srgbClr val="0000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5400000">
            <a:off x="5964480" y="3319920"/>
            <a:ext cx="185760" cy="2286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cc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5291280" y="2971800"/>
            <a:ext cx="380880" cy="228600"/>
          </a:xfrm>
          <a:prstGeom prst="rightArrow">
            <a:avLst>
              <a:gd name="adj1" fmla="val 50000"/>
              <a:gd name="adj2" fmla="val 41654"/>
            </a:avLst>
          </a:prstGeom>
          <a:solidFill>
            <a:srgbClr val="ffcc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H="1" rot="9142200">
            <a:off x="6095160" y="2399760"/>
            <a:ext cx="457200" cy="2286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cc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rot="1294200">
            <a:off x="6171840" y="2971800"/>
            <a:ext cx="533520" cy="228600"/>
          </a:xfrm>
          <a:prstGeom prst="rightArrow">
            <a:avLst>
              <a:gd name="adj1" fmla="val 50000"/>
              <a:gd name="adj2" fmla="val 58346"/>
            </a:avLst>
          </a:prstGeom>
          <a:solidFill>
            <a:srgbClr val="ffcc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H="1" rot="1811400">
            <a:off x="6858000" y="2856960"/>
            <a:ext cx="266760" cy="114120"/>
          </a:xfrm>
          <a:prstGeom prst="rightArrow">
            <a:avLst>
              <a:gd name="adj1" fmla="val 50000"/>
              <a:gd name="adj2" fmla="val 58438"/>
            </a:avLst>
          </a:prstGeom>
          <a:solidFill>
            <a:srgbClr val="0000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867280" y="5105520"/>
            <a:ext cx="152640" cy="15228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792760" y="5648400"/>
            <a:ext cx="30492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845320" y="5311800"/>
            <a:ext cx="228600" cy="228600"/>
          </a:xfrm>
          <a:prstGeom prst="pentagon">
            <a:avLst/>
          </a:prstGeom>
          <a:solidFill>
            <a:srgbClr val="ffcc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644400" y="1980720"/>
            <a:ext cx="3848400" cy="3886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85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It is a modification of the metrics: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5480">
              <a:lnSpc>
                <a:spcPct val="100000"/>
              </a:lnSpc>
              <a:spcBef>
                <a:spcPts val="40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= 1 / weight of feature 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5480">
              <a:spcBef>
                <a:spcPts val="40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:</a:t>
            </a:r>
            <a:r>
              <a:rPr b="1" lang="en-US" sz="1600" spc="-1" strike="noStrike">
                <a:solidFill>
                  <a:srgbClr val="cc0066"/>
                </a:solidFill>
                <a:latin typeface="Arial"/>
              </a:rPr>
              <a:t>  dp</a:t>
            </a:r>
            <a:r>
              <a:rPr b="1" lang="en-US" sz="1600" spc="-1" strike="noStrike" baseline="-25000">
                <a:solidFill>
                  <a:srgbClr val="cc006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cc0066"/>
                </a:solidFill>
                <a:latin typeface="Arial"/>
              </a:rPr>
              <a:t> = d</a:t>
            </a:r>
            <a:r>
              <a:rPr b="1" lang="en-US" sz="1600" spc="-1" strike="noStrike" baseline="-25000">
                <a:solidFill>
                  <a:srgbClr val="cc006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cc0066"/>
                </a:solidFill>
                <a:latin typeface="Arial"/>
              </a:rPr>
              <a:t> * </a:t>
            </a:r>
            <a:r>
              <a:rPr b="1" lang="en-US" sz="2000" spc="-1" strike="noStrike">
                <a:solidFill>
                  <a:srgbClr val="cc0066"/>
                </a:solidFill>
                <a:latin typeface="Symbol"/>
                <a:ea typeface="Symbol"/>
              </a:rPr>
              <a:t></a:t>
            </a:r>
            <a:r>
              <a:rPr b="1" lang="en-US" sz="1600" spc="-1" strike="noStrike" baseline="-25000">
                <a:solidFill>
                  <a:srgbClr val="cc0066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This </a:t>
            </a:r>
            <a:r>
              <a:rPr b="1" lang="en-US" sz="1700" spc="-1" strike="noStrike">
                <a:solidFill>
                  <a:srgbClr val="cc0066"/>
                </a:solidFill>
                <a:latin typeface="Arial"/>
              </a:rPr>
              <a:t>coefficient of friction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allows to define: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5480">
              <a:spcBef>
                <a:spcPts val="34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0" lang="en-US" sz="1400" spc="-1" strike="noStrike">
                <a:solidFill>
                  <a:srgbClr val="cc0066"/>
                </a:solidFill>
                <a:latin typeface="Arial"/>
              </a:rPr>
              <a:t>area of weighted distanc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each fea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5480">
              <a:spcBef>
                <a:spcPts val="34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1400" spc="-1" strike="noStrike">
                <a:solidFill>
                  <a:srgbClr val="cc0066"/>
                </a:solidFill>
                <a:latin typeface="Arial"/>
              </a:rPr>
              <a:t>minimum weighted distanc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from each location in space to featu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ff"/>
                </a:solidFill>
                <a:latin typeface="Arial"/>
              </a:rPr>
              <a:t>Further concepts of pathway, barrier (obstacle), force and anisotropy will be considered in Lesson dedicated to accessibility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644720" y="1980720"/>
            <a:ext cx="3848040" cy="3886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257800" y="2286000"/>
            <a:ext cx="2590920" cy="2590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562720" y="2590920"/>
            <a:ext cx="514080" cy="685800"/>
          </a:xfrm>
          <a:custGeom>
            <a:avLst/>
            <a:gdLst/>
            <a:ahLst/>
            <a:rect l="l" t="t" r="r" b="b"/>
            <a:pathLst>
              <a:path w="432" h="576">
                <a:moveTo>
                  <a:pt x="0" y="192"/>
                </a:moveTo>
                <a:lnTo>
                  <a:pt x="96" y="0"/>
                </a:lnTo>
                <a:lnTo>
                  <a:pt x="432" y="144"/>
                </a:lnTo>
                <a:lnTo>
                  <a:pt x="432" y="576"/>
                </a:lnTo>
                <a:lnTo>
                  <a:pt x="192" y="528"/>
                </a:lnTo>
                <a:lnTo>
                  <a:pt x="144" y="288"/>
                </a:lnTo>
                <a:lnTo>
                  <a:pt x="0" y="192"/>
                </a:lnTo>
                <a:close/>
              </a:path>
            </a:pathLst>
          </a:custGeom>
          <a:solidFill>
            <a:srgbClr val="ffcc99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165800" y="3048120"/>
            <a:ext cx="454320" cy="990360"/>
          </a:xfrm>
          <a:custGeom>
            <a:avLst/>
            <a:gdLst/>
            <a:ahLst/>
            <a:rect l="l" t="t" r="r" b="b"/>
            <a:pathLst>
              <a:path w="352" h="768">
                <a:moveTo>
                  <a:pt x="0" y="0"/>
                </a:moveTo>
                <a:cubicBezTo>
                  <a:pt x="4" y="80"/>
                  <a:pt x="8" y="160"/>
                  <a:pt x="48" y="192"/>
                </a:cubicBezTo>
                <a:cubicBezTo>
                  <a:pt x="88" y="224"/>
                  <a:pt x="192" y="152"/>
                  <a:pt x="240" y="192"/>
                </a:cubicBezTo>
                <a:cubicBezTo>
                  <a:pt x="288" y="232"/>
                  <a:pt x="352" y="368"/>
                  <a:pt x="336" y="432"/>
                </a:cubicBezTo>
                <a:cubicBezTo>
                  <a:pt x="320" y="496"/>
                  <a:pt x="200" y="520"/>
                  <a:pt x="144" y="576"/>
                </a:cubicBezTo>
                <a:cubicBezTo>
                  <a:pt x="88" y="632"/>
                  <a:pt x="44" y="700"/>
                  <a:pt x="0" y="768"/>
                </a:cubicBezTo>
              </a:path>
            </a:pathLst>
          </a:custGeom>
          <a:noFill/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019920" y="434340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093640" y="5056200"/>
            <a:ext cx="3370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w friction, high accessibilit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erate friction, moderate accessibilit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eavy friction, low accessibilit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rot="20867400">
            <a:off x="5781600" y="4101840"/>
            <a:ext cx="1295640" cy="152280"/>
          </a:xfrm>
          <a:prstGeom prst="rightArrow">
            <a:avLst>
              <a:gd name="adj1" fmla="val 50000"/>
              <a:gd name="adj2" fmla="val 212707"/>
            </a:avLst>
          </a:prstGeom>
          <a:solidFill>
            <a:srgbClr val="0000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H="1" rot="8949000">
            <a:off x="6666840" y="3314160"/>
            <a:ext cx="533520" cy="152280"/>
          </a:xfrm>
          <a:prstGeom prst="rightArrow">
            <a:avLst>
              <a:gd name="adj1" fmla="val 50000"/>
              <a:gd name="adj2" fmla="val 87589"/>
            </a:avLst>
          </a:prstGeom>
          <a:solidFill>
            <a:srgbClr val="0000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H="1" rot="2134800">
            <a:off x="6095520" y="3276360"/>
            <a:ext cx="381240" cy="228600"/>
          </a:xfrm>
          <a:prstGeom prst="rightArrow">
            <a:avLst>
              <a:gd name="adj1" fmla="val 50000"/>
              <a:gd name="adj2" fmla="val 41693"/>
            </a:avLst>
          </a:prstGeom>
          <a:solidFill>
            <a:srgbClr val="ffcc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H="1" rot="6379800">
            <a:off x="5411880" y="3637080"/>
            <a:ext cx="903600" cy="225720"/>
          </a:xfrm>
          <a:prstGeom prst="rightArrow">
            <a:avLst>
              <a:gd name="adj1" fmla="val 50000"/>
              <a:gd name="adj2" fmla="val 100080"/>
            </a:avLst>
          </a:prstGeom>
          <a:solidFill>
            <a:srgbClr val="ffcc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875120" y="5105520"/>
            <a:ext cx="152640" cy="15228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800600" y="5648400"/>
            <a:ext cx="30492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53160" y="5311800"/>
            <a:ext cx="228600" cy="228600"/>
          </a:xfrm>
          <a:prstGeom prst="pentagon">
            <a:avLst/>
          </a:prstGeom>
          <a:solidFill>
            <a:srgbClr val="ffcc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672160" y="4299120"/>
            <a:ext cx="76320" cy="7596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553080" y="3559320"/>
            <a:ext cx="76320" cy="7596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49760" y="316224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66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357520" y="413712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66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 flipV="1" rot="18005400">
            <a:off x="6029280" y="3809520"/>
            <a:ext cx="677880" cy="380520"/>
          </a:xfrm>
          <a:prstGeom prst="rightArrow">
            <a:avLst>
              <a:gd name="adj1" fmla="val 50000"/>
              <a:gd name="adj2" fmla="val 44536"/>
            </a:avLst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rot="650400">
            <a:off x="5781240" y="4168800"/>
            <a:ext cx="228600" cy="3808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title"/>
          </p:nvPr>
        </p:nvSpPr>
        <p:spPr>
          <a:xfrm>
            <a:off x="644400" y="83808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Arial"/>
              </a:rPr>
              <a:t>Weighting: Proximity to features</a:t>
            </a: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838080" y="1371600"/>
            <a:ext cx="755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99ff"/>
                </a:solidFill>
                <a:latin typeface="Arial"/>
              </a:rPr>
              <a:t>Geometrical properties are weighted by the relative friction of accessibility to feature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644400" y="159984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700" spc="-1" strike="noStrike">
                <a:solidFill>
                  <a:srgbClr val="6699ff"/>
                </a:solidFill>
                <a:latin typeface="Arial"/>
              </a:rPr>
              <a:t>Proposed indices of pattern and neighborhood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95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Indices and statistics of weightedspatial pattern and neighborhood are presented according to the type of spatial features: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811080" indent="-271080">
              <a:spcBef>
                <a:spcPts val="451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11080" indent="-271080">
              <a:spcBef>
                <a:spcPts val="451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11080" indent="-271080">
              <a:spcBef>
                <a:spcPts val="451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title"/>
          </p:nvPr>
        </p:nvSpPr>
        <p:spPr>
          <a:xfrm>
            <a:off x="533520" y="91404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800000"/>
                </a:solidFill>
                <a:latin typeface="Arial"/>
              </a:rPr>
              <a:t>Description of spatial pattern and neighborhood</a:t>
            </a:r>
            <a:endParaRPr b="1" lang="en-US" sz="2500" spc="-1" strike="noStrike">
              <a:solidFill>
                <a:srgbClr val="800000"/>
              </a:solidFill>
              <a:latin typeface="Arial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1065240" y="2263680"/>
          <a:ext cx="7164360" cy="1454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5240" y="2263680"/>
                    <a:ext cx="7164360" cy="145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yintM</cp:lastModifiedBy>
  <cp:lastPrinted>2003-05-23T13:29:34Z</cp:lastPrinted>
  <dcterms:modified xsi:type="dcterms:W3CDTF">2003-11-12T12:33:50Z</dcterms:modified>
  <cp:revision>565</cp:revision>
  <dc:subject/>
  <dc:title>Leçon 2: Variables spatiales discrètes  Unité 1: Introduction</dc:title>
</cp:coreProperties>
</file>