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FBD9-FDA1-42D1-813D-76B1EBE1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362320" y="61722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1: 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March 9,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73160" algn="ctr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263520" algn="ctr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52480" indent="311400" algn="ctr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52480" indent="3114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52480" indent="3114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933960" y="51055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Claude Coll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800000"/>
                </a:solidFill>
                <a:latin typeface="Arial"/>
              </a:rPr>
              <a:t>Lesson 2: </a:t>
            </a:r>
            <a:br>
              <a:rPr sz="2400"/>
            </a:br>
            <a:br>
              <a:rPr sz="2400"/>
            </a:br>
            <a:r>
              <a:rPr b="1" lang="de-CH" sz="2400" spc="-1" strike="noStrike">
                <a:solidFill>
                  <a:srgbClr val="800000"/>
                </a:solidFill>
                <a:latin typeface="Arial"/>
              </a:rPr>
              <a:t>Discrete spatial variabl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8288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800000"/>
                </a:solidFill>
                <a:latin typeface="Arial"/>
              </a:rPr>
              <a:t>Unit 1: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rom the phenomenon to the variable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ur objective is to describe and to analyse the spatial distribution of phenomena in the real worl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information level, properties of a phenomenon are expressed numerically as values of a / several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roperties of variables are located into space, variables are called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henomena with considered discrete spatial distribution, corresponding variables are called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discr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From discrete spatial variable to spatial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features can be identified in two different manner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ly from themes (phenomena) to be described:  they ar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a prio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520" indent="-2239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ensus or administrative units (districts, regions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sulting from the spatial distribution (pattern) of properties for a theme (phenomenon): they ar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a posteriori feat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9520" indent="-2239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andcover units (areal, linear, point units related with this the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44040" y="1828800"/>
            <a:ext cx="514692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hematicaly in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tudy area is splitted into a fixed number of features, regardless of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division is set as a framework to collect properties for different them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 each considered theme (phenomenon) global feature properties are collected </a:t>
            </a:r>
            <a:r>
              <a:rPr b="1" lang="en-US" sz="1900" spc="-1" strike="noStrike">
                <a:solidFill>
                  <a:srgbClr val="00cccc"/>
                </a:solidFill>
                <a:latin typeface="Arial"/>
              </a:rPr>
              <a:t>(regionalisation proc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828800"/>
            <a:ext cx="24732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redefined spatial features (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a priori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75440" y="1979640"/>
            <a:ext cx="2206440" cy="320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19920" y="53341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features corresponding to  Exemplis coun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44040" y="1828800"/>
            <a:ext cx="78138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hematicaly 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tudy area is composed with specific number and type of spatial features, related with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is division is specific to the considered them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production of resulting spatial features assumes the presence of a very dense spatial sample (point or area) in order to construct such spatial features </a:t>
            </a:r>
            <a:r>
              <a:rPr b="1" lang="en-US" sz="1900" spc="-1" strike="noStrike">
                <a:solidFill>
                  <a:srgbClr val="00cccc"/>
                </a:solidFill>
                <a:latin typeface="Arial"/>
              </a:rPr>
              <a:t>(regionalisation proces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viously such division can then be considered as a set of predefined features for the description of other thematic proper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sulting spatial features (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a posteriori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amples of predefined features in a study area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65680" y="2995560"/>
            <a:ext cx="193680" cy="198360"/>
          </a:xfrm>
          <a:custGeom>
            <a:avLst/>
            <a:gdLst/>
            <a:ahLst/>
            <a:rect l="l" t="t" r="r" b="b"/>
            <a:pathLst>
              <a:path w="122" h="125">
                <a:moveTo>
                  <a:pt x="45" y="52"/>
                </a:moveTo>
                <a:lnTo>
                  <a:pt x="49" y="35"/>
                </a:lnTo>
                <a:lnTo>
                  <a:pt x="46" y="22"/>
                </a:lnTo>
                <a:lnTo>
                  <a:pt x="54" y="18"/>
                </a:lnTo>
                <a:lnTo>
                  <a:pt x="63" y="25"/>
                </a:lnTo>
                <a:lnTo>
                  <a:pt x="73" y="36"/>
                </a:lnTo>
                <a:lnTo>
                  <a:pt x="84" y="34"/>
                </a:lnTo>
                <a:lnTo>
                  <a:pt x="99" y="13"/>
                </a:lnTo>
                <a:lnTo>
                  <a:pt x="107" y="0"/>
                </a:lnTo>
                <a:lnTo>
                  <a:pt x="118" y="10"/>
                </a:lnTo>
                <a:lnTo>
                  <a:pt x="113" y="26"/>
                </a:lnTo>
                <a:lnTo>
                  <a:pt x="116" y="41"/>
                </a:lnTo>
                <a:lnTo>
                  <a:pt x="117" y="57"/>
                </a:lnTo>
                <a:lnTo>
                  <a:pt x="122" y="68"/>
                </a:lnTo>
                <a:lnTo>
                  <a:pt x="105" y="88"/>
                </a:lnTo>
                <a:lnTo>
                  <a:pt x="89" y="102"/>
                </a:lnTo>
                <a:lnTo>
                  <a:pt x="71" y="117"/>
                </a:lnTo>
                <a:lnTo>
                  <a:pt x="57" y="125"/>
                </a:lnTo>
                <a:lnTo>
                  <a:pt x="37" y="125"/>
                </a:lnTo>
                <a:lnTo>
                  <a:pt x="21" y="115"/>
                </a:lnTo>
                <a:lnTo>
                  <a:pt x="8" y="98"/>
                </a:lnTo>
                <a:lnTo>
                  <a:pt x="0" y="79"/>
                </a:lnTo>
                <a:lnTo>
                  <a:pt x="6" y="64"/>
                </a:lnTo>
                <a:lnTo>
                  <a:pt x="28" y="61"/>
                </a:lnTo>
                <a:lnTo>
                  <a:pt x="45" y="5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0280" y="306540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67200" y="3943440"/>
            <a:ext cx="189000" cy="16812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3" y="32"/>
                </a:moveTo>
                <a:lnTo>
                  <a:pt x="22" y="15"/>
                </a:lnTo>
                <a:lnTo>
                  <a:pt x="41" y="10"/>
                </a:lnTo>
                <a:lnTo>
                  <a:pt x="60" y="6"/>
                </a:lnTo>
                <a:lnTo>
                  <a:pt x="73" y="0"/>
                </a:lnTo>
                <a:lnTo>
                  <a:pt x="80" y="0"/>
                </a:lnTo>
                <a:lnTo>
                  <a:pt x="82" y="9"/>
                </a:lnTo>
                <a:lnTo>
                  <a:pt x="97" y="10"/>
                </a:lnTo>
                <a:lnTo>
                  <a:pt x="112" y="16"/>
                </a:lnTo>
                <a:lnTo>
                  <a:pt x="119" y="24"/>
                </a:lnTo>
                <a:lnTo>
                  <a:pt x="108" y="35"/>
                </a:lnTo>
                <a:lnTo>
                  <a:pt x="98" y="53"/>
                </a:lnTo>
                <a:lnTo>
                  <a:pt x="101" y="64"/>
                </a:lnTo>
                <a:lnTo>
                  <a:pt x="108" y="77"/>
                </a:lnTo>
                <a:lnTo>
                  <a:pt x="91" y="82"/>
                </a:lnTo>
                <a:lnTo>
                  <a:pt x="75" y="82"/>
                </a:lnTo>
                <a:lnTo>
                  <a:pt x="66" y="83"/>
                </a:lnTo>
                <a:lnTo>
                  <a:pt x="52" y="101"/>
                </a:lnTo>
                <a:lnTo>
                  <a:pt x="39" y="106"/>
                </a:lnTo>
                <a:lnTo>
                  <a:pt x="30" y="98"/>
                </a:lnTo>
                <a:lnTo>
                  <a:pt x="30" y="81"/>
                </a:lnTo>
                <a:lnTo>
                  <a:pt x="21" y="65"/>
                </a:lnTo>
                <a:lnTo>
                  <a:pt x="9" y="52"/>
                </a:lnTo>
                <a:lnTo>
                  <a:pt x="0" y="38"/>
                </a:lnTo>
                <a:lnTo>
                  <a:pt x="3" y="3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48560" y="3998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5200" y="372888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2" y="54"/>
                </a:moveTo>
                <a:lnTo>
                  <a:pt x="0" y="41"/>
                </a:lnTo>
                <a:lnTo>
                  <a:pt x="17" y="28"/>
                </a:lnTo>
                <a:lnTo>
                  <a:pt x="37" y="38"/>
                </a:lnTo>
                <a:lnTo>
                  <a:pt x="49" y="36"/>
                </a:lnTo>
                <a:lnTo>
                  <a:pt x="56" y="20"/>
                </a:lnTo>
                <a:lnTo>
                  <a:pt x="74" y="0"/>
                </a:lnTo>
                <a:lnTo>
                  <a:pt x="78" y="3"/>
                </a:lnTo>
                <a:lnTo>
                  <a:pt x="89" y="22"/>
                </a:lnTo>
                <a:lnTo>
                  <a:pt x="95" y="36"/>
                </a:lnTo>
                <a:lnTo>
                  <a:pt x="116" y="53"/>
                </a:lnTo>
                <a:lnTo>
                  <a:pt x="124" y="57"/>
                </a:lnTo>
                <a:lnTo>
                  <a:pt x="131" y="66"/>
                </a:lnTo>
                <a:lnTo>
                  <a:pt x="132" y="76"/>
                </a:lnTo>
                <a:lnTo>
                  <a:pt x="121" y="81"/>
                </a:lnTo>
                <a:lnTo>
                  <a:pt x="119" y="98"/>
                </a:lnTo>
                <a:lnTo>
                  <a:pt x="114" y="113"/>
                </a:lnTo>
                <a:lnTo>
                  <a:pt x="106" y="132"/>
                </a:lnTo>
                <a:lnTo>
                  <a:pt x="92" y="140"/>
                </a:lnTo>
                <a:lnTo>
                  <a:pt x="65" y="139"/>
                </a:lnTo>
                <a:lnTo>
                  <a:pt x="37" y="137"/>
                </a:lnTo>
                <a:lnTo>
                  <a:pt x="24" y="134"/>
                </a:lnTo>
                <a:lnTo>
                  <a:pt x="3" y="124"/>
                </a:lnTo>
                <a:lnTo>
                  <a:pt x="12" y="107"/>
                </a:lnTo>
                <a:lnTo>
                  <a:pt x="13" y="84"/>
                </a:lnTo>
                <a:lnTo>
                  <a:pt x="5" y="71"/>
                </a:lnTo>
                <a:lnTo>
                  <a:pt x="2" y="5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78520" y="38098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92680" y="3305160"/>
            <a:ext cx="131760" cy="103320"/>
          </a:xfrm>
          <a:custGeom>
            <a:avLst/>
            <a:gdLst/>
            <a:ahLst/>
            <a:rect l="l" t="t" r="r" b="b"/>
            <a:pathLst>
              <a:path w="83" h="65">
                <a:moveTo>
                  <a:pt x="3" y="26"/>
                </a:moveTo>
                <a:lnTo>
                  <a:pt x="0" y="10"/>
                </a:lnTo>
                <a:lnTo>
                  <a:pt x="6" y="3"/>
                </a:lnTo>
                <a:lnTo>
                  <a:pt x="22" y="10"/>
                </a:lnTo>
                <a:lnTo>
                  <a:pt x="36" y="3"/>
                </a:lnTo>
                <a:lnTo>
                  <a:pt x="46" y="0"/>
                </a:lnTo>
                <a:lnTo>
                  <a:pt x="50" y="6"/>
                </a:lnTo>
                <a:lnTo>
                  <a:pt x="55" y="15"/>
                </a:lnTo>
                <a:lnTo>
                  <a:pt x="69" y="18"/>
                </a:lnTo>
                <a:lnTo>
                  <a:pt x="83" y="30"/>
                </a:lnTo>
                <a:lnTo>
                  <a:pt x="82" y="38"/>
                </a:lnTo>
                <a:lnTo>
                  <a:pt x="63" y="55"/>
                </a:lnTo>
                <a:lnTo>
                  <a:pt x="63" y="61"/>
                </a:lnTo>
                <a:lnTo>
                  <a:pt x="41" y="65"/>
                </a:lnTo>
                <a:lnTo>
                  <a:pt x="22" y="64"/>
                </a:lnTo>
                <a:lnTo>
                  <a:pt x="11" y="59"/>
                </a:lnTo>
                <a:lnTo>
                  <a:pt x="11" y="43"/>
                </a:lnTo>
                <a:lnTo>
                  <a:pt x="8" y="32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9640" y="33274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0040" y="2597040"/>
            <a:ext cx="701640" cy="874800"/>
          </a:xfrm>
          <a:custGeom>
            <a:avLst/>
            <a:gdLst/>
            <a:ahLst/>
            <a:rect l="l" t="t" r="r" b="b"/>
            <a:pathLst>
              <a:path w="442" h="551">
                <a:moveTo>
                  <a:pt x="0" y="321"/>
                </a:moveTo>
                <a:lnTo>
                  <a:pt x="43" y="270"/>
                </a:lnTo>
                <a:lnTo>
                  <a:pt x="84" y="229"/>
                </a:lnTo>
                <a:lnTo>
                  <a:pt x="107" y="208"/>
                </a:lnTo>
                <a:lnTo>
                  <a:pt x="131" y="186"/>
                </a:lnTo>
                <a:lnTo>
                  <a:pt x="133" y="155"/>
                </a:lnTo>
                <a:lnTo>
                  <a:pt x="156" y="124"/>
                </a:lnTo>
                <a:lnTo>
                  <a:pt x="182" y="98"/>
                </a:lnTo>
                <a:lnTo>
                  <a:pt x="214" y="63"/>
                </a:lnTo>
                <a:lnTo>
                  <a:pt x="243" y="42"/>
                </a:lnTo>
                <a:lnTo>
                  <a:pt x="265" y="22"/>
                </a:lnTo>
                <a:lnTo>
                  <a:pt x="289" y="1"/>
                </a:lnTo>
                <a:lnTo>
                  <a:pt x="310" y="0"/>
                </a:lnTo>
                <a:lnTo>
                  <a:pt x="332" y="8"/>
                </a:lnTo>
                <a:lnTo>
                  <a:pt x="346" y="37"/>
                </a:lnTo>
                <a:lnTo>
                  <a:pt x="360" y="77"/>
                </a:lnTo>
                <a:lnTo>
                  <a:pt x="383" y="106"/>
                </a:lnTo>
                <a:lnTo>
                  <a:pt x="442" y="128"/>
                </a:lnTo>
                <a:lnTo>
                  <a:pt x="441" y="395"/>
                </a:lnTo>
                <a:lnTo>
                  <a:pt x="381" y="402"/>
                </a:lnTo>
                <a:lnTo>
                  <a:pt x="365" y="433"/>
                </a:lnTo>
                <a:lnTo>
                  <a:pt x="346" y="466"/>
                </a:lnTo>
                <a:lnTo>
                  <a:pt x="322" y="497"/>
                </a:lnTo>
                <a:lnTo>
                  <a:pt x="296" y="519"/>
                </a:lnTo>
                <a:lnTo>
                  <a:pt x="271" y="533"/>
                </a:lnTo>
                <a:lnTo>
                  <a:pt x="245" y="543"/>
                </a:lnTo>
                <a:lnTo>
                  <a:pt x="229" y="546"/>
                </a:lnTo>
                <a:lnTo>
                  <a:pt x="208" y="551"/>
                </a:lnTo>
                <a:lnTo>
                  <a:pt x="209" y="527"/>
                </a:lnTo>
                <a:lnTo>
                  <a:pt x="207" y="488"/>
                </a:lnTo>
                <a:lnTo>
                  <a:pt x="191" y="461"/>
                </a:lnTo>
                <a:lnTo>
                  <a:pt x="151" y="430"/>
                </a:lnTo>
                <a:lnTo>
                  <a:pt x="116" y="412"/>
                </a:lnTo>
                <a:lnTo>
                  <a:pt x="77" y="384"/>
                </a:lnTo>
                <a:lnTo>
                  <a:pt x="41" y="357"/>
                </a:lnTo>
                <a:lnTo>
                  <a:pt x="0" y="3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1040" y="30052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8160" y="3106800"/>
            <a:ext cx="1063800" cy="839880"/>
          </a:xfrm>
          <a:custGeom>
            <a:avLst/>
            <a:gdLst/>
            <a:ahLst/>
            <a:rect l="l" t="t" r="r" b="b"/>
            <a:pathLst>
              <a:path w="670" h="529">
                <a:moveTo>
                  <a:pt x="461" y="0"/>
                </a:moveTo>
                <a:lnTo>
                  <a:pt x="502" y="36"/>
                </a:lnTo>
                <a:lnTo>
                  <a:pt x="538" y="63"/>
                </a:lnTo>
                <a:lnTo>
                  <a:pt x="577" y="91"/>
                </a:lnTo>
                <a:lnTo>
                  <a:pt x="612" y="109"/>
                </a:lnTo>
                <a:lnTo>
                  <a:pt x="652" y="140"/>
                </a:lnTo>
                <a:lnTo>
                  <a:pt x="668" y="167"/>
                </a:lnTo>
                <a:lnTo>
                  <a:pt x="670" y="206"/>
                </a:lnTo>
                <a:lnTo>
                  <a:pt x="669" y="230"/>
                </a:lnTo>
                <a:lnTo>
                  <a:pt x="668" y="239"/>
                </a:lnTo>
                <a:lnTo>
                  <a:pt x="644" y="283"/>
                </a:lnTo>
                <a:lnTo>
                  <a:pt x="624" y="321"/>
                </a:lnTo>
                <a:lnTo>
                  <a:pt x="587" y="367"/>
                </a:lnTo>
                <a:lnTo>
                  <a:pt x="545" y="401"/>
                </a:lnTo>
                <a:lnTo>
                  <a:pt x="511" y="429"/>
                </a:lnTo>
                <a:lnTo>
                  <a:pt x="463" y="462"/>
                </a:lnTo>
                <a:lnTo>
                  <a:pt x="417" y="489"/>
                </a:lnTo>
                <a:lnTo>
                  <a:pt x="366" y="503"/>
                </a:lnTo>
                <a:lnTo>
                  <a:pt x="321" y="522"/>
                </a:lnTo>
                <a:lnTo>
                  <a:pt x="279" y="524"/>
                </a:lnTo>
                <a:lnTo>
                  <a:pt x="219" y="522"/>
                </a:lnTo>
                <a:lnTo>
                  <a:pt x="175" y="526"/>
                </a:lnTo>
                <a:lnTo>
                  <a:pt x="139" y="523"/>
                </a:lnTo>
                <a:lnTo>
                  <a:pt x="112" y="529"/>
                </a:lnTo>
                <a:lnTo>
                  <a:pt x="69" y="525"/>
                </a:lnTo>
                <a:lnTo>
                  <a:pt x="40" y="527"/>
                </a:lnTo>
                <a:lnTo>
                  <a:pt x="11" y="517"/>
                </a:lnTo>
                <a:lnTo>
                  <a:pt x="0" y="501"/>
                </a:lnTo>
                <a:lnTo>
                  <a:pt x="16" y="486"/>
                </a:lnTo>
                <a:lnTo>
                  <a:pt x="39" y="478"/>
                </a:lnTo>
                <a:lnTo>
                  <a:pt x="61" y="449"/>
                </a:lnTo>
                <a:lnTo>
                  <a:pt x="81" y="412"/>
                </a:lnTo>
                <a:lnTo>
                  <a:pt x="115" y="375"/>
                </a:lnTo>
                <a:lnTo>
                  <a:pt x="170" y="323"/>
                </a:lnTo>
                <a:lnTo>
                  <a:pt x="195" y="295"/>
                </a:lnTo>
                <a:lnTo>
                  <a:pt x="217" y="271"/>
                </a:lnTo>
                <a:lnTo>
                  <a:pt x="228" y="234"/>
                </a:lnTo>
                <a:lnTo>
                  <a:pt x="231" y="186"/>
                </a:lnTo>
                <a:lnTo>
                  <a:pt x="258" y="138"/>
                </a:lnTo>
                <a:lnTo>
                  <a:pt x="292" y="97"/>
                </a:lnTo>
                <a:lnTo>
                  <a:pt x="324" y="70"/>
                </a:lnTo>
                <a:lnTo>
                  <a:pt x="355" y="30"/>
                </a:lnTo>
                <a:lnTo>
                  <a:pt x="383" y="16"/>
                </a:lnTo>
                <a:lnTo>
                  <a:pt x="413" y="9"/>
                </a:lnTo>
                <a:lnTo>
                  <a:pt x="435" y="1"/>
                </a:lnTo>
                <a:lnTo>
                  <a:pt x="456" y="1"/>
                </a:lnTo>
                <a:lnTo>
                  <a:pt x="461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5760" y="34988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37080" y="4179960"/>
            <a:ext cx="2244600" cy="1458720"/>
          </a:xfrm>
          <a:custGeom>
            <a:avLst/>
            <a:gdLst/>
            <a:ahLst/>
            <a:rect l="l" t="t" r="r" b="b"/>
            <a:pathLst>
              <a:path w="1414" h="919">
                <a:moveTo>
                  <a:pt x="169" y="919"/>
                </a:moveTo>
                <a:lnTo>
                  <a:pt x="163" y="865"/>
                </a:lnTo>
                <a:lnTo>
                  <a:pt x="148" y="840"/>
                </a:lnTo>
                <a:lnTo>
                  <a:pt x="131" y="816"/>
                </a:lnTo>
                <a:lnTo>
                  <a:pt x="107" y="801"/>
                </a:lnTo>
                <a:lnTo>
                  <a:pt x="75" y="794"/>
                </a:lnTo>
                <a:lnTo>
                  <a:pt x="49" y="787"/>
                </a:lnTo>
                <a:lnTo>
                  <a:pt x="31" y="761"/>
                </a:lnTo>
                <a:lnTo>
                  <a:pt x="20" y="724"/>
                </a:lnTo>
                <a:lnTo>
                  <a:pt x="14" y="687"/>
                </a:lnTo>
                <a:lnTo>
                  <a:pt x="26" y="644"/>
                </a:lnTo>
                <a:lnTo>
                  <a:pt x="37" y="601"/>
                </a:lnTo>
                <a:lnTo>
                  <a:pt x="39" y="575"/>
                </a:lnTo>
                <a:lnTo>
                  <a:pt x="35" y="555"/>
                </a:lnTo>
                <a:lnTo>
                  <a:pt x="11" y="532"/>
                </a:lnTo>
                <a:lnTo>
                  <a:pt x="1" y="505"/>
                </a:lnTo>
                <a:lnTo>
                  <a:pt x="0" y="473"/>
                </a:lnTo>
                <a:lnTo>
                  <a:pt x="6" y="436"/>
                </a:lnTo>
                <a:lnTo>
                  <a:pt x="13" y="400"/>
                </a:lnTo>
                <a:lnTo>
                  <a:pt x="14" y="370"/>
                </a:lnTo>
                <a:lnTo>
                  <a:pt x="25" y="331"/>
                </a:lnTo>
                <a:lnTo>
                  <a:pt x="38" y="294"/>
                </a:lnTo>
                <a:lnTo>
                  <a:pt x="46" y="261"/>
                </a:lnTo>
                <a:lnTo>
                  <a:pt x="65" y="218"/>
                </a:lnTo>
                <a:lnTo>
                  <a:pt x="90" y="182"/>
                </a:lnTo>
                <a:lnTo>
                  <a:pt x="118" y="163"/>
                </a:lnTo>
                <a:lnTo>
                  <a:pt x="159" y="135"/>
                </a:lnTo>
                <a:lnTo>
                  <a:pt x="195" y="111"/>
                </a:lnTo>
                <a:lnTo>
                  <a:pt x="230" y="87"/>
                </a:lnTo>
                <a:lnTo>
                  <a:pt x="255" y="75"/>
                </a:lnTo>
                <a:lnTo>
                  <a:pt x="290" y="62"/>
                </a:lnTo>
                <a:lnTo>
                  <a:pt x="317" y="51"/>
                </a:lnTo>
                <a:lnTo>
                  <a:pt x="339" y="41"/>
                </a:lnTo>
                <a:lnTo>
                  <a:pt x="367" y="31"/>
                </a:lnTo>
                <a:lnTo>
                  <a:pt x="389" y="20"/>
                </a:lnTo>
                <a:lnTo>
                  <a:pt x="401" y="15"/>
                </a:lnTo>
                <a:lnTo>
                  <a:pt x="425" y="31"/>
                </a:lnTo>
                <a:lnTo>
                  <a:pt x="431" y="55"/>
                </a:lnTo>
                <a:lnTo>
                  <a:pt x="440" y="82"/>
                </a:lnTo>
                <a:lnTo>
                  <a:pt x="457" y="100"/>
                </a:lnTo>
                <a:lnTo>
                  <a:pt x="488" y="103"/>
                </a:lnTo>
                <a:lnTo>
                  <a:pt x="511" y="100"/>
                </a:lnTo>
                <a:lnTo>
                  <a:pt x="523" y="81"/>
                </a:lnTo>
                <a:lnTo>
                  <a:pt x="544" y="59"/>
                </a:lnTo>
                <a:lnTo>
                  <a:pt x="577" y="56"/>
                </a:lnTo>
                <a:lnTo>
                  <a:pt x="614" y="49"/>
                </a:lnTo>
                <a:lnTo>
                  <a:pt x="639" y="49"/>
                </a:lnTo>
                <a:lnTo>
                  <a:pt x="663" y="56"/>
                </a:lnTo>
                <a:lnTo>
                  <a:pt x="674" y="80"/>
                </a:lnTo>
                <a:lnTo>
                  <a:pt x="678" y="105"/>
                </a:lnTo>
                <a:lnTo>
                  <a:pt x="693" y="141"/>
                </a:lnTo>
                <a:lnTo>
                  <a:pt x="708" y="162"/>
                </a:lnTo>
                <a:lnTo>
                  <a:pt x="716" y="173"/>
                </a:lnTo>
                <a:lnTo>
                  <a:pt x="748" y="173"/>
                </a:lnTo>
                <a:lnTo>
                  <a:pt x="785" y="164"/>
                </a:lnTo>
                <a:lnTo>
                  <a:pt x="810" y="175"/>
                </a:lnTo>
                <a:lnTo>
                  <a:pt x="836" y="190"/>
                </a:lnTo>
                <a:lnTo>
                  <a:pt x="857" y="191"/>
                </a:lnTo>
                <a:lnTo>
                  <a:pt x="875" y="174"/>
                </a:lnTo>
                <a:lnTo>
                  <a:pt x="890" y="147"/>
                </a:lnTo>
                <a:lnTo>
                  <a:pt x="899" y="121"/>
                </a:lnTo>
                <a:lnTo>
                  <a:pt x="931" y="96"/>
                </a:lnTo>
                <a:lnTo>
                  <a:pt x="963" y="74"/>
                </a:lnTo>
                <a:lnTo>
                  <a:pt x="990" y="53"/>
                </a:lnTo>
                <a:lnTo>
                  <a:pt x="1018" y="33"/>
                </a:lnTo>
                <a:lnTo>
                  <a:pt x="1049" y="11"/>
                </a:lnTo>
                <a:lnTo>
                  <a:pt x="1076" y="6"/>
                </a:lnTo>
                <a:lnTo>
                  <a:pt x="1108" y="0"/>
                </a:lnTo>
                <a:lnTo>
                  <a:pt x="1114" y="22"/>
                </a:lnTo>
                <a:lnTo>
                  <a:pt x="1108" y="46"/>
                </a:lnTo>
                <a:lnTo>
                  <a:pt x="1111" y="76"/>
                </a:lnTo>
                <a:lnTo>
                  <a:pt x="1130" y="97"/>
                </a:lnTo>
                <a:lnTo>
                  <a:pt x="1160" y="96"/>
                </a:lnTo>
                <a:lnTo>
                  <a:pt x="1187" y="86"/>
                </a:lnTo>
                <a:lnTo>
                  <a:pt x="1217" y="86"/>
                </a:lnTo>
                <a:lnTo>
                  <a:pt x="1254" y="85"/>
                </a:lnTo>
                <a:lnTo>
                  <a:pt x="1287" y="81"/>
                </a:lnTo>
                <a:lnTo>
                  <a:pt x="1312" y="87"/>
                </a:lnTo>
                <a:lnTo>
                  <a:pt x="1336" y="109"/>
                </a:lnTo>
                <a:lnTo>
                  <a:pt x="1351" y="121"/>
                </a:lnTo>
                <a:lnTo>
                  <a:pt x="1414" y="146"/>
                </a:lnTo>
                <a:lnTo>
                  <a:pt x="1414" y="919"/>
                </a:lnTo>
                <a:lnTo>
                  <a:pt x="169" y="91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42280" y="48895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080" y="1752480"/>
            <a:ext cx="1717920" cy="1333800"/>
          </a:xfrm>
          <a:custGeom>
            <a:avLst/>
            <a:gdLst/>
            <a:ahLst/>
            <a:rect l="l" t="t" r="r" b="b"/>
            <a:pathLst>
              <a:path w="1082" h="840">
                <a:moveTo>
                  <a:pt x="3" y="695"/>
                </a:moveTo>
                <a:lnTo>
                  <a:pt x="0" y="0"/>
                </a:lnTo>
                <a:lnTo>
                  <a:pt x="863" y="1"/>
                </a:lnTo>
                <a:lnTo>
                  <a:pt x="869" y="25"/>
                </a:lnTo>
                <a:lnTo>
                  <a:pt x="883" y="76"/>
                </a:lnTo>
                <a:lnTo>
                  <a:pt x="892" y="98"/>
                </a:lnTo>
                <a:lnTo>
                  <a:pt x="903" y="122"/>
                </a:lnTo>
                <a:lnTo>
                  <a:pt x="924" y="134"/>
                </a:lnTo>
                <a:lnTo>
                  <a:pt x="957" y="141"/>
                </a:lnTo>
                <a:lnTo>
                  <a:pt x="978" y="156"/>
                </a:lnTo>
                <a:lnTo>
                  <a:pt x="994" y="178"/>
                </a:lnTo>
                <a:lnTo>
                  <a:pt x="1018" y="204"/>
                </a:lnTo>
                <a:lnTo>
                  <a:pt x="1038" y="232"/>
                </a:lnTo>
                <a:lnTo>
                  <a:pt x="1059" y="267"/>
                </a:lnTo>
                <a:lnTo>
                  <a:pt x="1071" y="294"/>
                </a:lnTo>
                <a:lnTo>
                  <a:pt x="1082" y="331"/>
                </a:lnTo>
                <a:lnTo>
                  <a:pt x="1079" y="361"/>
                </a:lnTo>
                <a:lnTo>
                  <a:pt x="1066" y="392"/>
                </a:lnTo>
                <a:lnTo>
                  <a:pt x="1048" y="430"/>
                </a:lnTo>
                <a:lnTo>
                  <a:pt x="1037" y="449"/>
                </a:lnTo>
                <a:lnTo>
                  <a:pt x="1004" y="469"/>
                </a:lnTo>
                <a:lnTo>
                  <a:pt x="998" y="495"/>
                </a:lnTo>
                <a:lnTo>
                  <a:pt x="997" y="518"/>
                </a:lnTo>
                <a:lnTo>
                  <a:pt x="1003" y="554"/>
                </a:lnTo>
                <a:lnTo>
                  <a:pt x="992" y="572"/>
                </a:lnTo>
                <a:lnTo>
                  <a:pt x="980" y="597"/>
                </a:lnTo>
                <a:lnTo>
                  <a:pt x="974" y="617"/>
                </a:lnTo>
                <a:lnTo>
                  <a:pt x="963" y="642"/>
                </a:lnTo>
                <a:lnTo>
                  <a:pt x="940" y="661"/>
                </a:lnTo>
                <a:lnTo>
                  <a:pt x="916" y="683"/>
                </a:lnTo>
                <a:lnTo>
                  <a:pt x="891" y="704"/>
                </a:lnTo>
                <a:lnTo>
                  <a:pt x="858" y="736"/>
                </a:lnTo>
                <a:lnTo>
                  <a:pt x="834" y="760"/>
                </a:lnTo>
                <a:lnTo>
                  <a:pt x="812" y="768"/>
                </a:lnTo>
                <a:lnTo>
                  <a:pt x="793" y="791"/>
                </a:lnTo>
                <a:lnTo>
                  <a:pt x="782" y="807"/>
                </a:lnTo>
                <a:lnTo>
                  <a:pt x="756" y="813"/>
                </a:lnTo>
                <a:lnTo>
                  <a:pt x="728" y="810"/>
                </a:lnTo>
                <a:lnTo>
                  <a:pt x="703" y="798"/>
                </a:lnTo>
                <a:lnTo>
                  <a:pt x="690" y="781"/>
                </a:lnTo>
                <a:lnTo>
                  <a:pt x="668" y="767"/>
                </a:lnTo>
                <a:lnTo>
                  <a:pt x="649" y="769"/>
                </a:lnTo>
                <a:lnTo>
                  <a:pt x="627" y="779"/>
                </a:lnTo>
                <a:lnTo>
                  <a:pt x="612" y="794"/>
                </a:lnTo>
                <a:lnTo>
                  <a:pt x="593" y="786"/>
                </a:lnTo>
                <a:lnTo>
                  <a:pt x="574" y="782"/>
                </a:lnTo>
                <a:lnTo>
                  <a:pt x="557" y="776"/>
                </a:lnTo>
                <a:lnTo>
                  <a:pt x="547" y="762"/>
                </a:lnTo>
                <a:lnTo>
                  <a:pt x="538" y="745"/>
                </a:lnTo>
                <a:lnTo>
                  <a:pt x="515" y="742"/>
                </a:lnTo>
                <a:lnTo>
                  <a:pt x="492" y="748"/>
                </a:lnTo>
                <a:lnTo>
                  <a:pt x="467" y="757"/>
                </a:lnTo>
                <a:lnTo>
                  <a:pt x="436" y="767"/>
                </a:lnTo>
                <a:lnTo>
                  <a:pt x="414" y="783"/>
                </a:lnTo>
                <a:lnTo>
                  <a:pt x="404" y="802"/>
                </a:lnTo>
                <a:lnTo>
                  <a:pt x="404" y="826"/>
                </a:lnTo>
                <a:lnTo>
                  <a:pt x="393" y="840"/>
                </a:lnTo>
                <a:lnTo>
                  <a:pt x="372" y="836"/>
                </a:lnTo>
                <a:lnTo>
                  <a:pt x="353" y="819"/>
                </a:lnTo>
                <a:lnTo>
                  <a:pt x="340" y="818"/>
                </a:lnTo>
                <a:lnTo>
                  <a:pt x="318" y="813"/>
                </a:lnTo>
                <a:lnTo>
                  <a:pt x="280" y="795"/>
                </a:lnTo>
                <a:lnTo>
                  <a:pt x="215" y="770"/>
                </a:lnTo>
                <a:lnTo>
                  <a:pt x="186" y="750"/>
                </a:lnTo>
                <a:lnTo>
                  <a:pt x="168" y="735"/>
                </a:lnTo>
                <a:lnTo>
                  <a:pt x="138" y="739"/>
                </a:lnTo>
                <a:lnTo>
                  <a:pt x="97" y="747"/>
                </a:lnTo>
                <a:lnTo>
                  <a:pt x="70" y="735"/>
                </a:lnTo>
                <a:lnTo>
                  <a:pt x="43" y="716"/>
                </a:lnTo>
                <a:lnTo>
                  <a:pt x="23" y="706"/>
                </a:lnTo>
                <a:lnTo>
                  <a:pt x="3" y="69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40640" y="23954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08560" y="2779560"/>
            <a:ext cx="982440" cy="1122480"/>
          </a:xfrm>
          <a:custGeom>
            <a:avLst/>
            <a:gdLst/>
            <a:ahLst/>
            <a:rect l="l" t="t" r="r" b="b"/>
            <a:pathLst>
              <a:path w="619" h="707">
                <a:moveTo>
                  <a:pt x="25" y="707"/>
                </a:moveTo>
                <a:lnTo>
                  <a:pt x="17" y="669"/>
                </a:lnTo>
                <a:lnTo>
                  <a:pt x="19" y="621"/>
                </a:lnTo>
                <a:lnTo>
                  <a:pt x="26" y="582"/>
                </a:lnTo>
                <a:lnTo>
                  <a:pt x="26" y="535"/>
                </a:lnTo>
                <a:lnTo>
                  <a:pt x="22" y="513"/>
                </a:lnTo>
                <a:lnTo>
                  <a:pt x="16" y="503"/>
                </a:lnTo>
                <a:lnTo>
                  <a:pt x="0" y="487"/>
                </a:lnTo>
                <a:lnTo>
                  <a:pt x="3" y="445"/>
                </a:lnTo>
                <a:lnTo>
                  <a:pt x="13" y="403"/>
                </a:lnTo>
                <a:lnTo>
                  <a:pt x="26" y="367"/>
                </a:lnTo>
                <a:lnTo>
                  <a:pt x="33" y="331"/>
                </a:lnTo>
                <a:lnTo>
                  <a:pt x="43" y="312"/>
                </a:lnTo>
                <a:lnTo>
                  <a:pt x="65" y="291"/>
                </a:lnTo>
                <a:lnTo>
                  <a:pt x="89" y="275"/>
                </a:lnTo>
                <a:lnTo>
                  <a:pt x="108" y="256"/>
                </a:lnTo>
                <a:lnTo>
                  <a:pt x="112" y="238"/>
                </a:lnTo>
                <a:lnTo>
                  <a:pt x="117" y="215"/>
                </a:lnTo>
                <a:lnTo>
                  <a:pt x="133" y="178"/>
                </a:lnTo>
                <a:lnTo>
                  <a:pt x="142" y="164"/>
                </a:lnTo>
                <a:lnTo>
                  <a:pt x="169" y="155"/>
                </a:lnTo>
                <a:lnTo>
                  <a:pt x="190" y="160"/>
                </a:lnTo>
                <a:lnTo>
                  <a:pt x="216" y="147"/>
                </a:lnTo>
                <a:lnTo>
                  <a:pt x="229" y="124"/>
                </a:lnTo>
                <a:lnTo>
                  <a:pt x="249" y="101"/>
                </a:lnTo>
                <a:lnTo>
                  <a:pt x="272" y="82"/>
                </a:lnTo>
                <a:lnTo>
                  <a:pt x="291" y="74"/>
                </a:lnTo>
                <a:lnTo>
                  <a:pt x="308" y="63"/>
                </a:lnTo>
                <a:lnTo>
                  <a:pt x="321" y="42"/>
                </a:lnTo>
                <a:lnTo>
                  <a:pt x="335" y="28"/>
                </a:lnTo>
                <a:lnTo>
                  <a:pt x="355" y="26"/>
                </a:lnTo>
                <a:lnTo>
                  <a:pt x="369" y="37"/>
                </a:lnTo>
                <a:lnTo>
                  <a:pt x="388" y="55"/>
                </a:lnTo>
                <a:lnTo>
                  <a:pt x="404" y="60"/>
                </a:lnTo>
                <a:lnTo>
                  <a:pt x="428" y="44"/>
                </a:lnTo>
                <a:lnTo>
                  <a:pt x="454" y="33"/>
                </a:lnTo>
                <a:lnTo>
                  <a:pt x="478" y="15"/>
                </a:lnTo>
                <a:lnTo>
                  <a:pt x="497" y="6"/>
                </a:lnTo>
                <a:lnTo>
                  <a:pt x="513" y="0"/>
                </a:lnTo>
                <a:lnTo>
                  <a:pt x="527" y="2"/>
                </a:lnTo>
                <a:lnTo>
                  <a:pt x="549" y="16"/>
                </a:lnTo>
                <a:lnTo>
                  <a:pt x="574" y="28"/>
                </a:lnTo>
                <a:lnTo>
                  <a:pt x="600" y="37"/>
                </a:lnTo>
                <a:lnTo>
                  <a:pt x="619" y="40"/>
                </a:lnTo>
                <a:lnTo>
                  <a:pt x="617" y="71"/>
                </a:lnTo>
                <a:lnTo>
                  <a:pt x="593" y="93"/>
                </a:lnTo>
                <a:lnTo>
                  <a:pt x="570" y="114"/>
                </a:lnTo>
                <a:lnTo>
                  <a:pt x="529" y="155"/>
                </a:lnTo>
                <a:lnTo>
                  <a:pt x="486" y="206"/>
                </a:lnTo>
                <a:lnTo>
                  <a:pt x="481" y="207"/>
                </a:lnTo>
                <a:lnTo>
                  <a:pt x="460" y="207"/>
                </a:lnTo>
                <a:lnTo>
                  <a:pt x="438" y="215"/>
                </a:lnTo>
                <a:lnTo>
                  <a:pt x="408" y="222"/>
                </a:lnTo>
                <a:lnTo>
                  <a:pt x="380" y="236"/>
                </a:lnTo>
                <a:lnTo>
                  <a:pt x="349" y="276"/>
                </a:lnTo>
                <a:lnTo>
                  <a:pt x="317" y="303"/>
                </a:lnTo>
                <a:lnTo>
                  <a:pt x="283" y="344"/>
                </a:lnTo>
                <a:lnTo>
                  <a:pt x="256" y="392"/>
                </a:lnTo>
                <a:lnTo>
                  <a:pt x="253" y="440"/>
                </a:lnTo>
                <a:lnTo>
                  <a:pt x="242" y="477"/>
                </a:lnTo>
                <a:lnTo>
                  <a:pt x="220" y="501"/>
                </a:lnTo>
                <a:lnTo>
                  <a:pt x="195" y="529"/>
                </a:lnTo>
                <a:lnTo>
                  <a:pt x="140" y="581"/>
                </a:lnTo>
                <a:lnTo>
                  <a:pt x="106" y="618"/>
                </a:lnTo>
                <a:lnTo>
                  <a:pt x="86" y="655"/>
                </a:lnTo>
                <a:lnTo>
                  <a:pt x="64" y="684"/>
                </a:lnTo>
                <a:lnTo>
                  <a:pt x="41" y="692"/>
                </a:lnTo>
                <a:lnTo>
                  <a:pt x="25" y="707"/>
                </a:lnTo>
                <a:close/>
                <a:moveTo>
                  <a:pt x="270" y="188"/>
                </a:moveTo>
                <a:lnTo>
                  <a:pt x="253" y="197"/>
                </a:lnTo>
                <a:lnTo>
                  <a:pt x="231" y="200"/>
                </a:lnTo>
                <a:lnTo>
                  <a:pt x="225" y="215"/>
                </a:lnTo>
                <a:lnTo>
                  <a:pt x="233" y="234"/>
                </a:lnTo>
                <a:lnTo>
                  <a:pt x="246" y="251"/>
                </a:lnTo>
                <a:lnTo>
                  <a:pt x="262" y="261"/>
                </a:lnTo>
                <a:lnTo>
                  <a:pt x="282" y="261"/>
                </a:lnTo>
                <a:lnTo>
                  <a:pt x="296" y="253"/>
                </a:lnTo>
                <a:lnTo>
                  <a:pt x="314" y="238"/>
                </a:lnTo>
                <a:lnTo>
                  <a:pt x="330" y="224"/>
                </a:lnTo>
                <a:lnTo>
                  <a:pt x="347" y="204"/>
                </a:lnTo>
                <a:lnTo>
                  <a:pt x="342" y="193"/>
                </a:lnTo>
                <a:lnTo>
                  <a:pt x="341" y="177"/>
                </a:lnTo>
                <a:lnTo>
                  <a:pt x="338" y="162"/>
                </a:lnTo>
                <a:lnTo>
                  <a:pt x="343" y="146"/>
                </a:lnTo>
                <a:lnTo>
                  <a:pt x="332" y="136"/>
                </a:lnTo>
                <a:lnTo>
                  <a:pt x="324" y="149"/>
                </a:lnTo>
                <a:lnTo>
                  <a:pt x="309" y="170"/>
                </a:lnTo>
                <a:lnTo>
                  <a:pt x="298" y="172"/>
                </a:lnTo>
                <a:lnTo>
                  <a:pt x="288" y="161"/>
                </a:lnTo>
                <a:lnTo>
                  <a:pt x="279" y="154"/>
                </a:lnTo>
                <a:lnTo>
                  <a:pt x="271" y="158"/>
                </a:lnTo>
                <a:lnTo>
                  <a:pt x="274" y="171"/>
                </a:lnTo>
                <a:lnTo>
                  <a:pt x="270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6880" y="33116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1752480"/>
            <a:ext cx="2684520" cy="3886200"/>
          </a:xfrm>
          <a:custGeom>
            <a:avLst/>
            <a:gdLst/>
            <a:ahLst/>
            <a:rect l="l" t="t" r="r" b="b"/>
            <a:pathLst>
              <a:path w="1691" h="2448">
                <a:moveTo>
                  <a:pt x="444" y="2448"/>
                </a:moveTo>
                <a:lnTo>
                  <a:pt x="0" y="2448"/>
                </a:lnTo>
                <a:lnTo>
                  <a:pt x="6" y="695"/>
                </a:lnTo>
                <a:lnTo>
                  <a:pt x="26" y="706"/>
                </a:lnTo>
                <a:lnTo>
                  <a:pt x="46" y="716"/>
                </a:lnTo>
                <a:lnTo>
                  <a:pt x="73" y="735"/>
                </a:lnTo>
                <a:lnTo>
                  <a:pt x="100" y="747"/>
                </a:lnTo>
                <a:lnTo>
                  <a:pt x="141" y="739"/>
                </a:lnTo>
                <a:lnTo>
                  <a:pt x="171" y="735"/>
                </a:lnTo>
                <a:lnTo>
                  <a:pt x="189" y="750"/>
                </a:lnTo>
                <a:lnTo>
                  <a:pt x="218" y="770"/>
                </a:lnTo>
                <a:lnTo>
                  <a:pt x="283" y="795"/>
                </a:lnTo>
                <a:lnTo>
                  <a:pt x="321" y="813"/>
                </a:lnTo>
                <a:lnTo>
                  <a:pt x="343" y="818"/>
                </a:lnTo>
                <a:lnTo>
                  <a:pt x="356" y="819"/>
                </a:lnTo>
                <a:lnTo>
                  <a:pt x="375" y="836"/>
                </a:lnTo>
                <a:lnTo>
                  <a:pt x="396" y="840"/>
                </a:lnTo>
                <a:lnTo>
                  <a:pt x="407" y="826"/>
                </a:lnTo>
                <a:lnTo>
                  <a:pt x="407" y="802"/>
                </a:lnTo>
                <a:lnTo>
                  <a:pt x="417" y="783"/>
                </a:lnTo>
                <a:lnTo>
                  <a:pt x="439" y="767"/>
                </a:lnTo>
                <a:lnTo>
                  <a:pt x="470" y="757"/>
                </a:lnTo>
                <a:lnTo>
                  <a:pt x="495" y="748"/>
                </a:lnTo>
                <a:lnTo>
                  <a:pt x="518" y="742"/>
                </a:lnTo>
                <a:lnTo>
                  <a:pt x="541" y="745"/>
                </a:lnTo>
                <a:lnTo>
                  <a:pt x="550" y="762"/>
                </a:lnTo>
                <a:lnTo>
                  <a:pt x="560" y="776"/>
                </a:lnTo>
                <a:lnTo>
                  <a:pt x="577" y="782"/>
                </a:lnTo>
                <a:lnTo>
                  <a:pt x="596" y="786"/>
                </a:lnTo>
                <a:lnTo>
                  <a:pt x="615" y="794"/>
                </a:lnTo>
                <a:lnTo>
                  <a:pt x="630" y="779"/>
                </a:lnTo>
                <a:lnTo>
                  <a:pt x="652" y="769"/>
                </a:lnTo>
                <a:lnTo>
                  <a:pt x="671" y="767"/>
                </a:lnTo>
                <a:lnTo>
                  <a:pt x="693" y="781"/>
                </a:lnTo>
                <a:lnTo>
                  <a:pt x="706" y="798"/>
                </a:lnTo>
                <a:lnTo>
                  <a:pt x="731" y="810"/>
                </a:lnTo>
                <a:lnTo>
                  <a:pt x="759" y="813"/>
                </a:lnTo>
                <a:lnTo>
                  <a:pt x="785" y="807"/>
                </a:lnTo>
                <a:lnTo>
                  <a:pt x="796" y="791"/>
                </a:lnTo>
                <a:lnTo>
                  <a:pt x="815" y="768"/>
                </a:lnTo>
                <a:lnTo>
                  <a:pt x="837" y="760"/>
                </a:lnTo>
                <a:lnTo>
                  <a:pt x="861" y="736"/>
                </a:lnTo>
                <a:lnTo>
                  <a:pt x="894" y="704"/>
                </a:lnTo>
                <a:lnTo>
                  <a:pt x="919" y="683"/>
                </a:lnTo>
                <a:lnTo>
                  <a:pt x="943" y="661"/>
                </a:lnTo>
                <a:lnTo>
                  <a:pt x="966" y="642"/>
                </a:lnTo>
                <a:lnTo>
                  <a:pt x="977" y="617"/>
                </a:lnTo>
                <a:lnTo>
                  <a:pt x="983" y="597"/>
                </a:lnTo>
                <a:lnTo>
                  <a:pt x="995" y="572"/>
                </a:lnTo>
                <a:lnTo>
                  <a:pt x="1006" y="554"/>
                </a:lnTo>
                <a:lnTo>
                  <a:pt x="1000" y="518"/>
                </a:lnTo>
                <a:lnTo>
                  <a:pt x="1001" y="495"/>
                </a:lnTo>
                <a:lnTo>
                  <a:pt x="1007" y="469"/>
                </a:lnTo>
                <a:lnTo>
                  <a:pt x="1040" y="449"/>
                </a:lnTo>
                <a:lnTo>
                  <a:pt x="1051" y="430"/>
                </a:lnTo>
                <a:lnTo>
                  <a:pt x="1069" y="392"/>
                </a:lnTo>
                <a:lnTo>
                  <a:pt x="1082" y="361"/>
                </a:lnTo>
                <a:lnTo>
                  <a:pt x="1085" y="331"/>
                </a:lnTo>
                <a:lnTo>
                  <a:pt x="1074" y="294"/>
                </a:lnTo>
                <a:lnTo>
                  <a:pt x="1062" y="267"/>
                </a:lnTo>
                <a:lnTo>
                  <a:pt x="1041" y="232"/>
                </a:lnTo>
                <a:lnTo>
                  <a:pt x="1021" y="204"/>
                </a:lnTo>
                <a:lnTo>
                  <a:pt x="997" y="178"/>
                </a:lnTo>
                <a:lnTo>
                  <a:pt x="981" y="156"/>
                </a:lnTo>
                <a:lnTo>
                  <a:pt x="960" y="141"/>
                </a:lnTo>
                <a:lnTo>
                  <a:pt x="927" y="134"/>
                </a:lnTo>
                <a:lnTo>
                  <a:pt x="906" y="122"/>
                </a:lnTo>
                <a:lnTo>
                  <a:pt x="895" y="98"/>
                </a:lnTo>
                <a:lnTo>
                  <a:pt x="886" y="76"/>
                </a:lnTo>
                <a:lnTo>
                  <a:pt x="872" y="25"/>
                </a:lnTo>
                <a:lnTo>
                  <a:pt x="866" y="1"/>
                </a:lnTo>
                <a:lnTo>
                  <a:pt x="1691" y="0"/>
                </a:lnTo>
                <a:lnTo>
                  <a:pt x="1689" y="660"/>
                </a:lnTo>
                <a:lnTo>
                  <a:pt x="1630" y="638"/>
                </a:lnTo>
                <a:lnTo>
                  <a:pt x="1607" y="609"/>
                </a:lnTo>
                <a:lnTo>
                  <a:pt x="1593" y="569"/>
                </a:lnTo>
                <a:lnTo>
                  <a:pt x="1579" y="540"/>
                </a:lnTo>
                <a:lnTo>
                  <a:pt x="1557" y="532"/>
                </a:lnTo>
                <a:lnTo>
                  <a:pt x="1536" y="533"/>
                </a:lnTo>
                <a:lnTo>
                  <a:pt x="1512" y="554"/>
                </a:lnTo>
                <a:lnTo>
                  <a:pt x="1490" y="574"/>
                </a:lnTo>
                <a:lnTo>
                  <a:pt x="1461" y="595"/>
                </a:lnTo>
                <a:lnTo>
                  <a:pt x="1429" y="630"/>
                </a:lnTo>
                <a:lnTo>
                  <a:pt x="1403" y="656"/>
                </a:lnTo>
                <a:lnTo>
                  <a:pt x="1380" y="687"/>
                </a:lnTo>
                <a:lnTo>
                  <a:pt x="1361" y="684"/>
                </a:lnTo>
                <a:lnTo>
                  <a:pt x="1335" y="675"/>
                </a:lnTo>
                <a:lnTo>
                  <a:pt x="1310" y="663"/>
                </a:lnTo>
                <a:lnTo>
                  <a:pt x="1288" y="649"/>
                </a:lnTo>
                <a:lnTo>
                  <a:pt x="1274" y="647"/>
                </a:lnTo>
                <a:lnTo>
                  <a:pt x="1258" y="653"/>
                </a:lnTo>
                <a:lnTo>
                  <a:pt x="1239" y="662"/>
                </a:lnTo>
                <a:lnTo>
                  <a:pt x="1215" y="680"/>
                </a:lnTo>
                <a:lnTo>
                  <a:pt x="1189" y="691"/>
                </a:lnTo>
                <a:lnTo>
                  <a:pt x="1165" y="707"/>
                </a:lnTo>
                <a:lnTo>
                  <a:pt x="1149" y="702"/>
                </a:lnTo>
                <a:lnTo>
                  <a:pt x="1130" y="684"/>
                </a:lnTo>
                <a:lnTo>
                  <a:pt x="1116" y="673"/>
                </a:lnTo>
                <a:lnTo>
                  <a:pt x="1096" y="675"/>
                </a:lnTo>
                <a:lnTo>
                  <a:pt x="1082" y="689"/>
                </a:lnTo>
                <a:lnTo>
                  <a:pt x="1069" y="710"/>
                </a:lnTo>
                <a:lnTo>
                  <a:pt x="1052" y="721"/>
                </a:lnTo>
                <a:lnTo>
                  <a:pt x="1033" y="729"/>
                </a:lnTo>
                <a:lnTo>
                  <a:pt x="1010" y="748"/>
                </a:lnTo>
                <a:lnTo>
                  <a:pt x="990" y="771"/>
                </a:lnTo>
                <a:lnTo>
                  <a:pt x="977" y="794"/>
                </a:lnTo>
                <a:lnTo>
                  <a:pt x="951" y="807"/>
                </a:lnTo>
                <a:lnTo>
                  <a:pt x="930" y="802"/>
                </a:lnTo>
                <a:lnTo>
                  <a:pt x="903" y="811"/>
                </a:lnTo>
                <a:lnTo>
                  <a:pt x="894" y="825"/>
                </a:lnTo>
                <a:lnTo>
                  <a:pt x="878" y="862"/>
                </a:lnTo>
                <a:lnTo>
                  <a:pt x="873" y="885"/>
                </a:lnTo>
                <a:lnTo>
                  <a:pt x="869" y="903"/>
                </a:lnTo>
                <a:lnTo>
                  <a:pt x="850" y="922"/>
                </a:lnTo>
                <a:lnTo>
                  <a:pt x="826" y="938"/>
                </a:lnTo>
                <a:lnTo>
                  <a:pt x="804" y="959"/>
                </a:lnTo>
                <a:lnTo>
                  <a:pt x="794" y="978"/>
                </a:lnTo>
                <a:lnTo>
                  <a:pt x="787" y="1014"/>
                </a:lnTo>
                <a:lnTo>
                  <a:pt x="774" y="1050"/>
                </a:lnTo>
                <a:lnTo>
                  <a:pt x="764" y="1092"/>
                </a:lnTo>
                <a:lnTo>
                  <a:pt x="761" y="1134"/>
                </a:lnTo>
                <a:lnTo>
                  <a:pt x="777" y="1150"/>
                </a:lnTo>
                <a:lnTo>
                  <a:pt x="783" y="1160"/>
                </a:lnTo>
                <a:lnTo>
                  <a:pt x="787" y="1182"/>
                </a:lnTo>
                <a:lnTo>
                  <a:pt x="787" y="1229"/>
                </a:lnTo>
                <a:lnTo>
                  <a:pt x="780" y="1268"/>
                </a:lnTo>
                <a:lnTo>
                  <a:pt x="778" y="1316"/>
                </a:lnTo>
                <a:lnTo>
                  <a:pt x="786" y="1354"/>
                </a:lnTo>
                <a:lnTo>
                  <a:pt x="797" y="1370"/>
                </a:lnTo>
                <a:lnTo>
                  <a:pt x="826" y="1380"/>
                </a:lnTo>
                <a:lnTo>
                  <a:pt x="855" y="1378"/>
                </a:lnTo>
                <a:lnTo>
                  <a:pt x="898" y="1382"/>
                </a:lnTo>
                <a:lnTo>
                  <a:pt x="925" y="1376"/>
                </a:lnTo>
                <a:lnTo>
                  <a:pt x="961" y="1379"/>
                </a:lnTo>
                <a:lnTo>
                  <a:pt x="1005" y="1375"/>
                </a:lnTo>
                <a:lnTo>
                  <a:pt x="1065" y="1377"/>
                </a:lnTo>
                <a:lnTo>
                  <a:pt x="1107" y="1375"/>
                </a:lnTo>
                <a:lnTo>
                  <a:pt x="1152" y="1356"/>
                </a:lnTo>
                <a:lnTo>
                  <a:pt x="1203" y="1342"/>
                </a:lnTo>
                <a:lnTo>
                  <a:pt x="1249" y="1315"/>
                </a:lnTo>
                <a:lnTo>
                  <a:pt x="1297" y="1282"/>
                </a:lnTo>
                <a:lnTo>
                  <a:pt x="1331" y="1254"/>
                </a:lnTo>
                <a:lnTo>
                  <a:pt x="1373" y="1220"/>
                </a:lnTo>
                <a:lnTo>
                  <a:pt x="1410" y="1174"/>
                </a:lnTo>
                <a:lnTo>
                  <a:pt x="1430" y="1136"/>
                </a:lnTo>
                <a:lnTo>
                  <a:pt x="1454" y="1092"/>
                </a:lnTo>
                <a:lnTo>
                  <a:pt x="1455" y="1083"/>
                </a:lnTo>
                <a:lnTo>
                  <a:pt x="1476" y="1078"/>
                </a:lnTo>
                <a:lnTo>
                  <a:pt x="1492" y="1075"/>
                </a:lnTo>
                <a:lnTo>
                  <a:pt x="1518" y="1065"/>
                </a:lnTo>
                <a:lnTo>
                  <a:pt x="1543" y="1051"/>
                </a:lnTo>
                <a:lnTo>
                  <a:pt x="1569" y="1029"/>
                </a:lnTo>
                <a:lnTo>
                  <a:pt x="1593" y="998"/>
                </a:lnTo>
                <a:lnTo>
                  <a:pt x="1612" y="965"/>
                </a:lnTo>
                <a:lnTo>
                  <a:pt x="1628" y="934"/>
                </a:lnTo>
                <a:lnTo>
                  <a:pt x="1688" y="927"/>
                </a:lnTo>
                <a:lnTo>
                  <a:pt x="1689" y="1675"/>
                </a:lnTo>
                <a:lnTo>
                  <a:pt x="1626" y="1650"/>
                </a:lnTo>
                <a:lnTo>
                  <a:pt x="1611" y="1638"/>
                </a:lnTo>
                <a:lnTo>
                  <a:pt x="1587" y="1616"/>
                </a:lnTo>
                <a:lnTo>
                  <a:pt x="1562" y="1610"/>
                </a:lnTo>
                <a:lnTo>
                  <a:pt x="1529" y="1614"/>
                </a:lnTo>
                <a:lnTo>
                  <a:pt x="1492" y="1615"/>
                </a:lnTo>
                <a:lnTo>
                  <a:pt x="1462" y="1615"/>
                </a:lnTo>
                <a:lnTo>
                  <a:pt x="1435" y="1625"/>
                </a:lnTo>
                <a:lnTo>
                  <a:pt x="1405" y="1626"/>
                </a:lnTo>
                <a:lnTo>
                  <a:pt x="1386" y="1605"/>
                </a:lnTo>
                <a:lnTo>
                  <a:pt x="1383" y="1575"/>
                </a:lnTo>
                <a:lnTo>
                  <a:pt x="1389" y="1551"/>
                </a:lnTo>
                <a:lnTo>
                  <a:pt x="1383" y="1529"/>
                </a:lnTo>
                <a:lnTo>
                  <a:pt x="1351" y="1535"/>
                </a:lnTo>
                <a:lnTo>
                  <a:pt x="1324" y="1540"/>
                </a:lnTo>
                <a:lnTo>
                  <a:pt x="1293" y="1562"/>
                </a:lnTo>
                <a:lnTo>
                  <a:pt x="1265" y="1582"/>
                </a:lnTo>
                <a:lnTo>
                  <a:pt x="1238" y="1603"/>
                </a:lnTo>
                <a:lnTo>
                  <a:pt x="1206" y="1625"/>
                </a:lnTo>
                <a:lnTo>
                  <a:pt x="1174" y="1650"/>
                </a:lnTo>
                <a:lnTo>
                  <a:pt x="1165" y="1676"/>
                </a:lnTo>
                <a:lnTo>
                  <a:pt x="1150" y="1703"/>
                </a:lnTo>
                <a:lnTo>
                  <a:pt x="1132" y="1720"/>
                </a:lnTo>
                <a:lnTo>
                  <a:pt x="1111" y="1719"/>
                </a:lnTo>
                <a:lnTo>
                  <a:pt x="1085" y="1704"/>
                </a:lnTo>
                <a:lnTo>
                  <a:pt x="1060" y="1693"/>
                </a:lnTo>
                <a:lnTo>
                  <a:pt x="1023" y="1702"/>
                </a:lnTo>
                <a:lnTo>
                  <a:pt x="991" y="1702"/>
                </a:lnTo>
                <a:lnTo>
                  <a:pt x="983" y="1691"/>
                </a:lnTo>
                <a:lnTo>
                  <a:pt x="968" y="1670"/>
                </a:lnTo>
                <a:lnTo>
                  <a:pt x="953" y="1634"/>
                </a:lnTo>
                <a:lnTo>
                  <a:pt x="949" y="1609"/>
                </a:lnTo>
                <a:lnTo>
                  <a:pt x="938" y="1585"/>
                </a:lnTo>
                <a:lnTo>
                  <a:pt x="914" y="1578"/>
                </a:lnTo>
                <a:lnTo>
                  <a:pt x="889" y="1578"/>
                </a:lnTo>
                <a:lnTo>
                  <a:pt x="852" y="1585"/>
                </a:lnTo>
                <a:lnTo>
                  <a:pt x="819" y="1588"/>
                </a:lnTo>
                <a:lnTo>
                  <a:pt x="798" y="1610"/>
                </a:lnTo>
                <a:lnTo>
                  <a:pt x="786" y="1629"/>
                </a:lnTo>
                <a:lnTo>
                  <a:pt x="763" y="1632"/>
                </a:lnTo>
                <a:lnTo>
                  <a:pt x="732" y="1629"/>
                </a:lnTo>
                <a:lnTo>
                  <a:pt x="715" y="1611"/>
                </a:lnTo>
                <a:lnTo>
                  <a:pt x="706" y="1584"/>
                </a:lnTo>
                <a:lnTo>
                  <a:pt x="700" y="1560"/>
                </a:lnTo>
                <a:lnTo>
                  <a:pt x="676" y="1544"/>
                </a:lnTo>
                <a:lnTo>
                  <a:pt x="664" y="1549"/>
                </a:lnTo>
                <a:lnTo>
                  <a:pt x="642" y="1560"/>
                </a:lnTo>
                <a:lnTo>
                  <a:pt x="614" y="1570"/>
                </a:lnTo>
                <a:lnTo>
                  <a:pt x="592" y="1580"/>
                </a:lnTo>
                <a:lnTo>
                  <a:pt x="565" y="1591"/>
                </a:lnTo>
                <a:lnTo>
                  <a:pt x="530" y="1604"/>
                </a:lnTo>
                <a:lnTo>
                  <a:pt x="505" y="1616"/>
                </a:lnTo>
                <a:lnTo>
                  <a:pt x="470" y="1640"/>
                </a:lnTo>
                <a:lnTo>
                  <a:pt x="434" y="1664"/>
                </a:lnTo>
                <a:lnTo>
                  <a:pt x="393" y="1692"/>
                </a:lnTo>
                <a:lnTo>
                  <a:pt x="365" y="1711"/>
                </a:lnTo>
                <a:lnTo>
                  <a:pt x="340" y="1747"/>
                </a:lnTo>
                <a:lnTo>
                  <a:pt x="321" y="1790"/>
                </a:lnTo>
                <a:lnTo>
                  <a:pt x="313" y="1823"/>
                </a:lnTo>
                <a:lnTo>
                  <a:pt x="300" y="1860"/>
                </a:lnTo>
                <a:lnTo>
                  <a:pt x="289" y="1899"/>
                </a:lnTo>
                <a:lnTo>
                  <a:pt x="288" y="1929"/>
                </a:lnTo>
                <a:lnTo>
                  <a:pt x="281" y="1965"/>
                </a:lnTo>
                <a:lnTo>
                  <a:pt x="275" y="2002"/>
                </a:lnTo>
                <a:lnTo>
                  <a:pt x="276" y="2034"/>
                </a:lnTo>
                <a:lnTo>
                  <a:pt x="286" y="2061"/>
                </a:lnTo>
                <a:lnTo>
                  <a:pt x="310" y="2084"/>
                </a:lnTo>
                <a:lnTo>
                  <a:pt x="314" y="2104"/>
                </a:lnTo>
                <a:lnTo>
                  <a:pt x="312" y="2130"/>
                </a:lnTo>
                <a:lnTo>
                  <a:pt x="301" y="2173"/>
                </a:lnTo>
                <a:lnTo>
                  <a:pt x="289" y="2216"/>
                </a:lnTo>
                <a:lnTo>
                  <a:pt x="295" y="2253"/>
                </a:lnTo>
                <a:lnTo>
                  <a:pt x="306" y="2290"/>
                </a:lnTo>
                <a:lnTo>
                  <a:pt x="324" y="2316"/>
                </a:lnTo>
                <a:lnTo>
                  <a:pt x="350" y="2323"/>
                </a:lnTo>
                <a:lnTo>
                  <a:pt x="382" y="2330"/>
                </a:lnTo>
                <a:lnTo>
                  <a:pt x="406" y="2345"/>
                </a:lnTo>
                <a:lnTo>
                  <a:pt x="423" y="2369"/>
                </a:lnTo>
                <a:lnTo>
                  <a:pt x="438" y="2394"/>
                </a:lnTo>
                <a:lnTo>
                  <a:pt x="444" y="2448"/>
                </a:lnTo>
                <a:close/>
                <a:moveTo>
                  <a:pt x="1053" y="1412"/>
                </a:moveTo>
                <a:lnTo>
                  <a:pt x="1050" y="1418"/>
                </a:lnTo>
                <a:lnTo>
                  <a:pt x="1059" y="1432"/>
                </a:lnTo>
                <a:lnTo>
                  <a:pt x="1071" y="1445"/>
                </a:lnTo>
                <a:lnTo>
                  <a:pt x="1080" y="1461"/>
                </a:lnTo>
                <a:lnTo>
                  <a:pt x="1080" y="1478"/>
                </a:lnTo>
                <a:lnTo>
                  <a:pt x="1089" y="1486"/>
                </a:lnTo>
                <a:lnTo>
                  <a:pt x="1102" y="1481"/>
                </a:lnTo>
                <a:lnTo>
                  <a:pt x="1116" y="1463"/>
                </a:lnTo>
                <a:lnTo>
                  <a:pt x="1125" y="1462"/>
                </a:lnTo>
                <a:lnTo>
                  <a:pt x="1141" y="1462"/>
                </a:lnTo>
                <a:lnTo>
                  <a:pt x="1158" y="1457"/>
                </a:lnTo>
                <a:lnTo>
                  <a:pt x="1151" y="1444"/>
                </a:lnTo>
                <a:lnTo>
                  <a:pt x="1148" y="1433"/>
                </a:lnTo>
                <a:lnTo>
                  <a:pt x="1158" y="1415"/>
                </a:lnTo>
                <a:lnTo>
                  <a:pt x="1169" y="1404"/>
                </a:lnTo>
                <a:lnTo>
                  <a:pt x="1162" y="1396"/>
                </a:lnTo>
                <a:lnTo>
                  <a:pt x="1147" y="1390"/>
                </a:lnTo>
                <a:lnTo>
                  <a:pt x="1132" y="1389"/>
                </a:lnTo>
                <a:lnTo>
                  <a:pt x="1130" y="1380"/>
                </a:lnTo>
                <a:lnTo>
                  <a:pt x="1123" y="1380"/>
                </a:lnTo>
                <a:lnTo>
                  <a:pt x="1110" y="1386"/>
                </a:lnTo>
                <a:lnTo>
                  <a:pt x="1091" y="1390"/>
                </a:lnTo>
                <a:lnTo>
                  <a:pt x="1072" y="1395"/>
                </a:lnTo>
                <a:lnTo>
                  <a:pt x="1053" y="1412"/>
                </a:lnTo>
                <a:close/>
                <a:moveTo>
                  <a:pt x="553" y="1299"/>
                </a:moveTo>
                <a:lnTo>
                  <a:pt x="556" y="1316"/>
                </a:lnTo>
                <a:lnTo>
                  <a:pt x="564" y="1329"/>
                </a:lnTo>
                <a:lnTo>
                  <a:pt x="563" y="1352"/>
                </a:lnTo>
                <a:lnTo>
                  <a:pt x="554" y="1369"/>
                </a:lnTo>
                <a:lnTo>
                  <a:pt x="575" y="1379"/>
                </a:lnTo>
                <a:lnTo>
                  <a:pt x="588" y="1382"/>
                </a:lnTo>
                <a:lnTo>
                  <a:pt x="616" y="1384"/>
                </a:lnTo>
                <a:lnTo>
                  <a:pt x="643" y="1385"/>
                </a:lnTo>
                <a:lnTo>
                  <a:pt x="657" y="1377"/>
                </a:lnTo>
                <a:lnTo>
                  <a:pt x="665" y="1358"/>
                </a:lnTo>
                <a:lnTo>
                  <a:pt x="670" y="1343"/>
                </a:lnTo>
                <a:lnTo>
                  <a:pt x="672" y="1326"/>
                </a:lnTo>
                <a:lnTo>
                  <a:pt x="683" y="1321"/>
                </a:lnTo>
                <a:lnTo>
                  <a:pt x="682" y="1311"/>
                </a:lnTo>
                <a:lnTo>
                  <a:pt x="675" y="1302"/>
                </a:lnTo>
                <a:lnTo>
                  <a:pt x="667" y="1298"/>
                </a:lnTo>
                <a:lnTo>
                  <a:pt x="646" y="1281"/>
                </a:lnTo>
                <a:lnTo>
                  <a:pt x="640" y="1267"/>
                </a:lnTo>
                <a:lnTo>
                  <a:pt x="629" y="1248"/>
                </a:lnTo>
                <a:lnTo>
                  <a:pt x="625" y="1245"/>
                </a:lnTo>
                <a:lnTo>
                  <a:pt x="607" y="1265"/>
                </a:lnTo>
                <a:lnTo>
                  <a:pt x="600" y="1281"/>
                </a:lnTo>
                <a:lnTo>
                  <a:pt x="588" y="1283"/>
                </a:lnTo>
                <a:lnTo>
                  <a:pt x="568" y="1273"/>
                </a:lnTo>
                <a:lnTo>
                  <a:pt x="551" y="1286"/>
                </a:lnTo>
                <a:lnTo>
                  <a:pt x="553" y="1299"/>
                </a:lnTo>
                <a:close/>
                <a:moveTo>
                  <a:pt x="439" y="1004"/>
                </a:moveTo>
                <a:lnTo>
                  <a:pt x="444" y="1010"/>
                </a:lnTo>
                <a:lnTo>
                  <a:pt x="447" y="1021"/>
                </a:lnTo>
                <a:lnTo>
                  <a:pt x="447" y="1037"/>
                </a:lnTo>
                <a:lnTo>
                  <a:pt x="458" y="1042"/>
                </a:lnTo>
                <a:lnTo>
                  <a:pt x="477" y="1043"/>
                </a:lnTo>
                <a:lnTo>
                  <a:pt x="499" y="1039"/>
                </a:lnTo>
                <a:lnTo>
                  <a:pt x="499" y="1033"/>
                </a:lnTo>
                <a:lnTo>
                  <a:pt x="518" y="1016"/>
                </a:lnTo>
                <a:lnTo>
                  <a:pt x="519" y="1008"/>
                </a:lnTo>
                <a:lnTo>
                  <a:pt x="505" y="996"/>
                </a:lnTo>
                <a:lnTo>
                  <a:pt x="491" y="993"/>
                </a:lnTo>
                <a:lnTo>
                  <a:pt x="486" y="984"/>
                </a:lnTo>
                <a:lnTo>
                  <a:pt x="482" y="978"/>
                </a:lnTo>
                <a:lnTo>
                  <a:pt x="472" y="981"/>
                </a:lnTo>
                <a:lnTo>
                  <a:pt x="458" y="988"/>
                </a:lnTo>
                <a:lnTo>
                  <a:pt x="442" y="981"/>
                </a:lnTo>
                <a:lnTo>
                  <a:pt x="436" y="988"/>
                </a:lnTo>
                <a:lnTo>
                  <a:pt x="439" y="10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1120" y="3679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5880" y="4579920"/>
            <a:ext cx="527040" cy="557280"/>
          </a:xfrm>
          <a:custGeom>
            <a:avLst/>
            <a:gdLst/>
            <a:ahLst/>
            <a:rect l="l" t="t" r="r" b="b"/>
            <a:pathLst>
              <a:path w="332" h="351">
                <a:moveTo>
                  <a:pt x="304" y="0"/>
                </a:moveTo>
                <a:lnTo>
                  <a:pt x="321" y="4"/>
                </a:lnTo>
                <a:lnTo>
                  <a:pt x="327" y="25"/>
                </a:lnTo>
                <a:lnTo>
                  <a:pt x="328" y="48"/>
                </a:lnTo>
                <a:lnTo>
                  <a:pt x="326" y="75"/>
                </a:lnTo>
                <a:lnTo>
                  <a:pt x="319" y="108"/>
                </a:lnTo>
                <a:lnTo>
                  <a:pt x="316" y="138"/>
                </a:lnTo>
                <a:lnTo>
                  <a:pt x="318" y="172"/>
                </a:lnTo>
                <a:lnTo>
                  <a:pt x="328" y="202"/>
                </a:lnTo>
                <a:lnTo>
                  <a:pt x="331" y="241"/>
                </a:lnTo>
                <a:lnTo>
                  <a:pt x="332" y="277"/>
                </a:lnTo>
                <a:lnTo>
                  <a:pt x="328" y="319"/>
                </a:lnTo>
                <a:lnTo>
                  <a:pt x="308" y="341"/>
                </a:lnTo>
                <a:lnTo>
                  <a:pt x="278" y="350"/>
                </a:lnTo>
                <a:lnTo>
                  <a:pt x="249" y="351"/>
                </a:lnTo>
                <a:lnTo>
                  <a:pt x="221" y="347"/>
                </a:lnTo>
                <a:lnTo>
                  <a:pt x="184" y="342"/>
                </a:lnTo>
                <a:lnTo>
                  <a:pt x="156" y="341"/>
                </a:lnTo>
                <a:lnTo>
                  <a:pt x="114" y="342"/>
                </a:lnTo>
                <a:lnTo>
                  <a:pt x="82" y="338"/>
                </a:lnTo>
                <a:lnTo>
                  <a:pt x="43" y="324"/>
                </a:lnTo>
                <a:lnTo>
                  <a:pt x="16" y="303"/>
                </a:lnTo>
                <a:lnTo>
                  <a:pt x="8" y="273"/>
                </a:lnTo>
                <a:lnTo>
                  <a:pt x="9" y="243"/>
                </a:lnTo>
                <a:lnTo>
                  <a:pt x="3" y="210"/>
                </a:lnTo>
                <a:lnTo>
                  <a:pt x="0" y="179"/>
                </a:lnTo>
                <a:lnTo>
                  <a:pt x="34" y="164"/>
                </a:lnTo>
                <a:lnTo>
                  <a:pt x="60" y="162"/>
                </a:lnTo>
                <a:lnTo>
                  <a:pt x="98" y="164"/>
                </a:lnTo>
                <a:lnTo>
                  <a:pt x="138" y="157"/>
                </a:lnTo>
                <a:lnTo>
                  <a:pt x="171" y="138"/>
                </a:lnTo>
                <a:lnTo>
                  <a:pt x="175" y="128"/>
                </a:lnTo>
                <a:lnTo>
                  <a:pt x="188" y="106"/>
                </a:lnTo>
                <a:lnTo>
                  <a:pt x="215" y="79"/>
                </a:lnTo>
                <a:lnTo>
                  <a:pt x="240" y="66"/>
                </a:lnTo>
                <a:lnTo>
                  <a:pt x="270" y="54"/>
                </a:lnTo>
                <a:lnTo>
                  <a:pt x="293" y="40"/>
                </a:lnTo>
                <a:lnTo>
                  <a:pt x="302" y="20"/>
                </a:lnTo>
                <a:lnTo>
                  <a:pt x="304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9880" y="482904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920" y="4602240"/>
            <a:ext cx="728640" cy="1054080"/>
          </a:xfrm>
          <a:custGeom>
            <a:avLst/>
            <a:gdLst/>
            <a:ahLst/>
            <a:rect l="l" t="t" r="r" b="b"/>
            <a:pathLst>
              <a:path w="459" h="664">
                <a:moveTo>
                  <a:pt x="0" y="15"/>
                </a:moveTo>
                <a:lnTo>
                  <a:pt x="45" y="10"/>
                </a:lnTo>
                <a:lnTo>
                  <a:pt x="81" y="6"/>
                </a:lnTo>
                <a:lnTo>
                  <a:pt x="117" y="0"/>
                </a:lnTo>
                <a:lnTo>
                  <a:pt x="148" y="5"/>
                </a:lnTo>
                <a:lnTo>
                  <a:pt x="175" y="22"/>
                </a:lnTo>
                <a:lnTo>
                  <a:pt x="189" y="58"/>
                </a:lnTo>
                <a:lnTo>
                  <a:pt x="197" y="99"/>
                </a:lnTo>
                <a:lnTo>
                  <a:pt x="202" y="121"/>
                </a:lnTo>
                <a:lnTo>
                  <a:pt x="216" y="152"/>
                </a:lnTo>
                <a:lnTo>
                  <a:pt x="235" y="175"/>
                </a:lnTo>
                <a:lnTo>
                  <a:pt x="271" y="182"/>
                </a:lnTo>
                <a:lnTo>
                  <a:pt x="306" y="186"/>
                </a:lnTo>
                <a:lnTo>
                  <a:pt x="326" y="205"/>
                </a:lnTo>
                <a:lnTo>
                  <a:pt x="342" y="240"/>
                </a:lnTo>
                <a:lnTo>
                  <a:pt x="352" y="274"/>
                </a:lnTo>
                <a:lnTo>
                  <a:pt x="358" y="299"/>
                </a:lnTo>
                <a:lnTo>
                  <a:pt x="375" y="319"/>
                </a:lnTo>
                <a:lnTo>
                  <a:pt x="402" y="337"/>
                </a:lnTo>
                <a:lnTo>
                  <a:pt x="440" y="355"/>
                </a:lnTo>
                <a:lnTo>
                  <a:pt x="453" y="373"/>
                </a:lnTo>
                <a:lnTo>
                  <a:pt x="459" y="390"/>
                </a:lnTo>
                <a:lnTo>
                  <a:pt x="445" y="423"/>
                </a:lnTo>
                <a:lnTo>
                  <a:pt x="414" y="439"/>
                </a:lnTo>
                <a:lnTo>
                  <a:pt x="381" y="454"/>
                </a:lnTo>
                <a:lnTo>
                  <a:pt x="359" y="475"/>
                </a:lnTo>
                <a:lnTo>
                  <a:pt x="329" y="491"/>
                </a:lnTo>
                <a:lnTo>
                  <a:pt x="297" y="505"/>
                </a:lnTo>
                <a:lnTo>
                  <a:pt x="264" y="520"/>
                </a:lnTo>
                <a:lnTo>
                  <a:pt x="241" y="545"/>
                </a:lnTo>
                <a:lnTo>
                  <a:pt x="229" y="562"/>
                </a:lnTo>
                <a:lnTo>
                  <a:pt x="213" y="585"/>
                </a:lnTo>
                <a:lnTo>
                  <a:pt x="205" y="597"/>
                </a:lnTo>
                <a:lnTo>
                  <a:pt x="190" y="622"/>
                </a:lnTo>
                <a:lnTo>
                  <a:pt x="181" y="664"/>
                </a:lnTo>
                <a:lnTo>
                  <a:pt x="1" y="664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3680" y="509904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2160" y="4341960"/>
            <a:ext cx="615960" cy="776160"/>
          </a:xfrm>
          <a:custGeom>
            <a:avLst/>
            <a:gdLst/>
            <a:ahLst/>
            <a:rect l="l" t="t" r="r" b="b"/>
            <a:pathLst>
              <a:path w="388" h="489">
                <a:moveTo>
                  <a:pt x="388" y="460"/>
                </a:moveTo>
                <a:lnTo>
                  <a:pt x="323" y="464"/>
                </a:lnTo>
                <a:lnTo>
                  <a:pt x="304" y="462"/>
                </a:lnTo>
                <a:lnTo>
                  <a:pt x="288" y="480"/>
                </a:lnTo>
                <a:lnTo>
                  <a:pt x="264" y="488"/>
                </a:lnTo>
                <a:lnTo>
                  <a:pt x="230" y="482"/>
                </a:lnTo>
                <a:lnTo>
                  <a:pt x="198" y="482"/>
                </a:lnTo>
                <a:lnTo>
                  <a:pt x="164" y="489"/>
                </a:lnTo>
                <a:lnTo>
                  <a:pt x="118" y="485"/>
                </a:lnTo>
                <a:lnTo>
                  <a:pt x="74" y="461"/>
                </a:lnTo>
                <a:lnTo>
                  <a:pt x="40" y="430"/>
                </a:lnTo>
                <a:lnTo>
                  <a:pt x="18" y="388"/>
                </a:lnTo>
                <a:lnTo>
                  <a:pt x="8" y="351"/>
                </a:lnTo>
                <a:lnTo>
                  <a:pt x="4" y="318"/>
                </a:lnTo>
                <a:lnTo>
                  <a:pt x="0" y="287"/>
                </a:lnTo>
                <a:lnTo>
                  <a:pt x="8" y="247"/>
                </a:lnTo>
                <a:lnTo>
                  <a:pt x="32" y="213"/>
                </a:lnTo>
                <a:lnTo>
                  <a:pt x="65" y="187"/>
                </a:lnTo>
                <a:lnTo>
                  <a:pt x="114" y="160"/>
                </a:lnTo>
                <a:lnTo>
                  <a:pt x="140" y="131"/>
                </a:lnTo>
                <a:lnTo>
                  <a:pt x="161" y="93"/>
                </a:lnTo>
                <a:lnTo>
                  <a:pt x="168" y="61"/>
                </a:lnTo>
                <a:lnTo>
                  <a:pt x="193" y="35"/>
                </a:lnTo>
                <a:lnTo>
                  <a:pt x="219" y="20"/>
                </a:lnTo>
                <a:lnTo>
                  <a:pt x="265" y="0"/>
                </a:lnTo>
                <a:lnTo>
                  <a:pt x="300" y="2"/>
                </a:lnTo>
                <a:lnTo>
                  <a:pt x="327" y="6"/>
                </a:lnTo>
                <a:lnTo>
                  <a:pt x="388" y="7"/>
                </a:lnTo>
                <a:lnTo>
                  <a:pt x="388" y="4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1600" y="470052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6480" y="3819600"/>
            <a:ext cx="758880" cy="752400"/>
          </a:xfrm>
          <a:custGeom>
            <a:avLst/>
            <a:gdLst/>
            <a:ahLst/>
            <a:rect l="l" t="t" r="r" b="b"/>
            <a:pathLst>
              <a:path w="478" h="474">
                <a:moveTo>
                  <a:pt x="427" y="474"/>
                </a:moveTo>
                <a:lnTo>
                  <a:pt x="401" y="474"/>
                </a:lnTo>
                <a:lnTo>
                  <a:pt x="377" y="456"/>
                </a:lnTo>
                <a:lnTo>
                  <a:pt x="358" y="429"/>
                </a:lnTo>
                <a:lnTo>
                  <a:pt x="348" y="402"/>
                </a:lnTo>
                <a:lnTo>
                  <a:pt x="337" y="374"/>
                </a:lnTo>
                <a:lnTo>
                  <a:pt x="324" y="348"/>
                </a:lnTo>
                <a:lnTo>
                  <a:pt x="300" y="341"/>
                </a:lnTo>
                <a:lnTo>
                  <a:pt x="271" y="330"/>
                </a:lnTo>
                <a:lnTo>
                  <a:pt x="245" y="322"/>
                </a:lnTo>
                <a:lnTo>
                  <a:pt x="221" y="317"/>
                </a:lnTo>
                <a:lnTo>
                  <a:pt x="179" y="322"/>
                </a:lnTo>
                <a:lnTo>
                  <a:pt x="124" y="321"/>
                </a:lnTo>
                <a:lnTo>
                  <a:pt x="90" y="314"/>
                </a:lnTo>
                <a:lnTo>
                  <a:pt x="45" y="295"/>
                </a:lnTo>
                <a:lnTo>
                  <a:pt x="32" y="280"/>
                </a:lnTo>
                <a:lnTo>
                  <a:pt x="10" y="246"/>
                </a:lnTo>
                <a:lnTo>
                  <a:pt x="0" y="232"/>
                </a:lnTo>
                <a:lnTo>
                  <a:pt x="1" y="182"/>
                </a:lnTo>
                <a:lnTo>
                  <a:pt x="14" y="148"/>
                </a:lnTo>
                <a:lnTo>
                  <a:pt x="14" y="126"/>
                </a:lnTo>
                <a:lnTo>
                  <a:pt x="15" y="95"/>
                </a:lnTo>
                <a:lnTo>
                  <a:pt x="36" y="49"/>
                </a:lnTo>
                <a:lnTo>
                  <a:pt x="59" y="24"/>
                </a:lnTo>
                <a:lnTo>
                  <a:pt x="98" y="6"/>
                </a:lnTo>
                <a:lnTo>
                  <a:pt x="137" y="0"/>
                </a:lnTo>
                <a:lnTo>
                  <a:pt x="179" y="0"/>
                </a:lnTo>
                <a:lnTo>
                  <a:pt x="213" y="3"/>
                </a:lnTo>
                <a:lnTo>
                  <a:pt x="242" y="13"/>
                </a:lnTo>
                <a:lnTo>
                  <a:pt x="288" y="27"/>
                </a:lnTo>
                <a:lnTo>
                  <a:pt x="312" y="50"/>
                </a:lnTo>
                <a:lnTo>
                  <a:pt x="313" y="66"/>
                </a:lnTo>
                <a:lnTo>
                  <a:pt x="321" y="103"/>
                </a:lnTo>
                <a:lnTo>
                  <a:pt x="327" y="140"/>
                </a:lnTo>
                <a:lnTo>
                  <a:pt x="335" y="171"/>
                </a:lnTo>
                <a:lnTo>
                  <a:pt x="335" y="199"/>
                </a:lnTo>
                <a:lnTo>
                  <a:pt x="337" y="237"/>
                </a:lnTo>
                <a:lnTo>
                  <a:pt x="369" y="273"/>
                </a:lnTo>
                <a:lnTo>
                  <a:pt x="397" y="298"/>
                </a:lnTo>
                <a:lnTo>
                  <a:pt x="430" y="319"/>
                </a:lnTo>
                <a:lnTo>
                  <a:pt x="464" y="350"/>
                </a:lnTo>
                <a:lnTo>
                  <a:pt x="478" y="385"/>
                </a:lnTo>
                <a:lnTo>
                  <a:pt x="475" y="429"/>
                </a:lnTo>
                <a:lnTo>
                  <a:pt x="457" y="461"/>
                </a:lnTo>
                <a:lnTo>
                  <a:pt x="427" y="47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1800" y="4165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1800" y="2787480"/>
            <a:ext cx="1538280" cy="1309680"/>
          </a:xfrm>
          <a:custGeom>
            <a:avLst/>
            <a:gdLst/>
            <a:ahLst/>
            <a:rect l="l" t="t" r="r" b="b"/>
            <a:pathLst>
              <a:path w="969" h="825">
                <a:moveTo>
                  <a:pt x="662" y="0"/>
                </a:moveTo>
                <a:lnTo>
                  <a:pt x="698" y="10"/>
                </a:lnTo>
                <a:lnTo>
                  <a:pt x="732" y="29"/>
                </a:lnTo>
                <a:lnTo>
                  <a:pt x="753" y="50"/>
                </a:lnTo>
                <a:lnTo>
                  <a:pt x="769" y="76"/>
                </a:lnTo>
                <a:lnTo>
                  <a:pt x="785" y="97"/>
                </a:lnTo>
                <a:lnTo>
                  <a:pt x="803" y="116"/>
                </a:lnTo>
                <a:lnTo>
                  <a:pt x="817" y="143"/>
                </a:lnTo>
                <a:lnTo>
                  <a:pt x="838" y="171"/>
                </a:lnTo>
                <a:lnTo>
                  <a:pt x="878" y="186"/>
                </a:lnTo>
                <a:lnTo>
                  <a:pt x="909" y="191"/>
                </a:lnTo>
                <a:lnTo>
                  <a:pt x="936" y="179"/>
                </a:lnTo>
                <a:lnTo>
                  <a:pt x="949" y="169"/>
                </a:lnTo>
                <a:lnTo>
                  <a:pt x="969" y="138"/>
                </a:lnTo>
                <a:lnTo>
                  <a:pt x="965" y="167"/>
                </a:lnTo>
                <a:lnTo>
                  <a:pt x="965" y="198"/>
                </a:lnTo>
                <a:lnTo>
                  <a:pt x="960" y="231"/>
                </a:lnTo>
                <a:lnTo>
                  <a:pt x="948" y="265"/>
                </a:lnTo>
                <a:lnTo>
                  <a:pt x="933" y="290"/>
                </a:lnTo>
                <a:lnTo>
                  <a:pt x="897" y="316"/>
                </a:lnTo>
                <a:lnTo>
                  <a:pt x="861" y="324"/>
                </a:lnTo>
                <a:lnTo>
                  <a:pt x="817" y="333"/>
                </a:lnTo>
                <a:lnTo>
                  <a:pt x="779" y="339"/>
                </a:lnTo>
                <a:lnTo>
                  <a:pt x="738" y="353"/>
                </a:lnTo>
                <a:lnTo>
                  <a:pt x="694" y="371"/>
                </a:lnTo>
                <a:lnTo>
                  <a:pt x="670" y="382"/>
                </a:lnTo>
                <a:lnTo>
                  <a:pt x="654" y="407"/>
                </a:lnTo>
                <a:lnTo>
                  <a:pt x="647" y="440"/>
                </a:lnTo>
                <a:lnTo>
                  <a:pt x="658" y="469"/>
                </a:lnTo>
                <a:lnTo>
                  <a:pt x="702" y="495"/>
                </a:lnTo>
                <a:lnTo>
                  <a:pt x="730" y="505"/>
                </a:lnTo>
                <a:lnTo>
                  <a:pt x="757" y="519"/>
                </a:lnTo>
                <a:lnTo>
                  <a:pt x="773" y="536"/>
                </a:lnTo>
                <a:lnTo>
                  <a:pt x="773" y="558"/>
                </a:lnTo>
                <a:lnTo>
                  <a:pt x="753" y="588"/>
                </a:lnTo>
                <a:lnTo>
                  <a:pt x="728" y="613"/>
                </a:lnTo>
                <a:lnTo>
                  <a:pt x="704" y="635"/>
                </a:lnTo>
                <a:lnTo>
                  <a:pt x="682" y="656"/>
                </a:lnTo>
                <a:lnTo>
                  <a:pt x="661" y="684"/>
                </a:lnTo>
                <a:lnTo>
                  <a:pt x="632" y="716"/>
                </a:lnTo>
                <a:lnTo>
                  <a:pt x="601" y="747"/>
                </a:lnTo>
                <a:lnTo>
                  <a:pt x="565" y="766"/>
                </a:lnTo>
                <a:lnTo>
                  <a:pt x="527" y="782"/>
                </a:lnTo>
                <a:lnTo>
                  <a:pt x="491" y="795"/>
                </a:lnTo>
                <a:lnTo>
                  <a:pt x="452" y="815"/>
                </a:lnTo>
                <a:lnTo>
                  <a:pt x="422" y="825"/>
                </a:lnTo>
                <a:lnTo>
                  <a:pt x="381" y="821"/>
                </a:lnTo>
                <a:lnTo>
                  <a:pt x="352" y="811"/>
                </a:lnTo>
                <a:lnTo>
                  <a:pt x="330" y="790"/>
                </a:lnTo>
                <a:lnTo>
                  <a:pt x="324" y="753"/>
                </a:lnTo>
                <a:lnTo>
                  <a:pt x="316" y="716"/>
                </a:lnTo>
                <a:lnTo>
                  <a:pt x="315" y="700"/>
                </a:lnTo>
                <a:lnTo>
                  <a:pt x="315" y="684"/>
                </a:lnTo>
                <a:lnTo>
                  <a:pt x="318" y="641"/>
                </a:lnTo>
                <a:lnTo>
                  <a:pt x="300" y="609"/>
                </a:lnTo>
                <a:lnTo>
                  <a:pt x="261" y="582"/>
                </a:lnTo>
                <a:lnTo>
                  <a:pt x="220" y="576"/>
                </a:lnTo>
                <a:lnTo>
                  <a:pt x="185" y="575"/>
                </a:lnTo>
                <a:lnTo>
                  <a:pt x="143" y="576"/>
                </a:lnTo>
                <a:lnTo>
                  <a:pt x="98" y="576"/>
                </a:lnTo>
                <a:lnTo>
                  <a:pt x="54" y="573"/>
                </a:lnTo>
                <a:lnTo>
                  <a:pt x="19" y="560"/>
                </a:lnTo>
                <a:lnTo>
                  <a:pt x="6" y="534"/>
                </a:lnTo>
                <a:lnTo>
                  <a:pt x="0" y="514"/>
                </a:lnTo>
                <a:lnTo>
                  <a:pt x="16" y="484"/>
                </a:lnTo>
                <a:lnTo>
                  <a:pt x="42" y="497"/>
                </a:lnTo>
                <a:lnTo>
                  <a:pt x="88" y="504"/>
                </a:lnTo>
                <a:lnTo>
                  <a:pt x="121" y="497"/>
                </a:lnTo>
                <a:lnTo>
                  <a:pt x="156" y="475"/>
                </a:lnTo>
                <a:lnTo>
                  <a:pt x="178" y="440"/>
                </a:lnTo>
                <a:lnTo>
                  <a:pt x="174" y="412"/>
                </a:lnTo>
                <a:lnTo>
                  <a:pt x="165" y="385"/>
                </a:lnTo>
                <a:lnTo>
                  <a:pt x="158" y="356"/>
                </a:lnTo>
                <a:lnTo>
                  <a:pt x="151" y="323"/>
                </a:lnTo>
                <a:lnTo>
                  <a:pt x="147" y="298"/>
                </a:lnTo>
                <a:lnTo>
                  <a:pt x="148" y="260"/>
                </a:lnTo>
                <a:lnTo>
                  <a:pt x="163" y="232"/>
                </a:lnTo>
                <a:lnTo>
                  <a:pt x="185" y="216"/>
                </a:lnTo>
                <a:lnTo>
                  <a:pt x="217" y="205"/>
                </a:lnTo>
                <a:lnTo>
                  <a:pt x="252" y="211"/>
                </a:lnTo>
                <a:lnTo>
                  <a:pt x="287" y="201"/>
                </a:lnTo>
                <a:lnTo>
                  <a:pt x="308" y="193"/>
                </a:lnTo>
                <a:lnTo>
                  <a:pt x="344" y="193"/>
                </a:lnTo>
                <a:lnTo>
                  <a:pt x="364" y="185"/>
                </a:lnTo>
                <a:lnTo>
                  <a:pt x="426" y="193"/>
                </a:lnTo>
                <a:lnTo>
                  <a:pt x="471" y="185"/>
                </a:lnTo>
                <a:lnTo>
                  <a:pt x="510" y="170"/>
                </a:lnTo>
                <a:lnTo>
                  <a:pt x="559" y="139"/>
                </a:lnTo>
                <a:lnTo>
                  <a:pt x="597" y="107"/>
                </a:lnTo>
                <a:lnTo>
                  <a:pt x="626" y="71"/>
                </a:lnTo>
                <a:lnTo>
                  <a:pt x="650" y="32"/>
                </a:lnTo>
                <a:lnTo>
                  <a:pt x="66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53040" y="34131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52640" y="2581200"/>
            <a:ext cx="504720" cy="509760"/>
          </a:xfrm>
          <a:custGeom>
            <a:avLst/>
            <a:gdLst/>
            <a:ahLst/>
            <a:rect l="l" t="t" r="r" b="b"/>
            <a:pathLst>
              <a:path w="318" h="321">
                <a:moveTo>
                  <a:pt x="307" y="268"/>
                </a:moveTo>
                <a:lnTo>
                  <a:pt x="287" y="299"/>
                </a:lnTo>
                <a:lnTo>
                  <a:pt x="274" y="309"/>
                </a:lnTo>
                <a:lnTo>
                  <a:pt x="247" y="321"/>
                </a:lnTo>
                <a:lnTo>
                  <a:pt x="216" y="316"/>
                </a:lnTo>
                <a:lnTo>
                  <a:pt x="176" y="301"/>
                </a:lnTo>
                <a:lnTo>
                  <a:pt x="155" y="273"/>
                </a:lnTo>
                <a:lnTo>
                  <a:pt x="141" y="246"/>
                </a:lnTo>
                <a:lnTo>
                  <a:pt x="123" y="227"/>
                </a:lnTo>
                <a:lnTo>
                  <a:pt x="107" y="206"/>
                </a:lnTo>
                <a:lnTo>
                  <a:pt x="91" y="180"/>
                </a:lnTo>
                <a:lnTo>
                  <a:pt x="70" y="159"/>
                </a:lnTo>
                <a:lnTo>
                  <a:pt x="36" y="140"/>
                </a:lnTo>
                <a:lnTo>
                  <a:pt x="0" y="130"/>
                </a:lnTo>
                <a:lnTo>
                  <a:pt x="3" y="100"/>
                </a:lnTo>
                <a:lnTo>
                  <a:pt x="26" y="52"/>
                </a:lnTo>
                <a:lnTo>
                  <a:pt x="50" y="28"/>
                </a:lnTo>
                <a:lnTo>
                  <a:pt x="89" y="18"/>
                </a:lnTo>
                <a:lnTo>
                  <a:pt x="133" y="9"/>
                </a:lnTo>
                <a:lnTo>
                  <a:pt x="182" y="0"/>
                </a:lnTo>
                <a:lnTo>
                  <a:pt x="222" y="5"/>
                </a:lnTo>
                <a:lnTo>
                  <a:pt x="249" y="14"/>
                </a:lnTo>
                <a:lnTo>
                  <a:pt x="282" y="49"/>
                </a:lnTo>
                <a:lnTo>
                  <a:pt x="290" y="75"/>
                </a:lnTo>
                <a:lnTo>
                  <a:pt x="295" y="109"/>
                </a:lnTo>
                <a:lnTo>
                  <a:pt x="306" y="150"/>
                </a:lnTo>
                <a:lnTo>
                  <a:pt x="312" y="192"/>
                </a:lnTo>
                <a:lnTo>
                  <a:pt x="310" y="222"/>
                </a:lnTo>
                <a:lnTo>
                  <a:pt x="308" y="238"/>
                </a:lnTo>
                <a:lnTo>
                  <a:pt x="318" y="260"/>
                </a:lnTo>
                <a:lnTo>
                  <a:pt x="307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8200" y="28065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51000" y="2187720"/>
            <a:ext cx="538200" cy="888840"/>
          </a:xfrm>
          <a:custGeom>
            <a:avLst/>
            <a:gdLst/>
            <a:ahLst/>
            <a:rect l="l" t="t" r="r" b="b"/>
            <a:pathLst>
              <a:path w="339" h="560">
                <a:moveTo>
                  <a:pt x="57" y="248"/>
                </a:moveTo>
                <a:lnTo>
                  <a:pt x="34" y="234"/>
                </a:lnTo>
                <a:lnTo>
                  <a:pt x="10" y="221"/>
                </a:lnTo>
                <a:lnTo>
                  <a:pt x="0" y="200"/>
                </a:lnTo>
                <a:lnTo>
                  <a:pt x="4" y="171"/>
                </a:lnTo>
                <a:lnTo>
                  <a:pt x="12" y="131"/>
                </a:lnTo>
                <a:lnTo>
                  <a:pt x="27" y="97"/>
                </a:lnTo>
                <a:lnTo>
                  <a:pt x="34" y="57"/>
                </a:lnTo>
                <a:lnTo>
                  <a:pt x="39" y="33"/>
                </a:lnTo>
                <a:lnTo>
                  <a:pt x="57" y="8"/>
                </a:lnTo>
                <a:lnTo>
                  <a:pt x="77" y="0"/>
                </a:lnTo>
                <a:lnTo>
                  <a:pt x="104" y="3"/>
                </a:lnTo>
                <a:lnTo>
                  <a:pt x="119" y="0"/>
                </a:lnTo>
                <a:lnTo>
                  <a:pt x="140" y="14"/>
                </a:lnTo>
                <a:lnTo>
                  <a:pt x="147" y="34"/>
                </a:lnTo>
                <a:lnTo>
                  <a:pt x="160" y="62"/>
                </a:lnTo>
                <a:lnTo>
                  <a:pt x="185" y="73"/>
                </a:lnTo>
                <a:lnTo>
                  <a:pt x="236" y="79"/>
                </a:lnTo>
                <a:lnTo>
                  <a:pt x="262" y="87"/>
                </a:lnTo>
                <a:lnTo>
                  <a:pt x="305" y="102"/>
                </a:lnTo>
                <a:lnTo>
                  <a:pt x="326" y="124"/>
                </a:lnTo>
                <a:lnTo>
                  <a:pt x="333" y="151"/>
                </a:lnTo>
                <a:lnTo>
                  <a:pt x="335" y="182"/>
                </a:lnTo>
                <a:lnTo>
                  <a:pt x="327" y="217"/>
                </a:lnTo>
                <a:lnTo>
                  <a:pt x="331" y="259"/>
                </a:lnTo>
                <a:lnTo>
                  <a:pt x="333" y="310"/>
                </a:lnTo>
                <a:lnTo>
                  <a:pt x="339" y="360"/>
                </a:lnTo>
                <a:lnTo>
                  <a:pt x="330" y="400"/>
                </a:lnTo>
                <a:lnTo>
                  <a:pt x="318" y="441"/>
                </a:lnTo>
                <a:lnTo>
                  <a:pt x="316" y="472"/>
                </a:lnTo>
                <a:lnTo>
                  <a:pt x="313" y="505"/>
                </a:lnTo>
                <a:lnTo>
                  <a:pt x="306" y="536"/>
                </a:lnTo>
                <a:lnTo>
                  <a:pt x="281" y="560"/>
                </a:lnTo>
                <a:lnTo>
                  <a:pt x="246" y="558"/>
                </a:lnTo>
                <a:lnTo>
                  <a:pt x="222" y="546"/>
                </a:lnTo>
                <a:lnTo>
                  <a:pt x="203" y="530"/>
                </a:lnTo>
                <a:lnTo>
                  <a:pt x="193" y="508"/>
                </a:lnTo>
                <a:lnTo>
                  <a:pt x="183" y="486"/>
                </a:lnTo>
                <a:lnTo>
                  <a:pt x="185" y="470"/>
                </a:lnTo>
                <a:lnTo>
                  <a:pt x="187" y="440"/>
                </a:lnTo>
                <a:lnTo>
                  <a:pt x="181" y="398"/>
                </a:lnTo>
                <a:lnTo>
                  <a:pt x="170" y="357"/>
                </a:lnTo>
                <a:lnTo>
                  <a:pt x="165" y="323"/>
                </a:lnTo>
                <a:lnTo>
                  <a:pt x="157" y="297"/>
                </a:lnTo>
                <a:lnTo>
                  <a:pt x="124" y="262"/>
                </a:lnTo>
                <a:lnTo>
                  <a:pt x="97" y="253"/>
                </a:lnTo>
                <a:lnTo>
                  <a:pt x="57" y="24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21440" y="260208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5600" y="2044800"/>
            <a:ext cx="1622520" cy="2819160"/>
          </a:xfrm>
          <a:custGeom>
            <a:avLst/>
            <a:gdLst/>
            <a:ahLst/>
            <a:rect l="l" t="t" r="r" b="b"/>
            <a:pathLst>
              <a:path w="1022" h="1776">
                <a:moveTo>
                  <a:pt x="1022" y="1054"/>
                </a:moveTo>
                <a:lnTo>
                  <a:pt x="959" y="1073"/>
                </a:lnTo>
                <a:lnTo>
                  <a:pt x="934" y="1096"/>
                </a:lnTo>
                <a:lnTo>
                  <a:pt x="905" y="1114"/>
                </a:lnTo>
                <a:lnTo>
                  <a:pt x="870" y="1116"/>
                </a:lnTo>
                <a:lnTo>
                  <a:pt x="840" y="1114"/>
                </a:lnTo>
                <a:lnTo>
                  <a:pt x="807" y="1115"/>
                </a:lnTo>
                <a:lnTo>
                  <a:pt x="763" y="1120"/>
                </a:lnTo>
                <a:lnTo>
                  <a:pt x="715" y="1126"/>
                </a:lnTo>
                <a:lnTo>
                  <a:pt x="667" y="1143"/>
                </a:lnTo>
                <a:lnTo>
                  <a:pt x="650" y="1177"/>
                </a:lnTo>
                <a:lnTo>
                  <a:pt x="633" y="1214"/>
                </a:lnTo>
                <a:lnTo>
                  <a:pt x="613" y="1255"/>
                </a:lnTo>
                <a:lnTo>
                  <a:pt x="582" y="1279"/>
                </a:lnTo>
                <a:lnTo>
                  <a:pt x="553" y="1295"/>
                </a:lnTo>
                <a:lnTo>
                  <a:pt x="511" y="1319"/>
                </a:lnTo>
                <a:lnTo>
                  <a:pt x="476" y="1357"/>
                </a:lnTo>
                <a:lnTo>
                  <a:pt x="458" y="1413"/>
                </a:lnTo>
                <a:lnTo>
                  <a:pt x="447" y="1469"/>
                </a:lnTo>
                <a:lnTo>
                  <a:pt x="446" y="1506"/>
                </a:lnTo>
                <a:lnTo>
                  <a:pt x="455" y="1557"/>
                </a:lnTo>
                <a:lnTo>
                  <a:pt x="468" y="1597"/>
                </a:lnTo>
                <a:lnTo>
                  <a:pt x="466" y="1617"/>
                </a:lnTo>
                <a:lnTo>
                  <a:pt x="457" y="1637"/>
                </a:lnTo>
                <a:lnTo>
                  <a:pt x="434" y="1651"/>
                </a:lnTo>
                <a:lnTo>
                  <a:pt x="404" y="1663"/>
                </a:lnTo>
                <a:lnTo>
                  <a:pt x="379" y="1676"/>
                </a:lnTo>
                <a:lnTo>
                  <a:pt x="352" y="1703"/>
                </a:lnTo>
                <a:lnTo>
                  <a:pt x="339" y="1725"/>
                </a:lnTo>
                <a:lnTo>
                  <a:pt x="335" y="1735"/>
                </a:lnTo>
                <a:lnTo>
                  <a:pt x="302" y="1754"/>
                </a:lnTo>
                <a:lnTo>
                  <a:pt x="262" y="1761"/>
                </a:lnTo>
                <a:lnTo>
                  <a:pt x="224" y="1759"/>
                </a:lnTo>
                <a:lnTo>
                  <a:pt x="198" y="1761"/>
                </a:lnTo>
                <a:lnTo>
                  <a:pt x="164" y="1776"/>
                </a:lnTo>
                <a:lnTo>
                  <a:pt x="158" y="1750"/>
                </a:lnTo>
                <a:lnTo>
                  <a:pt x="148" y="1718"/>
                </a:lnTo>
                <a:lnTo>
                  <a:pt x="144" y="1691"/>
                </a:lnTo>
                <a:lnTo>
                  <a:pt x="144" y="1659"/>
                </a:lnTo>
                <a:lnTo>
                  <a:pt x="139" y="1637"/>
                </a:lnTo>
                <a:lnTo>
                  <a:pt x="119" y="1618"/>
                </a:lnTo>
                <a:lnTo>
                  <a:pt x="100" y="1592"/>
                </a:lnTo>
                <a:lnTo>
                  <a:pt x="130" y="1579"/>
                </a:lnTo>
                <a:lnTo>
                  <a:pt x="148" y="1547"/>
                </a:lnTo>
                <a:lnTo>
                  <a:pt x="151" y="1503"/>
                </a:lnTo>
                <a:lnTo>
                  <a:pt x="137" y="1468"/>
                </a:lnTo>
                <a:lnTo>
                  <a:pt x="103" y="1437"/>
                </a:lnTo>
                <a:lnTo>
                  <a:pt x="70" y="1416"/>
                </a:lnTo>
                <a:lnTo>
                  <a:pt x="42" y="1391"/>
                </a:lnTo>
                <a:lnTo>
                  <a:pt x="10" y="1355"/>
                </a:lnTo>
                <a:lnTo>
                  <a:pt x="8" y="1317"/>
                </a:lnTo>
                <a:lnTo>
                  <a:pt x="8" y="1289"/>
                </a:lnTo>
                <a:lnTo>
                  <a:pt x="0" y="1258"/>
                </a:lnTo>
                <a:lnTo>
                  <a:pt x="22" y="1279"/>
                </a:lnTo>
                <a:lnTo>
                  <a:pt x="51" y="1289"/>
                </a:lnTo>
                <a:lnTo>
                  <a:pt x="92" y="1293"/>
                </a:lnTo>
                <a:lnTo>
                  <a:pt x="122" y="1283"/>
                </a:lnTo>
                <a:lnTo>
                  <a:pt x="161" y="1263"/>
                </a:lnTo>
                <a:lnTo>
                  <a:pt x="197" y="1250"/>
                </a:lnTo>
                <a:lnTo>
                  <a:pt x="235" y="1234"/>
                </a:lnTo>
                <a:lnTo>
                  <a:pt x="271" y="1215"/>
                </a:lnTo>
                <a:lnTo>
                  <a:pt x="302" y="1184"/>
                </a:lnTo>
                <a:lnTo>
                  <a:pt x="331" y="1152"/>
                </a:lnTo>
                <a:lnTo>
                  <a:pt x="352" y="1124"/>
                </a:lnTo>
                <a:lnTo>
                  <a:pt x="374" y="1103"/>
                </a:lnTo>
                <a:lnTo>
                  <a:pt x="398" y="1081"/>
                </a:lnTo>
                <a:lnTo>
                  <a:pt x="423" y="1056"/>
                </a:lnTo>
                <a:lnTo>
                  <a:pt x="443" y="1026"/>
                </a:lnTo>
                <a:lnTo>
                  <a:pt x="443" y="1004"/>
                </a:lnTo>
                <a:lnTo>
                  <a:pt x="427" y="987"/>
                </a:lnTo>
                <a:lnTo>
                  <a:pt x="400" y="973"/>
                </a:lnTo>
                <a:lnTo>
                  <a:pt x="372" y="963"/>
                </a:lnTo>
                <a:lnTo>
                  <a:pt x="328" y="937"/>
                </a:lnTo>
                <a:lnTo>
                  <a:pt x="317" y="908"/>
                </a:lnTo>
                <a:lnTo>
                  <a:pt x="324" y="875"/>
                </a:lnTo>
                <a:lnTo>
                  <a:pt x="340" y="850"/>
                </a:lnTo>
                <a:lnTo>
                  <a:pt x="364" y="839"/>
                </a:lnTo>
                <a:lnTo>
                  <a:pt x="408" y="821"/>
                </a:lnTo>
                <a:lnTo>
                  <a:pt x="449" y="807"/>
                </a:lnTo>
                <a:lnTo>
                  <a:pt x="487" y="801"/>
                </a:lnTo>
                <a:lnTo>
                  <a:pt x="531" y="792"/>
                </a:lnTo>
                <a:lnTo>
                  <a:pt x="567" y="784"/>
                </a:lnTo>
                <a:lnTo>
                  <a:pt x="603" y="758"/>
                </a:lnTo>
                <a:lnTo>
                  <a:pt x="618" y="733"/>
                </a:lnTo>
                <a:lnTo>
                  <a:pt x="630" y="699"/>
                </a:lnTo>
                <a:lnTo>
                  <a:pt x="635" y="666"/>
                </a:lnTo>
                <a:lnTo>
                  <a:pt x="635" y="635"/>
                </a:lnTo>
                <a:lnTo>
                  <a:pt x="639" y="606"/>
                </a:lnTo>
                <a:lnTo>
                  <a:pt x="650" y="598"/>
                </a:lnTo>
                <a:lnTo>
                  <a:pt x="660" y="620"/>
                </a:lnTo>
                <a:lnTo>
                  <a:pt x="679" y="636"/>
                </a:lnTo>
                <a:lnTo>
                  <a:pt x="703" y="648"/>
                </a:lnTo>
                <a:lnTo>
                  <a:pt x="738" y="650"/>
                </a:lnTo>
                <a:lnTo>
                  <a:pt x="763" y="626"/>
                </a:lnTo>
                <a:lnTo>
                  <a:pt x="770" y="595"/>
                </a:lnTo>
                <a:lnTo>
                  <a:pt x="773" y="562"/>
                </a:lnTo>
                <a:lnTo>
                  <a:pt x="775" y="531"/>
                </a:lnTo>
                <a:lnTo>
                  <a:pt x="787" y="490"/>
                </a:lnTo>
                <a:lnTo>
                  <a:pt x="796" y="450"/>
                </a:lnTo>
                <a:lnTo>
                  <a:pt x="790" y="400"/>
                </a:lnTo>
                <a:lnTo>
                  <a:pt x="788" y="349"/>
                </a:lnTo>
                <a:lnTo>
                  <a:pt x="784" y="307"/>
                </a:lnTo>
                <a:lnTo>
                  <a:pt x="792" y="272"/>
                </a:lnTo>
                <a:lnTo>
                  <a:pt x="790" y="241"/>
                </a:lnTo>
                <a:lnTo>
                  <a:pt x="783" y="214"/>
                </a:lnTo>
                <a:lnTo>
                  <a:pt x="762" y="192"/>
                </a:lnTo>
                <a:lnTo>
                  <a:pt x="719" y="177"/>
                </a:lnTo>
                <a:lnTo>
                  <a:pt x="693" y="169"/>
                </a:lnTo>
                <a:lnTo>
                  <a:pt x="642" y="163"/>
                </a:lnTo>
                <a:lnTo>
                  <a:pt x="617" y="152"/>
                </a:lnTo>
                <a:lnTo>
                  <a:pt x="604" y="124"/>
                </a:lnTo>
                <a:lnTo>
                  <a:pt x="597" y="104"/>
                </a:lnTo>
                <a:lnTo>
                  <a:pt x="576" y="90"/>
                </a:lnTo>
                <a:lnTo>
                  <a:pt x="591" y="88"/>
                </a:lnTo>
                <a:lnTo>
                  <a:pt x="619" y="69"/>
                </a:lnTo>
                <a:lnTo>
                  <a:pt x="645" y="51"/>
                </a:lnTo>
                <a:lnTo>
                  <a:pt x="676" y="32"/>
                </a:lnTo>
                <a:lnTo>
                  <a:pt x="709" y="25"/>
                </a:lnTo>
                <a:lnTo>
                  <a:pt x="756" y="26"/>
                </a:lnTo>
                <a:lnTo>
                  <a:pt x="791" y="29"/>
                </a:lnTo>
                <a:lnTo>
                  <a:pt x="824" y="27"/>
                </a:lnTo>
                <a:lnTo>
                  <a:pt x="858" y="24"/>
                </a:lnTo>
                <a:lnTo>
                  <a:pt x="880" y="25"/>
                </a:lnTo>
                <a:lnTo>
                  <a:pt x="912" y="30"/>
                </a:lnTo>
                <a:lnTo>
                  <a:pt x="930" y="26"/>
                </a:lnTo>
                <a:lnTo>
                  <a:pt x="960" y="13"/>
                </a:lnTo>
                <a:lnTo>
                  <a:pt x="1005" y="5"/>
                </a:lnTo>
                <a:lnTo>
                  <a:pt x="1022" y="0"/>
                </a:lnTo>
                <a:lnTo>
                  <a:pt x="1022" y="105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86520" y="342576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440" y="2055960"/>
            <a:ext cx="1623960" cy="1531800"/>
          </a:xfrm>
          <a:custGeom>
            <a:avLst/>
            <a:gdLst/>
            <a:ahLst/>
            <a:rect l="l" t="t" r="r" b="b"/>
            <a:pathLst>
              <a:path w="1023" h="965">
                <a:moveTo>
                  <a:pt x="1003" y="331"/>
                </a:moveTo>
                <a:lnTo>
                  <a:pt x="954" y="340"/>
                </a:lnTo>
                <a:lnTo>
                  <a:pt x="910" y="349"/>
                </a:lnTo>
                <a:lnTo>
                  <a:pt x="871" y="359"/>
                </a:lnTo>
                <a:lnTo>
                  <a:pt x="847" y="383"/>
                </a:lnTo>
                <a:lnTo>
                  <a:pt x="824" y="431"/>
                </a:lnTo>
                <a:lnTo>
                  <a:pt x="821" y="461"/>
                </a:lnTo>
                <a:lnTo>
                  <a:pt x="809" y="493"/>
                </a:lnTo>
                <a:lnTo>
                  <a:pt x="785" y="532"/>
                </a:lnTo>
                <a:lnTo>
                  <a:pt x="756" y="568"/>
                </a:lnTo>
                <a:lnTo>
                  <a:pt x="718" y="600"/>
                </a:lnTo>
                <a:lnTo>
                  <a:pt x="669" y="631"/>
                </a:lnTo>
                <a:lnTo>
                  <a:pt x="630" y="646"/>
                </a:lnTo>
                <a:lnTo>
                  <a:pt x="585" y="654"/>
                </a:lnTo>
                <a:lnTo>
                  <a:pt x="523" y="646"/>
                </a:lnTo>
                <a:lnTo>
                  <a:pt x="503" y="654"/>
                </a:lnTo>
                <a:lnTo>
                  <a:pt x="467" y="654"/>
                </a:lnTo>
                <a:lnTo>
                  <a:pt x="446" y="662"/>
                </a:lnTo>
                <a:lnTo>
                  <a:pt x="411" y="672"/>
                </a:lnTo>
                <a:lnTo>
                  <a:pt x="376" y="666"/>
                </a:lnTo>
                <a:lnTo>
                  <a:pt x="344" y="677"/>
                </a:lnTo>
                <a:lnTo>
                  <a:pt x="322" y="693"/>
                </a:lnTo>
                <a:lnTo>
                  <a:pt x="307" y="721"/>
                </a:lnTo>
                <a:lnTo>
                  <a:pt x="306" y="759"/>
                </a:lnTo>
                <a:lnTo>
                  <a:pt x="310" y="784"/>
                </a:lnTo>
                <a:lnTo>
                  <a:pt x="317" y="817"/>
                </a:lnTo>
                <a:lnTo>
                  <a:pt x="324" y="846"/>
                </a:lnTo>
                <a:lnTo>
                  <a:pt x="333" y="873"/>
                </a:lnTo>
                <a:lnTo>
                  <a:pt x="337" y="901"/>
                </a:lnTo>
                <a:lnTo>
                  <a:pt x="315" y="936"/>
                </a:lnTo>
                <a:lnTo>
                  <a:pt x="280" y="958"/>
                </a:lnTo>
                <a:lnTo>
                  <a:pt x="247" y="965"/>
                </a:lnTo>
                <a:lnTo>
                  <a:pt x="201" y="958"/>
                </a:lnTo>
                <a:lnTo>
                  <a:pt x="175" y="945"/>
                </a:lnTo>
                <a:lnTo>
                  <a:pt x="158" y="912"/>
                </a:lnTo>
                <a:lnTo>
                  <a:pt x="148" y="862"/>
                </a:lnTo>
                <a:lnTo>
                  <a:pt x="135" y="840"/>
                </a:lnTo>
                <a:lnTo>
                  <a:pt x="105" y="813"/>
                </a:lnTo>
                <a:lnTo>
                  <a:pt x="64" y="786"/>
                </a:lnTo>
                <a:lnTo>
                  <a:pt x="35" y="767"/>
                </a:lnTo>
                <a:lnTo>
                  <a:pt x="13" y="733"/>
                </a:lnTo>
                <a:lnTo>
                  <a:pt x="7" y="687"/>
                </a:lnTo>
                <a:lnTo>
                  <a:pt x="16" y="646"/>
                </a:lnTo>
                <a:lnTo>
                  <a:pt x="21" y="604"/>
                </a:lnTo>
                <a:lnTo>
                  <a:pt x="22" y="558"/>
                </a:lnTo>
                <a:lnTo>
                  <a:pt x="3" y="519"/>
                </a:lnTo>
                <a:lnTo>
                  <a:pt x="0" y="467"/>
                </a:lnTo>
                <a:lnTo>
                  <a:pt x="5" y="435"/>
                </a:lnTo>
                <a:lnTo>
                  <a:pt x="24" y="393"/>
                </a:lnTo>
                <a:lnTo>
                  <a:pt x="51" y="358"/>
                </a:lnTo>
                <a:lnTo>
                  <a:pt x="69" y="332"/>
                </a:lnTo>
                <a:lnTo>
                  <a:pt x="89" y="334"/>
                </a:lnTo>
                <a:lnTo>
                  <a:pt x="134" y="320"/>
                </a:lnTo>
                <a:lnTo>
                  <a:pt x="145" y="311"/>
                </a:lnTo>
                <a:lnTo>
                  <a:pt x="150" y="304"/>
                </a:lnTo>
                <a:lnTo>
                  <a:pt x="180" y="324"/>
                </a:lnTo>
                <a:lnTo>
                  <a:pt x="215" y="343"/>
                </a:lnTo>
                <a:lnTo>
                  <a:pt x="259" y="342"/>
                </a:lnTo>
                <a:lnTo>
                  <a:pt x="311" y="334"/>
                </a:lnTo>
                <a:lnTo>
                  <a:pt x="349" y="337"/>
                </a:lnTo>
                <a:lnTo>
                  <a:pt x="380" y="350"/>
                </a:lnTo>
                <a:lnTo>
                  <a:pt x="417" y="360"/>
                </a:lnTo>
                <a:lnTo>
                  <a:pt x="457" y="354"/>
                </a:lnTo>
                <a:lnTo>
                  <a:pt x="495" y="349"/>
                </a:lnTo>
                <a:lnTo>
                  <a:pt x="535" y="336"/>
                </a:lnTo>
                <a:lnTo>
                  <a:pt x="568" y="333"/>
                </a:lnTo>
                <a:lnTo>
                  <a:pt x="600" y="333"/>
                </a:lnTo>
                <a:lnTo>
                  <a:pt x="626" y="318"/>
                </a:lnTo>
                <a:lnTo>
                  <a:pt x="642" y="298"/>
                </a:lnTo>
                <a:lnTo>
                  <a:pt x="641" y="270"/>
                </a:lnTo>
                <a:lnTo>
                  <a:pt x="641" y="233"/>
                </a:lnTo>
                <a:lnTo>
                  <a:pt x="652" y="216"/>
                </a:lnTo>
                <a:lnTo>
                  <a:pt x="672" y="189"/>
                </a:lnTo>
                <a:lnTo>
                  <a:pt x="676" y="173"/>
                </a:lnTo>
                <a:lnTo>
                  <a:pt x="671" y="151"/>
                </a:lnTo>
                <a:lnTo>
                  <a:pt x="675" y="146"/>
                </a:lnTo>
                <a:lnTo>
                  <a:pt x="699" y="166"/>
                </a:lnTo>
                <a:lnTo>
                  <a:pt x="738" y="160"/>
                </a:lnTo>
                <a:lnTo>
                  <a:pt x="765" y="138"/>
                </a:lnTo>
                <a:lnTo>
                  <a:pt x="787" y="100"/>
                </a:lnTo>
                <a:lnTo>
                  <a:pt x="794" y="80"/>
                </a:lnTo>
                <a:lnTo>
                  <a:pt x="811" y="70"/>
                </a:lnTo>
                <a:lnTo>
                  <a:pt x="827" y="51"/>
                </a:lnTo>
                <a:lnTo>
                  <a:pt x="838" y="20"/>
                </a:lnTo>
                <a:lnTo>
                  <a:pt x="861" y="8"/>
                </a:lnTo>
                <a:lnTo>
                  <a:pt x="902" y="0"/>
                </a:lnTo>
                <a:lnTo>
                  <a:pt x="927" y="8"/>
                </a:lnTo>
                <a:lnTo>
                  <a:pt x="958" y="26"/>
                </a:lnTo>
                <a:lnTo>
                  <a:pt x="978" y="31"/>
                </a:lnTo>
                <a:lnTo>
                  <a:pt x="1000" y="45"/>
                </a:lnTo>
                <a:lnTo>
                  <a:pt x="1009" y="64"/>
                </a:lnTo>
                <a:lnTo>
                  <a:pt x="1023" y="83"/>
                </a:lnTo>
                <a:lnTo>
                  <a:pt x="1003" y="91"/>
                </a:lnTo>
                <a:lnTo>
                  <a:pt x="985" y="116"/>
                </a:lnTo>
                <a:lnTo>
                  <a:pt x="980" y="140"/>
                </a:lnTo>
                <a:lnTo>
                  <a:pt x="973" y="180"/>
                </a:lnTo>
                <a:lnTo>
                  <a:pt x="958" y="214"/>
                </a:lnTo>
                <a:lnTo>
                  <a:pt x="950" y="254"/>
                </a:lnTo>
                <a:lnTo>
                  <a:pt x="946" y="283"/>
                </a:lnTo>
                <a:lnTo>
                  <a:pt x="956" y="304"/>
                </a:lnTo>
                <a:lnTo>
                  <a:pt x="980" y="317"/>
                </a:lnTo>
                <a:lnTo>
                  <a:pt x="1003" y="33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0960" y="27925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7400" y="2057400"/>
            <a:ext cx="835200" cy="569880"/>
          </a:xfrm>
          <a:custGeom>
            <a:avLst/>
            <a:gdLst/>
            <a:ahLst/>
            <a:rect l="l" t="t" r="r" b="b"/>
            <a:pathLst>
              <a:path w="526" h="359">
                <a:moveTo>
                  <a:pt x="525" y="145"/>
                </a:moveTo>
                <a:lnTo>
                  <a:pt x="521" y="150"/>
                </a:lnTo>
                <a:lnTo>
                  <a:pt x="526" y="172"/>
                </a:lnTo>
                <a:lnTo>
                  <a:pt x="522" y="188"/>
                </a:lnTo>
                <a:lnTo>
                  <a:pt x="502" y="215"/>
                </a:lnTo>
                <a:lnTo>
                  <a:pt x="491" y="232"/>
                </a:lnTo>
                <a:lnTo>
                  <a:pt x="491" y="269"/>
                </a:lnTo>
                <a:lnTo>
                  <a:pt x="492" y="297"/>
                </a:lnTo>
                <a:lnTo>
                  <a:pt x="476" y="317"/>
                </a:lnTo>
                <a:lnTo>
                  <a:pt x="450" y="332"/>
                </a:lnTo>
                <a:lnTo>
                  <a:pt x="418" y="332"/>
                </a:lnTo>
                <a:lnTo>
                  <a:pt x="385" y="335"/>
                </a:lnTo>
                <a:lnTo>
                  <a:pt x="345" y="348"/>
                </a:lnTo>
                <a:lnTo>
                  <a:pt x="307" y="353"/>
                </a:lnTo>
                <a:lnTo>
                  <a:pt x="267" y="359"/>
                </a:lnTo>
                <a:lnTo>
                  <a:pt x="230" y="349"/>
                </a:lnTo>
                <a:lnTo>
                  <a:pt x="199" y="336"/>
                </a:lnTo>
                <a:lnTo>
                  <a:pt x="161" y="333"/>
                </a:lnTo>
                <a:lnTo>
                  <a:pt x="109" y="341"/>
                </a:lnTo>
                <a:lnTo>
                  <a:pt x="65" y="342"/>
                </a:lnTo>
                <a:lnTo>
                  <a:pt x="30" y="323"/>
                </a:lnTo>
                <a:lnTo>
                  <a:pt x="0" y="303"/>
                </a:lnTo>
                <a:lnTo>
                  <a:pt x="18" y="279"/>
                </a:lnTo>
                <a:lnTo>
                  <a:pt x="42" y="241"/>
                </a:lnTo>
                <a:lnTo>
                  <a:pt x="61" y="203"/>
                </a:lnTo>
                <a:lnTo>
                  <a:pt x="90" y="173"/>
                </a:lnTo>
                <a:lnTo>
                  <a:pt x="125" y="154"/>
                </a:lnTo>
                <a:lnTo>
                  <a:pt x="168" y="139"/>
                </a:lnTo>
                <a:lnTo>
                  <a:pt x="198" y="115"/>
                </a:lnTo>
                <a:lnTo>
                  <a:pt x="223" y="85"/>
                </a:lnTo>
                <a:lnTo>
                  <a:pt x="247" y="49"/>
                </a:lnTo>
                <a:lnTo>
                  <a:pt x="290" y="30"/>
                </a:lnTo>
                <a:lnTo>
                  <a:pt x="320" y="11"/>
                </a:lnTo>
                <a:lnTo>
                  <a:pt x="352" y="4"/>
                </a:lnTo>
                <a:lnTo>
                  <a:pt x="387" y="11"/>
                </a:lnTo>
                <a:lnTo>
                  <a:pt x="412" y="16"/>
                </a:lnTo>
                <a:lnTo>
                  <a:pt x="433" y="14"/>
                </a:lnTo>
                <a:lnTo>
                  <a:pt x="456" y="0"/>
                </a:lnTo>
                <a:lnTo>
                  <a:pt x="484" y="5"/>
                </a:lnTo>
                <a:lnTo>
                  <a:pt x="498" y="24"/>
                </a:lnTo>
                <a:lnTo>
                  <a:pt x="506" y="53"/>
                </a:lnTo>
                <a:lnTo>
                  <a:pt x="500" y="84"/>
                </a:lnTo>
                <a:lnTo>
                  <a:pt x="499" y="114"/>
                </a:lnTo>
                <a:lnTo>
                  <a:pt x="525" y="14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64040" y="231300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2025720"/>
            <a:ext cx="2689200" cy="3632040"/>
          </a:xfrm>
          <a:custGeom>
            <a:avLst/>
            <a:gdLst/>
            <a:ahLst/>
            <a:rect l="l" t="t" r="r" b="b"/>
            <a:pathLst>
              <a:path w="1694" h="2288">
                <a:moveTo>
                  <a:pt x="181" y="2287"/>
                </a:moveTo>
                <a:lnTo>
                  <a:pt x="190" y="2245"/>
                </a:lnTo>
                <a:lnTo>
                  <a:pt x="205" y="2220"/>
                </a:lnTo>
                <a:lnTo>
                  <a:pt x="213" y="2208"/>
                </a:lnTo>
                <a:lnTo>
                  <a:pt x="229" y="2185"/>
                </a:lnTo>
                <a:lnTo>
                  <a:pt x="241" y="2168"/>
                </a:lnTo>
                <a:lnTo>
                  <a:pt x="264" y="2143"/>
                </a:lnTo>
                <a:lnTo>
                  <a:pt x="297" y="2128"/>
                </a:lnTo>
                <a:lnTo>
                  <a:pt x="329" y="2114"/>
                </a:lnTo>
                <a:lnTo>
                  <a:pt x="359" y="2098"/>
                </a:lnTo>
                <a:lnTo>
                  <a:pt x="381" y="2077"/>
                </a:lnTo>
                <a:lnTo>
                  <a:pt x="414" y="2062"/>
                </a:lnTo>
                <a:lnTo>
                  <a:pt x="445" y="2046"/>
                </a:lnTo>
                <a:lnTo>
                  <a:pt x="459" y="2013"/>
                </a:lnTo>
                <a:lnTo>
                  <a:pt x="453" y="1996"/>
                </a:lnTo>
                <a:lnTo>
                  <a:pt x="440" y="1978"/>
                </a:lnTo>
                <a:lnTo>
                  <a:pt x="402" y="1960"/>
                </a:lnTo>
                <a:lnTo>
                  <a:pt x="375" y="1942"/>
                </a:lnTo>
                <a:lnTo>
                  <a:pt x="358" y="1922"/>
                </a:lnTo>
                <a:lnTo>
                  <a:pt x="352" y="1897"/>
                </a:lnTo>
                <a:lnTo>
                  <a:pt x="342" y="1863"/>
                </a:lnTo>
                <a:lnTo>
                  <a:pt x="326" y="1828"/>
                </a:lnTo>
                <a:lnTo>
                  <a:pt x="306" y="1809"/>
                </a:lnTo>
                <a:lnTo>
                  <a:pt x="271" y="1805"/>
                </a:lnTo>
                <a:lnTo>
                  <a:pt x="235" y="1798"/>
                </a:lnTo>
                <a:lnTo>
                  <a:pt x="216" y="1775"/>
                </a:lnTo>
                <a:lnTo>
                  <a:pt x="202" y="1744"/>
                </a:lnTo>
                <a:lnTo>
                  <a:pt x="197" y="1722"/>
                </a:lnTo>
                <a:lnTo>
                  <a:pt x="189" y="1681"/>
                </a:lnTo>
                <a:lnTo>
                  <a:pt x="175" y="1645"/>
                </a:lnTo>
                <a:lnTo>
                  <a:pt x="148" y="1628"/>
                </a:lnTo>
                <a:lnTo>
                  <a:pt x="117" y="1623"/>
                </a:lnTo>
                <a:lnTo>
                  <a:pt x="81" y="1629"/>
                </a:lnTo>
                <a:lnTo>
                  <a:pt x="45" y="1633"/>
                </a:lnTo>
                <a:lnTo>
                  <a:pt x="0" y="1638"/>
                </a:lnTo>
                <a:lnTo>
                  <a:pt x="0" y="0"/>
                </a:lnTo>
                <a:lnTo>
                  <a:pt x="46" y="7"/>
                </a:lnTo>
                <a:lnTo>
                  <a:pt x="76" y="14"/>
                </a:lnTo>
                <a:lnTo>
                  <a:pt x="108" y="12"/>
                </a:lnTo>
                <a:lnTo>
                  <a:pt x="134" y="11"/>
                </a:lnTo>
                <a:lnTo>
                  <a:pt x="161" y="23"/>
                </a:lnTo>
                <a:lnTo>
                  <a:pt x="176" y="44"/>
                </a:lnTo>
                <a:lnTo>
                  <a:pt x="174" y="67"/>
                </a:lnTo>
                <a:lnTo>
                  <a:pt x="177" y="86"/>
                </a:lnTo>
                <a:lnTo>
                  <a:pt x="193" y="109"/>
                </a:lnTo>
                <a:lnTo>
                  <a:pt x="208" y="132"/>
                </a:lnTo>
                <a:lnTo>
                  <a:pt x="207" y="157"/>
                </a:lnTo>
                <a:lnTo>
                  <a:pt x="200" y="184"/>
                </a:lnTo>
                <a:lnTo>
                  <a:pt x="192" y="213"/>
                </a:lnTo>
                <a:lnTo>
                  <a:pt x="187" y="240"/>
                </a:lnTo>
                <a:lnTo>
                  <a:pt x="192" y="284"/>
                </a:lnTo>
                <a:lnTo>
                  <a:pt x="196" y="306"/>
                </a:lnTo>
                <a:lnTo>
                  <a:pt x="210" y="332"/>
                </a:lnTo>
                <a:lnTo>
                  <a:pt x="239" y="349"/>
                </a:lnTo>
                <a:lnTo>
                  <a:pt x="252" y="351"/>
                </a:lnTo>
                <a:lnTo>
                  <a:pt x="234" y="377"/>
                </a:lnTo>
                <a:lnTo>
                  <a:pt x="207" y="412"/>
                </a:lnTo>
                <a:lnTo>
                  <a:pt x="188" y="454"/>
                </a:lnTo>
                <a:lnTo>
                  <a:pt x="183" y="486"/>
                </a:lnTo>
                <a:lnTo>
                  <a:pt x="186" y="538"/>
                </a:lnTo>
                <a:lnTo>
                  <a:pt x="205" y="577"/>
                </a:lnTo>
                <a:lnTo>
                  <a:pt x="204" y="623"/>
                </a:lnTo>
                <a:lnTo>
                  <a:pt x="199" y="665"/>
                </a:lnTo>
                <a:lnTo>
                  <a:pt x="190" y="706"/>
                </a:lnTo>
                <a:lnTo>
                  <a:pt x="196" y="752"/>
                </a:lnTo>
                <a:lnTo>
                  <a:pt x="218" y="786"/>
                </a:lnTo>
                <a:lnTo>
                  <a:pt x="247" y="805"/>
                </a:lnTo>
                <a:lnTo>
                  <a:pt x="288" y="832"/>
                </a:lnTo>
                <a:lnTo>
                  <a:pt x="318" y="859"/>
                </a:lnTo>
                <a:lnTo>
                  <a:pt x="331" y="881"/>
                </a:lnTo>
                <a:lnTo>
                  <a:pt x="341" y="931"/>
                </a:lnTo>
                <a:lnTo>
                  <a:pt x="358" y="964"/>
                </a:lnTo>
                <a:lnTo>
                  <a:pt x="342" y="994"/>
                </a:lnTo>
                <a:lnTo>
                  <a:pt x="348" y="1014"/>
                </a:lnTo>
                <a:lnTo>
                  <a:pt x="361" y="1040"/>
                </a:lnTo>
                <a:lnTo>
                  <a:pt x="396" y="1053"/>
                </a:lnTo>
                <a:lnTo>
                  <a:pt x="440" y="1056"/>
                </a:lnTo>
                <a:lnTo>
                  <a:pt x="485" y="1056"/>
                </a:lnTo>
                <a:lnTo>
                  <a:pt x="527" y="1055"/>
                </a:lnTo>
                <a:lnTo>
                  <a:pt x="562" y="1056"/>
                </a:lnTo>
                <a:lnTo>
                  <a:pt x="603" y="1062"/>
                </a:lnTo>
                <a:lnTo>
                  <a:pt x="642" y="1089"/>
                </a:lnTo>
                <a:lnTo>
                  <a:pt x="660" y="1121"/>
                </a:lnTo>
                <a:lnTo>
                  <a:pt x="657" y="1164"/>
                </a:lnTo>
                <a:lnTo>
                  <a:pt x="657" y="1180"/>
                </a:lnTo>
                <a:lnTo>
                  <a:pt x="633" y="1157"/>
                </a:lnTo>
                <a:lnTo>
                  <a:pt x="587" y="1143"/>
                </a:lnTo>
                <a:lnTo>
                  <a:pt x="558" y="1133"/>
                </a:lnTo>
                <a:lnTo>
                  <a:pt x="524" y="1130"/>
                </a:lnTo>
                <a:lnTo>
                  <a:pt x="482" y="1130"/>
                </a:lnTo>
                <a:lnTo>
                  <a:pt x="443" y="1136"/>
                </a:lnTo>
                <a:lnTo>
                  <a:pt x="404" y="1154"/>
                </a:lnTo>
                <a:lnTo>
                  <a:pt x="381" y="1179"/>
                </a:lnTo>
                <a:lnTo>
                  <a:pt x="360" y="1225"/>
                </a:lnTo>
                <a:lnTo>
                  <a:pt x="359" y="1256"/>
                </a:lnTo>
                <a:lnTo>
                  <a:pt x="359" y="1278"/>
                </a:lnTo>
                <a:lnTo>
                  <a:pt x="346" y="1312"/>
                </a:lnTo>
                <a:lnTo>
                  <a:pt x="345" y="1362"/>
                </a:lnTo>
                <a:lnTo>
                  <a:pt x="355" y="1376"/>
                </a:lnTo>
                <a:lnTo>
                  <a:pt x="377" y="1410"/>
                </a:lnTo>
                <a:lnTo>
                  <a:pt x="390" y="1425"/>
                </a:lnTo>
                <a:lnTo>
                  <a:pt x="435" y="1444"/>
                </a:lnTo>
                <a:lnTo>
                  <a:pt x="469" y="1451"/>
                </a:lnTo>
                <a:lnTo>
                  <a:pt x="524" y="1452"/>
                </a:lnTo>
                <a:lnTo>
                  <a:pt x="566" y="1447"/>
                </a:lnTo>
                <a:lnTo>
                  <a:pt x="590" y="1452"/>
                </a:lnTo>
                <a:lnTo>
                  <a:pt x="616" y="1460"/>
                </a:lnTo>
                <a:lnTo>
                  <a:pt x="645" y="1471"/>
                </a:lnTo>
                <a:lnTo>
                  <a:pt x="669" y="1478"/>
                </a:lnTo>
                <a:lnTo>
                  <a:pt x="682" y="1504"/>
                </a:lnTo>
                <a:lnTo>
                  <a:pt x="693" y="1532"/>
                </a:lnTo>
                <a:lnTo>
                  <a:pt x="703" y="1559"/>
                </a:lnTo>
                <a:lnTo>
                  <a:pt x="722" y="1586"/>
                </a:lnTo>
                <a:lnTo>
                  <a:pt x="746" y="1604"/>
                </a:lnTo>
                <a:lnTo>
                  <a:pt x="772" y="1604"/>
                </a:lnTo>
                <a:lnTo>
                  <a:pt x="791" y="1630"/>
                </a:lnTo>
                <a:lnTo>
                  <a:pt x="811" y="1649"/>
                </a:lnTo>
                <a:lnTo>
                  <a:pt x="816" y="1671"/>
                </a:lnTo>
                <a:lnTo>
                  <a:pt x="816" y="1703"/>
                </a:lnTo>
                <a:lnTo>
                  <a:pt x="820" y="1730"/>
                </a:lnTo>
                <a:lnTo>
                  <a:pt x="830" y="1762"/>
                </a:lnTo>
                <a:lnTo>
                  <a:pt x="836" y="1788"/>
                </a:lnTo>
                <a:lnTo>
                  <a:pt x="839" y="1819"/>
                </a:lnTo>
                <a:lnTo>
                  <a:pt x="845" y="1852"/>
                </a:lnTo>
                <a:lnTo>
                  <a:pt x="844" y="1882"/>
                </a:lnTo>
                <a:lnTo>
                  <a:pt x="852" y="1912"/>
                </a:lnTo>
                <a:lnTo>
                  <a:pt x="879" y="1933"/>
                </a:lnTo>
                <a:lnTo>
                  <a:pt x="918" y="1947"/>
                </a:lnTo>
                <a:lnTo>
                  <a:pt x="950" y="1951"/>
                </a:lnTo>
                <a:lnTo>
                  <a:pt x="992" y="1950"/>
                </a:lnTo>
                <a:lnTo>
                  <a:pt x="1020" y="1951"/>
                </a:lnTo>
                <a:lnTo>
                  <a:pt x="1057" y="1956"/>
                </a:lnTo>
                <a:lnTo>
                  <a:pt x="1085" y="1960"/>
                </a:lnTo>
                <a:lnTo>
                  <a:pt x="1114" y="1959"/>
                </a:lnTo>
                <a:lnTo>
                  <a:pt x="1144" y="1950"/>
                </a:lnTo>
                <a:lnTo>
                  <a:pt x="1164" y="1928"/>
                </a:lnTo>
                <a:lnTo>
                  <a:pt x="1168" y="1886"/>
                </a:lnTo>
                <a:lnTo>
                  <a:pt x="1167" y="1850"/>
                </a:lnTo>
                <a:lnTo>
                  <a:pt x="1164" y="1811"/>
                </a:lnTo>
                <a:lnTo>
                  <a:pt x="1154" y="1781"/>
                </a:lnTo>
                <a:lnTo>
                  <a:pt x="1152" y="1747"/>
                </a:lnTo>
                <a:lnTo>
                  <a:pt x="1155" y="1717"/>
                </a:lnTo>
                <a:lnTo>
                  <a:pt x="1162" y="1684"/>
                </a:lnTo>
                <a:lnTo>
                  <a:pt x="1164" y="1657"/>
                </a:lnTo>
                <a:lnTo>
                  <a:pt x="1163" y="1634"/>
                </a:lnTo>
                <a:lnTo>
                  <a:pt x="1157" y="1613"/>
                </a:lnTo>
                <a:lnTo>
                  <a:pt x="1140" y="1609"/>
                </a:lnTo>
                <a:lnTo>
                  <a:pt x="1127" y="1569"/>
                </a:lnTo>
                <a:lnTo>
                  <a:pt x="1118" y="1518"/>
                </a:lnTo>
                <a:lnTo>
                  <a:pt x="1119" y="1481"/>
                </a:lnTo>
                <a:lnTo>
                  <a:pt x="1130" y="1425"/>
                </a:lnTo>
                <a:lnTo>
                  <a:pt x="1148" y="1369"/>
                </a:lnTo>
                <a:lnTo>
                  <a:pt x="1183" y="1331"/>
                </a:lnTo>
                <a:lnTo>
                  <a:pt x="1225" y="1307"/>
                </a:lnTo>
                <a:lnTo>
                  <a:pt x="1254" y="1291"/>
                </a:lnTo>
                <a:lnTo>
                  <a:pt x="1285" y="1267"/>
                </a:lnTo>
                <a:lnTo>
                  <a:pt x="1305" y="1226"/>
                </a:lnTo>
                <a:lnTo>
                  <a:pt x="1322" y="1189"/>
                </a:lnTo>
                <a:lnTo>
                  <a:pt x="1339" y="1155"/>
                </a:lnTo>
                <a:lnTo>
                  <a:pt x="1387" y="1138"/>
                </a:lnTo>
                <a:lnTo>
                  <a:pt x="1435" y="1132"/>
                </a:lnTo>
                <a:lnTo>
                  <a:pt x="1479" y="1127"/>
                </a:lnTo>
                <a:lnTo>
                  <a:pt x="1512" y="1126"/>
                </a:lnTo>
                <a:lnTo>
                  <a:pt x="1542" y="1128"/>
                </a:lnTo>
                <a:lnTo>
                  <a:pt x="1577" y="1126"/>
                </a:lnTo>
                <a:lnTo>
                  <a:pt x="1606" y="1108"/>
                </a:lnTo>
                <a:lnTo>
                  <a:pt x="1631" y="1085"/>
                </a:lnTo>
                <a:lnTo>
                  <a:pt x="1694" y="1066"/>
                </a:lnTo>
                <a:lnTo>
                  <a:pt x="1694" y="1466"/>
                </a:lnTo>
                <a:lnTo>
                  <a:pt x="1633" y="1465"/>
                </a:lnTo>
                <a:lnTo>
                  <a:pt x="1606" y="1461"/>
                </a:lnTo>
                <a:lnTo>
                  <a:pt x="1571" y="1459"/>
                </a:lnTo>
                <a:lnTo>
                  <a:pt x="1525" y="1479"/>
                </a:lnTo>
                <a:lnTo>
                  <a:pt x="1499" y="1494"/>
                </a:lnTo>
                <a:lnTo>
                  <a:pt x="1474" y="1520"/>
                </a:lnTo>
                <a:lnTo>
                  <a:pt x="1467" y="1552"/>
                </a:lnTo>
                <a:lnTo>
                  <a:pt x="1446" y="1590"/>
                </a:lnTo>
                <a:lnTo>
                  <a:pt x="1420" y="1619"/>
                </a:lnTo>
                <a:lnTo>
                  <a:pt x="1371" y="1646"/>
                </a:lnTo>
                <a:lnTo>
                  <a:pt x="1338" y="1672"/>
                </a:lnTo>
                <a:lnTo>
                  <a:pt x="1314" y="1706"/>
                </a:lnTo>
                <a:lnTo>
                  <a:pt x="1306" y="1746"/>
                </a:lnTo>
                <a:lnTo>
                  <a:pt x="1310" y="1777"/>
                </a:lnTo>
                <a:lnTo>
                  <a:pt x="1314" y="1810"/>
                </a:lnTo>
                <a:lnTo>
                  <a:pt x="1324" y="1847"/>
                </a:lnTo>
                <a:lnTo>
                  <a:pt x="1346" y="1889"/>
                </a:lnTo>
                <a:lnTo>
                  <a:pt x="1380" y="1920"/>
                </a:lnTo>
                <a:lnTo>
                  <a:pt x="1424" y="1944"/>
                </a:lnTo>
                <a:lnTo>
                  <a:pt x="1470" y="1948"/>
                </a:lnTo>
                <a:lnTo>
                  <a:pt x="1504" y="1941"/>
                </a:lnTo>
                <a:lnTo>
                  <a:pt x="1536" y="1941"/>
                </a:lnTo>
                <a:lnTo>
                  <a:pt x="1570" y="1947"/>
                </a:lnTo>
                <a:lnTo>
                  <a:pt x="1594" y="1939"/>
                </a:lnTo>
                <a:lnTo>
                  <a:pt x="1610" y="1921"/>
                </a:lnTo>
                <a:lnTo>
                  <a:pt x="1629" y="1923"/>
                </a:lnTo>
                <a:lnTo>
                  <a:pt x="1694" y="1919"/>
                </a:lnTo>
                <a:lnTo>
                  <a:pt x="1694" y="2288"/>
                </a:lnTo>
                <a:lnTo>
                  <a:pt x="181" y="228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7600" y="381492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920" y="1752480"/>
            <a:ext cx="2689200" cy="833400"/>
          </a:xfrm>
          <a:custGeom>
            <a:avLst/>
            <a:gdLst/>
            <a:ahLst/>
            <a:rect l="l" t="t" r="r" b="b"/>
            <a:pathLst>
              <a:path w="1694" h="525">
                <a:moveTo>
                  <a:pt x="252" y="523"/>
                </a:moveTo>
                <a:lnTo>
                  <a:pt x="239" y="521"/>
                </a:lnTo>
                <a:lnTo>
                  <a:pt x="210" y="504"/>
                </a:lnTo>
                <a:lnTo>
                  <a:pt x="196" y="478"/>
                </a:lnTo>
                <a:lnTo>
                  <a:pt x="192" y="456"/>
                </a:lnTo>
                <a:lnTo>
                  <a:pt x="187" y="412"/>
                </a:lnTo>
                <a:lnTo>
                  <a:pt x="192" y="385"/>
                </a:lnTo>
                <a:lnTo>
                  <a:pt x="200" y="356"/>
                </a:lnTo>
                <a:lnTo>
                  <a:pt x="207" y="329"/>
                </a:lnTo>
                <a:lnTo>
                  <a:pt x="208" y="304"/>
                </a:lnTo>
                <a:lnTo>
                  <a:pt x="193" y="281"/>
                </a:lnTo>
                <a:lnTo>
                  <a:pt x="177" y="258"/>
                </a:lnTo>
                <a:lnTo>
                  <a:pt x="174" y="239"/>
                </a:lnTo>
                <a:lnTo>
                  <a:pt x="176" y="216"/>
                </a:lnTo>
                <a:lnTo>
                  <a:pt x="161" y="195"/>
                </a:lnTo>
                <a:lnTo>
                  <a:pt x="134" y="183"/>
                </a:lnTo>
                <a:lnTo>
                  <a:pt x="108" y="184"/>
                </a:lnTo>
                <a:lnTo>
                  <a:pt x="76" y="186"/>
                </a:lnTo>
                <a:lnTo>
                  <a:pt x="46" y="179"/>
                </a:lnTo>
                <a:lnTo>
                  <a:pt x="0" y="172"/>
                </a:lnTo>
                <a:lnTo>
                  <a:pt x="0" y="0"/>
                </a:lnTo>
                <a:lnTo>
                  <a:pt x="1694" y="1"/>
                </a:lnTo>
                <a:lnTo>
                  <a:pt x="1694" y="184"/>
                </a:lnTo>
                <a:lnTo>
                  <a:pt x="1677" y="189"/>
                </a:lnTo>
                <a:lnTo>
                  <a:pt x="1632" y="197"/>
                </a:lnTo>
                <a:lnTo>
                  <a:pt x="1602" y="210"/>
                </a:lnTo>
                <a:lnTo>
                  <a:pt x="1584" y="214"/>
                </a:lnTo>
                <a:lnTo>
                  <a:pt x="1552" y="209"/>
                </a:lnTo>
                <a:lnTo>
                  <a:pt x="1530" y="208"/>
                </a:lnTo>
                <a:lnTo>
                  <a:pt x="1496" y="211"/>
                </a:lnTo>
                <a:lnTo>
                  <a:pt x="1463" y="213"/>
                </a:lnTo>
                <a:lnTo>
                  <a:pt x="1428" y="210"/>
                </a:lnTo>
                <a:lnTo>
                  <a:pt x="1381" y="209"/>
                </a:lnTo>
                <a:lnTo>
                  <a:pt x="1348" y="216"/>
                </a:lnTo>
                <a:lnTo>
                  <a:pt x="1317" y="235"/>
                </a:lnTo>
                <a:lnTo>
                  <a:pt x="1291" y="253"/>
                </a:lnTo>
                <a:lnTo>
                  <a:pt x="1263" y="272"/>
                </a:lnTo>
                <a:lnTo>
                  <a:pt x="1248" y="274"/>
                </a:lnTo>
                <a:lnTo>
                  <a:pt x="1233" y="277"/>
                </a:lnTo>
                <a:lnTo>
                  <a:pt x="1206" y="274"/>
                </a:lnTo>
                <a:lnTo>
                  <a:pt x="1192" y="255"/>
                </a:lnTo>
                <a:lnTo>
                  <a:pt x="1183" y="236"/>
                </a:lnTo>
                <a:lnTo>
                  <a:pt x="1161" y="222"/>
                </a:lnTo>
                <a:lnTo>
                  <a:pt x="1141" y="217"/>
                </a:lnTo>
                <a:lnTo>
                  <a:pt x="1110" y="199"/>
                </a:lnTo>
                <a:lnTo>
                  <a:pt x="1085" y="191"/>
                </a:lnTo>
                <a:lnTo>
                  <a:pt x="1044" y="199"/>
                </a:lnTo>
                <a:lnTo>
                  <a:pt x="1021" y="211"/>
                </a:lnTo>
                <a:lnTo>
                  <a:pt x="1010" y="242"/>
                </a:lnTo>
                <a:lnTo>
                  <a:pt x="994" y="261"/>
                </a:lnTo>
                <a:lnTo>
                  <a:pt x="977" y="271"/>
                </a:lnTo>
                <a:lnTo>
                  <a:pt x="970" y="291"/>
                </a:lnTo>
                <a:lnTo>
                  <a:pt x="948" y="329"/>
                </a:lnTo>
                <a:lnTo>
                  <a:pt x="921" y="351"/>
                </a:lnTo>
                <a:lnTo>
                  <a:pt x="882" y="357"/>
                </a:lnTo>
                <a:lnTo>
                  <a:pt x="858" y="337"/>
                </a:lnTo>
                <a:lnTo>
                  <a:pt x="832" y="306"/>
                </a:lnTo>
                <a:lnTo>
                  <a:pt x="833" y="276"/>
                </a:lnTo>
                <a:lnTo>
                  <a:pt x="839" y="245"/>
                </a:lnTo>
                <a:lnTo>
                  <a:pt x="831" y="216"/>
                </a:lnTo>
                <a:lnTo>
                  <a:pt x="817" y="197"/>
                </a:lnTo>
                <a:lnTo>
                  <a:pt x="789" y="192"/>
                </a:lnTo>
                <a:lnTo>
                  <a:pt x="766" y="206"/>
                </a:lnTo>
                <a:lnTo>
                  <a:pt x="745" y="208"/>
                </a:lnTo>
                <a:lnTo>
                  <a:pt x="720" y="203"/>
                </a:lnTo>
                <a:lnTo>
                  <a:pt x="685" y="196"/>
                </a:lnTo>
                <a:lnTo>
                  <a:pt x="653" y="203"/>
                </a:lnTo>
                <a:lnTo>
                  <a:pt x="623" y="222"/>
                </a:lnTo>
                <a:lnTo>
                  <a:pt x="580" y="241"/>
                </a:lnTo>
                <a:lnTo>
                  <a:pt x="556" y="277"/>
                </a:lnTo>
                <a:lnTo>
                  <a:pt x="531" y="307"/>
                </a:lnTo>
                <a:lnTo>
                  <a:pt x="501" y="331"/>
                </a:lnTo>
                <a:lnTo>
                  <a:pt x="458" y="346"/>
                </a:lnTo>
                <a:lnTo>
                  <a:pt x="423" y="365"/>
                </a:lnTo>
                <a:lnTo>
                  <a:pt x="394" y="395"/>
                </a:lnTo>
                <a:lnTo>
                  <a:pt x="375" y="433"/>
                </a:lnTo>
                <a:lnTo>
                  <a:pt x="351" y="471"/>
                </a:lnTo>
                <a:lnTo>
                  <a:pt x="333" y="495"/>
                </a:lnTo>
                <a:lnTo>
                  <a:pt x="328" y="502"/>
                </a:lnTo>
                <a:lnTo>
                  <a:pt x="317" y="511"/>
                </a:lnTo>
                <a:lnTo>
                  <a:pt x="272" y="525"/>
                </a:lnTo>
                <a:lnTo>
                  <a:pt x="252" y="523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46440" y="2139840"/>
            <a:ext cx="43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670120" cy="2287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9120" y="1752480"/>
            <a:ext cx="26668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56689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d segments from a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668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Landcover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6689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Soil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Spatial features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(reminder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200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 clearly bounded portion of spac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can expres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unit of observ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f measur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unit of exploi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resulting from a transformation of units of observation, by agregation ou desagreg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can be of 3 typ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z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i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e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5720" y="3581280"/>
            <a:ext cx="2739600" cy="2362320"/>
            <a:chOff x="765720" y="3581280"/>
            <a:chExt cx="2739600" cy="2362320"/>
          </a:xfrm>
        </p:grpSpPr>
        <p:sp>
          <p:nvSpPr>
            <p:cNvPr id="206" name=""/>
            <p:cNvSpPr/>
            <p:nvPr/>
          </p:nvSpPr>
          <p:spPr>
            <a:xfrm>
              <a:off x="1052280" y="40608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74720" y="3581280"/>
              <a:ext cx="150840" cy="2249640"/>
              <a:chOff x="774720" y="3581280"/>
              <a:chExt cx="150840" cy="2249640"/>
            </a:xfrm>
          </p:grpSpPr>
          <p:sp>
            <p:nvSpPr>
              <p:cNvPr id="208" name=""/>
              <p:cNvSpPr/>
              <p:nvPr/>
            </p:nvSpPr>
            <p:spPr>
              <a:xfrm>
                <a:off x="774720" y="35812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4720" y="35812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63640" y="3821040"/>
                <a:ext cx="1440" cy="20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838080" y="5665680"/>
              <a:ext cx="2667240" cy="152280"/>
              <a:chOff x="838080" y="5665680"/>
              <a:chExt cx="2667240" cy="152280"/>
            </a:xfrm>
          </p:grpSpPr>
          <p:sp>
            <p:nvSpPr>
              <p:cNvPr id="212" name=""/>
              <p:cNvSpPr/>
              <p:nvPr/>
            </p:nvSpPr>
            <p:spPr>
              <a:xfrm>
                <a:off x="3278160" y="5665680"/>
                <a:ext cx="22716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78160" y="5665680"/>
                <a:ext cx="22716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8080" y="5754600"/>
                <a:ext cx="2452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703160" y="405432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58920" y="4497120"/>
              <a:ext cx="126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72960" y="5368680"/>
              <a:ext cx="255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73120" y="5141880"/>
              <a:ext cx="255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31920" y="4497120"/>
              <a:ext cx="2412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2960" y="4497120"/>
              <a:ext cx="255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1560" y="4927320"/>
              <a:ext cx="25560" cy="2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03160" y="4611600"/>
              <a:ext cx="255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6280" y="405432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8920" y="4825800"/>
              <a:ext cx="1260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8920" y="5583240"/>
              <a:ext cx="126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66840" y="4491000"/>
              <a:ext cx="44280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66840" y="4491000"/>
              <a:ext cx="44280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52280" y="40608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65400" y="4060800"/>
              <a:ext cx="644400" cy="152856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65400" y="4060800"/>
              <a:ext cx="644400" cy="152856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59040" y="44146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19440" y="39463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880" y="4287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1200" y="4402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4200" y="51465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00600" y="5349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03720" y="49831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00600" y="4510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4240" y="45910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28240" y="39592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91880" y="4755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3840" y="5500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Helvetica-Narrow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5720" y="384624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Geneva"/>
                </a:rPr>
                <a:t>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59000" y="5790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Geneva"/>
                </a:rPr>
                <a:t>X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4060800"/>
              <a:ext cx="381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5400" y="4819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28520" y="4495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7000" y="5148000"/>
              <a:ext cx="50760" cy="63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81360" y="4047840"/>
              <a:ext cx="507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5400" y="4478040"/>
              <a:ext cx="381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12840" y="4491000"/>
              <a:ext cx="4932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95440" y="4933800"/>
              <a:ext cx="38160" cy="6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09640" y="4605120"/>
              <a:ext cx="381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57120" y="4495680"/>
              <a:ext cx="3816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57120" y="5349600"/>
              <a:ext cx="38160" cy="51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3720" y="5562360"/>
              <a:ext cx="37800" cy="507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3640" y="3897360"/>
              <a:ext cx="236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227400" y="3897000"/>
              <a:ext cx="144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33520" y="408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12880" y="4267080"/>
              <a:ext cx="74520" cy="79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5440" y="4114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43160" y="449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9244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429000" y="1828800"/>
            <a:ext cx="2362320" cy="1874880"/>
            <a:chOff x="3429000" y="1828800"/>
            <a:chExt cx="2362320" cy="1874880"/>
          </a:xfrm>
        </p:grpSpPr>
        <p:sp>
          <p:nvSpPr>
            <p:cNvPr id="265" name=""/>
            <p:cNvSpPr/>
            <p:nvPr/>
          </p:nvSpPr>
          <p:spPr>
            <a:xfrm>
              <a:off x="3639960" y="2060280"/>
              <a:ext cx="1950480" cy="1308960"/>
            </a:xfrm>
            <a:custGeom>
              <a:avLst/>
              <a:gdLst/>
              <a:ahLst/>
              <a:rect l="l" t="t" r="r" b="b"/>
              <a:pathLst>
                <a:path w="1506" h="1011">
                  <a:moveTo>
                    <a:pt x="526" y="0"/>
                  </a:moveTo>
                  <a:lnTo>
                    <a:pt x="430" y="24"/>
                  </a:lnTo>
                  <a:lnTo>
                    <a:pt x="383" y="56"/>
                  </a:lnTo>
                  <a:lnTo>
                    <a:pt x="343" y="80"/>
                  </a:lnTo>
                  <a:lnTo>
                    <a:pt x="295" y="103"/>
                  </a:lnTo>
                  <a:lnTo>
                    <a:pt x="263" y="127"/>
                  </a:lnTo>
                  <a:lnTo>
                    <a:pt x="215" y="151"/>
                  </a:lnTo>
                  <a:lnTo>
                    <a:pt x="160" y="183"/>
                  </a:lnTo>
                  <a:lnTo>
                    <a:pt x="88" y="223"/>
                  </a:lnTo>
                  <a:lnTo>
                    <a:pt x="64" y="247"/>
                  </a:lnTo>
                  <a:lnTo>
                    <a:pt x="40" y="263"/>
                  </a:lnTo>
                  <a:lnTo>
                    <a:pt x="16" y="294"/>
                  </a:lnTo>
                  <a:lnTo>
                    <a:pt x="0" y="318"/>
                  </a:lnTo>
                  <a:lnTo>
                    <a:pt x="0" y="366"/>
                  </a:lnTo>
                  <a:lnTo>
                    <a:pt x="0" y="422"/>
                  </a:lnTo>
                  <a:lnTo>
                    <a:pt x="0" y="477"/>
                  </a:lnTo>
                  <a:lnTo>
                    <a:pt x="24" y="541"/>
                  </a:lnTo>
                  <a:lnTo>
                    <a:pt x="48" y="605"/>
                  </a:lnTo>
                  <a:lnTo>
                    <a:pt x="64" y="676"/>
                  </a:lnTo>
                  <a:lnTo>
                    <a:pt x="72" y="740"/>
                  </a:lnTo>
                  <a:lnTo>
                    <a:pt x="88" y="812"/>
                  </a:lnTo>
                  <a:lnTo>
                    <a:pt x="112" y="875"/>
                  </a:lnTo>
                  <a:lnTo>
                    <a:pt x="144" y="939"/>
                  </a:lnTo>
                  <a:lnTo>
                    <a:pt x="160" y="963"/>
                  </a:lnTo>
                  <a:lnTo>
                    <a:pt x="183" y="979"/>
                  </a:lnTo>
                  <a:lnTo>
                    <a:pt x="207" y="995"/>
                  </a:lnTo>
                  <a:lnTo>
                    <a:pt x="231" y="1011"/>
                  </a:lnTo>
                  <a:lnTo>
                    <a:pt x="271" y="1011"/>
                  </a:lnTo>
                  <a:lnTo>
                    <a:pt x="303" y="1011"/>
                  </a:lnTo>
                  <a:lnTo>
                    <a:pt x="351" y="995"/>
                  </a:lnTo>
                  <a:lnTo>
                    <a:pt x="399" y="971"/>
                  </a:lnTo>
                  <a:lnTo>
                    <a:pt x="462" y="947"/>
                  </a:lnTo>
                  <a:lnTo>
                    <a:pt x="526" y="923"/>
                  </a:lnTo>
                  <a:lnTo>
                    <a:pt x="582" y="907"/>
                  </a:lnTo>
                  <a:lnTo>
                    <a:pt x="645" y="899"/>
                  </a:lnTo>
                  <a:lnTo>
                    <a:pt x="709" y="899"/>
                  </a:lnTo>
                  <a:lnTo>
                    <a:pt x="773" y="899"/>
                  </a:lnTo>
                  <a:lnTo>
                    <a:pt x="845" y="883"/>
                  </a:lnTo>
                  <a:lnTo>
                    <a:pt x="924" y="859"/>
                  </a:lnTo>
                  <a:lnTo>
                    <a:pt x="988" y="835"/>
                  </a:lnTo>
                  <a:lnTo>
                    <a:pt x="1044" y="820"/>
                  </a:lnTo>
                  <a:lnTo>
                    <a:pt x="1092" y="780"/>
                  </a:lnTo>
                  <a:lnTo>
                    <a:pt x="1139" y="756"/>
                  </a:lnTo>
                  <a:lnTo>
                    <a:pt x="1219" y="676"/>
                  </a:lnTo>
                  <a:lnTo>
                    <a:pt x="1307" y="589"/>
                  </a:lnTo>
                  <a:lnTo>
                    <a:pt x="1354" y="549"/>
                  </a:lnTo>
                  <a:lnTo>
                    <a:pt x="1386" y="493"/>
                  </a:lnTo>
                  <a:lnTo>
                    <a:pt x="1426" y="446"/>
                  </a:lnTo>
                  <a:lnTo>
                    <a:pt x="1450" y="406"/>
                  </a:lnTo>
                  <a:lnTo>
                    <a:pt x="1474" y="374"/>
                  </a:lnTo>
                  <a:lnTo>
                    <a:pt x="1498" y="350"/>
                  </a:lnTo>
                  <a:lnTo>
                    <a:pt x="1506" y="334"/>
                  </a:lnTo>
                  <a:lnTo>
                    <a:pt x="1506" y="310"/>
                  </a:lnTo>
                  <a:lnTo>
                    <a:pt x="1498" y="302"/>
                  </a:lnTo>
                  <a:lnTo>
                    <a:pt x="1482" y="294"/>
                  </a:lnTo>
                  <a:lnTo>
                    <a:pt x="1466" y="294"/>
                  </a:lnTo>
                  <a:lnTo>
                    <a:pt x="1442" y="302"/>
                  </a:lnTo>
                  <a:lnTo>
                    <a:pt x="1426" y="310"/>
                  </a:lnTo>
                  <a:lnTo>
                    <a:pt x="1386" y="318"/>
                  </a:lnTo>
                  <a:lnTo>
                    <a:pt x="1339" y="334"/>
                  </a:lnTo>
                  <a:lnTo>
                    <a:pt x="1283" y="334"/>
                  </a:lnTo>
                  <a:lnTo>
                    <a:pt x="1211" y="334"/>
                  </a:lnTo>
                  <a:lnTo>
                    <a:pt x="1139" y="342"/>
                  </a:lnTo>
                  <a:lnTo>
                    <a:pt x="1068" y="334"/>
                  </a:lnTo>
                  <a:lnTo>
                    <a:pt x="996" y="334"/>
                  </a:lnTo>
                  <a:lnTo>
                    <a:pt x="924" y="334"/>
                  </a:lnTo>
                  <a:lnTo>
                    <a:pt x="869" y="318"/>
                  </a:lnTo>
                  <a:lnTo>
                    <a:pt x="845" y="310"/>
                  </a:lnTo>
                  <a:lnTo>
                    <a:pt x="813" y="294"/>
                  </a:lnTo>
                  <a:lnTo>
                    <a:pt x="789" y="271"/>
                  </a:lnTo>
                  <a:lnTo>
                    <a:pt x="773" y="255"/>
                  </a:lnTo>
                  <a:lnTo>
                    <a:pt x="725" y="199"/>
                  </a:lnTo>
                  <a:lnTo>
                    <a:pt x="693" y="143"/>
                  </a:lnTo>
                  <a:lnTo>
                    <a:pt x="653" y="87"/>
                  </a:lnTo>
                  <a:lnTo>
                    <a:pt x="614" y="48"/>
                  </a:lnTo>
                  <a:lnTo>
                    <a:pt x="582" y="24"/>
                  </a:lnTo>
                  <a:lnTo>
                    <a:pt x="558" y="8"/>
                  </a:lnTo>
                  <a:lnTo>
                    <a:pt x="526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7280" y="2461680"/>
              <a:ext cx="412920" cy="423360"/>
            </a:xfrm>
            <a:custGeom>
              <a:avLst/>
              <a:gdLst/>
              <a:ahLst/>
              <a:rect l="l" t="t" r="r" b="b"/>
              <a:pathLst>
                <a:path w="319" h="327">
                  <a:moveTo>
                    <a:pt x="8" y="0"/>
                  </a:moveTo>
                  <a:lnTo>
                    <a:pt x="0" y="24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8" y="104"/>
                  </a:lnTo>
                  <a:lnTo>
                    <a:pt x="24" y="175"/>
                  </a:lnTo>
                  <a:lnTo>
                    <a:pt x="56" y="239"/>
                  </a:lnTo>
                  <a:lnTo>
                    <a:pt x="80" y="271"/>
                  </a:lnTo>
                  <a:lnTo>
                    <a:pt x="96" y="295"/>
                  </a:lnTo>
                  <a:lnTo>
                    <a:pt x="120" y="311"/>
                  </a:lnTo>
                  <a:lnTo>
                    <a:pt x="152" y="319"/>
                  </a:lnTo>
                  <a:lnTo>
                    <a:pt x="168" y="327"/>
                  </a:lnTo>
                  <a:lnTo>
                    <a:pt x="200" y="319"/>
                  </a:lnTo>
                  <a:lnTo>
                    <a:pt x="231" y="303"/>
                  </a:lnTo>
                  <a:lnTo>
                    <a:pt x="255" y="279"/>
                  </a:lnTo>
                  <a:lnTo>
                    <a:pt x="279" y="255"/>
                  </a:lnTo>
                  <a:lnTo>
                    <a:pt x="295" y="223"/>
                  </a:lnTo>
                  <a:lnTo>
                    <a:pt x="311" y="183"/>
                  </a:lnTo>
                  <a:lnTo>
                    <a:pt x="311" y="151"/>
                  </a:lnTo>
                  <a:lnTo>
                    <a:pt x="319" y="112"/>
                  </a:lnTo>
                  <a:lnTo>
                    <a:pt x="311" y="88"/>
                  </a:lnTo>
                  <a:lnTo>
                    <a:pt x="303" y="72"/>
                  </a:lnTo>
                  <a:lnTo>
                    <a:pt x="271" y="64"/>
                  </a:lnTo>
                  <a:lnTo>
                    <a:pt x="192" y="56"/>
                  </a:lnTo>
                  <a:lnTo>
                    <a:pt x="104" y="48"/>
                  </a:lnTo>
                  <a:lnTo>
                    <a:pt x="80" y="40"/>
                  </a:lnTo>
                  <a:lnTo>
                    <a:pt x="48" y="24"/>
                  </a:lnTo>
                  <a:lnTo>
                    <a:pt x="24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6160" y="2237760"/>
              <a:ext cx="60480" cy="64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29000" y="1828800"/>
              <a:ext cx="2362320" cy="187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57480" y="2547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74640" y="2957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81680" y="2112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20920" y="1963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13480" y="1998000"/>
              <a:ext cx="690480" cy="1577160"/>
            </a:xfrm>
            <a:custGeom>
              <a:avLst/>
              <a:gdLst/>
              <a:ahLst/>
              <a:rect l="l" t="t" r="r" b="b"/>
              <a:pathLst>
                <a:path w="533" h="1218">
                  <a:moveTo>
                    <a:pt x="533" y="0"/>
                  </a:moveTo>
                  <a:lnTo>
                    <a:pt x="494" y="80"/>
                  </a:lnTo>
                  <a:lnTo>
                    <a:pt x="446" y="143"/>
                  </a:lnTo>
                  <a:lnTo>
                    <a:pt x="382" y="207"/>
                  </a:lnTo>
                  <a:lnTo>
                    <a:pt x="318" y="263"/>
                  </a:lnTo>
                  <a:lnTo>
                    <a:pt x="255" y="311"/>
                  </a:lnTo>
                  <a:lnTo>
                    <a:pt x="199" y="366"/>
                  </a:lnTo>
                  <a:lnTo>
                    <a:pt x="151" y="422"/>
                  </a:lnTo>
                  <a:lnTo>
                    <a:pt x="111" y="486"/>
                  </a:lnTo>
                  <a:lnTo>
                    <a:pt x="87" y="525"/>
                  </a:lnTo>
                  <a:lnTo>
                    <a:pt x="63" y="565"/>
                  </a:lnTo>
                  <a:lnTo>
                    <a:pt x="40" y="597"/>
                  </a:lnTo>
                  <a:lnTo>
                    <a:pt x="24" y="629"/>
                  </a:lnTo>
                  <a:lnTo>
                    <a:pt x="8" y="669"/>
                  </a:lnTo>
                  <a:lnTo>
                    <a:pt x="0" y="716"/>
                  </a:lnTo>
                  <a:lnTo>
                    <a:pt x="0" y="772"/>
                  </a:lnTo>
                  <a:lnTo>
                    <a:pt x="8" y="844"/>
                  </a:lnTo>
                  <a:lnTo>
                    <a:pt x="8" y="876"/>
                  </a:lnTo>
                  <a:lnTo>
                    <a:pt x="8" y="915"/>
                  </a:lnTo>
                  <a:lnTo>
                    <a:pt x="8" y="963"/>
                  </a:lnTo>
                  <a:lnTo>
                    <a:pt x="8" y="1011"/>
                  </a:lnTo>
                  <a:lnTo>
                    <a:pt x="8" y="1074"/>
                  </a:lnTo>
                  <a:lnTo>
                    <a:pt x="8" y="1122"/>
                  </a:lnTo>
                  <a:lnTo>
                    <a:pt x="16" y="1170"/>
                  </a:lnTo>
                  <a:lnTo>
                    <a:pt x="16" y="121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774760" y="3733920"/>
            <a:ext cx="2544840" cy="2106000"/>
            <a:chOff x="5774760" y="3733920"/>
            <a:chExt cx="2544840" cy="2106000"/>
          </a:xfrm>
        </p:grpSpPr>
        <p:grpSp>
          <p:nvGrpSpPr>
            <p:cNvPr id="275" name=""/>
            <p:cNvGrpSpPr/>
            <p:nvPr/>
          </p:nvGrpSpPr>
          <p:grpSpPr>
            <a:xfrm>
              <a:off x="6008400" y="3922560"/>
              <a:ext cx="2252160" cy="1916640"/>
              <a:chOff x="6008400" y="3922560"/>
              <a:chExt cx="2252160" cy="191664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6008400" y="4023720"/>
                <a:ext cx="2252160" cy="1815480"/>
                <a:chOff x="6008400" y="4023720"/>
                <a:chExt cx="2252160" cy="18154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0084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351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2607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3878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275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528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77988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051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322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1719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29720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42428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499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6766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8163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4196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6904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94320" y="4023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084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0084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0084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00840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00840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00840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0840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0840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0840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084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0084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0084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084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351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607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3878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5275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528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7988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051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322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1719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351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607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3878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275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528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351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2607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78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275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1351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607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1351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1351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1351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1351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26076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1351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6076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1351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26076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351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2607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1351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2607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3878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5275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528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77988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9051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322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1719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1351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607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878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275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528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7988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051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322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719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9720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42428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5499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766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163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94196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6904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194320" y="55634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9720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2428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5499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6766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163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94196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6904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194320" y="57016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29720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2428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5499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6766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8163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4196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6904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194320" y="54363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3878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275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528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77988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9051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322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719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29720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2428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5499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766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8163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4196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6904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194320" y="5311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77988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9051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322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1719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9720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2428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499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766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163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196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06904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194320" y="4149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6528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77988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9051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322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1719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29720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42428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5499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6766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3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96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6904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194320" y="42760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1719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1943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1943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1943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1943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1943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1943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1943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06904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06904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06904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06904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06904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0690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196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196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196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196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163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163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163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67664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67664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49920" y="51840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2972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2428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5499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766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163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419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4196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163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67664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5499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5499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54992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549920" y="50587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67664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67664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1632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8784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2752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5280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79880" y="4666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52800" y="47934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52800" y="4919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26076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3878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52752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5280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77988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0516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0000"/>
                      </a:solidFill>
                      <a:latin typeface="Helvetica-Narrow"/>
                    </a:rPr>
                    <a:t>3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032240" y="44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52752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5280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779880" y="45410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690516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0322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719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9720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2428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499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766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1632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4196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069040" y="4541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6076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8784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6076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784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2752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8784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2752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38784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752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8784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52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65280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7988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0516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3224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7192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29720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424280" y="51843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5280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7988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0516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3224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7192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29720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24280" y="50590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77988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0516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3224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7192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9720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24280" y="491940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7988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90516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3224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7192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9720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4280" y="47937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90516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03224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7192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9720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4280" y="46666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084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351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07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878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275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528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7988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051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22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1719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29720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2428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499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766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163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4196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06904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94320" y="3922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962680" y="3906720"/>
              <a:ext cx="2333520" cy="1931400"/>
              <a:chOff x="5962680" y="3906720"/>
              <a:chExt cx="2333520" cy="1931400"/>
            </a:xfrm>
          </p:grpSpPr>
          <p:sp>
            <p:nvSpPr>
              <p:cNvPr id="548" name=""/>
              <p:cNvSpPr/>
              <p:nvPr/>
            </p:nvSpPr>
            <p:spPr>
              <a:xfrm>
                <a:off x="5962680" y="390672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023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2944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35472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8180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07080" y="390672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467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7384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9912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26200" y="390672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962680" y="404604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023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2944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5472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48180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07080" y="404604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467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7384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99912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126200" y="404604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62680" y="41716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023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22944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472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8180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07080" y="41716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467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7384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9912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126200" y="41716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62680" y="42987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023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2944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5472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8180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07080" y="42987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7467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87384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9912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26200" y="42987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62680" y="44240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023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2944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35472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48180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607080" y="44240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7467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7384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9912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126200" y="44240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62680" y="4551120"/>
                <a:ext cx="1396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023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2944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35472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8180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607080" y="4551120"/>
                <a:ext cx="1396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467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7384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99912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26200" y="455112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62680" y="468900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023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2944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5472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48180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07080" y="468900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467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7384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9912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26200" y="4689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62680" y="48160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023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2944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472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8180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07080" y="481608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467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7384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9912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126200" y="48160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9431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023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2944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35472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48180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607080" y="494316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467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7384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9912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26200" y="494316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962680" y="50684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023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2944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35472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8180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07080" y="506844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7467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7384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912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26200" y="506844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962680" y="519552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023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2944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5472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8180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607080" y="519552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467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7384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9912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26200" y="519552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962680" y="532080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1023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2944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5472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8180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607080" y="5320800"/>
                <a:ext cx="1396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7467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7384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9912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26200" y="53208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962680" y="546048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1023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2944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35472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8180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607080" y="5460480"/>
                <a:ext cx="1396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7467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87384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9912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126200" y="546048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962680" y="558612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023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2944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5472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8180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07080" y="5586120"/>
                <a:ext cx="1396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467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87384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99912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26200" y="55861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962680" y="571320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1023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22944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35472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8180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607080" y="5713200"/>
                <a:ext cx="1396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467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7384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9912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126200" y="57132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5940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5940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5940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5940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5940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5940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5940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25940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25940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25940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25940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25940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5940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5940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5940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38648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38648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8648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38648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38648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8648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38648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38648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38648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38648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38648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8648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38648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38648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8648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13560" y="390672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513560" y="404604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13560" y="41716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13560" y="42987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13560" y="44240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513560" y="4551120"/>
                <a:ext cx="1382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13560" y="468900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513560" y="48160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513560" y="4943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13560" y="50684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13560" y="519552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13560" y="532080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13560" y="546048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13560" y="558612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13560" y="571320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51800" y="390672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51800" y="404604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51800" y="41716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51800" y="42987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51800" y="44240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51800" y="455112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1800" y="4689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51800" y="48160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51800" y="49431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1800" y="50684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51800" y="519552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51800" y="53208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51800" y="546048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51800" y="55861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51800" y="57132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78520" y="3906720"/>
                <a:ext cx="1256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78520" y="4046040"/>
                <a:ext cx="1256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78520" y="417168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78520" y="429876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778520" y="442404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78520" y="4551120"/>
                <a:ext cx="1256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78520" y="468900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78520" y="481608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78520" y="494316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78520" y="506844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78520" y="519552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78520" y="5320800"/>
                <a:ext cx="1256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78520" y="5460480"/>
                <a:ext cx="1256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78520" y="5586120"/>
                <a:ext cx="1256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778520" y="5713200"/>
                <a:ext cx="1256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904160" y="390672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04160" y="404604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904160" y="41716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904160" y="42987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904160" y="44240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904160" y="4551120"/>
                <a:ext cx="1270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04160" y="468900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904160" y="481608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904160" y="494316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904160" y="506844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904160" y="519552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904160" y="5320800"/>
                <a:ext cx="1270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904160" y="5460480"/>
                <a:ext cx="1270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904160" y="5586120"/>
                <a:ext cx="1270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904160" y="5713200"/>
                <a:ext cx="1270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031240" y="390672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031240" y="404604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031240" y="41716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031240" y="42987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031240" y="44240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31240" y="455112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031240" y="4689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031240" y="48160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031240" y="494316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31240" y="506844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031240" y="519552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31240" y="53208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031240" y="546048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031240" y="55861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31240" y="57132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157960" y="390672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157960" y="404604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157960" y="41716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157960" y="42987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57960" y="44240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157960" y="4551120"/>
                <a:ext cx="13824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157960" y="468900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157960" y="481608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157960" y="4943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157960" y="506844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157960" y="519552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157960" y="5320800"/>
                <a:ext cx="13824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157960" y="5460480"/>
                <a:ext cx="13824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157960" y="5586120"/>
                <a:ext cx="13824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157960" y="571320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8187840" y="373392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33600" y="37339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882760" y="3922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774760" y="57024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762120" y="3505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Object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67280" y="3505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mag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52680" y="37339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5800" y="1401840"/>
            <a:ext cx="7848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s geometric description is a simplification of its real geometr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752800">
            <a:off x="2933640" y="33145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18954600">
            <a:off x="5943240" y="32767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3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object m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the spatial unit of observation / of measur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geometrically described a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or complex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lyg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zon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roken 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linear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000" indent="-27684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 point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s geometry can be describe with a topological or non topologic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its geometrical description is associated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data ta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containing thematic properties, ..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4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object mode (continue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evel of details (resolution) of its geometrical description is linked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formati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evel of gener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d by the model of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al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ach individual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eometrical resolution is therefor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varia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an be adjusted to the complexity of each individual fea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Content of Lesson 2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al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Spatio-attribute properties of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Unit 4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4d4d4d"/>
                </a:solidFill>
                <a:latin typeface="Arial"/>
              </a:rPr>
              <a:t>Regionalis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5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99ff"/>
                </a:solidFill>
                <a:latin typeface="Arial"/>
              </a:rPr>
              <a:t>In image m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a set of units of observation / of measurement (the mesh, cell, pixe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defined as </a:t>
            </a:r>
            <a:r>
              <a:rPr b="1" lang="fr-FR" sz="2200" spc="-1" strike="noStrike">
                <a:solidFill>
                  <a:srgbClr val="cc0066"/>
                </a:solidFill>
                <a:latin typeface="Arial"/>
              </a:rPr>
              <a:t>a set of contiguous cells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sharing the same thematic property (valu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t is called a </a:t>
            </a:r>
            <a:r>
              <a:rPr b="1" lang="fr-FR" sz="2200" spc="-1" strike="noStrike">
                <a:solidFill>
                  <a:srgbClr val="cc0066"/>
                </a:solidFill>
                <a:latin typeface="Arial"/>
              </a:rPr>
              <a:t>region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(zonal, linear or poi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The thematic property of its components (cells) is stored in the numerical gri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it can express either a true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thematic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property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about the feature or its numerical </a:t>
            </a:r>
            <a:r>
              <a:rPr b="0" lang="fr-FR" sz="2100" spc="-1" strike="noStrike">
                <a:solidFill>
                  <a:srgbClr val="cc0066"/>
                </a:solidFill>
                <a:latin typeface="Arial"/>
              </a:rPr>
              <a:t>identification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(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finition of a spatial feature </a:t>
            </a: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(6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In image mode (continued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evel of detail (resolution) of its spatial description is linked 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information source (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evel of generalis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ided in the model of reality and applicable to all the layers in the G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ell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it of observ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patial resolution is therefor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fix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or all the units of observation (cells) and the whole set of grids (images) in the GD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xample of spatial features in object and image mod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bject m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age m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0560" y="2743200"/>
            <a:ext cx="90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Geneva"/>
              </a:rPr>
              <a:t>Linear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303200" y="2895480"/>
            <a:ext cx="2730240" cy="2249640"/>
            <a:chOff x="1303200" y="2895480"/>
            <a:chExt cx="2730240" cy="2249640"/>
          </a:xfrm>
        </p:grpSpPr>
        <p:sp>
          <p:nvSpPr>
            <p:cNvPr id="841" name=""/>
            <p:cNvSpPr/>
            <p:nvPr/>
          </p:nvSpPr>
          <p:spPr>
            <a:xfrm>
              <a:off x="1581120" y="33750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1303200" y="2895480"/>
              <a:ext cx="150840" cy="2249640"/>
              <a:chOff x="1303200" y="2895480"/>
              <a:chExt cx="150840" cy="2249640"/>
            </a:xfrm>
          </p:grpSpPr>
          <p:sp>
            <p:nvSpPr>
              <p:cNvPr id="843" name=""/>
              <p:cNvSpPr/>
              <p:nvPr/>
            </p:nvSpPr>
            <p:spPr>
              <a:xfrm>
                <a:off x="1303200" y="28954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303200" y="2895480"/>
                <a:ext cx="150840" cy="227160"/>
              </a:xfrm>
              <a:custGeom>
                <a:avLst/>
                <a:gdLst/>
                <a:ahLst/>
                <a:rect l="l" t="t" r="r" b="b"/>
                <a:pathLst>
                  <a:path w="95" h="143">
                    <a:moveTo>
                      <a:pt x="48" y="0"/>
                    </a:moveTo>
                    <a:lnTo>
                      <a:pt x="95" y="143"/>
                    </a:lnTo>
                    <a:lnTo>
                      <a:pt x="48" y="143"/>
                    </a:lnTo>
                    <a:lnTo>
                      <a:pt x="0" y="143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392120" y="3135240"/>
                <a:ext cx="1440" cy="200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366920" y="4979880"/>
              <a:ext cx="2666520" cy="152280"/>
              <a:chOff x="1366920" y="4979880"/>
              <a:chExt cx="2666520" cy="15228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6640" y="4979880"/>
                <a:ext cx="22680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806640" y="4979880"/>
                <a:ext cx="226800" cy="152280"/>
              </a:xfrm>
              <a:custGeom>
                <a:avLst/>
                <a:gdLst/>
                <a:ahLst/>
                <a:rect l="l" t="t" r="r" b="b"/>
                <a:pathLst>
                  <a:path w="143" h="96">
                    <a:moveTo>
                      <a:pt x="143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3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66920" y="5068800"/>
                <a:ext cx="2452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801800" y="3811680"/>
              <a:ext cx="25560" cy="25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5320" y="3805200"/>
              <a:ext cx="44316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95320" y="3805200"/>
              <a:ext cx="443160" cy="44280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0" y="0"/>
                  </a:moveTo>
                  <a:lnTo>
                    <a:pt x="279" y="72"/>
                  </a:lnTo>
                  <a:lnTo>
                    <a:pt x="144" y="2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81120" y="3375000"/>
              <a:ext cx="1960560" cy="1314360"/>
            </a:xfrm>
            <a:custGeom>
              <a:avLst/>
              <a:gdLst/>
              <a:ahLst/>
              <a:rect l="l" t="t" r="r" b="b"/>
              <a:pathLst>
                <a:path w="1235" h="828">
                  <a:moveTo>
                    <a:pt x="0" y="279"/>
                  </a:moveTo>
                  <a:lnTo>
                    <a:pt x="414" y="0"/>
                  </a:lnTo>
                  <a:lnTo>
                    <a:pt x="701" y="279"/>
                  </a:lnTo>
                  <a:lnTo>
                    <a:pt x="1235" y="279"/>
                  </a:lnTo>
                  <a:lnTo>
                    <a:pt x="836" y="693"/>
                  </a:lnTo>
                  <a:lnTo>
                    <a:pt x="135" y="828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93880" y="3375000"/>
              <a:ext cx="644760" cy="152892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93880" y="3375000"/>
              <a:ext cx="644760" cy="1528920"/>
            </a:xfrm>
            <a:custGeom>
              <a:avLst/>
              <a:gdLst/>
              <a:ahLst/>
              <a:rect l="l" t="t" r="r" b="b"/>
              <a:pathLst>
                <a:path w="406" h="963">
                  <a:moveTo>
                    <a:pt x="406" y="0"/>
                  </a:moveTo>
                  <a:lnTo>
                    <a:pt x="0" y="494"/>
                  </a:lnTo>
                  <a:lnTo>
                    <a:pt x="0" y="96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92120" y="3211560"/>
              <a:ext cx="236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3755880" y="3211200"/>
              <a:ext cx="1800" cy="18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62360" y="339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41720" y="3581280"/>
              <a:ext cx="74520" cy="79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24280" y="3429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71640" y="3809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20920" y="4267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320440" y="2971800"/>
            <a:ext cx="2544480" cy="2106000"/>
            <a:chOff x="5320440" y="2971800"/>
            <a:chExt cx="2544480" cy="2106000"/>
          </a:xfrm>
        </p:grpSpPr>
        <p:grpSp>
          <p:nvGrpSpPr>
            <p:cNvPr id="864" name=""/>
            <p:cNvGrpSpPr/>
            <p:nvPr/>
          </p:nvGrpSpPr>
          <p:grpSpPr>
            <a:xfrm>
              <a:off x="5553720" y="3160440"/>
              <a:ext cx="2251800" cy="1916640"/>
              <a:chOff x="5553720" y="3160440"/>
              <a:chExt cx="2251800" cy="191664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5553720" y="3261600"/>
                <a:ext cx="2251800" cy="1815480"/>
                <a:chOff x="5553720" y="3261600"/>
                <a:chExt cx="2251800" cy="181548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55537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6804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8057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9328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0724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1981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3248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4504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7756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7172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8425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9696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0948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22196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36164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48692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61400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739280" y="3261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5537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5537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5537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5537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5537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5537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537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5537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5537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5537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5537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5537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5537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6804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8057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9328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0724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981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3248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4504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57756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7172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6804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8057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9328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0724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1981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6804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8057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9328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0724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6804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8057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68044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6804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68044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68044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8057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68044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8057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8044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58057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6804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8057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6804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8057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9328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0724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1981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3248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4504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57756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7172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6804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8057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328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0724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1981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3248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4504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57756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7172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8425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9696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0948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22196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36164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8692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61400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739280" y="48013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8425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9696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0948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22196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36164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8692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61400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739280" y="49395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8425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9696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0948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22196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36164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48692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61400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739280" y="46742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9328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0724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1981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3248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4504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57756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7172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8425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9696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0948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22196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6164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48692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61400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739280" y="4548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3248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4504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57756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7172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8425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9696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48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22196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36164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8692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61400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739280" y="3386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1981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3248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504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57756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7172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8425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9696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0948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22196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6164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8692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61400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739280" y="351396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172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73928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73928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73928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73928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7392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73928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7392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61400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61400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61400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61400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61400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6140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8692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8692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869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869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36164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36164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36164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22196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22196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094880" y="44218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8425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9696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0948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22196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ff"/>
                      </a:solidFill>
                      <a:latin typeface="Helvetica-Narrow"/>
                    </a:rPr>
                    <a:t>4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3616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4869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0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4869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3616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22196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0948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09488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9488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094880" y="42966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22196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22196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36164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93280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07248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9812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24840" y="390420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198120" y="403128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198120" y="4156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2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8057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93280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0724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19812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32484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45048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0000"/>
                      </a:solidFill>
                      <a:latin typeface="Helvetica-Narrow"/>
                    </a:rPr>
                    <a:t>3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577560" y="365184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07248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19812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324840" y="3778920"/>
                  <a:ext cx="66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000000"/>
                      </a:solidFill>
                      <a:latin typeface="Helvetica-Narrow"/>
                    </a:rPr>
                    <a:t>1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>
                <a:off x="645048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57756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71724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84252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96960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09488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196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36164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8692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14000" y="3779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0572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3280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0572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3280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7248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93280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07248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93280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7248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93280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07248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9812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484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5048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7756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1724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84252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969600" y="44222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19812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2484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45048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7756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1724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84252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969600" y="42969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32484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5048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57756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71724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4252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969600" y="415728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2484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5048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57756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1724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4252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69600" y="40316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45048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7756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1724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4252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1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69600" y="390456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ff"/>
                    </a:solidFill>
                    <a:latin typeface="Helvetica-Narrow"/>
                  </a:rPr>
                  <a:t>4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5537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6804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057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328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0724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1981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3248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4504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57756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7172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8425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696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0948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2196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36164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692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1400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739280" y="3160440"/>
                <a:ext cx="66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Helvetica-Narrow"/>
                  </a:rPr>
                  <a:t>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5508360" y="3144600"/>
              <a:ext cx="2332800" cy="1931400"/>
              <a:chOff x="5508360" y="3144600"/>
              <a:chExt cx="2332800" cy="1931400"/>
            </a:xfrm>
          </p:grpSpPr>
          <p:sp>
            <p:nvSpPr>
              <p:cNvPr id="1137" name=""/>
              <p:cNvSpPr/>
              <p:nvPr/>
            </p:nvSpPr>
            <p:spPr>
              <a:xfrm>
                <a:off x="5508360" y="314460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6476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77476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90004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2712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152400" y="314460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920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41916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4444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71520" y="314460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08360" y="328392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6476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77476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0004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2712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52400" y="328392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20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41916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54444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671520" y="328392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08360" y="34095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6476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7476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0004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02712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52400" y="34095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920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41916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54444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671520" y="34095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08360" y="35366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6476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77476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0004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2712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2400" y="35366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920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41916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54444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671520" y="35366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508360" y="36619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476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7476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90004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2712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52400" y="36619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920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41916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444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671520" y="36619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08360" y="3789000"/>
                <a:ext cx="1393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476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77476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0004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2712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52400" y="3789000"/>
                <a:ext cx="1393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2920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41916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4444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71520" y="3789000"/>
                <a:ext cx="1249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508360" y="392688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6476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77476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90004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02712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152400" y="392688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2920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41916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54444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671520" y="392688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508360" y="40539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6476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77476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90004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02712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152400" y="405396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920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1916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54444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71520" y="405396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508360" y="41810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6476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7476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90004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2712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152400" y="41810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2920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1916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4444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71520" y="41810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508360" y="43063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476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77476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0004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2712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152400" y="430632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2920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41916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54444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671520" y="430632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508360" y="443340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6476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77476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90004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02712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152400" y="443340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2920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41916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4444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671520" y="443340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508360" y="455868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6476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77476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0004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2712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52400" y="4558680"/>
                <a:ext cx="1393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920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41916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54444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71520" y="4558680"/>
                <a:ext cx="1249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508360" y="469836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6476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7476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0004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02712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52400" y="4698360"/>
                <a:ext cx="1393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2920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41916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54444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671520" y="4698360"/>
                <a:ext cx="1249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08360" y="482400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6476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476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0004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2712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152400" y="4824000"/>
                <a:ext cx="1393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920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1916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4444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671520" y="4824000"/>
                <a:ext cx="1249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08360" y="49510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6476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7476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0004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712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152400" y="49510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2920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916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54444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671520" y="49510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80472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80472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80472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80472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80472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0472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0472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0472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80472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80472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80472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80472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80472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80472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80472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93180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93180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93180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93180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93180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93180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3180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93180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93180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3180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93180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93180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93180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3180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3180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058880" y="314460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058880" y="328392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058880" y="34095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058880" y="35366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058880" y="36619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058880" y="3789000"/>
                <a:ext cx="1378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058880" y="392688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058880" y="40539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058880" y="41810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058880" y="43063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058880" y="443340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058880" y="455868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058880" y="469836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58880" y="482400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058880" y="495108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97120" y="314460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197120" y="328392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197120" y="34095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97120" y="35366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197120" y="36619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197120" y="3789000"/>
                <a:ext cx="12636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197120" y="392688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197120" y="40539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197120" y="41810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197120" y="43063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197120" y="443340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97120" y="455868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197120" y="469836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97120" y="482400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197120" y="49510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23840" y="314460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323840" y="328392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323840" y="340956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323840" y="353664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323840" y="36619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23840" y="3789000"/>
                <a:ext cx="1252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23840" y="392688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323840" y="405396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323840" y="418104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23840" y="430632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23840" y="443340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323840" y="4558680"/>
                <a:ext cx="1252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23840" y="4698360"/>
                <a:ext cx="1252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23840" y="4824000"/>
                <a:ext cx="1252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23840" y="4951080"/>
                <a:ext cx="1252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449480" y="314460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449480" y="328392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49480" y="34095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49480" y="35366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449480" y="36619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449480" y="3789000"/>
                <a:ext cx="12672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49480" y="392688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49480" y="405396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449480" y="418104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449480" y="430632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449480" y="443340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49480" y="4558680"/>
                <a:ext cx="12672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49480" y="4698360"/>
                <a:ext cx="12672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49480" y="4824000"/>
                <a:ext cx="12672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49480" y="4951080"/>
                <a:ext cx="1267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76560" y="314460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76560" y="328392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76560" y="34095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76560" y="35366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76560" y="36619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576560" y="3789000"/>
                <a:ext cx="12636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576560" y="392688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576560" y="405396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576560" y="41810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576560" y="430632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576560" y="443340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576560" y="4558680"/>
                <a:ext cx="12636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576560" y="4698360"/>
                <a:ext cx="12636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576560" y="4824000"/>
                <a:ext cx="12636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576560" y="49510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703280" y="314460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703280" y="328392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03280" y="34095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703280" y="35366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703280" y="36619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703280" y="3789000"/>
                <a:ext cx="137880" cy="137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703280" y="392688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703280" y="405396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703280" y="418104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703280" y="430632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703280" y="443340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03280" y="4558680"/>
                <a:ext cx="137880" cy="139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703280" y="4698360"/>
                <a:ext cx="137880" cy="1252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703280" y="4824000"/>
                <a:ext cx="137880" cy="1267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703280" y="4951080"/>
                <a:ext cx="13788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7733160" y="29718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79280" y="2971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28440" y="3160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20440" y="49402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Helvetica-Narrow"/>
                </a:rPr>
                <a:t>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 flipH="1">
            <a:off x="3352320" y="28954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86400" y="274320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Point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285640" y="2895480"/>
            <a:ext cx="104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307160" y="5334120"/>
            <a:ext cx="83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real fea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1676520" y="4114440"/>
            <a:ext cx="38088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676520" y="44953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61200" y="281952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Geneva"/>
              </a:rPr>
              <a:t>Linear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7543440" y="29718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108840" y="281952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Point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6476760" y="2971800"/>
            <a:ext cx="10476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55800" y="525780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real reg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791320" y="3962520"/>
            <a:ext cx="4572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5791320" y="4419720"/>
            <a:ext cx="6094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Structure of the Less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426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2: Spatial properties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Spatial statistics and ind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geometric properti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l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arrangement (patter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f a set of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3: Spatio-thematic properties of featur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Spatio-thematic statistics and ind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tial distribution of spatio-thematic properti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l features /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combine spatial and thematic properties of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iversity of spatial and thematic propertie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33" name=""/>
          <p:cNvGraphicFramePr/>
          <p:nvPr/>
        </p:nvGraphicFramePr>
        <p:xfrm>
          <a:off x="76320" y="2062080"/>
          <a:ext cx="8997840" cy="317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062080"/>
                    <a:ext cx="89978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4: Regionalisa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</a:rPr>
              <a:t>Feature properties allo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a set of point measurements (sampl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a representative property to pre-defined features (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lab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ing space into features with homogeneous properties (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gregated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desagregated fe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4267080" y="1752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09880" y="2514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00"/>
                </a:solidFill>
                <a:latin typeface="Arial"/>
              </a:rPr>
              <a:t>Allo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y label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19320" y="3429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is the thematic property for each featu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267080" y="45403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733920" y="5302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Zo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infer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1425600" y="2475000"/>
            <a:ext cx="1760400" cy="811080"/>
            <a:chOff x="1425600" y="2475000"/>
            <a:chExt cx="1760400" cy="811080"/>
          </a:xfrm>
        </p:grpSpPr>
        <p:grpSp>
          <p:nvGrpSpPr>
            <p:cNvPr id="1443" name=""/>
            <p:cNvGrpSpPr/>
            <p:nvPr/>
          </p:nvGrpSpPr>
          <p:grpSpPr>
            <a:xfrm>
              <a:off x="1449360" y="2633400"/>
              <a:ext cx="1661760" cy="614520"/>
              <a:chOff x="1449360" y="2633400"/>
              <a:chExt cx="1661760" cy="614520"/>
            </a:xfrm>
          </p:grpSpPr>
          <p:grpSp>
            <p:nvGrpSpPr>
              <p:cNvPr id="1444" name=""/>
              <p:cNvGrpSpPr/>
              <p:nvPr/>
            </p:nvGrpSpPr>
            <p:grpSpPr>
              <a:xfrm>
                <a:off x="1449360" y="2748240"/>
                <a:ext cx="353520" cy="456840"/>
                <a:chOff x="1449360" y="2748240"/>
                <a:chExt cx="353520" cy="456840"/>
              </a:xfrm>
            </p:grpSpPr>
            <p:sp>
              <p:nvSpPr>
                <p:cNvPr id="1445" name=""/>
                <p:cNvSpPr/>
                <p:nvPr/>
              </p:nvSpPr>
              <p:spPr>
                <a:xfrm flipV="1">
                  <a:off x="1449360" y="2813040"/>
                  <a:ext cx="63360" cy="392040"/>
                </a:xfrm>
                <a:prstGeom prst="line">
                  <a:avLst/>
                </a:prstGeom>
                <a:ln w="1908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>
                  <a:off x="1504800" y="2748240"/>
                  <a:ext cx="298080" cy="6660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 flipV="1">
                <a:off x="2732040" y="2809800"/>
                <a:ext cx="25200" cy="438120"/>
              </a:xfrm>
              <a:prstGeom prst="line">
                <a:avLst/>
              </a:prstGeom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8" name=""/>
              <p:cNvGrpSpPr/>
              <p:nvPr/>
            </p:nvGrpSpPr>
            <p:grpSpPr>
              <a:xfrm>
                <a:off x="1790280" y="2757600"/>
                <a:ext cx="964800" cy="177840"/>
                <a:chOff x="1790280" y="2757600"/>
                <a:chExt cx="964800" cy="177840"/>
              </a:xfrm>
            </p:grpSpPr>
            <p:sp>
              <p:nvSpPr>
                <p:cNvPr id="1449" name=""/>
                <p:cNvSpPr/>
                <p:nvPr/>
              </p:nvSpPr>
              <p:spPr>
                <a:xfrm flipH="1">
                  <a:off x="2075760" y="2819520"/>
                  <a:ext cx="679320" cy="11448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 flipV="1">
                  <a:off x="1790280" y="2757600"/>
                  <a:ext cx="299880" cy="1778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1801800" y="2633400"/>
                <a:ext cx="971640" cy="178200"/>
                <a:chOff x="1801800" y="2633400"/>
                <a:chExt cx="971640" cy="178200"/>
              </a:xfrm>
            </p:grpSpPr>
            <p:sp>
              <p:nvSpPr>
                <p:cNvPr id="1452" name=""/>
                <p:cNvSpPr/>
                <p:nvPr/>
              </p:nvSpPr>
              <p:spPr>
                <a:xfrm flipH="1" flipV="1">
                  <a:off x="2417760" y="2633760"/>
                  <a:ext cx="355680" cy="1778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V="1">
                  <a:off x="1801800" y="2633760"/>
                  <a:ext cx="287640" cy="114480"/>
                </a:xfrm>
                <a:prstGeom prst="line">
                  <a:avLst/>
                </a:prstGeom>
                <a:ln w="1908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 flipV="1">
                  <a:off x="2086200" y="2633400"/>
                  <a:ext cx="333360" cy="180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 flipH="1" flipV="1">
                <a:off x="2765160" y="2814480"/>
                <a:ext cx="345960" cy="173160"/>
              </a:xfrm>
              <a:prstGeom prst="line">
                <a:avLst/>
              </a:prstGeom>
              <a:ln w="255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>
              <a:off x="1425600" y="306720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30280" y="29847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7600" y="275292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433520" y="2622600"/>
              <a:ext cx="23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930320" y="263376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03320" y="247500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387520" y="26006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03360" y="24861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954080" y="282420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50840" y="271476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54240" y="2862360"/>
              <a:ext cx="74520" cy="7488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27240" y="271008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63840" y="281016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75000" y="2833920"/>
              <a:ext cx="196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16200" y="290052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12960" y="282744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692440" y="31388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14400" y="3070440"/>
              <a:ext cx="30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73240" y="2895840"/>
              <a:ext cx="74520" cy="745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989080" y="2813400"/>
              <a:ext cx="196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1444680" y="1143000"/>
            <a:ext cx="1720800" cy="1197000"/>
            <a:chOff x="1444680" y="1143000"/>
            <a:chExt cx="1720800" cy="1197000"/>
          </a:xfrm>
        </p:grpSpPr>
        <p:grpSp>
          <p:nvGrpSpPr>
            <p:cNvPr id="1477" name=""/>
            <p:cNvGrpSpPr/>
            <p:nvPr/>
          </p:nvGrpSpPr>
          <p:grpSpPr>
            <a:xfrm>
              <a:off x="1444680" y="1165320"/>
              <a:ext cx="1654200" cy="1174680"/>
              <a:chOff x="1444680" y="1165320"/>
              <a:chExt cx="1654200" cy="1174680"/>
            </a:xfrm>
          </p:grpSpPr>
          <p:sp>
            <p:nvSpPr>
              <p:cNvPr id="1478" name=""/>
              <p:cNvSpPr/>
              <p:nvPr/>
            </p:nvSpPr>
            <p:spPr>
              <a:xfrm>
                <a:off x="1450800" y="1447920"/>
                <a:ext cx="692280" cy="476280"/>
              </a:xfrm>
              <a:custGeom>
                <a:avLst/>
                <a:gdLst/>
                <a:ahLst/>
                <a:rect l="l" t="t" r="r" b="b"/>
                <a:pathLst>
                  <a:path w="277" h="234">
                    <a:moveTo>
                      <a:pt x="78" y="0"/>
                    </a:moveTo>
                    <a:lnTo>
                      <a:pt x="0" y="113"/>
                    </a:lnTo>
                    <a:lnTo>
                      <a:pt x="127" y="233"/>
                    </a:lnTo>
                    <a:lnTo>
                      <a:pt x="276" y="184"/>
                    </a:lnTo>
                    <a:lnTo>
                      <a:pt x="276" y="92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666800" y="1165320"/>
                <a:ext cx="995400" cy="466920"/>
              </a:xfrm>
              <a:custGeom>
                <a:avLst/>
                <a:gdLst/>
                <a:ahLst/>
                <a:rect l="l" t="t" r="r" b="b"/>
                <a:pathLst>
                  <a:path w="397" h="229">
                    <a:moveTo>
                      <a:pt x="28" y="0"/>
                    </a:moveTo>
                    <a:lnTo>
                      <a:pt x="0" y="144"/>
                    </a:lnTo>
                    <a:lnTo>
                      <a:pt x="192" y="228"/>
                    </a:lnTo>
                    <a:lnTo>
                      <a:pt x="396" y="168"/>
                    </a:lnTo>
                    <a:lnTo>
                      <a:pt x="276" y="0"/>
                    </a:lnTo>
                    <a:lnTo>
                      <a:pt x="2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5760" y="1513080"/>
                <a:ext cx="1113120" cy="822240"/>
              </a:xfrm>
              <a:custGeom>
                <a:avLst/>
                <a:gdLst/>
                <a:ahLst/>
                <a:rect l="l" t="t" r="r" b="b"/>
                <a:pathLst>
                  <a:path w="445" h="405">
                    <a:moveTo>
                      <a:pt x="44" y="312"/>
                    </a:moveTo>
                    <a:lnTo>
                      <a:pt x="0" y="176"/>
                    </a:lnTo>
                    <a:lnTo>
                      <a:pt x="64" y="152"/>
                    </a:lnTo>
                    <a:lnTo>
                      <a:pt x="64" y="56"/>
                    </a:lnTo>
                    <a:lnTo>
                      <a:pt x="264" y="0"/>
                    </a:lnTo>
                    <a:lnTo>
                      <a:pt x="444" y="100"/>
                    </a:lnTo>
                    <a:lnTo>
                      <a:pt x="412" y="248"/>
                    </a:lnTo>
                    <a:lnTo>
                      <a:pt x="256" y="248"/>
                    </a:lnTo>
                    <a:lnTo>
                      <a:pt x="192" y="404"/>
                    </a:lnTo>
                    <a:lnTo>
                      <a:pt x="44" y="3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444680" y="1825920"/>
                <a:ext cx="652320" cy="514080"/>
              </a:xfrm>
              <a:custGeom>
                <a:avLst/>
                <a:gdLst/>
                <a:ahLst/>
                <a:rect l="l" t="t" r="r" b="b"/>
                <a:pathLst>
                  <a:path w="261" h="253">
                    <a:moveTo>
                      <a:pt x="0" y="124"/>
                    </a:moveTo>
                    <a:lnTo>
                      <a:pt x="76" y="0"/>
                    </a:lnTo>
                    <a:lnTo>
                      <a:pt x="132" y="44"/>
                    </a:lnTo>
                    <a:lnTo>
                      <a:pt x="216" y="20"/>
                    </a:lnTo>
                    <a:lnTo>
                      <a:pt x="260" y="156"/>
                    </a:lnTo>
                    <a:lnTo>
                      <a:pt x="128" y="252"/>
                    </a:lnTo>
                    <a:lnTo>
                      <a:pt x="0" y="12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1538280" y="1211400"/>
              <a:ext cx="1407960" cy="993600"/>
              <a:chOff x="1538280" y="1211400"/>
              <a:chExt cx="1407960" cy="993600"/>
            </a:xfrm>
          </p:grpSpPr>
          <p:sp>
            <p:nvSpPr>
              <p:cNvPr id="1483" name=""/>
              <p:cNvSpPr/>
              <p:nvPr/>
            </p:nvSpPr>
            <p:spPr>
              <a:xfrm>
                <a:off x="1800360" y="121140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5760" y="13924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76400" y="16210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695600" y="15400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790640" y="17542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42960" y="164016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47920" y="141624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228760" y="121140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886040" y="1944720"/>
                <a:ext cx="74520" cy="7488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24000" y="197352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362320" y="210672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442960" y="18496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871720" y="1863720"/>
                <a:ext cx="74520" cy="7488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628720" y="162576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247840" y="167328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776240" y="2130480"/>
                <a:ext cx="7488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538280" y="2021040"/>
                <a:ext cx="74520" cy="74520"/>
              </a:xfrm>
              <a:prstGeom prst="triangle">
                <a:avLst>
                  <a:gd name="adj" fmla="val 51065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1827360" y="114300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22480" y="133848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251080" y="114804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360520" y="1333800"/>
              <a:ext cx="2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36840" y="144324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03240" y="1538280"/>
              <a:ext cx="2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55560" y="1600200"/>
              <a:ext cx="21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0160" y="1586160"/>
              <a:ext cx="280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646360" y="1557360"/>
              <a:ext cx="3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98800" y="181944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46480" y="199548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46200" y="177192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32120" y="17193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527120" y="20289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660680" y="188136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770120" y="2057400"/>
              <a:ext cx="33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806480" y="1695600"/>
              <a:ext cx="21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6054840" y="1143000"/>
            <a:ext cx="1654200" cy="1174680"/>
            <a:chOff x="6054840" y="1143000"/>
            <a:chExt cx="1654200" cy="1174680"/>
          </a:xfrm>
        </p:grpSpPr>
        <p:grpSp>
          <p:nvGrpSpPr>
            <p:cNvPr id="1518" name=""/>
            <p:cNvGrpSpPr/>
            <p:nvPr/>
          </p:nvGrpSpPr>
          <p:grpSpPr>
            <a:xfrm>
              <a:off x="6054840" y="1143000"/>
              <a:ext cx="1654200" cy="1174680"/>
              <a:chOff x="6054840" y="1143000"/>
              <a:chExt cx="1654200" cy="1174680"/>
            </a:xfrm>
          </p:grpSpPr>
          <p:sp>
            <p:nvSpPr>
              <p:cNvPr id="1519" name=""/>
              <p:cNvSpPr/>
              <p:nvPr/>
            </p:nvSpPr>
            <p:spPr>
              <a:xfrm>
                <a:off x="6064200" y="1425600"/>
                <a:ext cx="692280" cy="476280"/>
              </a:xfrm>
              <a:custGeom>
                <a:avLst/>
                <a:gdLst/>
                <a:ahLst/>
                <a:rect l="l" t="t" r="r" b="b"/>
                <a:pathLst>
                  <a:path w="277" h="234">
                    <a:moveTo>
                      <a:pt x="78" y="0"/>
                    </a:moveTo>
                    <a:lnTo>
                      <a:pt x="0" y="113"/>
                    </a:lnTo>
                    <a:lnTo>
                      <a:pt x="127" y="233"/>
                    </a:lnTo>
                    <a:lnTo>
                      <a:pt x="276" y="184"/>
                    </a:lnTo>
                    <a:lnTo>
                      <a:pt x="276" y="92"/>
                    </a:lnTo>
                    <a:lnTo>
                      <a:pt x="78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270840" y="1143000"/>
                <a:ext cx="995400" cy="466920"/>
              </a:xfrm>
              <a:custGeom>
                <a:avLst/>
                <a:gdLst/>
                <a:ahLst/>
                <a:rect l="l" t="t" r="r" b="b"/>
                <a:pathLst>
                  <a:path w="397" h="229">
                    <a:moveTo>
                      <a:pt x="28" y="0"/>
                    </a:moveTo>
                    <a:lnTo>
                      <a:pt x="0" y="144"/>
                    </a:lnTo>
                    <a:lnTo>
                      <a:pt x="192" y="228"/>
                    </a:lnTo>
                    <a:lnTo>
                      <a:pt x="396" y="168"/>
                    </a:lnTo>
                    <a:lnTo>
                      <a:pt x="276" y="0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596280" y="1486080"/>
                <a:ext cx="1112760" cy="822240"/>
              </a:xfrm>
              <a:custGeom>
                <a:avLst/>
                <a:gdLst/>
                <a:ahLst/>
                <a:rect l="l" t="t" r="r" b="b"/>
                <a:pathLst>
                  <a:path w="445" h="405">
                    <a:moveTo>
                      <a:pt x="44" y="312"/>
                    </a:moveTo>
                    <a:lnTo>
                      <a:pt x="0" y="176"/>
                    </a:lnTo>
                    <a:lnTo>
                      <a:pt x="64" y="152"/>
                    </a:lnTo>
                    <a:lnTo>
                      <a:pt x="64" y="56"/>
                    </a:lnTo>
                    <a:lnTo>
                      <a:pt x="264" y="0"/>
                    </a:lnTo>
                    <a:lnTo>
                      <a:pt x="444" y="100"/>
                    </a:lnTo>
                    <a:lnTo>
                      <a:pt x="412" y="248"/>
                    </a:lnTo>
                    <a:lnTo>
                      <a:pt x="256" y="248"/>
                    </a:lnTo>
                    <a:lnTo>
                      <a:pt x="192" y="404"/>
                    </a:lnTo>
                    <a:lnTo>
                      <a:pt x="44" y="312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054840" y="1803600"/>
                <a:ext cx="652320" cy="514080"/>
              </a:xfrm>
              <a:custGeom>
                <a:avLst/>
                <a:gdLst/>
                <a:ahLst/>
                <a:rect l="l" t="t" r="r" b="b"/>
                <a:pathLst>
                  <a:path w="261" h="253">
                    <a:moveTo>
                      <a:pt x="0" y="124"/>
                    </a:moveTo>
                    <a:lnTo>
                      <a:pt x="76" y="0"/>
                    </a:lnTo>
                    <a:lnTo>
                      <a:pt x="132" y="44"/>
                    </a:lnTo>
                    <a:lnTo>
                      <a:pt x="216" y="20"/>
                    </a:lnTo>
                    <a:lnTo>
                      <a:pt x="260" y="156"/>
                    </a:lnTo>
                    <a:lnTo>
                      <a:pt x="128" y="252"/>
                    </a:lnTo>
                    <a:lnTo>
                      <a:pt x="0" y="124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"/>
            <p:cNvSpPr/>
            <p:nvPr/>
          </p:nvSpPr>
          <p:spPr>
            <a:xfrm>
              <a:off x="6606000" y="12240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015680" y="1671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01440" y="1557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63280" y="1967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5915160" y="2362320"/>
            <a:ext cx="1931040" cy="924120"/>
            <a:chOff x="5915160" y="2362320"/>
            <a:chExt cx="1931040" cy="924120"/>
          </a:xfrm>
        </p:grpSpPr>
        <p:grpSp>
          <p:nvGrpSpPr>
            <p:cNvPr id="1528" name=""/>
            <p:cNvGrpSpPr/>
            <p:nvPr/>
          </p:nvGrpSpPr>
          <p:grpSpPr>
            <a:xfrm>
              <a:off x="6113160" y="2626920"/>
              <a:ext cx="1661760" cy="614520"/>
              <a:chOff x="6113160" y="2626920"/>
              <a:chExt cx="1661760" cy="614520"/>
            </a:xfrm>
          </p:grpSpPr>
          <p:grpSp>
            <p:nvGrpSpPr>
              <p:cNvPr id="1529" name=""/>
              <p:cNvGrpSpPr/>
              <p:nvPr/>
            </p:nvGrpSpPr>
            <p:grpSpPr>
              <a:xfrm>
                <a:off x="6113160" y="2741760"/>
                <a:ext cx="354240" cy="447480"/>
                <a:chOff x="6113160" y="2741760"/>
                <a:chExt cx="354240" cy="447480"/>
              </a:xfrm>
            </p:grpSpPr>
            <p:sp>
              <p:nvSpPr>
                <p:cNvPr id="1530" name=""/>
                <p:cNvSpPr/>
                <p:nvPr/>
              </p:nvSpPr>
              <p:spPr>
                <a:xfrm flipV="1">
                  <a:off x="6113160" y="2793960"/>
                  <a:ext cx="54000" cy="39528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>
                  <a:off x="6168600" y="2741760"/>
                  <a:ext cx="298800" cy="66600"/>
                </a:xfrm>
                <a:prstGeom prst="line">
                  <a:avLst/>
                </a:prstGeom>
                <a:ln cap="rnd" w="255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2" name=""/>
              <p:cNvSpPr/>
              <p:nvPr/>
            </p:nvSpPr>
            <p:spPr>
              <a:xfrm flipV="1">
                <a:off x="7395840" y="2803320"/>
                <a:ext cx="25560" cy="43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6454080" y="2751120"/>
                <a:ext cx="964800" cy="177840"/>
                <a:chOff x="6454080" y="2751120"/>
                <a:chExt cx="964800" cy="177840"/>
              </a:xfrm>
            </p:grpSpPr>
            <p:sp>
              <p:nvSpPr>
                <p:cNvPr id="1534" name=""/>
                <p:cNvSpPr/>
                <p:nvPr/>
              </p:nvSpPr>
              <p:spPr>
                <a:xfrm flipH="1">
                  <a:off x="6739560" y="2813040"/>
                  <a:ext cx="679320" cy="114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flipV="1">
                  <a:off x="6454080" y="2751120"/>
                  <a:ext cx="299880" cy="17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6465600" y="2626920"/>
                <a:ext cx="971640" cy="178200"/>
                <a:chOff x="6465600" y="2626920"/>
                <a:chExt cx="971640" cy="178200"/>
              </a:xfrm>
            </p:grpSpPr>
            <p:sp>
              <p:nvSpPr>
                <p:cNvPr id="1537" name=""/>
                <p:cNvSpPr/>
                <p:nvPr/>
              </p:nvSpPr>
              <p:spPr>
                <a:xfrm flipH="1" flipV="1">
                  <a:off x="7081560" y="2627280"/>
                  <a:ext cx="35568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V="1">
                  <a:off x="6465600" y="2627280"/>
                  <a:ext cx="28764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flipV="1">
                  <a:off x="6750000" y="2626920"/>
                  <a:ext cx="3333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0" name=""/>
              <p:cNvSpPr/>
              <p:nvPr/>
            </p:nvSpPr>
            <p:spPr>
              <a:xfrm flipH="1" flipV="1">
                <a:off x="7428960" y="2808000"/>
                <a:ext cx="345960" cy="17316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5915160" y="2819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3880" y="294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72680" y="2362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382160" y="30099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572600" y="26481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6095880" y="4038120"/>
            <a:ext cx="1636920" cy="1829160"/>
            <a:chOff x="6095880" y="4038120"/>
            <a:chExt cx="1636920" cy="1829160"/>
          </a:xfrm>
        </p:grpSpPr>
        <p:grpSp>
          <p:nvGrpSpPr>
            <p:cNvPr id="1547" name=""/>
            <p:cNvGrpSpPr/>
            <p:nvPr/>
          </p:nvGrpSpPr>
          <p:grpSpPr>
            <a:xfrm>
              <a:off x="6095880" y="4038120"/>
              <a:ext cx="1636200" cy="1828080"/>
              <a:chOff x="6095880" y="4038120"/>
              <a:chExt cx="1636200" cy="1828080"/>
            </a:xfrm>
          </p:grpSpPr>
          <p:grpSp>
            <p:nvGrpSpPr>
              <p:cNvPr id="1548" name=""/>
              <p:cNvGrpSpPr/>
              <p:nvPr/>
            </p:nvGrpSpPr>
            <p:grpSpPr>
              <a:xfrm>
                <a:off x="6095880" y="4038480"/>
                <a:ext cx="866160" cy="769320"/>
                <a:chOff x="6095880" y="4038480"/>
                <a:chExt cx="866160" cy="76932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6095880" y="4615560"/>
                  <a:ext cx="48096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6576840" y="461556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6769440" y="4518720"/>
                  <a:ext cx="19260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>
                  <a:off x="6095880" y="4038480"/>
                  <a:ext cx="8661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095880" y="4038480"/>
                  <a:ext cx="0" cy="5770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962040" y="4038480"/>
                  <a:ext cx="0" cy="480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6095880" y="4615560"/>
                <a:ext cx="769680" cy="961920"/>
                <a:chOff x="6095880" y="4615560"/>
                <a:chExt cx="769680" cy="96192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6095880" y="4615560"/>
                  <a:ext cx="48096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76840" y="4807800"/>
                  <a:ext cx="961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673320" y="5000400"/>
                  <a:ext cx="19224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6576840" y="5289120"/>
                  <a:ext cx="288720" cy="957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6095880" y="5384880"/>
                  <a:ext cx="4809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V="1">
                  <a:off x="6095880" y="4615560"/>
                  <a:ext cx="0" cy="9619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962400" y="4038120"/>
                <a:ext cx="769680" cy="865800"/>
                <a:chOff x="6962400" y="4038120"/>
                <a:chExt cx="769680" cy="865800"/>
              </a:xfrm>
            </p:grpSpPr>
            <p:sp>
              <p:nvSpPr>
                <p:cNvPr id="1563" name=""/>
                <p:cNvSpPr/>
                <p:nvPr/>
              </p:nvSpPr>
              <p:spPr>
                <a:xfrm flipV="1">
                  <a:off x="6962400" y="4038120"/>
                  <a:ext cx="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962400" y="4038480"/>
                  <a:ext cx="0" cy="480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962400" y="4519080"/>
                  <a:ext cx="19224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154640" y="4615560"/>
                  <a:ext cx="9612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251120" y="490392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7732080" y="4038480"/>
                  <a:ext cx="0" cy="8654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>
                  <a:off x="6962400" y="4038480"/>
                  <a:ext cx="76968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6095880" y="5289480"/>
                <a:ext cx="1154880" cy="576720"/>
                <a:chOff x="6095880" y="5289480"/>
                <a:chExt cx="1154880" cy="576720"/>
              </a:xfrm>
            </p:grpSpPr>
            <p:sp>
              <p:nvSpPr>
                <p:cNvPr id="1571" name=""/>
                <p:cNvSpPr/>
                <p:nvPr/>
              </p:nvSpPr>
              <p:spPr>
                <a:xfrm flipV="1">
                  <a:off x="6095880" y="5384880"/>
                  <a:ext cx="4809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V="1">
                  <a:off x="6576840" y="5289480"/>
                  <a:ext cx="288720" cy="957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865560" y="5289480"/>
                  <a:ext cx="192240" cy="1918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58160" y="5481360"/>
                  <a:ext cx="192600" cy="38448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6095880" y="5866200"/>
                  <a:ext cx="115488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V="1">
                  <a:off x="6095880" y="5577480"/>
                  <a:ext cx="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6865920" y="4904280"/>
                <a:ext cx="866160" cy="961920"/>
                <a:chOff x="6865920" y="4904280"/>
                <a:chExt cx="866160" cy="96192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7058160" y="5481360"/>
                  <a:ext cx="192600" cy="3848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 flipV="1">
                  <a:off x="6865920" y="528912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6865920" y="5096160"/>
                  <a:ext cx="2887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V="1">
                  <a:off x="7154640" y="4904280"/>
                  <a:ext cx="9612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51120" y="490428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732080" y="4904280"/>
                  <a:ext cx="0" cy="9619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>
                  <a:off x="7251120" y="5866200"/>
                  <a:ext cx="480960" cy="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6576480" y="4519080"/>
                <a:ext cx="673560" cy="770040"/>
                <a:chOff x="6576480" y="4519080"/>
                <a:chExt cx="673560" cy="770040"/>
              </a:xfrm>
            </p:grpSpPr>
            <p:sp>
              <p:nvSpPr>
                <p:cNvPr id="1586" name=""/>
                <p:cNvSpPr/>
                <p:nvPr/>
              </p:nvSpPr>
              <p:spPr>
                <a:xfrm flipV="1">
                  <a:off x="6576840" y="4615560"/>
                  <a:ext cx="19224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6769080" y="4519080"/>
                  <a:ext cx="19260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961680" y="4519440"/>
                  <a:ext cx="192240" cy="9612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153920" y="4615560"/>
                  <a:ext cx="9612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>
                  <a:off x="7153560" y="4904280"/>
                  <a:ext cx="96120" cy="19224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>
                  <a:off x="6864840" y="5096520"/>
                  <a:ext cx="28836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flipV="1">
                  <a:off x="6672960" y="5000400"/>
                  <a:ext cx="192240" cy="28836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flipV="1">
                  <a:off x="6576480" y="4807440"/>
                  <a:ext cx="96120" cy="192600"/>
                </a:xfrm>
                <a:prstGeom prst="line">
                  <a:avLst/>
                </a:prstGeom>
                <a:ln cap="rnd" w="12600">
                  <a:solidFill>
                    <a:srgbClr val="33333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4" name=""/>
            <p:cNvSpPr/>
            <p:nvPr/>
          </p:nvSpPr>
          <p:spPr>
            <a:xfrm>
              <a:off x="6288120" y="5000760"/>
              <a:ext cx="27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673680" y="5481720"/>
              <a:ext cx="1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770520" y="4730760"/>
              <a:ext cx="2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251840" y="43275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84960" y="4230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251840" y="519444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95880" y="4038480"/>
              <a:ext cx="163692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1447920" y="3962520"/>
            <a:ext cx="1704600" cy="1904400"/>
            <a:chOff x="1447920" y="3962520"/>
            <a:chExt cx="1704600" cy="1904400"/>
          </a:xfrm>
        </p:grpSpPr>
        <p:sp>
          <p:nvSpPr>
            <p:cNvPr id="1602" name=""/>
            <p:cNvSpPr/>
            <p:nvPr/>
          </p:nvSpPr>
          <p:spPr>
            <a:xfrm>
              <a:off x="1740240" y="4864320"/>
              <a:ext cx="28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48960" y="4263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9600" y="469116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32920" y="5568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706760" y="501696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753640" y="42631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53640" y="5267520"/>
              <a:ext cx="97920" cy="97920"/>
            </a:xfrm>
            <a:prstGeom prst="triangle">
              <a:avLst>
                <a:gd name="adj" fmla="val 51065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81920" y="5465880"/>
              <a:ext cx="401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50440" y="456372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51840" y="4062600"/>
              <a:ext cx="40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48960" y="406260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751840" y="5365440"/>
              <a:ext cx="30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3962520"/>
              <a:ext cx="1704600" cy="190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"/>
          <p:cNvGrpSpPr/>
          <p:nvPr/>
        </p:nvGrpSpPr>
        <p:grpSpPr>
          <a:xfrm>
            <a:off x="6145200" y="1198440"/>
            <a:ext cx="1407960" cy="1841400"/>
            <a:chOff x="6145200" y="1198440"/>
            <a:chExt cx="1407960" cy="1841400"/>
          </a:xfrm>
        </p:grpSpPr>
        <p:sp>
          <p:nvSpPr>
            <p:cNvPr id="1616" name=""/>
            <p:cNvSpPr/>
            <p:nvPr/>
          </p:nvSpPr>
          <p:spPr>
            <a:xfrm>
              <a:off x="7248960" y="11984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36200" y="19270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38960" y="180000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08880" y="122076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21320" y="1963440"/>
              <a:ext cx="9072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145200" y="2019240"/>
              <a:ext cx="276120" cy="9972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421320" y="2118960"/>
              <a:ext cx="18756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08880" y="2028600"/>
              <a:ext cx="83484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40680" y="236520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148440" y="1223640"/>
              <a:ext cx="85104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37440" y="1307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58280" y="25812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1592280" y="1198440"/>
            <a:ext cx="1607040" cy="1826280"/>
            <a:chOff x="1592280" y="1198440"/>
            <a:chExt cx="1607040" cy="1826280"/>
          </a:xfrm>
        </p:grpSpPr>
        <p:sp>
          <p:nvSpPr>
            <p:cNvPr id="1629" name=""/>
            <p:cNvSpPr/>
            <p:nvPr/>
          </p:nvSpPr>
          <p:spPr>
            <a:xfrm>
              <a:off x="1752480" y="1201680"/>
              <a:ext cx="85104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12920" y="119844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25720" y="1941480"/>
              <a:ext cx="9036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49600" y="1996920"/>
              <a:ext cx="276120" cy="10008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025720" y="2097000"/>
              <a:ext cx="18720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44720" y="234324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12920" y="2006640"/>
              <a:ext cx="83520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820600" y="12175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08120" y="1981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75040" y="179244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92280" y="1981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67120" y="1204920"/>
              <a:ext cx="101520" cy="546120"/>
            </a:xfrm>
            <a:custGeom>
              <a:avLst/>
              <a:gdLst/>
              <a:ahLst/>
              <a:rect l="l" t="t" r="r" b="b"/>
              <a:pathLst>
                <a:path w="64" h="344">
                  <a:moveTo>
                    <a:pt x="0" y="0"/>
                  </a:moveTo>
                  <a:cubicBezTo>
                    <a:pt x="12" y="18"/>
                    <a:pt x="22" y="37"/>
                    <a:pt x="32" y="56"/>
                  </a:cubicBezTo>
                  <a:cubicBezTo>
                    <a:pt x="38" y="67"/>
                    <a:pt x="44" y="73"/>
                    <a:pt x="48" y="84"/>
                  </a:cubicBezTo>
                  <a:cubicBezTo>
                    <a:pt x="52" y="95"/>
                    <a:pt x="54" y="105"/>
                    <a:pt x="58" y="116"/>
                  </a:cubicBezTo>
                  <a:cubicBezTo>
                    <a:pt x="60" y="122"/>
                    <a:pt x="64" y="134"/>
                    <a:pt x="64" y="134"/>
                  </a:cubicBezTo>
                  <a:cubicBezTo>
                    <a:pt x="58" y="162"/>
                    <a:pt x="48" y="193"/>
                    <a:pt x="38" y="220"/>
                  </a:cubicBezTo>
                  <a:cubicBezTo>
                    <a:pt x="34" y="232"/>
                    <a:pt x="30" y="244"/>
                    <a:pt x="26" y="256"/>
                  </a:cubicBezTo>
                  <a:cubicBezTo>
                    <a:pt x="25" y="260"/>
                    <a:pt x="22" y="268"/>
                    <a:pt x="22" y="268"/>
                  </a:cubicBezTo>
                  <a:cubicBezTo>
                    <a:pt x="23" y="293"/>
                    <a:pt x="28" y="319"/>
                    <a:pt x="28" y="34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68320" y="129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185920" y="131760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273400" y="2424240"/>
              <a:ext cx="247680" cy="593640"/>
            </a:xfrm>
            <a:custGeom>
              <a:avLst/>
              <a:gdLst/>
              <a:ahLst/>
              <a:rect l="l" t="t" r="r" b="b"/>
              <a:pathLst>
                <a:path w="156" h="374">
                  <a:moveTo>
                    <a:pt x="28" y="0"/>
                  </a:moveTo>
                  <a:cubicBezTo>
                    <a:pt x="32" y="6"/>
                    <a:pt x="40" y="18"/>
                    <a:pt x="40" y="18"/>
                  </a:cubicBezTo>
                  <a:cubicBezTo>
                    <a:pt x="43" y="30"/>
                    <a:pt x="52" y="34"/>
                    <a:pt x="58" y="44"/>
                  </a:cubicBezTo>
                  <a:cubicBezTo>
                    <a:pt x="67" y="58"/>
                    <a:pt x="73" y="74"/>
                    <a:pt x="82" y="88"/>
                  </a:cubicBezTo>
                  <a:cubicBezTo>
                    <a:pt x="91" y="126"/>
                    <a:pt x="120" y="152"/>
                    <a:pt x="132" y="188"/>
                  </a:cubicBezTo>
                  <a:cubicBezTo>
                    <a:pt x="137" y="203"/>
                    <a:pt x="141" y="220"/>
                    <a:pt x="148" y="234"/>
                  </a:cubicBezTo>
                  <a:cubicBezTo>
                    <a:pt x="151" y="240"/>
                    <a:pt x="156" y="252"/>
                    <a:pt x="156" y="252"/>
                  </a:cubicBezTo>
                  <a:cubicBezTo>
                    <a:pt x="134" y="274"/>
                    <a:pt x="107" y="294"/>
                    <a:pt x="80" y="308"/>
                  </a:cubicBezTo>
                  <a:cubicBezTo>
                    <a:pt x="75" y="315"/>
                    <a:pt x="67" y="321"/>
                    <a:pt x="60" y="326"/>
                  </a:cubicBezTo>
                  <a:cubicBezTo>
                    <a:pt x="53" y="336"/>
                    <a:pt x="58" y="331"/>
                    <a:pt x="44" y="340"/>
                  </a:cubicBezTo>
                  <a:cubicBezTo>
                    <a:pt x="42" y="341"/>
                    <a:pt x="38" y="344"/>
                    <a:pt x="38" y="344"/>
                  </a:cubicBezTo>
                  <a:cubicBezTo>
                    <a:pt x="34" y="351"/>
                    <a:pt x="28" y="353"/>
                    <a:pt x="22" y="358"/>
                  </a:cubicBezTo>
                  <a:cubicBezTo>
                    <a:pt x="18" y="361"/>
                    <a:pt x="10" y="366"/>
                    <a:pt x="10" y="366"/>
                  </a:cubicBezTo>
                  <a:cubicBezTo>
                    <a:pt x="8" y="370"/>
                    <a:pt x="0" y="374"/>
                    <a:pt x="0" y="37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521080" y="2414520"/>
              <a:ext cx="422280" cy="40644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252"/>
                  </a:moveTo>
                  <a:cubicBezTo>
                    <a:pt x="65" y="230"/>
                    <a:pt x="134" y="224"/>
                    <a:pt x="198" y="198"/>
                  </a:cubicBezTo>
                  <a:cubicBezTo>
                    <a:pt x="201" y="195"/>
                    <a:pt x="209" y="195"/>
                    <a:pt x="210" y="190"/>
                  </a:cubicBezTo>
                  <a:cubicBezTo>
                    <a:pt x="212" y="182"/>
                    <a:pt x="211" y="174"/>
                    <a:pt x="212" y="166"/>
                  </a:cubicBezTo>
                  <a:cubicBezTo>
                    <a:pt x="213" y="157"/>
                    <a:pt x="213" y="147"/>
                    <a:pt x="216" y="138"/>
                  </a:cubicBezTo>
                  <a:cubicBezTo>
                    <a:pt x="222" y="121"/>
                    <a:pt x="225" y="101"/>
                    <a:pt x="232" y="84"/>
                  </a:cubicBezTo>
                  <a:cubicBezTo>
                    <a:pt x="241" y="62"/>
                    <a:pt x="262" y="24"/>
                    <a:pt x="26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92240" y="258768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62400" y="246708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712960" y="2717640"/>
              <a:ext cx="35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4267080" y="175248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09880" y="2514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A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grou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1654200" y="4079880"/>
            <a:ext cx="1481400" cy="1819080"/>
            <a:chOff x="1654200" y="4079880"/>
            <a:chExt cx="1481400" cy="1819080"/>
          </a:xfrm>
        </p:grpSpPr>
        <p:sp>
          <p:nvSpPr>
            <p:cNvPr id="1651" name=""/>
            <p:cNvSpPr/>
            <p:nvPr/>
          </p:nvSpPr>
          <p:spPr>
            <a:xfrm>
              <a:off x="2756880" y="4084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420280" y="48132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47960" y="4659120"/>
              <a:ext cx="35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17520" y="407988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30320" y="4822560"/>
              <a:ext cx="9036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54200" y="4878360"/>
              <a:ext cx="276120" cy="9972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30320" y="4978080"/>
              <a:ext cx="187200" cy="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117520" y="4887720"/>
              <a:ext cx="835200" cy="26028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849320" y="5224320"/>
              <a:ext cx="110484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57440" y="4082760"/>
              <a:ext cx="850680" cy="59868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846080" y="4194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266920" y="5467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6019920" y="4079880"/>
            <a:ext cx="1532880" cy="1864440"/>
            <a:chOff x="6019920" y="4079880"/>
            <a:chExt cx="1532880" cy="1864440"/>
          </a:xfrm>
        </p:grpSpPr>
        <p:sp>
          <p:nvSpPr>
            <p:cNvPr id="1664" name=""/>
            <p:cNvSpPr/>
            <p:nvPr/>
          </p:nvSpPr>
          <p:spPr>
            <a:xfrm>
              <a:off x="6180120" y="4091040"/>
              <a:ext cx="851040" cy="598320"/>
            </a:xfrm>
            <a:custGeom>
              <a:avLst/>
              <a:gdLst/>
              <a:ahLst/>
              <a:rect l="l" t="t" r="r" b="b"/>
              <a:pathLst>
                <a:path w="4823" h="3776">
                  <a:moveTo>
                    <a:pt x="4" y="3083"/>
                  </a:moveTo>
                  <a:lnTo>
                    <a:pt x="0" y="4"/>
                  </a:lnTo>
                  <a:lnTo>
                    <a:pt x="3830" y="0"/>
                  </a:lnTo>
                  <a:lnTo>
                    <a:pt x="4104" y="412"/>
                  </a:lnTo>
                  <a:lnTo>
                    <a:pt x="4633" y="890"/>
                  </a:lnTo>
                  <a:lnTo>
                    <a:pt x="4823" y="1517"/>
                  </a:lnTo>
                  <a:lnTo>
                    <a:pt x="4473" y="2040"/>
                  </a:lnTo>
                  <a:lnTo>
                    <a:pt x="4365" y="2661"/>
                  </a:lnTo>
                  <a:lnTo>
                    <a:pt x="3793" y="3339"/>
                  </a:lnTo>
                  <a:lnTo>
                    <a:pt x="3188" y="3696"/>
                  </a:lnTo>
                  <a:lnTo>
                    <a:pt x="2817" y="3499"/>
                  </a:lnTo>
                  <a:lnTo>
                    <a:pt x="2468" y="3559"/>
                  </a:lnTo>
                  <a:lnTo>
                    <a:pt x="2090" y="3396"/>
                  </a:lnTo>
                  <a:lnTo>
                    <a:pt x="1677" y="3776"/>
                  </a:lnTo>
                  <a:lnTo>
                    <a:pt x="1097" y="3626"/>
                  </a:lnTo>
                  <a:lnTo>
                    <a:pt x="574" y="3336"/>
                  </a:lnTo>
                  <a:lnTo>
                    <a:pt x="244" y="3394"/>
                  </a:lnTo>
                  <a:lnTo>
                    <a:pt x="4" y="308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640560" y="4087800"/>
              <a:ext cx="650880" cy="992160"/>
            </a:xfrm>
            <a:custGeom>
              <a:avLst/>
              <a:gdLst/>
              <a:ahLst/>
              <a:rect l="l" t="t" r="r" b="b"/>
              <a:pathLst>
                <a:path w="3692" h="6253">
                  <a:moveTo>
                    <a:pt x="0" y="6253"/>
                  </a:moveTo>
                  <a:lnTo>
                    <a:pt x="872" y="5915"/>
                  </a:lnTo>
                  <a:lnTo>
                    <a:pt x="1491" y="5089"/>
                  </a:lnTo>
                  <a:lnTo>
                    <a:pt x="1797" y="4363"/>
                  </a:lnTo>
                  <a:lnTo>
                    <a:pt x="2440" y="3768"/>
                  </a:lnTo>
                  <a:lnTo>
                    <a:pt x="3230" y="3107"/>
                  </a:lnTo>
                  <a:lnTo>
                    <a:pt x="3686" y="2076"/>
                  </a:lnTo>
                  <a:lnTo>
                    <a:pt x="3692" y="807"/>
                  </a:lnTo>
                  <a:lnTo>
                    <a:pt x="350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453000" y="4830840"/>
              <a:ext cx="90720" cy="155520"/>
            </a:xfrm>
            <a:custGeom>
              <a:avLst/>
              <a:gdLst/>
              <a:ahLst/>
              <a:rect l="l" t="t" r="r" b="b"/>
              <a:pathLst>
                <a:path w="514" h="978">
                  <a:moveTo>
                    <a:pt x="0" y="978"/>
                  </a:moveTo>
                  <a:lnTo>
                    <a:pt x="326" y="186"/>
                  </a:lnTo>
                  <a:lnTo>
                    <a:pt x="51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176880" y="4886280"/>
              <a:ext cx="276120" cy="100080"/>
            </a:xfrm>
            <a:custGeom>
              <a:avLst/>
              <a:gdLst/>
              <a:ahLst/>
              <a:rect l="l" t="t" r="r" b="b"/>
              <a:pathLst>
                <a:path w="1566" h="631">
                  <a:moveTo>
                    <a:pt x="0" y="0"/>
                  </a:moveTo>
                  <a:lnTo>
                    <a:pt x="548" y="55"/>
                  </a:lnTo>
                  <a:lnTo>
                    <a:pt x="1566" y="6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453000" y="4986360"/>
              <a:ext cx="187560" cy="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72000" y="5232240"/>
              <a:ext cx="1105200" cy="674640"/>
            </a:xfrm>
            <a:custGeom>
              <a:avLst/>
              <a:gdLst/>
              <a:ahLst/>
              <a:rect l="l" t="t" r="r" b="b"/>
              <a:pathLst>
                <a:path w="6264" h="4254">
                  <a:moveTo>
                    <a:pt x="785" y="4254"/>
                  </a:moveTo>
                  <a:lnTo>
                    <a:pt x="202" y="3821"/>
                  </a:lnTo>
                  <a:lnTo>
                    <a:pt x="37" y="3335"/>
                  </a:lnTo>
                  <a:lnTo>
                    <a:pt x="136" y="2698"/>
                  </a:lnTo>
                  <a:lnTo>
                    <a:pt x="0" y="2117"/>
                  </a:lnTo>
                  <a:lnTo>
                    <a:pt x="275" y="1061"/>
                  </a:lnTo>
                  <a:lnTo>
                    <a:pt x="1046" y="424"/>
                  </a:lnTo>
                  <a:lnTo>
                    <a:pt x="1843" y="73"/>
                  </a:lnTo>
                  <a:lnTo>
                    <a:pt x="2106" y="488"/>
                  </a:lnTo>
                  <a:lnTo>
                    <a:pt x="2956" y="239"/>
                  </a:lnTo>
                  <a:lnTo>
                    <a:pt x="3315" y="843"/>
                  </a:lnTo>
                  <a:lnTo>
                    <a:pt x="3974" y="930"/>
                  </a:lnTo>
                  <a:lnTo>
                    <a:pt x="4593" y="257"/>
                  </a:lnTo>
                  <a:lnTo>
                    <a:pt x="5143" y="0"/>
                  </a:lnTo>
                  <a:lnTo>
                    <a:pt x="5244" y="473"/>
                  </a:lnTo>
                  <a:lnTo>
                    <a:pt x="5980" y="392"/>
                  </a:lnTo>
                  <a:lnTo>
                    <a:pt x="6264" y="605"/>
                  </a:lnTo>
                  <a:lnTo>
                    <a:pt x="6260" y="4244"/>
                  </a:lnTo>
                  <a:lnTo>
                    <a:pt x="785" y="425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640560" y="4895640"/>
              <a:ext cx="834840" cy="260640"/>
            </a:xfrm>
            <a:custGeom>
              <a:avLst/>
              <a:gdLst/>
              <a:ahLst/>
              <a:rect l="l" t="t" r="r" b="b"/>
              <a:pathLst>
                <a:path w="4735" h="1643">
                  <a:moveTo>
                    <a:pt x="0" y="1168"/>
                  </a:moveTo>
                  <a:lnTo>
                    <a:pt x="243" y="1548"/>
                  </a:lnTo>
                  <a:lnTo>
                    <a:pt x="1113" y="1643"/>
                  </a:lnTo>
                  <a:lnTo>
                    <a:pt x="2387" y="1602"/>
                  </a:lnTo>
                  <a:lnTo>
                    <a:pt x="3164" y="1244"/>
                  </a:lnTo>
                  <a:lnTo>
                    <a:pt x="4093" y="242"/>
                  </a:lnTo>
                  <a:lnTo>
                    <a:pt x="473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248600" y="40798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91560" y="48085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02320" y="468144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33720"/>
              <a:ext cx="3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94400" y="4094280"/>
              <a:ext cx="101520" cy="545760"/>
            </a:xfrm>
            <a:custGeom>
              <a:avLst/>
              <a:gdLst/>
              <a:ahLst/>
              <a:rect l="l" t="t" r="r" b="b"/>
              <a:pathLst>
                <a:path w="64" h="344">
                  <a:moveTo>
                    <a:pt x="0" y="0"/>
                  </a:moveTo>
                  <a:cubicBezTo>
                    <a:pt x="12" y="18"/>
                    <a:pt x="22" y="37"/>
                    <a:pt x="32" y="56"/>
                  </a:cubicBezTo>
                  <a:cubicBezTo>
                    <a:pt x="38" y="67"/>
                    <a:pt x="44" y="73"/>
                    <a:pt x="48" y="84"/>
                  </a:cubicBezTo>
                  <a:cubicBezTo>
                    <a:pt x="52" y="95"/>
                    <a:pt x="54" y="105"/>
                    <a:pt x="58" y="116"/>
                  </a:cubicBezTo>
                  <a:cubicBezTo>
                    <a:pt x="60" y="122"/>
                    <a:pt x="64" y="134"/>
                    <a:pt x="64" y="134"/>
                  </a:cubicBezTo>
                  <a:cubicBezTo>
                    <a:pt x="58" y="162"/>
                    <a:pt x="48" y="193"/>
                    <a:pt x="38" y="220"/>
                  </a:cubicBezTo>
                  <a:cubicBezTo>
                    <a:pt x="34" y="232"/>
                    <a:pt x="30" y="244"/>
                    <a:pt x="26" y="256"/>
                  </a:cubicBezTo>
                  <a:cubicBezTo>
                    <a:pt x="25" y="260"/>
                    <a:pt x="22" y="268"/>
                    <a:pt x="22" y="268"/>
                  </a:cubicBezTo>
                  <a:cubicBezTo>
                    <a:pt x="23" y="293"/>
                    <a:pt x="28" y="319"/>
                    <a:pt x="28" y="34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96320" y="41576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613560" y="420696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00680" y="5313240"/>
              <a:ext cx="247680" cy="593640"/>
            </a:xfrm>
            <a:custGeom>
              <a:avLst/>
              <a:gdLst/>
              <a:ahLst/>
              <a:rect l="l" t="t" r="r" b="b"/>
              <a:pathLst>
                <a:path w="156" h="374">
                  <a:moveTo>
                    <a:pt x="28" y="0"/>
                  </a:moveTo>
                  <a:cubicBezTo>
                    <a:pt x="32" y="6"/>
                    <a:pt x="40" y="18"/>
                    <a:pt x="40" y="18"/>
                  </a:cubicBezTo>
                  <a:cubicBezTo>
                    <a:pt x="43" y="30"/>
                    <a:pt x="52" y="34"/>
                    <a:pt x="58" y="44"/>
                  </a:cubicBezTo>
                  <a:cubicBezTo>
                    <a:pt x="67" y="58"/>
                    <a:pt x="73" y="74"/>
                    <a:pt x="82" y="88"/>
                  </a:cubicBezTo>
                  <a:cubicBezTo>
                    <a:pt x="91" y="126"/>
                    <a:pt x="120" y="152"/>
                    <a:pt x="132" y="188"/>
                  </a:cubicBezTo>
                  <a:cubicBezTo>
                    <a:pt x="137" y="203"/>
                    <a:pt x="141" y="220"/>
                    <a:pt x="148" y="234"/>
                  </a:cubicBezTo>
                  <a:cubicBezTo>
                    <a:pt x="151" y="240"/>
                    <a:pt x="156" y="252"/>
                    <a:pt x="156" y="252"/>
                  </a:cubicBezTo>
                  <a:cubicBezTo>
                    <a:pt x="134" y="274"/>
                    <a:pt x="107" y="294"/>
                    <a:pt x="80" y="308"/>
                  </a:cubicBezTo>
                  <a:cubicBezTo>
                    <a:pt x="75" y="315"/>
                    <a:pt x="67" y="321"/>
                    <a:pt x="60" y="326"/>
                  </a:cubicBezTo>
                  <a:cubicBezTo>
                    <a:pt x="53" y="336"/>
                    <a:pt x="58" y="331"/>
                    <a:pt x="44" y="340"/>
                  </a:cubicBezTo>
                  <a:cubicBezTo>
                    <a:pt x="42" y="341"/>
                    <a:pt x="38" y="344"/>
                    <a:pt x="38" y="344"/>
                  </a:cubicBezTo>
                  <a:cubicBezTo>
                    <a:pt x="34" y="351"/>
                    <a:pt x="28" y="353"/>
                    <a:pt x="22" y="358"/>
                  </a:cubicBezTo>
                  <a:cubicBezTo>
                    <a:pt x="18" y="361"/>
                    <a:pt x="10" y="366"/>
                    <a:pt x="10" y="366"/>
                  </a:cubicBezTo>
                  <a:cubicBezTo>
                    <a:pt x="8" y="370"/>
                    <a:pt x="0" y="374"/>
                    <a:pt x="0" y="374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948360" y="5303880"/>
              <a:ext cx="422280" cy="40644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252"/>
                  </a:moveTo>
                  <a:cubicBezTo>
                    <a:pt x="65" y="230"/>
                    <a:pt x="134" y="224"/>
                    <a:pt x="198" y="198"/>
                  </a:cubicBezTo>
                  <a:cubicBezTo>
                    <a:pt x="201" y="195"/>
                    <a:pt x="209" y="195"/>
                    <a:pt x="210" y="190"/>
                  </a:cubicBezTo>
                  <a:cubicBezTo>
                    <a:pt x="212" y="182"/>
                    <a:pt x="211" y="174"/>
                    <a:pt x="212" y="166"/>
                  </a:cubicBezTo>
                  <a:cubicBezTo>
                    <a:pt x="213" y="157"/>
                    <a:pt x="213" y="147"/>
                    <a:pt x="216" y="138"/>
                  </a:cubicBezTo>
                  <a:cubicBezTo>
                    <a:pt x="222" y="121"/>
                    <a:pt x="225" y="101"/>
                    <a:pt x="232" y="84"/>
                  </a:cubicBezTo>
                  <a:cubicBezTo>
                    <a:pt x="241" y="62"/>
                    <a:pt x="262" y="24"/>
                    <a:pt x="262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19880" y="547668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889680" y="535608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40600" y="5607000"/>
              <a:ext cx="35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3" name=""/>
          <p:cNvSpPr/>
          <p:nvPr/>
        </p:nvSpPr>
        <p:spPr>
          <a:xfrm>
            <a:off x="4267080" y="4540320"/>
            <a:ext cx="609840" cy="533160"/>
          </a:xfrm>
          <a:prstGeom prst="rightArrow">
            <a:avLst>
              <a:gd name="adj1" fmla="val 50000"/>
              <a:gd name="adj2" fmla="val 28596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733920" y="53020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Desagreg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infer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9320" y="3429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is the thematic property for each featu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800000"/>
                </a:solidFill>
                <a:latin typeface="Arial"/>
              </a:rPr>
              <a:t>Unit 1: Introduc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Definition and example of discrete spatial variabl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Spatial featur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Structure of the Less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3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Links with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- other Lessons</a:t>
            </a:r>
            <a:br>
              <a:rPr sz="3500"/>
            </a:b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- other Modul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688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ks with other Lesson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roperties: isotropy, anisotrop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dependency: autocorrelatio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ance: euclidian (plane), weighted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o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it of observation: in object mode, in image mod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mple: sampling process, method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D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mensions: thematic, spatial, tempora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B-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ks with other Modu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End of Unit 1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Definition and example of discrete spatial variables (discontinues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8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2 types of spatial distribution of phenomena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uring the process of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modeling the realit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properties of phenomena are considered as distributed into space in two different manner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ous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spatial arrangement of properties produces a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ntinuo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urfa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or less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continuously or discrete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spatial arrangement of properties produce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patial featur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clearly defined limits (bounda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Example of 2 types of spatial distribu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38484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828800"/>
            <a:ext cx="38480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243864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337520" y="2309760"/>
            <a:ext cx="815760" cy="1068120"/>
            <a:chOff x="7337520" y="2309760"/>
            <a:chExt cx="815760" cy="1068120"/>
          </a:xfrm>
        </p:grpSpPr>
        <p:sp>
          <p:nvSpPr>
            <p:cNvPr id="117" name=""/>
            <p:cNvSpPr/>
            <p:nvPr/>
          </p:nvSpPr>
          <p:spPr>
            <a:xfrm>
              <a:off x="7337520" y="2309760"/>
              <a:ext cx="6634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1: fores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37520" y="2432160"/>
              <a:ext cx="75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2: cultur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7520" y="2558880"/>
              <a:ext cx="8157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3: vineyar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37520" y="2673360"/>
              <a:ext cx="7426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4: swam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37520" y="2793960"/>
              <a:ext cx="75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5: lak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7520" y="2901960"/>
              <a:ext cx="80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6: built u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7: roa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Arial"/>
                </a:rPr>
                <a:t>8: riv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04080" y="5576760"/>
            <a:ext cx="120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andc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495520" cy="3409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64520" y="5562720"/>
            <a:ext cx="108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e reality is more fuzzy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the real world numerous phenomena lie within these 2 extrem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ous distribu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ne can often observe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discontinu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uch as cliffs in elevation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continuous or discrete distribu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im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tween features are often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fuzz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uch as between forest and grassland, or between waterbody and 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gardless of the nature of a phenomenon, the spatial continuity or discontinuity is decided during  the process of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modeling the reality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henomenon of « elevation » can be considered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properties are then describes as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a regular mesh of values at an intervall-ratio scale (continu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scontinu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atial properties are elevation class values at an ordinal scale (discontinuous), therefore space is organised into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regions of same prope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The reality is more fuzzy ...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Continuous or discrete modeling of a phenomenon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384840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495520" cy="340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80920" y="5562720"/>
            <a:ext cx="145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evation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6480" y="1828800"/>
            <a:ext cx="384804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 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5640" y="5562720"/>
            <a:ext cx="213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asses of elev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45280" y="2209680"/>
            <a:ext cx="2503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3-19T09:06:33Z</cp:lastPrinted>
  <dcterms:modified xsi:type="dcterms:W3CDTF">2003-11-12T09:14:53Z</dcterms:modified>
  <cp:revision>116</cp:revision>
  <dc:subject/>
  <dc:title>Leçon 2: Variables spatiales discrètes  Unité 1: Introduction</dc:title>
</cp:coreProperties>
</file>