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9832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5224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440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9832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5224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44400" y="114264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832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5224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4440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832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5224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44400" y="114264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825560" indent="-22860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28600">
              <a:spcBef>
                <a:spcPts val="11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28600">
              <a:spcBef>
                <a:spcPts val="11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28600">
              <a:spcBef>
                <a:spcPts val="11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176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610480" y="6400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9B92-0BF3-4412-AE6D-112D328CB181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309760" y="6172200"/>
            <a:ext cx="1455840" cy="326880"/>
          </a:xfrm>
          <a:prstGeom prst="rect">
            <a:avLst/>
          </a:prstGeom>
          <a:solidFill>
            <a:srgbClr val="e1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261120"/>
            <a:ext cx="1557360" cy="590400"/>
          </a:xfrm>
          <a:prstGeom prst="rect">
            <a:avLst/>
          </a:prstGeom>
          <a:solidFill>
            <a:srgbClr val="d9f2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6248520"/>
            <a:ext cx="15238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d4d4d"/>
                </a:solidFill>
                <a:latin typeface="Arial"/>
              </a:rPr>
              <a:t>B-AN / L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Arial"/>
              </a:rPr>
              <a:t>Discrete spatial variab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0" b="10652"/>
          <a:stretch/>
        </p:blipFill>
        <p:spPr>
          <a:xfrm>
            <a:off x="7696080" y="5607000"/>
            <a:ext cx="1143000" cy="12254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801680" y="615960"/>
            <a:ext cx="373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G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eographic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I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nformation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T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echnology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T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raining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A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llianc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2238480" y="836640"/>
            <a:ext cx="6324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1190520"/>
          </a:xfrm>
          <a:prstGeom prst="rect">
            <a:avLst/>
          </a:prstGeom>
          <a:ln w="0">
            <a:noFill/>
          </a:ln>
        </p:spPr>
      </p:pic>
      <p:pic>
        <p:nvPicPr>
          <p:cNvPr id="11" name="C_logo_bleu" descr=""/>
          <p:cNvPicPr/>
          <p:nvPr/>
        </p:nvPicPr>
        <p:blipFill>
          <a:blip r:embed="rId4"/>
          <a:stretch/>
        </p:blipFill>
        <p:spPr>
          <a:xfrm>
            <a:off x="65160" y="6172200"/>
            <a:ext cx="620640" cy="6206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2252520" y="6095880"/>
            <a:ext cx="155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U3: Spatial pattern of fea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181480" y="6248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d4d4d"/>
                </a:solidFill>
                <a:latin typeface="Arial"/>
              </a:rPr>
              <a:t>May 30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09320"/>
            <a:ext cx="175248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76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57560" cy="2438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85920" y="4987800"/>
            <a:ext cx="3757680" cy="594000"/>
          </a:xfrm>
          <a:prstGeom prst="rect">
            <a:avLst/>
          </a:prstGeom>
          <a:solidFill>
            <a:srgbClr val="e1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53920" y="1162080"/>
            <a:ext cx="406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G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eographic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I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nformation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echnology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raining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llianc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962520" y="1420920"/>
            <a:ext cx="455616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68640" y="2514600"/>
            <a:ext cx="0" cy="20574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rcRect l="0" t="0" r="0" b="10652"/>
          <a:stretch/>
        </p:blipFill>
        <p:spPr>
          <a:xfrm>
            <a:off x="7696080" y="5607000"/>
            <a:ext cx="1143000" cy="1225440"/>
          </a:xfrm>
          <a:prstGeom prst="rect">
            <a:avLst/>
          </a:prstGeom>
          <a:ln w="0">
            <a:noFill/>
          </a:ln>
        </p:spPr>
      </p:pic>
      <p:pic>
        <p:nvPicPr>
          <p:cNvPr id="58" name="C_logo_bleu" descr=""/>
          <p:cNvPicPr/>
          <p:nvPr/>
        </p:nvPicPr>
        <p:blipFill>
          <a:blip r:embed="rId4"/>
          <a:stretch/>
        </p:blipFill>
        <p:spPr>
          <a:xfrm>
            <a:off x="762120" y="53341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17120" y="59292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Humanst521 Bd BT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5040" y="5987880"/>
            <a:ext cx="41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 of Geosciences - Geograph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6040" y="510552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-AN   Lesson 2 / Unit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Unit 3: Pattern and neighborhood of spatial featur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8440" y="1981080"/>
            <a:ext cx="811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patial pattern and neighborhood (relationship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920880" indent="-285840">
              <a:lnSpc>
                <a:spcPct val="10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point featu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920880" indent="-285840">
              <a:lnSpc>
                <a:spcPct val="10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linear featu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920880" indent="-285840">
              <a:lnSpc>
                <a:spcPct val="10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real featu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99ff"/>
                </a:solidFill>
                <a:latin typeface="Arial"/>
              </a:rPr>
              <a:t>Based on the mean and median of X and Y coordinat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an center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M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   ,    ) or (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center of gr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baryce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an center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2200" spc="-1" strike="noStrike" baseline="-25000">
                <a:solidFill>
                  <a:srgbClr val="cc0066"/>
                </a:solidFill>
                <a:latin typeface="Arial"/>
              </a:rPr>
              <a:t>m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 of coordinates 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é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é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276720" y="1990800"/>
                <a:ext cx="234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657600" y="1992240"/>
                <a:ext cx="235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600200" y="2568600"/>
                <a:ext cx="11970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680000" y="2579760"/>
                <a:ext cx="11984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Indices of central tendenc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3905280"/>
            <a:ext cx="1415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6902280" y="3904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45400" y="3854520"/>
            <a:ext cx="108000" cy="108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57800" y="5499000"/>
            <a:ext cx="304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med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5.5,   Y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med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3.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05720" y="4879800"/>
            <a:ext cx="457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fr-FR" sz="1000" spc="-1" strike="noStrike" baseline="-25000">
                <a:solidFill>
                  <a:srgbClr val="000000"/>
                </a:solidFill>
                <a:latin typeface="Arial"/>
              </a:rPr>
              <a:t>m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5143680" y="3740040"/>
            <a:ext cx="457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fr-FR" sz="1000" spc="-1" strike="noStrike" baseline="-25000">
                <a:solidFill>
                  <a:srgbClr val="000000"/>
                </a:solidFill>
                <a:latin typeface="Arial"/>
              </a:rPr>
              <a:t>m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373392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06560" y="3733560"/>
            <a:ext cx="0" cy="1130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49680" y="3683160"/>
            <a:ext cx="108000" cy="107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43000" y="5499000"/>
            <a:ext cx="304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5.375,   Y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4.1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82920" y="4879800"/>
            <a:ext cx="565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fr-FR" sz="10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200000">
            <a:off x="988200" y="3559320"/>
            <a:ext cx="5317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fr-FR" sz="10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520" y="1828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Mean ce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15000" y="1828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Median ce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410440" y="2297160"/>
            <a:ext cx="2618280" cy="2665080"/>
            <a:chOff x="5410440" y="2297160"/>
            <a:chExt cx="2618280" cy="2665080"/>
          </a:xfrm>
        </p:grpSpPr>
        <p:grpSp>
          <p:nvGrpSpPr>
            <p:cNvPr id="315" name=""/>
            <p:cNvGrpSpPr/>
            <p:nvPr/>
          </p:nvGrpSpPr>
          <p:grpSpPr>
            <a:xfrm>
              <a:off x="5914800" y="2595600"/>
              <a:ext cx="2019240" cy="1957680"/>
              <a:chOff x="5914800" y="2595600"/>
              <a:chExt cx="2019240" cy="1957680"/>
            </a:xfrm>
          </p:grpSpPr>
          <p:sp>
            <p:nvSpPr>
              <p:cNvPr id="316" name=""/>
              <p:cNvSpPr/>
              <p:nvPr/>
            </p:nvSpPr>
            <p:spPr>
              <a:xfrm>
                <a:off x="5914800" y="3746520"/>
                <a:ext cx="184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03720" y="39672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51400" y="44244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975360" y="41958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742080" y="396720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489720" y="351000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208640" y="37386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208640" y="32814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696080" y="25956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219720" y="4178520"/>
                <a:ext cx="183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975360" y="42768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684840" y="372132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384960" y="328932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299360" y="37004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146720" y="30243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705440" y="26622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5410440" y="2297160"/>
              <a:ext cx="2618280" cy="2665080"/>
              <a:chOff x="5410440" y="2297160"/>
              <a:chExt cx="2618280" cy="2665080"/>
            </a:xfrm>
          </p:grpSpPr>
          <p:sp>
            <p:nvSpPr>
              <p:cNvPr id="333" name=""/>
              <p:cNvSpPr/>
              <p:nvPr/>
            </p:nvSpPr>
            <p:spPr>
              <a:xfrm flipV="1">
                <a:off x="5568840" y="23652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5533560" y="472104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5550840" y="46022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462280" y="4651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5533560" y="44845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5550840" y="43671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462280" y="4416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5533560" y="42498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5550840" y="413208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462280" y="4181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5533560" y="40147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5550840" y="389556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462280" y="3944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5533560" y="37782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5550840" y="36608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462280" y="3709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5533560" y="35431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5550840" y="34257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462280" y="3475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5533560" y="33084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5550840" y="31892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462280" y="3238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5533560" y="307188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5550840" y="295416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462280" y="3003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5533560" y="28368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5550840" y="27194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462280" y="2768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5533560" y="26017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5550840" y="248292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462280" y="253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5533560" y="23605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410440" y="22971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14720" y="4721040"/>
                <a:ext cx="2148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56884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036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79096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05772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18156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03396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414840" y="4721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26724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53076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65640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50700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77196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89760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5000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00560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13088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98184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72080" y="4721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22448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48800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61364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46604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72128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845120" y="4721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69752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96284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915320" y="48387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570280" y="2360520"/>
                <a:ext cx="2392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7962840" y="23652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570280" y="4721040"/>
                <a:ext cx="2392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5568840" y="23652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695920" y="47228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548320" y="4840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13280" y="4722840"/>
                <a:ext cx="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9604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23888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3" name=""/>
          <p:cNvGrpSpPr/>
          <p:nvPr/>
        </p:nvGrpSpPr>
        <p:grpSpPr>
          <a:xfrm>
            <a:off x="1343520" y="2286000"/>
            <a:ext cx="2618280" cy="2665080"/>
            <a:chOff x="1343520" y="2286000"/>
            <a:chExt cx="2618280" cy="2665080"/>
          </a:xfrm>
        </p:grpSpPr>
        <p:grpSp>
          <p:nvGrpSpPr>
            <p:cNvPr id="404" name=""/>
            <p:cNvGrpSpPr/>
            <p:nvPr/>
          </p:nvGrpSpPr>
          <p:grpSpPr>
            <a:xfrm>
              <a:off x="1847880" y="2584440"/>
              <a:ext cx="2019240" cy="1957680"/>
              <a:chOff x="1847880" y="2584440"/>
              <a:chExt cx="2019240" cy="1957680"/>
            </a:xfrm>
          </p:grpSpPr>
          <p:sp>
            <p:nvSpPr>
              <p:cNvPr id="405" name=""/>
              <p:cNvSpPr/>
              <p:nvPr/>
            </p:nvSpPr>
            <p:spPr>
              <a:xfrm>
                <a:off x="1847880" y="3735360"/>
                <a:ext cx="184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936800" y="39560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184480" y="44132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908440" y="41846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675160" y="39560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422800" y="34988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141720" y="37274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141720" y="32702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629160" y="25844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152800" y="4167360"/>
                <a:ext cx="183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908440" y="42656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617920" y="37101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318040" y="32781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232440" y="368928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079800" y="30132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638520" y="26510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1343520" y="2286000"/>
              <a:ext cx="2618280" cy="2665080"/>
              <a:chOff x="1343520" y="2286000"/>
              <a:chExt cx="2618280" cy="2665080"/>
            </a:xfrm>
          </p:grpSpPr>
          <p:sp>
            <p:nvSpPr>
              <p:cNvPr id="422" name=""/>
              <p:cNvSpPr/>
              <p:nvPr/>
            </p:nvSpPr>
            <p:spPr>
              <a:xfrm flipV="1">
                <a:off x="15019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1466640" y="470988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1483920" y="45910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95360" y="4640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1466640" y="44733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1483920" y="435600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395360" y="440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1466640" y="42386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1483920" y="412092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395360" y="4170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1466640" y="400356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1483920" y="388440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395360" y="3933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1466640" y="37670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1483920" y="36496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395360" y="3698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1466640" y="35319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1483920" y="341460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395360" y="3463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1466640" y="32972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1483920" y="31780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395360" y="3227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1466640" y="30607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1483920" y="294300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395360" y="2992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1466640" y="28256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1483920" y="27082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395360" y="2757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1466640" y="25905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1483920" y="24717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395360" y="2520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1466640" y="234936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343520" y="22860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747800" y="4709880"/>
                <a:ext cx="2148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019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87344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72404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99080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11464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96704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34792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2003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46384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58948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44008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70504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83068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68308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93868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06396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9149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30516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15756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42108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54672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3991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5436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77820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63060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8959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48400" y="48276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503360" y="2349360"/>
                <a:ext cx="2392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38959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503360" y="4709880"/>
                <a:ext cx="2392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15019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629000" y="47116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481400" y="4829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746360" y="4711680"/>
                <a:ext cx="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2291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17196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2" name="PlaceHolder 3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Indices of central tendenc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505152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16200000">
            <a:off x="412200" y="34336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16200000">
            <a:off x="455544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99ff"/>
                </a:solidFill>
                <a:latin typeface="Arial"/>
              </a:rPr>
              <a:t>Based on standard deviations and quartiles of X and Y coordinat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3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tandard deviation of X </a:t>
            </a:r>
            <a:r>
              <a:rPr b="1" lang="en-US" sz="2700" spc="-1" strike="noStrike">
                <a:solidFill>
                  <a:srgbClr val="cc0066"/>
                </a:solidFill>
                <a:latin typeface="Arial"/>
              </a:rPr>
              <a:t>s</a:t>
            </a:r>
            <a:r>
              <a:rPr b="1" lang="en-US" sz="2700" spc="-1" strike="noStrike" baseline="-25000">
                <a:solidFill>
                  <a:srgbClr val="cc0066"/>
                </a:solidFill>
                <a:latin typeface="Arial"/>
              </a:rPr>
              <a:t>x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and Y </a:t>
            </a:r>
            <a:r>
              <a:rPr b="1" lang="en-US" sz="2700" spc="-1" strike="noStrike">
                <a:solidFill>
                  <a:srgbClr val="cc0066"/>
                </a:solidFill>
                <a:latin typeface="Arial"/>
              </a:rPr>
              <a:t>s</a:t>
            </a:r>
            <a:r>
              <a:rPr b="1" lang="en-US" sz="2700" spc="-1" strike="noStrike" baseline="-25000">
                <a:solidFill>
                  <a:srgbClr val="cc0066"/>
                </a:solidFill>
                <a:latin typeface="Arial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3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terquartile of X </a:t>
            </a:r>
            <a:r>
              <a:rPr b="1" lang="en-US" sz="2700" spc="-1" strike="noStrike">
                <a:solidFill>
                  <a:srgbClr val="cc0066"/>
                </a:solidFill>
                <a:latin typeface="Arial"/>
              </a:rPr>
              <a:t>x</a:t>
            </a:r>
            <a:r>
              <a:rPr b="1" lang="en-US" sz="2700" spc="-1" strike="noStrike" baseline="-25000">
                <a:solidFill>
                  <a:srgbClr val="cc0066"/>
                </a:solidFill>
                <a:latin typeface="Arial"/>
              </a:rPr>
              <a:t>IQ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and Y </a:t>
            </a:r>
            <a:r>
              <a:rPr b="1" lang="en-US" sz="2700" spc="-1" strike="noStrike">
                <a:solidFill>
                  <a:srgbClr val="cc0066"/>
                </a:solidFill>
                <a:latin typeface="Arial"/>
              </a:rPr>
              <a:t>y</a:t>
            </a:r>
            <a:r>
              <a:rPr b="1" lang="en-US" sz="2700" spc="-1" strike="noStrike" baseline="-25000">
                <a:solidFill>
                  <a:srgbClr val="cc0066"/>
                </a:solidFill>
                <a:latin typeface="Arial"/>
              </a:rPr>
              <a:t>IQ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IQ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IQ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: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first quartile and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third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1066680" y="2558880"/>
                <a:ext cx="22590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4446720" y="2558880"/>
                <a:ext cx="22590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y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00" name="PlaceHolder 2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Indices of dispers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943600" y="5334120"/>
            <a:ext cx="19810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IQ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7 - 3.5 = 3.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IQ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5.5 - 2.5 =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143000" y="5334120"/>
            <a:ext cx="30481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2.32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2.53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23880" y="1828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Standard dev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1828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Interquart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523880" y="3440160"/>
            <a:ext cx="0" cy="58428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622600" y="4667400"/>
            <a:ext cx="34920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595840" y="3457440"/>
            <a:ext cx="0" cy="69876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6404040" y="4689360"/>
            <a:ext cx="84456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486400" y="3905280"/>
            <a:ext cx="1415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6902280" y="3904920"/>
            <a:ext cx="0" cy="971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410440" y="2297160"/>
            <a:ext cx="2618280" cy="2665080"/>
            <a:chOff x="5410440" y="2297160"/>
            <a:chExt cx="2618280" cy="2665080"/>
          </a:xfrm>
        </p:grpSpPr>
        <p:grpSp>
          <p:nvGrpSpPr>
            <p:cNvPr id="514" name=""/>
            <p:cNvGrpSpPr/>
            <p:nvPr/>
          </p:nvGrpSpPr>
          <p:grpSpPr>
            <a:xfrm>
              <a:off x="5914800" y="2595600"/>
              <a:ext cx="2019240" cy="1957680"/>
              <a:chOff x="5914800" y="2595600"/>
              <a:chExt cx="2019240" cy="1957680"/>
            </a:xfrm>
          </p:grpSpPr>
          <p:sp>
            <p:nvSpPr>
              <p:cNvPr id="515" name=""/>
              <p:cNvSpPr/>
              <p:nvPr/>
            </p:nvSpPr>
            <p:spPr>
              <a:xfrm>
                <a:off x="5914800" y="3746520"/>
                <a:ext cx="184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003720" y="39672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251400" y="44244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975360" y="41958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42080" y="396720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489720" y="351000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208640" y="37386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208640" y="32814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696080" y="25956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19720" y="4178520"/>
                <a:ext cx="183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975360" y="42768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684840" y="372132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384960" y="328932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299360" y="37004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146720" y="30243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705440" y="26622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5410440" y="2297160"/>
              <a:ext cx="2618280" cy="2665080"/>
              <a:chOff x="5410440" y="2297160"/>
              <a:chExt cx="2618280" cy="266508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5568840" y="23652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5533560" y="472104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5550840" y="46022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62280" y="4651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5533560" y="44845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5550840" y="43671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62280" y="4416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5533560" y="42498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5550840" y="413208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62280" y="4181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5533560" y="40147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5550840" y="389556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62280" y="3944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5533560" y="37782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5550840" y="36608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62280" y="3709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5533560" y="35431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5550840" y="34257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62280" y="3475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5533560" y="33084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5550840" y="31892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62280" y="3238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5533560" y="307188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5550840" y="295416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62280" y="3003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5533560" y="28368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5550840" y="27194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62280" y="2768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5533560" y="26017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5550840" y="248292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62280" y="2531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5533560" y="23605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10440" y="22971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814720" y="4721040"/>
                <a:ext cx="2148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56884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94036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79096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05772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18156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03396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414840" y="4721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26724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53076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65640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50700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77196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9760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75000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00560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13088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98184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72080" y="4721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22448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48800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613640" y="47210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46604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721280" y="47210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845120" y="4721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697520" y="4838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96284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915320" y="48387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570280" y="2360520"/>
                <a:ext cx="2392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7962840" y="23652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570280" y="4721040"/>
                <a:ext cx="2392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5568840" y="23652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695920" y="47228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548320" y="48402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813280" y="4722840"/>
                <a:ext cx="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9604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238880" y="47210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2" name=""/>
          <p:cNvSpPr/>
          <p:nvPr/>
        </p:nvSpPr>
        <p:spPr>
          <a:xfrm>
            <a:off x="6856560" y="3860640"/>
            <a:ext cx="88920" cy="88920"/>
          </a:xfrm>
          <a:prstGeom prst="ellips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371600" y="373392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2806560" y="3733560"/>
            <a:ext cx="0" cy="1130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343520" y="2286000"/>
            <a:ext cx="2618280" cy="2665080"/>
            <a:chOff x="1343520" y="2286000"/>
            <a:chExt cx="2618280" cy="2665080"/>
          </a:xfrm>
        </p:grpSpPr>
        <p:grpSp>
          <p:nvGrpSpPr>
            <p:cNvPr id="606" name=""/>
            <p:cNvGrpSpPr/>
            <p:nvPr/>
          </p:nvGrpSpPr>
          <p:grpSpPr>
            <a:xfrm>
              <a:off x="1847880" y="2584440"/>
              <a:ext cx="2019240" cy="1957680"/>
              <a:chOff x="1847880" y="2584440"/>
              <a:chExt cx="2019240" cy="1957680"/>
            </a:xfrm>
          </p:grpSpPr>
          <p:sp>
            <p:nvSpPr>
              <p:cNvPr id="607" name=""/>
              <p:cNvSpPr/>
              <p:nvPr/>
            </p:nvSpPr>
            <p:spPr>
              <a:xfrm>
                <a:off x="1847880" y="3735360"/>
                <a:ext cx="184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36800" y="39560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184480" y="44132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908440" y="41846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675160" y="39560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422800" y="34988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141720" y="37274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141720" y="32702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629160" y="25844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152800" y="4167360"/>
                <a:ext cx="183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908440" y="42656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617920" y="37101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18040" y="32781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232440" y="368928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079800" y="30132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638520" y="26510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1343520" y="2286000"/>
              <a:ext cx="2618280" cy="2665080"/>
              <a:chOff x="1343520" y="2286000"/>
              <a:chExt cx="2618280" cy="2665080"/>
            </a:xfrm>
          </p:grpSpPr>
          <p:sp>
            <p:nvSpPr>
              <p:cNvPr id="624" name=""/>
              <p:cNvSpPr/>
              <p:nvPr/>
            </p:nvSpPr>
            <p:spPr>
              <a:xfrm flipV="1">
                <a:off x="15019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1466640" y="470988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1483920" y="45910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395360" y="4640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1466640" y="44733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1483920" y="435600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395360" y="440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1466640" y="42386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1483920" y="412092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395360" y="4170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1466640" y="400356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1483920" y="388440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95360" y="3933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1466640" y="37670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1483920" y="36496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395360" y="3698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1466640" y="35319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1483920" y="341460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95360" y="3463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1466640" y="32972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1483920" y="31780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95360" y="3227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1466640" y="30607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1483920" y="294300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395360" y="2992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1466640" y="28256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1483920" y="27082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395360" y="2757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>
                <a:off x="1466640" y="25905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H="1">
                <a:off x="1483920" y="24717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95360" y="2520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1466640" y="234936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343520" y="22860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747800" y="4709880"/>
                <a:ext cx="2148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5019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87344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72404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99080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11464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96704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34792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2003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46384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58948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44008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70504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83068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68308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93868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06396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9149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30516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15756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42108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54672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3991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65436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77820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63060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8959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848400" y="48276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503360" y="2349360"/>
                <a:ext cx="2392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38959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503360" y="4709880"/>
                <a:ext cx="2392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15019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629000" y="47116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481400" y="4829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746360" y="4711680"/>
                <a:ext cx="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2291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17196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4" name=""/>
          <p:cNvSpPr/>
          <p:nvPr/>
        </p:nvSpPr>
        <p:spPr>
          <a:xfrm>
            <a:off x="2752560" y="3687840"/>
            <a:ext cx="88920" cy="88920"/>
          </a:xfrm>
          <a:prstGeom prst="ellips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1752480" y="5595840"/>
            <a:ext cx="34920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518080" y="5594400"/>
            <a:ext cx="34920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Indices of dispers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143000" y="495288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 rot="16200000">
            <a:off x="489960" y="34318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99ff"/>
                </a:solidFill>
                <a:latin typeface="Arial"/>
              </a:rPr>
              <a:t>Based on the combined dispersion of X and Y coordinat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ndard Distance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S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Bachi distance)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a measure of the the combined dispersion in X and Y directions, with reference to the mea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2017800" y="2689200"/>
                <a:ext cx="39654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y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04" name="PlaceHolder 2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Global index of dispers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192120" y="5334120"/>
            <a:ext cx="287064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Corriger DS dans équation 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259240" y="54990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D = 2.3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523880" y="18288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fr-FR" sz="2000" spc="-1" strike="noStrike">
                <a:solidFill>
                  <a:srgbClr val="cc0066"/>
                </a:solidFill>
                <a:latin typeface="Arial"/>
              </a:rPr>
              <a:t>Compu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638680" y="1828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fr-FR" sz="1800" spc="-1" strike="noStrike">
                <a:solidFill>
                  <a:srgbClr val="cc0066"/>
                </a:solidFill>
                <a:latin typeface="Arial"/>
              </a:rPr>
              <a:t>Standard d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915240" y="3228840"/>
            <a:ext cx="0" cy="50796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1566720" y="2374920"/>
                <a:ext cx="116064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3" name=""/>
          <p:cNvSpPr/>
          <p:nvPr/>
        </p:nvSpPr>
        <p:spPr>
          <a:xfrm>
            <a:off x="1573560" y="4680000"/>
            <a:ext cx="1863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D =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(4.73 + 5.6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D = 2.3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899800" y="2851200"/>
            <a:ext cx="682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= 4.7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= 5.6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1566720" y="3459240"/>
                <a:ext cx="116064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6" name=""/>
          <p:cNvSpPr/>
          <p:nvPr/>
        </p:nvSpPr>
        <p:spPr>
          <a:xfrm>
            <a:off x="6400800" y="3222720"/>
            <a:ext cx="1028880" cy="1028520"/>
          </a:xfrm>
          <a:prstGeom prst="ellipse">
            <a:avLst/>
          </a:prstGeom>
          <a:noFill/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486400" y="373392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921360" y="3733560"/>
            <a:ext cx="0" cy="1130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5458320" y="2286000"/>
            <a:ext cx="2618280" cy="2665080"/>
            <a:chOff x="5458320" y="2286000"/>
            <a:chExt cx="2618280" cy="2665080"/>
          </a:xfrm>
        </p:grpSpPr>
        <p:grpSp>
          <p:nvGrpSpPr>
            <p:cNvPr id="720" name=""/>
            <p:cNvGrpSpPr/>
            <p:nvPr/>
          </p:nvGrpSpPr>
          <p:grpSpPr>
            <a:xfrm>
              <a:off x="5962680" y="2584440"/>
              <a:ext cx="2019240" cy="1957680"/>
              <a:chOff x="5962680" y="2584440"/>
              <a:chExt cx="2019240" cy="1957680"/>
            </a:xfrm>
          </p:grpSpPr>
          <p:sp>
            <p:nvSpPr>
              <p:cNvPr id="721" name=""/>
              <p:cNvSpPr/>
              <p:nvPr/>
            </p:nvSpPr>
            <p:spPr>
              <a:xfrm>
                <a:off x="5962680" y="3735360"/>
                <a:ext cx="184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051600" y="39560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299280" y="44132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23240" y="41846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789960" y="39560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537600" y="34988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256520" y="37274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256520" y="32702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743960" y="25844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267600" y="4167360"/>
                <a:ext cx="183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023240" y="42656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732720" y="37101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432840" y="32781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347240" y="368928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94600" y="30132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753320" y="26510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5458320" y="2286000"/>
              <a:ext cx="2618280" cy="2665080"/>
              <a:chOff x="5458320" y="2286000"/>
              <a:chExt cx="2618280" cy="2665080"/>
            </a:xfrm>
          </p:grpSpPr>
          <p:sp>
            <p:nvSpPr>
              <p:cNvPr id="738" name=""/>
              <p:cNvSpPr/>
              <p:nvPr/>
            </p:nvSpPr>
            <p:spPr>
              <a:xfrm flipV="1">
                <a:off x="56167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5581440" y="470988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5598720" y="45910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510160" y="4640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5581440" y="44733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5598720" y="435600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510160" y="4405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5581440" y="42386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5598720" y="412092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510160" y="4170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5581440" y="400356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5598720" y="388440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510160" y="3933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5581440" y="37670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5598720" y="36496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510160" y="36986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5581440" y="35319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5598720" y="341460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510160" y="3463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5581440" y="32972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5598720" y="31780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510160" y="3227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5581440" y="30607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5598720" y="294300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510160" y="29923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5581440" y="282564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5598720" y="27082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510160" y="2757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5581440" y="259056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5598720" y="24717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510160" y="25207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5581440" y="234936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458320" y="22860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862600" y="4709880"/>
                <a:ext cx="2148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6167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98824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83884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10560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22944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08184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46272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3151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57864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70428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55488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81984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94548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79788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05348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17876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0297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41996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27236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53588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61520" y="47098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51392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769160" y="470988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893000" y="4709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745400" y="4827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0107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963200" y="48276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618160" y="2349360"/>
                <a:ext cx="2392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80107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618160" y="4709880"/>
                <a:ext cx="2392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5616720" y="235404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743800" y="471168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596200" y="48290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861160" y="4711680"/>
                <a:ext cx="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34392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286760" y="470988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8" name=""/>
          <p:cNvSpPr/>
          <p:nvPr/>
        </p:nvSpPr>
        <p:spPr>
          <a:xfrm>
            <a:off x="6867360" y="3687840"/>
            <a:ext cx="88920" cy="88920"/>
          </a:xfrm>
          <a:prstGeom prst="ellips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5823000" y="5638680"/>
            <a:ext cx="34920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Standard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99ff"/>
                </a:solidFill>
                <a:latin typeface="Arial"/>
              </a:rPr>
              <a:t>Typology of point spatial distributio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130400" y="2697120"/>
            <a:ext cx="1320840" cy="132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502000" y="2697120"/>
            <a:ext cx="1320840" cy="132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873600" y="2697120"/>
            <a:ext cx="1320840" cy="132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245200" y="2697120"/>
            <a:ext cx="1320840" cy="132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616800" y="2697120"/>
            <a:ext cx="1320840" cy="132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332360" y="4122720"/>
            <a:ext cx="977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uste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772360" y="4122720"/>
            <a:ext cx="837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970080" y="4122720"/>
            <a:ext cx="110700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at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profil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264280" y="4122720"/>
            <a:ext cx="124416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at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contour lin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679800" y="4122720"/>
            <a:ext cx="124560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at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regular mesh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657440" y="33066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736640" y="31957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778040" y="33066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720800" y="33386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778040" y="3154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854360" y="3268800"/>
            <a:ext cx="3780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825560" y="32130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778040" y="32306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714680" y="325584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841400" y="33321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787400" y="33656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54280" y="28749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577960" y="31417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882880" y="32050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632040" y="35352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340080" y="38656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225960" y="353520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568680" y="37893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29080" y="343368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921040" y="36496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717640" y="35607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086280" y="389088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84400" y="28116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111480" y="29894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124080" y="32558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645000" y="3192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403440" y="33447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629080" y="389088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441600" y="28242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83160" y="293832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429000" y="30780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025880" y="28494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178160" y="30020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330800" y="3154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483080" y="33066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635360" y="34592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88000" y="36115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940280" y="3763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000680" y="364968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127400" y="35607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254480" y="34718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381560" y="33829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635360" y="32050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762440" y="31161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889520" y="30272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016600" y="2938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000680" y="338292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127400" y="33829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254480" y="33829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381560" y="33829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508640" y="338292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635360" y="33829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762440" y="33829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89520" y="33829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016600" y="33829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334120" y="38527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359320" y="37004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435640" y="36241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97480" y="32180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562720" y="3192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283360" y="328140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676840" y="31417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956200" y="30020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842080" y="30654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803920" y="33195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37440" y="2811600"/>
            <a:ext cx="3780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286680" y="291312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248520" y="29894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197760" y="307800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121440" y="3154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931000" y="32688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413400" y="33195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286680" y="347184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362640" y="3408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689440" y="37767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829480" y="371304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943600" y="37004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070680" y="36752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045120" y="32180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070680" y="27608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45120" y="290052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676840" y="33447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575320" y="335772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435640" y="3370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295960" y="34210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651640" y="352260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537160" y="35733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880240" y="345924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791320" y="34844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981760" y="34592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083280" y="34844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172200" y="34974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587920" y="38782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743880" y="283680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743880" y="301464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743880" y="319248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743880" y="337032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743880" y="354816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743880" y="3726000"/>
            <a:ext cx="3780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743880" y="3903840"/>
            <a:ext cx="3780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921360" y="2836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921360" y="30146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921360" y="3192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921360" y="3370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921360" y="35481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921360" y="37260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921360" y="39038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099200" y="2836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099200" y="30146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099200" y="3192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099200" y="3370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099200" y="35481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099200" y="37260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099200" y="39038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277040" y="2836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277040" y="30146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277040" y="3192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277040" y="3370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277040" y="35481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7277040" y="37260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277040" y="39038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454880" y="2836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454880" y="30146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454880" y="3192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454880" y="3370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454880" y="35481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454880" y="37260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454880" y="39038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632720" y="2836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632720" y="30146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632720" y="3192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632720" y="3370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632720" y="35481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632720" y="37260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632720" y="39038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810560" y="2836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810560" y="30146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810560" y="31924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810560" y="33703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810560" y="35481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810560" y="372600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810560" y="39038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5032440"/>
            <a:ext cx="7619760" cy="64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Objective: Production of an index expressing these distribution differe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564920" y="2386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R=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928600" y="2386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R=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858720" y="238608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R=2.14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419720" y="29192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648320" y="28432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876920" y="27669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91120" y="37195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092560" y="39164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62520" y="307188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343400" y="3795840"/>
            <a:ext cx="38160" cy="37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495680" y="3871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648320" y="39481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410080" y="29955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537160" y="29066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257800" y="29955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651640" y="276696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791320" y="27288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477120" y="360504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286680" y="369396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362640" y="36306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172200" y="37195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515280" y="3770280"/>
            <a:ext cx="3780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388200" y="392256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464160" y="385920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273720" y="3948120"/>
            <a:ext cx="38160" cy="38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Spatial pattern index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 txBox="1"/>
          <p:nvPr/>
        </p:nvSpPr>
        <p:spPr>
          <a:xfrm>
            <a:off x="545040" y="1612440"/>
            <a:ext cx="8281800" cy="41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76320" bIns="76320" anchor="t">
            <a:normAutofit/>
          </a:bodyPr>
          <a:p>
            <a:pPr marL="284040" indent="-284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800" spc="-1" strike="noStrike">
                <a:solidFill>
                  <a:srgbClr val="6699ff"/>
                </a:solidFill>
                <a:latin typeface="Arial"/>
              </a:rPr>
              <a:t>The nearest neighbor R index compares the observed distribution of points with a theoretically random on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800" spc="-1" strike="noStrike">
                <a:solidFill>
                  <a:srgbClr val="6699ff"/>
                </a:solidFill>
                <a:latin typeface="Arial"/>
              </a:rPr>
              <a:t>It is a rat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1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 Index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10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 distance in the observed distrib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17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10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 distance in the random distributi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294560" y="3205080"/>
            <a:ext cx="5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0066"/>
                </a:solidFill>
                <a:latin typeface="Arial"/>
              </a:rPr>
              <a:t>R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959120" y="3394080"/>
            <a:ext cx="4670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888920" y="3048120"/>
            <a:ext cx="465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n distance between pairs of points samp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887840" y="3406680"/>
            <a:ext cx="404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n distance for a random distribu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1487520" y="4154400"/>
                <a:ext cx="14446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99" name=""/>
          <p:cNvSpPr/>
          <p:nvPr/>
        </p:nvSpPr>
        <p:spPr>
          <a:xfrm>
            <a:off x="3186000" y="4383000"/>
            <a:ext cx="43027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distance from point i to its nearest neighbo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1384200" y="5257800"/>
                <a:ext cx="15685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 </m:t>
                    </m:r>
                    <m:r>
                      <m:t xml:space="preserve">/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  <m:r>
                          <m:t xml:space="preserve">s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01" name=""/>
          <p:cNvSpPr/>
          <p:nvPr/>
        </p:nvSpPr>
        <p:spPr>
          <a:xfrm>
            <a:off x="3267360" y="5307120"/>
            <a:ext cx="2464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 : area of the study reg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 : number of poi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7121160" y="3057480"/>
            <a:ext cx="424080" cy="739080"/>
            <a:chOff x="7121160" y="3057480"/>
            <a:chExt cx="424080" cy="739080"/>
          </a:xfrm>
        </p:grpSpPr>
        <p:sp>
          <p:nvSpPr>
            <p:cNvPr id="1003" name=""/>
            <p:cNvSpPr/>
            <p:nvPr/>
          </p:nvSpPr>
          <p:spPr>
            <a:xfrm>
              <a:off x="7218000" y="3101760"/>
              <a:ext cx="88560" cy="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121160" y="3057480"/>
              <a:ext cx="30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219800" y="3481200"/>
              <a:ext cx="88560" cy="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121520" y="3427200"/>
              <a:ext cx="4237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66"/>
                  </a:solidFill>
                  <a:latin typeface="Arial"/>
                </a:rPr>
                <a:t>d</a:t>
              </a:r>
              <a:r>
                <a:rPr b="1" lang="en-US" sz="1600" spc="-1" strike="noStrike" baseline="-25000">
                  <a:solidFill>
                    <a:srgbClr val="cc0066"/>
                  </a:solidFill>
                  <a:latin typeface="Arial"/>
                </a:rPr>
                <a:t>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175160" y="3384360"/>
              <a:ext cx="228240" cy="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8" name=""/>
          <p:cNvSpPr/>
          <p:nvPr/>
        </p:nvSpPr>
        <p:spPr>
          <a:xfrm>
            <a:off x="6780960" y="3201840"/>
            <a:ext cx="3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0066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Nearest neighbor R index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648320" y="527364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 = 1.2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 is a near random distrib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523880" y="18288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ompu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638680" y="1828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Nearest neighb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914400" y="4808520"/>
            <a:ext cx="3276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al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0.5 / (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8 / (10 * 10) ) = 1.76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967360" y="40417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705720" y="402732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454800" y="3573360"/>
            <a:ext cx="2286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7162920" y="265896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148520" y="3354480"/>
            <a:ext cx="14400" cy="36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012680" y="4973760"/>
            <a:ext cx="98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2" name=""/>
          <p:cNvGraphicFramePr/>
          <p:nvPr/>
        </p:nvGraphicFramePr>
        <p:xfrm>
          <a:off x="990720" y="2362320"/>
          <a:ext cx="3009960" cy="198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362320"/>
                    <a:ext cx="30099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4" name=""/>
          <p:cNvSpPr/>
          <p:nvPr/>
        </p:nvSpPr>
        <p:spPr>
          <a:xfrm>
            <a:off x="914400" y="45720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   = 17.1422 / 8 = 2.142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012680" y="4618080"/>
            <a:ext cx="98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914400" y="5257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   = 2.1428 / 1.768 = 1.2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824440" y="373536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913360" y="39560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161040" y="44132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885000" y="41846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651720" y="395604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399360" y="349884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118280" y="37274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118280" y="32702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05720" y="25844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216480" y="42148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85000" y="41893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705720" y="374796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294600" y="327816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209000" y="36892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934320" y="30560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615080" y="26510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5320080" y="2286000"/>
            <a:ext cx="2618280" cy="2665080"/>
            <a:chOff x="5320080" y="2286000"/>
            <a:chExt cx="2618280" cy="2665080"/>
          </a:xfrm>
        </p:grpSpPr>
        <p:sp>
          <p:nvSpPr>
            <p:cNvPr id="1044" name=""/>
            <p:cNvSpPr/>
            <p:nvPr/>
          </p:nvSpPr>
          <p:spPr>
            <a:xfrm flipV="1">
              <a:off x="547848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5443200" y="47098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5460480" y="45910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371920" y="4640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5443200" y="44733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5460480" y="4356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371920" y="4405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5443200" y="4238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5460480" y="412092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71920" y="417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5443200" y="40035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5460480" y="38844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371920" y="39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5443200" y="3767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>
              <a:off x="5460480" y="36496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371920" y="369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5443200" y="35319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>
              <a:off x="5460480" y="34146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371920" y="3463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5443200" y="3297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5460480" y="31780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371920" y="322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5443200" y="30607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5460480" y="29430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371920" y="29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>
              <a:off x="5443200" y="2825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5460480" y="2708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371920" y="2757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5443200" y="25905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5460480" y="24717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71920" y="2520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5443200" y="23493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32008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724360" y="470988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47848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85000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006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96736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09120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9436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32448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17688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44040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56604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4166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68160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80724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6596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91524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04052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89148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28172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1341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39764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52328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37568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630920" y="470988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754760" y="470988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60716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87248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824960" y="4827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479920" y="23493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787248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479920" y="470988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5478480" y="235404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605560" y="47116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457960" y="4829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722920" y="47116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20568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1485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4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R index - Exampl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 txBox="1"/>
          <p:nvPr/>
        </p:nvSpPr>
        <p:spPr>
          <a:xfrm>
            <a:off x="686880" y="1829520"/>
            <a:ext cx="7770240" cy="388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76320" bIns="76320" anchor="t">
            <a:normAutofit/>
          </a:bodyPr>
          <a:p>
            <a:pPr marL="284040" indent="-2840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6699ff"/>
                </a:solidFill>
                <a:latin typeface="Arial"/>
              </a:rPr>
              <a:t>The most common neighborhood relationship is the measure of proximity to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1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bject mode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eas of largest proxim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3400" indent="-227160">
              <a:lnSpc>
                <a:spcPct val="90000"/>
              </a:lnSpc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limited by equidistance line segments between points (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median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03400" indent="-227160">
              <a:lnSpc>
                <a:spcPct val="90000"/>
              </a:lnSpc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y are called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Thiesse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Voronoï’s polyg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1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image mode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distance to the nearest point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0040">
              <a:lnSpc>
                <a:spcPct val="90000"/>
              </a:lnSpc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ion of largest proxim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Neighborhood relationship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800000"/>
                </a:solidFill>
                <a:latin typeface="Arial"/>
              </a:rPr>
              <a:t>Introduction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02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ace is divided into areas delimited by the medians of segments connecting poi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location within each area is closer to its point center than any o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areas of largest proximity are called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Thiess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Voronoï ’s polygon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648320" y="5499000"/>
            <a:ext cx="3809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reas of largest proximity to the 8 point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181480" y="18288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Thiessen Polyg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5486400" y="2433600"/>
            <a:ext cx="2386080" cy="2362320"/>
            <a:chOff x="5486400" y="2433600"/>
            <a:chExt cx="2386080" cy="2362320"/>
          </a:xfrm>
        </p:grpSpPr>
        <p:sp>
          <p:nvSpPr>
            <p:cNvPr id="1125" name=""/>
            <p:cNvSpPr/>
            <p:nvPr/>
          </p:nvSpPr>
          <p:spPr>
            <a:xfrm>
              <a:off x="6405480" y="2433600"/>
              <a:ext cx="457200" cy="121932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548400" y="2433600"/>
              <a:ext cx="1324080" cy="99072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486400" y="3048120"/>
              <a:ext cx="826920" cy="92556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6872400" y="3576600"/>
              <a:ext cx="990360" cy="7632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5486400" y="4201920"/>
              <a:ext cx="826920" cy="44604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 flipV="1">
              <a:off x="6541560" y="4425840"/>
              <a:ext cx="87480" cy="37008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 flipV="1">
              <a:off x="7008480" y="4049640"/>
              <a:ext cx="849240" cy="37008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6313320" y="3744720"/>
              <a:ext cx="53352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6851160" y="3652920"/>
              <a:ext cx="11160" cy="93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313320" y="397368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313320" y="4202280"/>
              <a:ext cx="22860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6541920" y="4049280"/>
              <a:ext cx="457200" cy="38124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 flipV="1">
              <a:off x="6846480" y="3745080"/>
              <a:ext cx="152280" cy="30456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5320080" y="2363760"/>
            <a:ext cx="2618280" cy="2665080"/>
            <a:chOff x="5320080" y="2363760"/>
            <a:chExt cx="2618280" cy="2665080"/>
          </a:xfrm>
        </p:grpSpPr>
        <p:grpSp>
          <p:nvGrpSpPr>
            <p:cNvPr id="1139" name=""/>
            <p:cNvGrpSpPr/>
            <p:nvPr/>
          </p:nvGrpSpPr>
          <p:grpSpPr>
            <a:xfrm>
              <a:off x="5824440" y="2662200"/>
              <a:ext cx="2019240" cy="1957680"/>
              <a:chOff x="5824440" y="2662200"/>
              <a:chExt cx="2019240" cy="1957680"/>
            </a:xfrm>
          </p:grpSpPr>
          <p:sp>
            <p:nvSpPr>
              <p:cNvPr id="1140" name=""/>
              <p:cNvSpPr/>
              <p:nvPr/>
            </p:nvSpPr>
            <p:spPr>
              <a:xfrm>
                <a:off x="5824440" y="3813120"/>
                <a:ext cx="184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913360" y="40338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161040" y="44910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885000" y="42624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651720" y="403380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399360" y="357660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118280" y="38052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118280" y="33480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605720" y="26622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129360" y="4245120"/>
                <a:ext cx="183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885000" y="43434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594480" y="378792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294600" y="335592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209000" y="376704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056360" y="30909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615080" y="27288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5320080" y="2363760"/>
              <a:ext cx="2618280" cy="2665080"/>
              <a:chOff x="5320080" y="2363760"/>
              <a:chExt cx="2618280" cy="2665080"/>
            </a:xfrm>
          </p:grpSpPr>
          <p:sp>
            <p:nvSpPr>
              <p:cNvPr id="1157" name=""/>
              <p:cNvSpPr/>
              <p:nvPr/>
            </p:nvSpPr>
            <p:spPr>
              <a:xfrm flipV="1">
                <a:off x="5478480" y="24318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H="1">
                <a:off x="5443200" y="478764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H="1">
                <a:off x="5460480" y="46688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371920" y="4717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H="1">
                <a:off x="5443200" y="45511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H="1">
                <a:off x="5460480" y="44337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371920" y="4483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5443200" y="43164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>
                <a:off x="5460480" y="419868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371920" y="4248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H="1">
                <a:off x="5443200" y="40813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H="1">
                <a:off x="5460480" y="396216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371920" y="4011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H="1">
                <a:off x="5443200" y="38448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H="1">
                <a:off x="5460480" y="37274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371920" y="3776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>
                <a:off x="5443200" y="36097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flipH="1">
                <a:off x="5460480" y="349236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371920" y="3541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>
                <a:off x="5443200" y="33750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5460480" y="32558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371920" y="3305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H="1">
                <a:off x="5443200" y="313848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flipH="1">
                <a:off x="5460480" y="3020760"/>
                <a:ext cx="17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371920" y="3070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>
                <a:off x="5443200" y="290340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H="1">
                <a:off x="5460480" y="278604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371920" y="2835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>
                <a:off x="5443200" y="2668320"/>
                <a:ext cx="3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H="1">
                <a:off x="5460480" y="254952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371920" y="25984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H="1">
                <a:off x="5443200" y="2427120"/>
                <a:ext cx="3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320080" y="23637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724360" y="4787640"/>
                <a:ext cx="2148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478480" y="47876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850000" y="47876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70060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967360" y="47876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091200" y="47876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94360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324480" y="4787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17688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440400" y="47876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566040" y="47876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41664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681600" y="47876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807240" y="47876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65964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915240" y="47876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040520" y="47876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89148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281720" y="4787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13412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397640" y="47876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523280" y="47876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37568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630920" y="4787640"/>
                <a:ext cx="18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754760" y="4787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607160" y="4905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872480" y="47876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824960" y="49053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479920" y="2427120"/>
                <a:ext cx="2392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V="1">
                <a:off x="7872480" y="24318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479920" y="4787640"/>
                <a:ext cx="2392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V="1">
                <a:off x="5478480" y="2431800"/>
                <a:ext cx="1440" cy="23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605560" y="478944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457960" y="4906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722920" y="4789440"/>
                <a:ext cx="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205680" y="47876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148520" y="4787640"/>
                <a:ext cx="14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7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objects : Areas of largest proximit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ance image from each cell to the nearest point region,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minimu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lane (horizontal, crow fly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d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raphical representation suggests limits of areas of largest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express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distance) to the nearest point region, but without identifying it 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029200" y="18288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Minimum plane d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4" name="" descr=""/>
          <p:cNvPicPr/>
          <p:nvPr/>
        </p:nvPicPr>
        <p:blipFill>
          <a:blip r:embed="rId1"/>
          <a:stretch/>
        </p:blipFill>
        <p:spPr>
          <a:xfrm>
            <a:off x="5497560" y="2405160"/>
            <a:ext cx="2844720" cy="2406600"/>
          </a:xfrm>
          <a:prstGeom prst="rect">
            <a:avLst/>
          </a:prstGeom>
          <a:ln w="0">
            <a:noFill/>
          </a:ln>
        </p:spPr>
      </p:pic>
      <p:sp>
        <p:nvSpPr>
          <p:cNvPr id="1235" name=""/>
          <p:cNvSpPr/>
          <p:nvPr/>
        </p:nvSpPr>
        <p:spPr>
          <a:xfrm>
            <a:off x="5861160" y="393552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249960" y="419724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043760" y="42228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692760" y="40114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434280" y="3298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381800" y="371016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229520" y="3070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7696080" y="26668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5320080" y="2363760"/>
            <a:ext cx="2618280" cy="2665080"/>
            <a:chOff x="5320080" y="2363760"/>
            <a:chExt cx="2618280" cy="2665080"/>
          </a:xfrm>
        </p:grpSpPr>
        <p:sp>
          <p:nvSpPr>
            <p:cNvPr id="1244" name=""/>
            <p:cNvSpPr/>
            <p:nvPr/>
          </p:nvSpPr>
          <p:spPr>
            <a:xfrm flipV="1">
              <a:off x="5478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>
              <a:off x="5443200" y="47876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5460480" y="46688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371920" y="4717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5443200" y="45511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5460480" y="44337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371920" y="448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5443200" y="43164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5460480" y="41986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371920" y="4248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>
              <a:off x="5443200" y="40813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H="1">
              <a:off x="5460480" y="396216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371920" y="40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5443200" y="38448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5460480" y="37274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371920" y="377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5443200" y="36097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H="1">
              <a:off x="5460480" y="3492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371920" y="3541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443200" y="33750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5460480" y="32558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37192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5443200" y="313848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5460480" y="302076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37192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5443200" y="29034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5460480" y="2786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371920" y="283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5443200" y="26683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5460480" y="25495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371920" y="259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H="1">
              <a:off x="5443200" y="24271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320080" y="2363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724360" y="478764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4784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85000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00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96736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09120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943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32448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1768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44040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56604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4166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68160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80724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6596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91524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0405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8914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28172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1341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39764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52328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3756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63092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75476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60716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8724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824960" y="4905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479920" y="242712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7872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479920" y="478764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5478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605560" y="47894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457960" y="49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22920" y="478944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2056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1485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4800600" y="535608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aximu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6.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e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 1.9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regions : Minimum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5508720" y="2408400"/>
            <a:ext cx="2635200" cy="2395440"/>
          </a:xfrm>
          <a:prstGeom prst="rect">
            <a:avLst/>
          </a:prstGeom>
          <a:ln w="0">
            <a:noFill/>
          </a:ln>
        </p:spPr>
      </p:pic>
      <p:sp>
        <p:nvSpPr>
          <p:cNvPr id="1319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cells are assigned to the point region with the largest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 is divided into areal regions of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largest 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their cen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identify the point reg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ing the largest proximity. This information adds to the distance value computed ab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670280" y="1828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Regions of largest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735520" y="393552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124680" y="428472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918480" y="42228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534000" y="404496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308640" y="3298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256520" y="371016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104240" y="3070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570800" y="26668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1" name=""/>
          <p:cNvGrpSpPr/>
          <p:nvPr/>
        </p:nvGrpSpPr>
        <p:grpSpPr>
          <a:xfrm>
            <a:off x="5334120" y="2363760"/>
            <a:ext cx="2604240" cy="2665080"/>
            <a:chOff x="5334120" y="2363760"/>
            <a:chExt cx="2604240" cy="2665080"/>
          </a:xfrm>
        </p:grpSpPr>
        <p:sp>
          <p:nvSpPr>
            <p:cNvPr id="1332" name=""/>
            <p:cNvSpPr/>
            <p:nvPr/>
          </p:nvSpPr>
          <p:spPr>
            <a:xfrm flipV="1">
              <a:off x="549180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5457240" y="478764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5474160" y="46688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385960" y="4717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>
              <a:off x="5457240" y="45511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5474160" y="44337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385960" y="448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H="1">
              <a:off x="5457240" y="43164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5474160" y="419868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85960" y="4248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5457240" y="40813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5474160" y="396216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85960" y="40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>
              <a:off x="5457240" y="38448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5474160" y="37274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385960" y="377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>
              <a:off x="5457240" y="36097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5474160" y="34923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85960" y="3541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5457240" y="33750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>
              <a:off x="5474160" y="32558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8596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5457240" y="313848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>
              <a:off x="5474160" y="302076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38596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>
              <a:off x="5457240" y="29034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5474160" y="27860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385960" y="283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5457240" y="26683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5474160" y="254952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385960" y="259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5457240" y="24271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334120" y="2363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736240" y="4787640"/>
              <a:ext cx="2136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9180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86116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7132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97816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10128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9544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3331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1862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4483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57324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4249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8844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81336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661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9206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04520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897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2853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1384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4005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52544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3782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63236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75548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60896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8728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824960" y="4905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93240" y="2427120"/>
              <a:ext cx="23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V="1">
              <a:off x="787284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493240" y="4787640"/>
              <a:ext cx="2379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>
              <a:off x="549180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618160" y="47894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471640" y="49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34800" y="478944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2150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1528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2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regions : Regions of largest proximit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5127480" y="496080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876920" y="5410080"/>
            <a:ext cx="343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ribution to the closest point reg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6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407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9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Spatial pattern and neighborhood of linear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Different indicators for the spatial distribution and relationships of linear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tial pattern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size, index of spatial d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ighborhood relationships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xity indices of linear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to features, areas and regions of largest proximit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Connexity indices for linear features organised as a </a:t>
            </a:r>
            <a:r>
              <a:rPr b="1" i="1" lang="en-US" sz="2000" spc="-1" strike="noStrike" u="sng">
                <a:solidFill>
                  <a:srgbClr val="cc0066"/>
                </a:solidFill>
                <a:uFillTx/>
                <a:latin typeface="Arial"/>
              </a:rPr>
              <a:t>network</a:t>
            </a: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 will be discussed in the Lesson dedicated to accessi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s: Pattern and neighborhood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Global description of feature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 linear features (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i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ost are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connecte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nd one is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isolate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isolated feature: feature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sets of connected features: {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2,3,4,5,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, {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7,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ach linear feature is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simpl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, made of a single chain with or without vertices (inflexion points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Spatial distribution of featur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221520" y="294804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5983200" y="2973240"/>
            <a:ext cx="21456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6197760" y="2738520"/>
            <a:ext cx="71568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5983200" y="3924000"/>
            <a:ext cx="214560" cy="23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197760" y="3924360"/>
            <a:ext cx="500040" cy="23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424560" y="3693960"/>
            <a:ext cx="287280" cy="4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697800" y="4165560"/>
            <a:ext cx="21564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178680" y="462132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6461280" y="4390560"/>
            <a:ext cx="42840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6899400" y="3924360"/>
            <a:ext cx="285480" cy="4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7418520" y="3919680"/>
            <a:ext cx="214200" cy="70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140600" y="3454560"/>
            <a:ext cx="50148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7155000" y="2738520"/>
            <a:ext cx="500040" cy="70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6172200" y="3895560"/>
            <a:ext cx="50760" cy="55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924520" y="4119480"/>
            <a:ext cx="824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154560" y="4578480"/>
            <a:ext cx="84240" cy="91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429240" y="459756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413400" y="3639960"/>
            <a:ext cx="8280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653160" y="4119480"/>
            <a:ext cx="842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870600" y="4348080"/>
            <a:ext cx="84240" cy="9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129440" y="3876840"/>
            <a:ext cx="82440" cy="91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128000" y="3405240"/>
            <a:ext cx="82440" cy="90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7365960" y="4578480"/>
            <a:ext cx="84240" cy="91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608960" y="3895560"/>
            <a:ext cx="50760" cy="55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7593120" y="2698920"/>
            <a:ext cx="82440" cy="90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924520" y="3405240"/>
            <a:ext cx="82440" cy="90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72200" y="294804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869160" y="2698920"/>
            <a:ext cx="84240" cy="90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992920" y="373392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566040" y="373392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066080" y="40482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6477120" y="45594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647040" y="419904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209000" y="287028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642080" y="396252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9" name=""/>
          <p:cNvGrpSpPr/>
          <p:nvPr/>
        </p:nvGrpSpPr>
        <p:grpSpPr>
          <a:xfrm>
            <a:off x="5334480" y="2438280"/>
            <a:ext cx="2618280" cy="2665080"/>
            <a:chOff x="5334480" y="2438280"/>
            <a:chExt cx="2618280" cy="2665080"/>
          </a:xfrm>
        </p:grpSpPr>
        <p:sp>
          <p:nvSpPr>
            <p:cNvPr id="1450" name=""/>
            <p:cNvSpPr/>
            <p:nvPr/>
          </p:nvSpPr>
          <p:spPr>
            <a:xfrm flipV="1">
              <a:off x="5492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5457600" y="48621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5474880" y="4743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386320" y="47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>
              <a:off x="5457600" y="46256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5474880" y="4508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386320" y="455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5457600" y="43909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>
              <a:off x="5474880" y="4273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386320" y="4322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>
              <a:off x="5457600" y="41558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5474880" y="40366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386320" y="4086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5457600" y="39193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5474880" y="38019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386320" y="385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5457600" y="36842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5474880" y="35668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386320" y="361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>
              <a:off x="5457600" y="3449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5474880" y="3330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386320" y="337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5457600" y="32130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>
              <a:off x="5474880" y="30952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386320" y="314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5457600" y="29779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5474880" y="28605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386320" y="290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5457600" y="27428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5474880" y="2624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386320" y="2673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H="1">
              <a:off x="5457600" y="2501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334480" y="24382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738760" y="486216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4928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86440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71500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98176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10560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95800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3888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1912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45480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58044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43104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69600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82164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67404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92964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05492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9058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729612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14852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41204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53768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3900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64532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76916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62156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8868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839360" y="49798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494320" y="250164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7886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494320" y="486216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V="1">
              <a:off x="5492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619960" y="48639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472360" y="4981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737320" y="48639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2200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16292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0" name=""/>
          <p:cNvSpPr/>
          <p:nvPr/>
        </p:nvSpPr>
        <p:spPr>
          <a:xfrm>
            <a:off x="5483160" y="5410080"/>
            <a:ext cx="22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n : identif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s: Example of a distribu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5127480" y="507996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/>
          </p:nvPr>
        </p:nvSpPr>
        <p:spPr>
          <a:xfrm>
            <a:off x="644400" y="1676160"/>
            <a:ext cx="3851280" cy="419076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 fontScale="96000"/>
          </a:bodyPr>
          <a:p>
            <a:pPr marL="280080" indent="0" algn="ctr">
              <a:spcBef>
                <a:spcPts val="1001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-267840">
              <a:spcBef>
                <a:spcPts val="476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L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/ 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0">
              <a:spcBef>
                <a:spcPts val="374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th: L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: total leng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0">
              <a:spcBef>
                <a:spcPts val="374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 : number of featu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spcBef>
                <a:spcPts val="799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ndex expresses the 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average leng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overall feat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sit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-267840">
              <a:spcBef>
                <a:spcPts val="476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 = L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/ 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0">
              <a:spcBef>
                <a:spcPts val="374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th: L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: total leng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0">
              <a:spcBef>
                <a:spcPts val="374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: area of the reg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spcBef>
                <a:spcPts val="799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ndex can be used to 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compa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nsity of several reg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723920" y="1676160"/>
            <a:ext cx="3768840" cy="419076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Examp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5715000" y="4876920"/>
            <a:ext cx="236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= 27.3 / 8 = 3.413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5996160" y="2363760"/>
          <a:ext cx="1242720" cy="194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96160" y="2363760"/>
                    <a:ext cx="124272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9" name=""/>
          <p:cNvSpPr/>
          <p:nvPr/>
        </p:nvSpPr>
        <p:spPr>
          <a:xfrm>
            <a:off x="5746680" y="5410080"/>
            <a:ext cx="24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  = 27.3 / 100 = 0.27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s: Spatial densit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/>
          </p:nvPr>
        </p:nvSpPr>
        <p:spPr>
          <a:xfrm>
            <a:off x="533160" y="1545840"/>
            <a:ext cx="3886200" cy="43974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1001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Index of connex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476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C = c / 0.5 n (n-1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374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th:   c : number of chai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374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 : number of no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850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denominator expresses the number of 2 by 2 combinations of connection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850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refore: 0 &gt;= C &lt;= 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850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r a planar network with n&gt;3, C could not be equal to 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0" y="1545840"/>
            <a:ext cx="4038480" cy="43974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 fontScale="98000"/>
          </a:bodyPr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Ex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 the above example, the set of 8 features contain </a:t>
            </a: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11 nod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8 chain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C index value is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 = 8 / 0.5 (11* 10) = 0.15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connexity of the whole set is low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ach one of the 3 subsets has a different level of connexity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1 / 0.5 (2 * 1) =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2-6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5 / 0.5 (6 * 5) = 0.3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7,8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2 / 0.5 (3 * 2) = 0.6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cc0066"/>
                </a:solidFill>
                <a:latin typeface="Arial"/>
              </a:rPr>
              <a:t>See also Kansky ’s beta and gamma indic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s: Connexity index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ace is divided into areas with the largest proximity to each linear fea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location within each area is closer to its linear feature than any o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areas of largest proximity can be associated to the previously presented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Thiess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Voronoï ’s polygon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746600" y="1828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Areas of largest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V="1">
            <a:off x="5983200" y="2973240"/>
            <a:ext cx="214560" cy="47016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6197760" y="2738520"/>
            <a:ext cx="715680" cy="23472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V="1">
            <a:off x="5983200" y="3924000"/>
            <a:ext cx="214560" cy="23652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197760" y="3924360"/>
            <a:ext cx="500040" cy="23652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424560" y="3693960"/>
            <a:ext cx="287280" cy="47160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697800" y="4165560"/>
            <a:ext cx="215640" cy="23508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178680" y="4621320"/>
            <a:ext cx="28728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V="1">
            <a:off x="6461280" y="4390560"/>
            <a:ext cx="428400" cy="23508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6899400" y="3924360"/>
            <a:ext cx="285480" cy="47160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V="1">
            <a:off x="7418520" y="3919680"/>
            <a:ext cx="214200" cy="70632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140600" y="3454560"/>
            <a:ext cx="501480" cy="46980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7155000" y="2738520"/>
            <a:ext cx="500040" cy="70488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172200" y="3895560"/>
            <a:ext cx="50760" cy="55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5924520" y="4119480"/>
            <a:ext cx="82440" cy="9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154560" y="4578480"/>
            <a:ext cx="84240" cy="9180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429240" y="459756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6413400" y="3639960"/>
            <a:ext cx="82800" cy="9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653160" y="4119480"/>
            <a:ext cx="84240" cy="9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870600" y="4348080"/>
            <a:ext cx="84240" cy="9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129440" y="3876840"/>
            <a:ext cx="82440" cy="9180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7128000" y="3405240"/>
            <a:ext cx="82440" cy="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7365960" y="4578480"/>
            <a:ext cx="84240" cy="9180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7608960" y="3895560"/>
            <a:ext cx="50760" cy="55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593120" y="2698920"/>
            <a:ext cx="82440" cy="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5924520" y="3405240"/>
            <a:ext cx="82440" cy="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172200" y="2948040"/>
            <a:ext cx="50760" cy="55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6869160" y="2698920"/>
            <a:ext cx="84240" cy="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5334480" y="2438280"/>
            <a:ext cx="2618280" cy="2665080"/>
            <a:chOff x="5334480" y="2438280"/>
            <a:chExt cx="2618280" cy="2665080"/>
          </a:xfrm>
        </p:grpSpPr>
        <p:sp>
          <p:nvSpPr>
            <p:cNvPr id="1566" name=""/>
            <p:cNvSpPr/>
            <p:nvPr/>
          </p:nvSpPr>
          <p:spPr>
            <a:xfrm flipV="1">
              <a:off x="5492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5457600" y="486216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5474880" y="4743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386320" y="47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5457600" y="46256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5474880" y="4508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386320" y="455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5457600" y="43909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5474880" y="4273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386320" y="4322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5457600" y="41558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5474880" y="40366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386320" y="4086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5457600" y="39193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5474880" y="38019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386320" y="385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5457600" y="36842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5474880" y="35668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386320" y="3616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5457600" y="3449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>
              <a:off x="5474880" y="3330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386320" y="337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5457600" y="32130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>
              <a:off x="5474880" y="30952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386320" y="314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5457600" y="29779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5474880" y="28605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386320" y="290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>
              <a:off x="5457600" y="27428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5474880" y="2624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386320" y="2673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5457600" y="25016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334480" y="24382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738760" y="486216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4928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86440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71500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598176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10560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95800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33888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1912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45480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58044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43104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69600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82164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67404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92964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05492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9058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29612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14852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41204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537680" y="48621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39008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645320" y="486216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769160" y="486216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621560" y="497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8868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839360" y="49798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494320" y="250164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V="1">
              <a:off x="7886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494320" y="486216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V="1">
              <a:off x="5492880" y="250632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619960" y="486396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472360" y="4981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737320" y="48639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22008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162920" y="486216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 flipH="1">
            <a:off x="6689520" y="4141800"/>
            <a:ext cx="45720" cy="4608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7" name=""/>
          <p:cNvGrpSpPr/>
          <p:nvPr/>
        </p:nvGrpSpPr>
        <p:grpSpPr>
          <a:xfrm>
            <a:off x="5486400" y="2506320"/>
            <a:ext cx="2406600" cy="2362680"/>
            <a:chOff x="5486400" y="2506320"/>
            <a:chExt cx="2406600" cy="2362680"/>
          </a:xfrm>
        </p:grpSpPr>
        <p:sp>
          <p:nvSpPr>
            <p:cNvPr id="1638" name=""/>
            <p:cNvSpPr/>
            <p:nvPr/>
          </p:nvSpPr>
          <p:spPr>
            <a:xfrm>
              <a:off x="5486400" y="3824280"/>
              <a:ext cx="23184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5718240" y="3733560"/>
              <a:ext cx="323640" cy="903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V="1">
              <a:off x="6041880" y="3641760"/>
              <a:ext cx="184320" cy="921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6226200" y="3460320"/>
              <a:ext cx="93600" cy="1810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V="1">
              <a:off x="6319800" y="3323880"/>
              <a:ext cx="13824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V="1">
              <a:off x="6458040" y="3278160"/>
              <a:ext cx="93600" cy="460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551640" y="3278160"/>
              <a:ext cx="23004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6781680" y="3142800"/>
              <a:ext cx="139680" cy="1350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V="1">
              <a:off x="6921360" y="2916360"/>
              <a:ext cx="277920" cy="2268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7199280" y="2779560"/>
              <a:ext cx="92160" cy="1368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V="1">
              <a:off x="7291440" y="2642760"/>
              <a:ext cx="4608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V="1">
              <a:off x="7337520" y="2506320"/>
              <a:ext cx="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197760" y="3656160"/>
              <a:ext cx="509400" cy="5000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6597720" y="4187880"/>
              <a:ext cx="9216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>
              <a:off x="6319800" y="4324320"/>
              <a:ext cx="27792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>
              <a:off x="5624280" y="4324320"/>
              <a:ext cx="695160" cy="3175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5486400" y="4641840"/>
              <a:ext cx="13824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6735600" y="4005000"/>
              <a:ext cx="18576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921360" y="4005360"/>
              <a:ext cx="46080" cy="4093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 flipV="1">
              <a:off x="6597360" y="4323960"/>
              <a:ext cx="369720" cy="903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967440" y="4414680"/>
              <a:ext cx="231840" cy="1810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781680" y="3278160"/>
              <a:ext cx="139680" cy="4096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921360" y="3687840"/>
              <a:ext cx="0" cy="3175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921360" y="3687840"/>
              <a:ext cx="277920" cy="903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199280" y="3778200"/>
              <a:ext cx="138240" cy="1364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>
              <a:off x="7199280" y="3914640"/>
              <a:ext cx="138240" cy="6811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H="1">
              <a:off x="7059600" y="4595760"/>
              <a:ext cx="139680" cy="2732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921360" y="3143160"/>
              <a:ext cx="241560" cy="2858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162920" y="3429000"/>
              <a:ext cx="730080" cy="316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7" name=""/>
          <p:cNvSpPr/>
          <p:nvPr/>
        </p:nvSpPr>
        <p:spPr>
          <a:xfrm>
            <a:off x="6221520" y="294804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145200" y="39924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589800" y="350532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066080" y="40482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6602400" y="45594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761160" y="407844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516800" y="300204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7642080" y="406872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objects: Areas of largest proximit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4648320" y="5421240"/>
            <a:ext cx="3809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reas of largest proximity to the 8 linear featur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ance image from each cell to the nearest linear region,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minimu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lane (horizontal, crow fly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d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raphical representation suggests limits of areas of largest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express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distance) to the nearest linear region, but without identifying it 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1" name="" descr=""/>
          <p:cNvPicPr/>
          <p:nvPr/>
        </p:nvPicPr>
        <p:blipFill>
          <a:blip r:embed="rId1"/>
          <a:stretch/>
        </p:blipFill>
        <p:spPr>
          <a:xfrm>
            <a:off x="5508720" y="2384280"/>
            <a:ext cx="2819160" cy="2386080"/>
          </a:xfrm>
          <a:prstGeom prst="rect">
            <a:avLst/>
          </a:prstGeom>
          <a:ln w="0">
            <a:noFill/>
          </a:ln>
        </p:spPr>
      </p:pic>
      <p:grpSp>
        <p:nvGrpSpPr>
          <p:cNvPr id="1682" name=""/>
          <p:cNvGrpSpPr/>
          <p:nvPr/>
        </p:nvGrpSpPr>
        <p:grpSpPr>
          <a:xfrm>
            <a:off x="5320080" y="2286000"/>
            <a:ext cx="2618280" cy="2739240"/>
            <a:chOff x="5320080" y="2286000"/>
            <a:chExt cx="2618280" cy="2739240"/>
          </a:xfrm>
        </p:grpSpPr>
        <p:sp>
          <p:nvSpPr>
            <p:cNvPr id="1683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5443200" y="47804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>
              <a:off x="5460480" y="4658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371920" y="4708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H="1">
              <a:off x="5443200" y="45370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>
              <a:off x="5460480" y="44161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371920" y="4466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5443200" y="4295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5460480" y="4174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371920" y="4224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>
              <a:off x="5443200" y="40536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5460480" y="393084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371920" y="398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5443200" y="3810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5460480" y="3689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371920" y="373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H="1">
              <a:off x="5443200" y="35683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>
              <a:off x="5460480" y="3447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371920" y="3498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5443200" y="33267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5460480" y="3204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371920" y="3254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5443200" y="3083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H="1">
              <a:off x="5460480" y="29620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371920" y="3012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>
              <a:off x="5443200" y="28411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H="1">
              <a:off x="5460480" y="27205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371920" y="277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>
              <a:off x="5443200" y="25992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>
              <a:off x="5460480" y="24771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371920" y="2527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5443200" y="23511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32008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24360" y="478044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478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8500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700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96736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0912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943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32448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1768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4404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5660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416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6816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8072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659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91524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04052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8914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28172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13412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9764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52328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3756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63092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75476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60716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872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824960" y="4901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479920" y="23511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V="1">
              <a:off x="7872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479920" y="478044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605560" y="47822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457960" y="4903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722920" y="4782240"/>
              <a:ext cx="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2056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14852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3" name=""/>
          <p:cNvSpPr/>
          <p:nvPr/>
        </p:nvSpPr>
        <p:spPr>
          <a:xfrm>
            <a:off x="6243480" y="284148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014880" y="362736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588000" y="362736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7088040" y="394164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499080" y="445284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669000" y="409248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7230960" y="276372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467480" y="380988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regions: Minimum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5029200" y="18288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Minimum plane d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4800600" y="535608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aximu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3.6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e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 0.9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Spatial pattern and neighborhood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44400" y="15238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ncepts of </a:t>
            </a:r>
            <a:r>
              <a:rPr b="1" lang="en-US" sz="2700" spc="-1" strike="noStrike">
                <a:solidFill>
                  <a:srgbClr val="cc0066"/>
                </a:solidFill>
                <a:latin typeface="Arial"/>
              </a:rPr>
              <a:t>pattern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700" spc="-1" strike="noStrike">
                <a:solidFill>
                  <a:srgbClr val="cc0066"/>
                </a:solidFill>
                <a:latin typeface="Arial"/>
              </a:rPr>
              <a:t>neighborhood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are complex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76840">
              <a:spcBef>
                <a:spcPts val="476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nly few properties will be considered: </a:t>
            </a: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centra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locatio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dispersio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contiguit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distanc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900" spc="-1" strike="noStrike">
                <a:solidFill>
                  <a:srgbClr val="cc0066"/>
                </a:solidFill>
                <a:latin typeface="Arial"/>
              </a:rPr>
              <a:t>proxim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3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ifferent models of space can be related with these concepts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7684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Plane isotropic sp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homogene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ace, plane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7684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Skew isotropic 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heterogeneo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, weighted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7684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Skew anisotropic sp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heterogeneo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with variable proper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eighted directionnal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6699ff"/>
                </a:solidFill>
                <a:latin typeface="Arial"/>
              </a:rPr>
              <a:t>Only the plane isotropic space will be considered in this Unit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cells are assigned to the linear region with the largest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 is divided into areal regions of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largest 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their linear fea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identify the linear reg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ing the largest proximity. This information adds to the distance value computed ab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9" name="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2644920" cy="2355840"/>
          </a:xfrm>
          <a:prstGeom prst="rect">
            <a:avLst/>
          </a:prstGeom>
          <a:ln w="0">
            <a:noFill/>
          </a:ln>
        </p:spPr>
      </p:pic>
      <p:grpSp>
        <p:nvGrpSpPr>
          <p:cNvPr id="1770" name=""/>
          <p:cNvGrpSpPr/>
          <p:nvPr/>
        </p:nvGrpSpPr>
        <p:grpSpPr>
          <a:xfrm>
            <a:off x="5334120" y="2363760"/>
            <a:ext cx="2604240" cy="2665080"/>
            <a:chOff x="5334120" y="2363760"/>
            <a:chExt cx="2604240" cy="2665080"/>
          </a:xfrm>
        </p:grpSpPr>
        <p:sp>
          <p:nvSpPr>
            <p:cNvPr id="1771" name=""/>
            <p:cNvSpPr/>
            <p:nvPr/>
          </p:nvSpPr>
          <p:spPr>
            <a:xfrm flipV="1">
              <a:off x="549180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>
              <a:off x="5457240" y="478764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5474160" y="46688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385960" y="4717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5457240" y="45511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H="1">
              <a:off x="5474160" y="44337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385960" y="448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H="1">
              <a:off x="5457240" y="43164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H="1">
              <a:off x="5474160" y="419868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385960" y="4248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H="1">
              <a:off x="5457240" y="40813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>
              <a:off x="5474160" y="396216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385960" y="40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H="1">
              <a:off x="5457240" y="38448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5474160" y="37274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385960" y="377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5457240" y="36097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H="1">
              <a:off x="5474160" y="34923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385960" y="3541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>
              <a:off x="5457240" y="33750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5474160" y="32558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38596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5457240" y="313848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H="1">
              <a:off x="5474160" y="302076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38596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5457240" y="290340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5474160" y="278604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385960" y="283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H="1">
              <a:off x="5457240" y="266832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H="1">
              <a:off x="5474160" y="254952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385960" y="259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>
              <a:off x="5457240" y="24271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334120" y="2363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736240" y="4787640"/>
              <a:ext cx="2136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49180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86116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7132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97816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10128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9544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3331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1862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4483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57324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64249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68844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81336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6661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9206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704520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897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2853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71384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4005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525440" y="47876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3782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63236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75548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60896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8728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824960" y="4905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493240" y="2427120"/>
              <a:ext cx="23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V="1">
              <a:off x="787284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493240" y="4787640"/>
              <a:ext cx="2379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V="1">
              <a:off x="5491800" y="243180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618160" y="478944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471640" y="49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734800" y="478944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2150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152840" y="478764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1" name=""/>
          <p:cNvSpPr/>
          <p:nvPr/>
        </p:nvSpPr>
        <p:spPr>
          <a:xfrm>
            <a:off x="5943600" y="274320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5764320" y="391644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477120" y="342900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7053120" y="390852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248520" y="445284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691320" y="403848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7494480" y="292572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7516800" y="39924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regions: Regions of largest proximit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876920" y="5410080"/>
            <a:ext cx="343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ribution to the closest linear reg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670280" y="1828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Regions of largest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5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856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8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Spatial pattern and neighborhood of areal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Different indicators for the spatial distribution and relationships of areal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tial pattern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es of size, index of spatial d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ighborhood relationships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of largest proxim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to features, regions of largest proximit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Proposed density indices are just a selection of indices used in landscape analysis (see Fragstat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s: Pattern and neighborhood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Global description of feature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 areal features (id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ome are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contiguou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nd some other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isolate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isolated features: 1 an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contiguous features: 3 and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ach areal feature is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simpl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, made of a single chain (no inner or outer islands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Spatial distribution of featur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3" name=""/>
          <p:cNvGrpSpPr/>
          <p:nvPr/>
        </p:nvGrpSpPr>
        <p:grpSpPr>
          <a:xfrm>
            <a:off x="5334120" y="2286000"/>
            <a:ext cx="2604240" cy="2665080"/>
            <a:chOff x="5334120" y="2286000"/>
            <a:chExt cx="2604240" cy="2665080"/>
          </a:xfrm>
        </p:grpSpPr>
        <p:sp>
          <p:nvSpPr>
            <p:cNvPr id="1864" name=""/>
            <p:cNvSpPr/>
            <p:nvPr/>
          </p:nvSpPr>
          <p:spPr>
            <a:xfrm flipV="1">
              <a:off x="5491800" y="2354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5457240" y="470988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H="1">
              <a:off x="5474160" y="45910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385960" y="4640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H="1">
              <a:off x="5457240" y="44733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5474160" y="435600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385960" y="4405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H="1">
              <a:off x="5457240" y="42386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5474160" y="412092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385960" y="417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5457240" y="400356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>
              <a:off x="5474160" y="38844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385960" y="39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5457240" y="37670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5474160" y="36496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385960" y="369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5457240" y="35319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5474160" y="341460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385960" y="3463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5457240" y="32972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5474160" y="31780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385960" y="322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5457240" y="30607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H="1">
              <a:off x="5474160" y="29430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385960" y="29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H="1">
              <a:off x="5457240" y="28256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H="1">
              <a:off x="5474160" y="27082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385960" y="2757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H="1">
              <a:off x="5457240" y="25905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5474160" y="24717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385960" y="2520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H="1">
              <a:off x="5457240" y="234936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33412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736240" y="4709880"/>
              <a:ext cx="2136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49180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86116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7132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97816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10128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9544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33312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1862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4483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57324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4249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68844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81336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6661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92064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04520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8976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28532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1384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74005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52544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73782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763236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75548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760896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787284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7824960" y="4827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493240" y="2349360"/>
              <a:ext cx="23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V="1">
              <a:off x="7872840" y="2354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493240" y="4709880"/>
              <a:ext cx="2379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V="1">
              <a:off x="5491800" y="2354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618160" y="47116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471640" y="4829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734800" y="47116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21504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15284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4" name=""/>
          <p:cNvGrpSpPr/>
          <p:nvPr/>
        </p:nvGrpSpPr>
        <p:grpSpPr>
          <a:xfrm>
            <a:off x="5815080" y="2558880"/>
            <a:ext cx="1812960" cy="2028600"/>
            <a:chOff x="5815080" y="2558880"/>
            <a:chExt cx="1812960" cy="2028600"/>
          </a:xfrm>
        </p:grpSpPr>
        <p:sp>
          <p:nvSpPr>
            <p:cNvPr id="1935" name=""/>
            <p:cNvSpPr/>
            <p:nvPr/>
          </p:nvSpPr>
          <p:spPr>
            <a:xfrm>
              <a:off x="5839200" y="2577240"/>
              <a:ext cx="1757880" cy="1984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839200" y="2811240"/>
              <a:ext cx="352080" cy="465480"/>
            </a:xfrm>
            <a:custGeom>
              <a:avLst/>
              <a:gdLst/>
              <a:ahLst/>
              <a:rect l="l" t="t" r="r" b="b"/>
              <a:pathLst>
                <a:path w="1608" h="2134">
                  <a:moveTo>
                    <a:pt x="536" y="0"/>
                  </a:moveTo>
                  <a:lnTo>
                    <a:pt x="1608" y="1067"/>
                  </a:lnTo>
                  <a:lnTo>
                    <a:pt x="536" y="2134"/>
                  </a:lnTo>
                  <a:lnTo>
                    <a:pt x="0" y="1067"/>
                  </a:lnTo>
                  <a:lnTo>
                    <a:pt x="536" y="0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894360" y="2577240"/>
              <a:ext cx="702720" cy="933840"/>
            </a:xfrm>
            <a:custGeom>
              <a:avLst/>
              <a:gdLst/>
              <a:ahLst/>
              <a:rect l="l" t="t" r="r" b="b"/>
              <a:pathLst>
                <a:path w="3215" h="4269">
                  <a:moveTo>
                    <a:pt x="2679" y="1067"/>
                  </a:moveTo>
                  <a:lnTo>
                    <a:pt x="3215" y="3201"/>
                  </a:lnTo>
                  <a:lnTo>
                    <a:pt x="2143" y="4269"/>
                  </a:lnTo>
                  <a:lnTo>
                    <a:pt x="0" y="3201"/>
                  </a:lnTo>
                  <a:lnTo>
                    <a:pt x="0" y="1067"/>
                  </a:lnTo>
                  <a:lnTo>
                    <a:pt x="1607" y="0"/>
                  </a:lnTo>
                  <a:lnTo>
                    <a:pt x="2679" y="1067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957280" y="3744000"/>
              <a:ext cx="584640" cy="701280"/>
            </a:xfrm>
            <a:custGeom>
              <a:avLst/>
              <a:gdLst/>
              <a:ahLst/>
              <a:rect l="l" t="t" r="r" b="b"/>
              <a:pathLst>
                <a:path w="2679" h="3202">
                  <a:moveTo>
                    <a:pt x="0" y="1068"/>
                  </a:moveTo>
                  <a:lnTo>
                    <a:pt x="1607" y="0"/>
                  </a:lnTo>
                  <a:lnTo>
                    <a:pt x="2679" y="1601"/>
                  </a:lnTo>
                  <a:lnTo>
                    <a:pt x="2143" y="3202"/>
                  </a:lnTo>
                  <a:lnTo>
                    <a:pt x="536" y="2668"/>
                  </a:lnTo>
                  <a:lnTo>
                    <a:pt x="0" y="1068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425640" y="3861720"/>
              <a:ext cx="819000" cy="699840"/>
            </a:xfrm>
            <a:custGeom>
              <a:avLst/>
              <a:gdLst/>
              <a:ahLst/>
              <a:rect l="l" t="t" r="r" b="b"/>
              <a:pathLst>
                <a:path w="3749" h="3201">
                  <a:moveTo>
                    <a:pt x="3749" y="2134"/>
                  </a:moveTo>
                  <a:lnTo>
                    <a:pt x="2142" y="3201"/>
                  </a:lnTo>
                  <a:lnTo>
                    <a:pt x="0" y="2668"/>
                  </a:lnTo>
                  <a:lnTo>
                    <a:pt x="536" y="1067"/>
                  </a:lnTo>
                  <a:lnTo>
                    <a:pt x="2142" y="0"/>
                  </a:lnTo>
                  <a:lnTo>
                    <a:pt x="3749" y="534"/>
                  </a:lnTo>
                  <a:lnTo>
                    <a:pt x="3749" y="2134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909760" y="2922840"/>
              <a:ext cx="18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130160" y="2944440"/>
              <a:ext cx="18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176160" y="3996360"/>
              <a:ext cx="18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784200" y="4087080"/>
              <a:ext cx="18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431840" y="2797560"/>
              <a:ext cx="81000" cy="87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163920" y="301824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503760" y="4038120"/>
              <a:ext cx="81000" cy="87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934240" y="3954960"/>
              <a:ext cx="48960" cy="53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384240" y="4405320"/>
              <a:ext cx="81000" cy="87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862320" y="279756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911200" y="2746800"/>
              <a:ext cx="81000" cy="874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938920" y="324756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815080" y="301824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220520" y="255888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6866640" y="323856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7579080" y="323856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7335360" y="3490920"/>
              <a:ext cx="48960" cy="53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035400" y="4294800"/>
              <a:ext cx="48960" cy="53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278760" y="372096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866640" y="382644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7216200" y="394596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7216200" y="4318200"/>
              <a:ext cx="48960" cy="53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6862320" y="4533840"/>
              <a:ext cx="48960" cy="53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3" name=""/>
          <p:cNvSpPr/>
          <p:nvPr/>
        </p:nvSpPr>
        <p:spPr>
          <a:xfrm>
            <a:off x="5483160" y="5410080"/>
            <a:ext cx="22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 : identif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s: Example of a distribu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5127480" y="507996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/>
          </p:nvPr>
        </p:nvSpPr>
        <p:spPr>
          <a:xfrm>
            <a:off x="533160" y="1545840"/>
            <a:ext cx="3886200" cy="43974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1001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onte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scape analys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850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cepts attached to Landscape analysis are used in this Unit as follow 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pat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each of the 4 areal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the set of the 4 areal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landsca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the study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0" y="1545840"/>
            <a:ext cx="4038480" cy="43974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Ex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metrical proper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al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y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erimeter = 4 x 10 = 40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rea = 10 x 10 = 100m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5410080" y="2684520"/>
            <a:ext cx="297180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eatu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erimeter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          5.06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.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        10.92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8.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             8.34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4.6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           10.32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7.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         31.512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21.6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c0066"/>
                </a:solidFill>
                <a:latin typeface="Arial"/>
              </a:rPr>
              <a:t>The perimeter value takes into account the contiguity of areas 3 and 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s: Pattern indices (1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/>
          </p:nvPr>
        </p:nvSpPr>
        <p:spPr>
          <a:xfrm>
            <a:off x="533160" y="1545840"/>
            <a:ext cx="3886200" cy="43974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 fontScale="95000"/>
          </a:bodyPr>
          <a:p>
            <a:pPr marL="277200" indent="0" algn="ctr">
              <a:spcBef>
                <a:spcPts val="1001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areas (NP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25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NP = number of featur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nsity (P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25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PD = NP / A</a:t>
            </a:r>
            <a:r>
              <a:rPr b="0" lang="en-US" sz="1700" spc="-1" strike="noStrike" baseline="-25000">
                <a:solidFill>
                  <a:srgbClr val="cc0066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326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:  A</a:t>
            </a:r>
            <a:r>
              <a:rPr b="0" lang="en-US" sz="13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: area of the reg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nsivity (%Lan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25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%Land = 100 (A</a:t>
            </a:r>
            <a:r>
              <a:rPr b="0" lang="en-US" sz="1700" spc="-1" strike="noStrike" baseline="-25000">
                <a:solidFill>
                  <a:srgbClr val="cc0066"/>
                </a:solidFill>
                <a:latin typeface="Arial"/>
              </a:rPr>
              <a:t>C</a:t>
            </a: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 / A</a:t>
            </a:r>
            <a:r>
              <a:rPr b="0" lang="en-US" sz="1700" spc="-1" strike="noStrike" baseline="-25000">
                <a:solidFill>
                  <a:srgbClr val="cc0066"/>
                </a:solidFill>
                <a:latin typeface="Arial"/>
              </a:rPr>
              <a:t>R</a:t>
            </a: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326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:  A</a:t>
            </a:r>
            <a:r>
              <a:rPr b="0" lang="en-US" sz="13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: area of the cla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n size (MP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25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MPS = A</a:t>
            </a:r>
            <a:r>
              <a:rPr b="0" lang="en-US" sz="1700" spc="-1" strike="noStrike" baseline="-25000">
                <a:solidFill>
                  <a:srgbClr val="cc0066"/>
                </a:solidFill>
                <a:latin typeface="Arial"/>
              </a:rPr>
              <a:t>C</a:t>
            </a: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 / N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 variability (PSS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25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PSSD = standard deviation of </a:t>
            </a: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cc0066"/>
                </a:solidFill>
                <a:latin typeface="Arial"/>
              </a:rPr>
              <a:t>    the area (acreag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0" y="1545840"/>
            <a:ext cx="4114800" cy="43974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Ex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areas (NP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NP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nsity (P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PD = 4 / 100 = 0.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nsivity (%Lan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%Land = 100(21.63/100) = 21.6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n size (MP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MPS = 21.63 / 4 = 5.41m</a:t>
            </a:r>
            <a:r>
              <a:rPr b="0" lang="en-US" sz="1600" spc="-1" strike="noStrike" baseline="30000">
                <a:solidFill>
                  <a:srgbClr val="cc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 variability (PSS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PSSD = 27.12/3 = 3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6699ff"/>
                </a:solidFill>
                <a:latin typeface="Arial"/>
              </a:rPr>
              <a:t>The derived coefficient of variation (PSSD / MPS) allows to </a:t>
            </a:r>
            <a:r>
              <a:rPr b="0" i="1" lang="en-US" sz="1500" spc="-1" strike="noStrike" u="sng">
                <a:solidFill>
                  <a:srgbClr val="6699ff"/>
                </a:solidFill>
                <a:uFillTx/>
                <a:latin typeface="Arial"/>
              </a:rPr>
              <a:t>compare</a:t>
            </a:r>
            <a:r>
              <a:rPr b="0" i="1" lang="en-US" sz="1500" spc="-1" strike="noStrike">
                <a:solidFill>
                  <a:srgbClr val="6699ff"/>
                </a:solidFill>
                <a:latin typeface="Arial"/>
              </a:rPr>
              <a:t> different pattern distribution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s: Pattern indices (2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ace is divided into areas with the largest proximity to each areal fea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location within each area is closer to its areal feature than any o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areas of largest proximity can be associated to the previously presented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Thiess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Voronoï ’s polygon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6" name=""/>
          <p:cNvGrpSpPr/>
          <p:nvPr/>
        </p:nvGrpSpPr>
        <p:grpSpPr>
          <a:xfrm>
            <a:off x="5334120" y="2286000"/>
            <a:ext cx="2604240" cy="2665080"/>
            <a:chOff x="5334120" y="2286000"/>
            <a:chExt cx="2604240" cy="2665080"/>
          </a:xfrm>
        </p:grpSpPr>
        <p:sp>
          <p:nvSpPr>
            <p:cNvPr id="1977" name=""/>
            <p:cNvSpPr/>
            <p:nvPr/>
          </p:nvSpPr>
          <p:spPr>
            <a:xfrm flipV="1">
              <a:off x="5491800" y="2354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H="1">
              <a:off x="5457240" y="470988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H="1">
              <a:off x="5474160" y="45910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385960" y="4640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H="1">
              <a:off x="5457240" y="44733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H="1">
              <a:off x="5474160" y="435600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385960" y="4405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5457240" y="42386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5474160" y="412092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385960" y="417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>
              <a:off x="5457240" y="400356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>
              <a:off x="5474160" y="38844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385960" y="39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5457240" y="37670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H="1">
              <a:off x="5474160" y="36496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385960" y="3698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>
              <a:off x="5457240" y="35319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5474160" y="341460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385960" y="3463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5457240" y="32972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5474160" y="31780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385960" y="322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5457240" y="306072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H="1">
              <a:off x="5474160" y="2943000"/>
              <a:ext cx="17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385960" y="2992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H="1">
              <a:off x="5457240" y="282564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H="1">
              <a:off x="5474160" y="270828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385960" y="2757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H="1">
              <a:off x="5457240" y="2590560"/>
              <a:ext cx="34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H="1">
              <a:off x="5474160" y="2471760"/>
              <a:ext cx="1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385960" y="2520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H="1">
              <a:off x="5457240" y="2349360"/>
              <a:ext cx="3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33412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736240" y="4709880"/>
              <a:ext cx="2136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49180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86116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7132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97816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10128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9544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33312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1862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4483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57324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4249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68844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81336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66612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92064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04520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8976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728532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13844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40052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525440" y="47098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37820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632360" y="470988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7755480" y="470988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608960" y="4827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87284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824960" y="4827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493240" y="2349360"/>
              <a:ext cx="237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V="1">
              <a:off x="7872840" y="2354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493240" y="4709880"/>
              <a:ext cx="2379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5491800" y="2354040"/>
              <a:ext cx="108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618160" y="4711680"/>
              <a:ext cx="108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471640" y="4829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734800" y="47116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21504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152840" y="4709880"/>
              <a:ext cx="1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7" name=""/>
          <p:cNvGrpSpPr/>
          <p:nvPr/>
        </p:nvGrpSpPr>
        <p:grpSpPr>
          <a:xfrm>
            <a:off x="5815080" y="2558880"/>
            <a:ext cx="1812960" cy="2028960"/>
            <a:chOff x="5815080" y="2558880"/>
            <a:chExt cx="1812960" cy="2028960"/>
          </a:xfrm>
        </p:grpSpPr>
        <p:sp>
          <p:nvSpPr>
            <p:cNvPr id="2048" name=""/>
            <p:cNvSpPr/>
            <p:nvPr/>
          </p:nvSpPr>
          <p:spPr>
            <a:xfrm>
              <a:off x="5838840" y="2577960"/>
              <a:ext cx="1758960" cy="1984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838840" y="2811600"/>
              <a:ext cx="352440" cy="465120"/>
            </a:xfrm>
            <a:custGeom>
              <a:avLst/>
              <a:gdLst/>
              <a:ahLst/>
              <a:rect l="l" t="t" r="r" b="b"/>
              <a:pathLst>
                <a:path w="1608" h="2134">
                  <a:moveTo>
                    <a:pt x="536" y="0"/>
                  </a:moveTo>
                  <a:lnTo>
                    <a:pt x="1608" y="1067"/>
                  </a:lnTo>
                  <a:lnTo>
                    <a:pt x="536" y="2134"/>
                  </a:lnTo>
                  <a:lnTo>
                    <a:pt x="0" y="1067"/>
                  </a:lnTo>
                  <a:lnTo>
                    <a:pt x="536" y="0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894360" y="2577960"/>
              <a:ext cx="703440" cy="933480"/>
            </a:xfrm>
            <a:custGeom>
              <a:avLst/>
              <a:gdLst/>
              <a:ahLst/>
              <a:rect l="l" t="t" r="r" b="b"/>
              <a:pathLst>
                <a:path w="3215" h="4269">
                  <a:moveTo>
                    <a:pt x="2679" y="1067"/>
                  </a:moveTo>
                  <a:lnTo>
                    <a:pt x="3215" y="3201"/>
                  </a:lnTo>
                  <a:lnTo>
                    <a:pt x="2143" y="4269"/>
                  </a:lnTo>
                  <a:lnTo>
                    <a:pt x="0" y="3201"/>
                  </a:lnTo>
                  <a:lnTo>
                    <a:pt x="0" y="1067"/>
                  </a:lnTo>
                  <a:lnTo>
                    <a:pt x="1607" y="0"/>
                  </a:lnTo>
                  <a:lnTo>
                    <a:pt x="2679" y="1067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958000" y="3745080"/>
              <a:ext cx="583920" cy="699840"/>
            </a:xfrm>
            <a:custGeom>
              <a:avLst/>
              <a:gdLst/>
              <a:ahLst/>
              <a:rect l="l" t="t" r="r" b="b"/>
              <a:pathLst>
                <a:path w="2679" h="3202">
                  <a:moveTo>
                    <a:pt x="0" y="1068"/>
                  </a:moveTo>
                  <a:lnTo>
                    <a:pt x="1607" y="0"/>
                  </a:lnTo>
                  <a:lnTo>
                    <a:pt x="2679" y="1601"/>
                  </a:lnTo>
                  <a:lnTo>
                    <a:pt x="2143" y="3202"/>
                  </a:lnTo>
                  <a:lnTo>
                    <a:pt x="536" y="2668"/>
                  </a:lnTo>
                  <a:lnTo>
                    <a:pt x="0" y="1068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426360" y="3862440"/>
              <a:ext cx="819000" cy="700200"/>
            </a:xfrm>
            <a:custGeom>
              <a:avLst/>
              <a:gdLst/>
              <a:ahLst/>
              <a:rect l="l" t="t" r="r" b="b"/>
              <a:pathLst>
                <a:path w="3749" h="3201">
                  <a:moveTo>
                    <a:pt x="3749" y="2134"/>
                  </a:moveTo>
                  <a:lnTo>
                    <a:pt x="2142" y="3201"/>
                  </a:lnTo>
                  <a:lnTo>
                    <a:pt x="0" y="2668"/>
                  </a:lnTo>
                  <a:lnTo>
                    <a:pt x="536" y="1067"/>
                  </a:lnTo>
                  <a:lnTo>
                    <a:pt x="2142" y="0"/>
                  </a:lnTo>
                  <a:lnTo>
                    <a:pt x="3749" y="534"/>
                  </a:lnTo>
                  <a:lnTo>
                    <a:pt x="3749" y="2134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432560" y="2797200"/>
              <a:ext cx="81000" cy="87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164280" y="3017880"/>
              <a:ext cx="493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504120" y="4038480"/>
              <a:ext cx="81000" cy="874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934240" y="3956040"/>
              <a:ext cx="48960" cy="52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384960" y="4405320"/>
              <a:ext cx="81000" cy="874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862680" y="2797200"/>
              <a:ext cx="493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911920" y="2747880"/>
              <a:ext cx="81000" cy="874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938920" y="3247920"/>
              <a:ext cx="4896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815080" y="3017880"/>
              <a:ext cx="493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219800" y="2558880"/>
              <a:ext cx="493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867360" y="3238560"/>
              <a:ext cx="4788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578720" y="3238560"/>
              <a:ext cx="493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7335720" y="3490920"/>
              <a:ext cx="493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035760" y="4295880"/>
              <a:ext cx="4896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278400" y="3720960"/>
              <a:ext cx="493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867360" y="3827520"/>
              <a:ext cx="47880" cy="52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216920" y="3946680"/>
              <a:ext cx="475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216920" y="4317840"/>
              <a:ext cx="475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862680" y="4533840"/>
              <a:ext cx="49320" cy="54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2" name=""/>
          <p:cNvGrpSpPr/>
          <p:nvPr/>
        </p:nvGrpSpPr>
        <p:grpSpPr>
          <a:xfrm>
            <a:off x="5486040" y="2362320"/>
            <a:ext cx="2391120" cy="2361960"/>
            <a:chOff x="5486040" y="2362320"/>
            <a:chExt cx="2391120" cy="2361960"/>
          </a:xfrm>
        </p:grpSpPr>
        <p:sp>
          <p:nvSpPr>
            <p:cNvPr id="2073" name=""/>
            <p:cNvSpPr/>
            <p:nvPr/>
          </p:nvSpPr>
          <p:spPr>
            <a:xfrm>
              <a:off x="6464160" y="2362320"/>
              <a:ext cx="0" cy="2221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470640" y="2584440"/>
              <a:ext cx="93600" cy="4017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564240" y="2986200"/>
              <a:ext cx="0" cy="1778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flipH="1">
              <a:off x="6518160" y="3164040"/>
              <a:ext cx="46080" cy="2235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H="1">
              <a:off x="6330960" y="3387600"/>
              <a:ext cx="187200" cy="446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6095520" y="3432240"/>
              <a:ext cx="235080" cy="1332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>
              <a:off x="5861160" y="3565440"/>
              <a:ext cx="234720" cy="8892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H="1">
              <a:off x="5486040" y="3654360"/>
              <a:ext cx="37476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518160" y="3387600"/>
              <a:ext cx="139680" cy="22248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H="1">
              <a:off x="6552720" y="3610080"/>
              <a:ext cx="104760" cy="4284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flipH="1">
              <a:off x="6400440" y="4038480"/>
              <a:ext cx="152280" cy="4572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H="1">
              <a:off x="6377040" y="4495680"/>
              <a:ext cx="23760" cy="2286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657840" y="3610080"/>
              <a:ext cx="23508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892920" y="3610080"/>
              <a:ext cx="468360" cy="1778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7361280" y="3787920"/>
              <a:ext cx="515880" cy="1346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8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4746600" y="1828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Areas of largest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objects: Areas of largest proximit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4648320" y="5421240"/>
            <a:ext cx="3809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reas of largest proximity to the 4 areal featur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6172200" y="26668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7543800" y="350532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5715000" y="4038480"/>
            <a:ext cx="1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7391520" y="419112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ance image from each cell to the nearest areal region,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minimu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lane (horizontal, crow fly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d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raphical representation suggests limits of areas of largest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express the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distance) to the nearest areal region, but without identifying it 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0" name="" descr=""/>
          <p:cNvPicPr/>
          <p:nvPr/>
        </p:nvPicPr>
        <p:blipFill>
          <a:blip r:embed="rId1"/>
          <a:stretch/>
        </p:blipFill>
        <p:spPr>
          <a:xfrm>
            <a:off x="5486400" y="2360520"/>
            <a:ext cx="2852640" cy="2413080"/>
          </a:xfrm>
          <a:prstGeom prst="rect">
            <a:avLst/>
          </a:prstGeom>
          <a:ln w="0">
            <a:noFill/>
          </a:ln>
        </p:spPr>
      </p:pic>
      <p:grpSp>
        <p:nvGrpSpPr>
          <p:cNvPr id="2101" name=""/>
          <p:cNvGrpSpPr/>
          <p:nvPr/>
        </p:nvGrpSpPr>
        <p:grpSpPr>
          <a:xfrm>
            <a:off x="5320080" y="2286000"/>
            <a:ext cx="2618280" cy="2739240"/>
            <a:chOff x="5320080" y="2286000"/>
            <a:chExt cx="2618280" cy="2739240"/>
          </a:xfrm>
        </p:grpSpPr>
        <p:sp>
          <p:nvSpPr>
            <p:cNvPr id="2102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H="1">
              <a:off x="5443200" y="47804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H="1">
              <a:off x="5460480" y="4658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5371920" y="4708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5443200" y="45370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H="1">
              <a:off x="5460480" y="44161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371920" y="4466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5443200" y="4295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>
              <a:off x="5460480" y="4174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371920" y="4224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5443200" y="40536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H="1">
              <a:off x="5460480" y="393084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371920" y="398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5443200" y="3810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>
              <a:off x="5460480" y="3689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371920" y="373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H="1">
              <a:off x="5443200" y="35683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H="1">
              <a:off x="5460480" y="3447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371920" y="3498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5443200" y="33267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H="1">
              <a:off x="5460480" y="3204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371920" y="3254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H="1">
              <a:off x="5443200" y="3083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5460480" y="29620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371920" y="3012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 flipH="1">
              <a:off x="5443200" y="28411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>
              <a:off x="5460480" y="27205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371920" y="277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 flipH="1">
              <a:off x="5443200" y="25992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H="1">
              <a:off x="5460480" y="24771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371920" y="2527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5443200" y="23511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32008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724360" y="478044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478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8500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700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96736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0912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943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32448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1768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4404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5660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416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6816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8072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659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91524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04052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8914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28172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13412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739764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752328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73756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63092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75476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760716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872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7824960" y="4901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79920" y="23511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V="1">
              <a:off x="7872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479920" y="478044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605560" y="47822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457960" y="4903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722920" y="4782240"/>
              <a:ext cx="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2056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714852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2" name=""/>
          <p:cNvSpPr/>
          <p:nvPr/>
        </p:nvSpPr>
        <p:spPr>
          <a:xfrm>
            <a:off x="5932440" y="294948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7135920" y="29718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6172200" y="403848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896160" y="4114800"/>
            <a:ext cx="1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regions: Minimum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5029200" y="18288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Minimum plane d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4800600" y="535608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aximu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2.9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Me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minimum distances:  0.8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/>
          </p:nvPr>
        </p:nvSpPr>
        <p:spPr>
          <a:xfrm>
            <a:off x="644040" y="1752480"/>
            <a:ext cx="37753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cells are assigned to the areal region with the largest proxim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 is divided into areal regions of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largest proxim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their areal fea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values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identify the areal reg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ing the largest proximity. This information adds to the distance value computed ab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4" name="" descr=""/>
          <p:cNvPicPr/>
          <p:nvPr/>
        </p:nvPicPr>
        <p:blipFill>
          <a:blip r:embed="rId1"/>
          <a:stretch/>
        </p:blipFill>
        <p:spPr>
          <a:xfrm>
            <a:off x="5497560" y="2362320"/>
            <a:ext cx="2633760" cy="2428920"/>
          </a:xfrm>
          <a:prstGeom prst="rect">
            <a:avLst/>
          </a:prstGeom>
          <a:ln w="0">
            <a:noFill/>
          </a:ln>
        </p:spPr>
      </p:pic>
      <p:sp>
        <p:nvSpPr>
          <p:cNvPr id="2185" name=""/>
          <p:cNvSpPr/>
          <p:nvPr/>
        </p:nvSpPr>
        <p:spPr>
          <a:xfrm>
            <a:off x="5931000" y="297180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7211880" y="289548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6137280" y="4038480"/>
            <a:ext cx="17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7010280" y="4159080"/>
            <a:ext cx="1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9" name=""/>
          <p:cNvGrpSpPr/>
          <p:nvPr/>
        </p:nvGrpSpPr>
        <p:grpSpPr>
          <a:xfrm>
            <a:off x="5320080" y="2286000"/>
            <a:ext cx="2618280" cy="2739240"/>
            <a:chOff x="5320080" y="2286000"/>
            <a:chExt cx="2618280" cy="2739240"/>
          </a:xfrm>
        </p:grpSpPr>
        <p:sp>
          <p:nvSpPr>
            <p:cNvPr id="2190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>
              <a:off x="5443200" y="47804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flipH="1">
              <a:off x="5460480" y="4658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371920" y="4708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H="1">
              <a:off x="5443200" y="45370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H="1">
              <a:off x="5460480" y="44161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371920" y="4466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H="1">
              <a:off x="5443200" y="4295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 flipH="1">
              <a:off x="5460480" y="417420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5371920" y="4224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 flipH="1">
              <a:off x="5443200" y="40536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 flipH="1">
              <a:off x="5460480" y="393084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371920" y="398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 flipH="1">
              <a:off x="5443200" y="38102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H="1">
              <a:off x="5460480" y="368928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371920" y="373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H="1">
              <a:off x="5443200" y="35683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H="1">
              <a:off x="5460480" y="3447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371920" y="3498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H="1">
              <a:off x="5443200" y="33267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flipH="1">
              <a:off x="5460480" y="320400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371920" y="3254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H="1">
              <a:off x="5443200" y="308304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 flipH="1">
              <a:off x="5460480" y="29620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371920" y="3012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flipH="1">
              <a:off x="5443200" y="28411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H="1">
              <a:off x="5460480" y="27205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371920" y="277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H="1">
              <a:off x="5443200" y="259920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 flipH="1">
              <a:off x="5460480" y="24771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371920" y="2527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H="1">
              <a:off x="5443200" y="235116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32008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724360" y="478044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478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8500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700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96736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09120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594360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32448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1768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64404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65660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6416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668160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680724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65964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91524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04052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8914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28172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13412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39764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523280" y="47804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37568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630920" y="4780440"/>
              <a:ext cx="18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754760" y="4780440"/>
              <a:ext cx="180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607160" y="4901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78724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7824960" y="4901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479920" y="235116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V="1">
              <a:off x="7872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479920" y="478044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 flipV="1">
              <a:off x="5478480" y="2355480"/>
              <a:ext cx="1440" cy="242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605560" y="4782240"/>
              <a:ext cx="1440" cy="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457960" y="4903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722920" y="4782240"/>
              <a:ext cx="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620568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7148520" y="4780440"/>
              <a:ext cx="144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60" name="PlaceHolder 3"/>
          <p:cNvSpPr>
            <a:spLocks noGrp="1"/>
          </p:cNvSpPr>
          <p:nvPr>
            <p:ph type="title"/>
          </p:nvPr>
        </p:nvSpPr>
        <p:spPr>
          <a:xfrm>
            <a:off x="644400" y="936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regions: Regions of largest proximity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4876920" y="5410080"/>
            <a:ext cx="343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ribution to the closest areal reg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1523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4670280" y="1828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Regions of largest proxim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 flipH="1" rot="16200000">
            <a:off x="463176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800000"/>
                </a:solidFill>
                <a:latin typeface="Arial"/>
              </a:rPr>
              <a:t>End of Uni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rot="5400000">
            <a:off x="338760" y="1720080"/>
            <a:ext cx="1341360" cy="116208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roximity and distan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4840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Areas of largest proximity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66"/>
                </a:solidFill>
                <a:latin typeface="Arial"/>
              </a:rPr>
              <a:t>« Field of influence of features »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4720" y="1980720"/>
            <a:ext cx="384804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Minimum distanc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66"/>
                </a:solidFill>
                <a:latin typeface="Arial"/>
              </a:rPr>
              <a:t>« Distance to the closest feature »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240" y="1508040"/>
            <a:ext cx="75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99ff"/>
                </a:solidFill>
                <a:latin typeface="Arial"/>
              </a:rPr>
              <a:t>Concepts of largest proximity and minimum dista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2895480"/>
            <a:ext cx="2590920" cy="25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3124080"/>
            <a:ext cx="514440" cy="685800"/>
          </a:xfrm>
          <a:custGeom>
            <a:avLst/>
            <a:gdLst/>
            <a:ahLst/>
            <a:rect l="l" t="t" r="r" b="b"/>
            <a:pathLst>
              <a:path w="432" h="576">
                <a:moveTo>
                  <a:pt x="0" y="192"/>
                </a:moveTo>
                <a:lnTo>
                  <a:pt x="96" y="0"/>
                </a:lnTo>
                <a:lnTo>
                  <a:pt x="432" y="144"/>
                </a:lnTo>
                <a:lnTo>
                  <a:pt x="432" y="576"/>
                </a:lnTo>
                <a:lnTo>
                  <a:pt x="192" y="528"/>
                </a:lnTo>
                <a:lnTo>
                  <a:pt x="144" y="288"/>
                </a:lnTo>
                <a:lnTo>
                  <a:pt x="0" y="19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3640" y="3657600"/>
            <a:ext cx="453960" cy="990720"/>
          </a:xfrm>
          <a:custGeom>
            <a:avLst/>
            <a:gdLst/>
            <a:ahLst/>
            <a:rect l="l" t="t" r="r" b="b"/>
            <a:pathLst>
              <a:path w="352" h="768">
                <a:moveTo>
                  <a:pt x="0" y="0"/>
                </a:moveTo>
                <a:cubicBezTo>
                  <a:pt x="4" y="80"/>
                  <a:pt x="8" y="160"/>
                  <a:pt x="48" y="192"/>
                </a:cubicBezTo>
                <a:cubicBezTo>
                  <a:pt x="88" y="224"/>
                  <a:pt x="192" y="152"/>
                  <a:pt x="240" y="192"/>
                </a:cubicBezTo>
                <a:cubicBezTo>
                  <a:pt x="288" y="232"/>
                  <a:pt x="352" y="368"/>
                  <a:pt x="336" y="432"/>
                </a:cubicBezTo>
                <a:cubicBezTo>
                  <a:pt x="320" y="496"/>
                  <a:pt x="200" y="520"/>
                  <a:pt x="144" y="576"/>
                </a:cubicBezTo>
                <a:cubicBezTo>
                  <a:pt x="88" y="632"/>
                  <a:pt x="44" y="700"/>
                  <a:pt x="0" y="76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4952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295280" y="2895120"/>
            <a:ext cx="1905120" cy="2591280"/>
            <a:chOff x="1295280" y="2895120"/>
            <a:chExt cx="1905120" cy="2591280"/>
          </a:xfrm>
        </p:grpSpPr>
        <p:sp>
          <p:nvSpPr>
            <p:cNvPr id="115" name=""/>
            <p:cNvSpPr/>
            <p:nvPr/>
          </p:nvSpPr>
          <p:spPr>
            <a:xfrm flipV="1">
              <a:off x="2666880" y="4038480"/>
              <a:ext cx="0" cy="45720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95280" y="4343400"/>
              <a:ext cx="838080" cy="7596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360" y="4419360"/>
              <a:ext cx="533520" cy="7632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66880" y="4495680"/>
              <a:ext cx="152280" cy="60948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19160" y="5105160"/>
              <a:ext cx="381240" cy="38124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2590560" y="3657600"/>
              <a:ext cx="76320" cy="38088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590560" y="3200400"/>
              <a:ext cx="76320" cy="45720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666880" y="2895120"/>
              <a:ext cx="228600" cy="30492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209680" y="365760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39625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76160" y="3886200"/>
            <a:ext cx="759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209680" y="304776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371240" y="3505320"/>
            <a:ext cx="22860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1447560" y="297144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905120" y="29714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819160" y="4114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2742840" y="350496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352680" y="3048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895120" y="472428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81280" y="45720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4724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581280" y="365760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133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5181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44756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752120" y="464796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209680" y="464796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2895480"/>
            <a:ext cx="2590920" cy="25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3124080"/>
            <a:ext cx="514080" cy="685800"/>
          </a:xfrm>
          <a:custGeom>
            <a:avLst/>
            <a:gdLst/>
            <a:ahLst/>
            <a:rect l="l" t="t" r="r" b="b"/>
            <a:pathLst>
              <a:path w="432" h="576">
                <a:moveTo>
                  <a:pt x="0" y="192"/>
                </a:moveTo>
                <a:lnTo>
                  <a:pt x="96" y="0"/>
                </a:lnTo>
                <a:lnTo>
                  <a:pt x="432" y="144"/>
                </a:lnTo>
                <a:lnTo>
                  <a:pt x="432" y="576"/>
                </a:lnTo>
                <a:lnTo>
                  <a:pt x="192" y="528"/>
                </a:lnTo>
                <a:lnTo>
                  <a:pt x="144" y="288"/>
                </a:lnTo>
                <a:lnTo>
                  <a:pt x="0" y="19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5800" y="3657600"/>
            <a:ext cx="454320" cy="990720"/>
          </a:xfrm>
          <a:custGeom>
            <a:avLst/>
            <a:gdLst/>
            <a:ahLst/>
            <a:rect l="l" t="t" r="r" b="b"/>
            <a:pathLst>
              <a:path w="352" h="768">
                <a:moveTo>
                  <a:pt x="0" y="0"/>
                </a:moveTo>
                <a:cubicBezTo>
                  <a:pt x="4" y="80"/>
                  <a:pt x="8" y="160"/>
                  <a:pt x="48" y="192"/>
                </a:cubicBezTo>
                <a:cubicBezTo>
                  <a:pt x="88" y="224"/>
                  <a:pt x="192" y="152"/>
                  <a:pt x="240" y="192"/>
                </a:cubicBezTo>
                <a:cubicBezTo>
                  <a:pt x="288" y="232"/>
                  <a:pt x="352" y="368"/>
                  <a:pt x="336" y="432"/>
                </a:cubicBezTo>
                <a:cubicBezTo>
                  <a:pt x="320" y="496"/>
                  <a:pt x="200" y="520"/>
                  <a:pt x="144" y="576"/>
                </a:cubicBezTo>
                <a:cubicBezTo>
                  <a:pt x="88" y="632"/>
                  <a:pt x="44" y="700"/>
                  <a:pt x="0" y="76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4952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3657600"/>
            <a:ext cx="304560" cy="152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4495680"/>
            <a:ext cx="22860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172200" y="3733920"/>
            <a:ext cx="380880" cy="1143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15000" y="3885840"/>
            <a:ext cx="15228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129360" y="3583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434340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72160" y="4299120"/>
            <a:ext cx="76320" cy="759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3559320"/>
            <a:ext cx="76320" cy="759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49760" y="3162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57520" y="4137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44400" y="1523520"/>
            <a:ext cx="3848400" cy="441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perties within the whole space are either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homogeneou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not considere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the spatial dimension is taken into ac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nly concepts of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plan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geometry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euclidian) are used to describe the spatial pattern and neighborhood of features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ral location, disp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ximity: plane distance (horizontal, euclidi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7960" y="1523520"/>
            <a:ext cx="3886200" cy="441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pace is modeled as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homogeneous and plan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, expressing the homogeneity of its propertie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 fact properties are 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ignore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hematic dimension is not consid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title"/>
          </p:nvPr>
        </p:nvSpPr>
        <p:spPr>
          <a:xfrm>
            <a:off x="64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Model of space: Plane isotropic spac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111000" y="3567240"/>
            <a:ext cx="2079720" cy="2328120"/>
            <a:chOff x="6111000" y="3567240"/>
            <a:chExt cx="2079720" cy="2328120"/>
          </a:xfrm>
        </p:grpSpPr>
        <p:sp>
          <p:nvSpPr>
            <p:cNvPr id="161" name=""/>
            <p:cNvSpPr/>
            <p:nvPr/>
          </p:nvSpPr>
          <p:spPr>
            <a:xfrm rot="20298000">
              <a:off x="7150680" y="4341600"/>
              <a:ext cx="106920" cy="98280"/>
            </a:xfrm>
            <a:custGeom>
              <a:avLst/>
              <a:gdLst/>
              <a:ahLst/>
              <a:rect l="l" t="t" r="r" b="b"/>
              <a:pathLst>
                <a:path w="533" h="547">
                  <a:moveTo>
                    <a:pt x="195" y="227"/>
                  </a:moveTo>
                  <a:lnTo>
                    <a:pt x="214" y="154"/>
                  </a:lnTo>
                  <a:lnTo>
                    <a:pt x="202" y="97"/>
                  </a:lnTo>
                  <a:lnTo>
                    <a:pt x="234" y="77"/>
                  </a:lnTo>
                  <a:lnTo>
                    <a:pt x="274" y="112"/>
                  </a:lnTo>
                  <a:lnTo>
                    <a:pt x="316" y="159"/>
                  </a:lnTo>
                  <a:lnTo>
                    <a:pt x="367" y="147"/>
                  </a:lnTo>
                  <a:lnTo>
                    <a:pt x="432" y="58"/>
                  </a:lnTo>
                  <a:lnTo>
                    <a:pt x="468" y="0"/>
                  </a:lnTo>
                  <a:lnTo>
                    <a:pt x="515" y="44"/>
                  </a:lnTo>
                  <a:lnTo>
                    <a:pt x="492" y="116"/>
                  </a:lnTo>
                  <a:lnTo>
                    <a:pt x="505" y="178"/>
                  </a:lnTo>
                  <a:lnTo>
                    <a:pt x="508" y="249"/>
                  </a:lnTo>
                  <a:lnTo>
                    <a:pt x="533" y="295"/>
                  </a:lnTo>
                  <a:lnTo>
                    <a:pt x="457" y="383"/>
                  </a:lnTo>
                  <a:lnTo>
                    <a:pt x="388" y="446"/>
                  </a:lnTo>
                  <a:lnTo>
                    <a:pt x="312" y="507"/>
                  </a:lnTo>
                  <a:lnTo>
                    <a:pt x="248" y="547"/>
                  </a:lnTo>
                  <a:lnTo>
                    <a:pt x="163" y="544"/>
                  </a:lnTo>
                  <a:lnTo>
                    <a:pt x="94" y="500"/>
                  </a:lnTo>
                  <a:lnTo>
                    <a:pt x="37" y="428"/>
                  </a:lnTo>
                  <a:lnTo>
                    <a:pt x="0" y="346"/>
                  </a:lnTo>
                  <a:lnTo>
                    <a:pt x="30" y="282"/>
                  </a:lnTo>
                  <a:lnTo>
                    <a:pt x="122" y="267"/>
                  </a:lnTo>
                  <a:lnTo>
                    <a:pt x="195" y="227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20298000">
              <a:off x="7373520" y="4757040"/>
              <a:ext cx="103320" cy="83160"/>
            </a:xfrm>
            <a:custGeom>
              <a:avLst/>
              <a:gdLst/>
              <a:ahLst/>
              <a:rect l="l" t="t" r="r" b="b"/>
              <a:pathLst>
                <a:path w="514" h="461">
                  <a:moveTo>
                    <a:pt x="11" y="138"/>
                  </a:moveTo>
                  <a:lnTo>
                    <a:pt x="95" y="64"/>
                  </a:lnTo>
                  <a:lnTo>
                    <a:pt x="175" y="44"/>
                  </a:lnTo>
                  <a:lnTo>
                    <a:pt x="260" y="25"/>
                  </a:lnTo>
                  <a:lnTo>
                    <a:pt x="314" y="0"/>
                  </a:lnTo>
                  <a:lnTo>
                    <a:pt x="346" y="0"/>
                  </a:lnTo>
                  <a:lnTo>
                    <a:pt x="357" y="39"/>
                  </a:lnTo>
                  <a:lnTo>
                    <a:pt x="421" y="41"/>
                  </a:lnTo>
                  <a:lnTo>
                    <a:pt x="484" y="69"/>
                  </a:lnTo>
                  <a:lnTo>
                    <a:pt x="514" y="104"/>
                  </a:lnTo>
                  <a:lnTo>
                    <a:pt x="466" y="151"/>
                  </a:lnTo>
                  <a:lnTo>
                    <a:pt x="425" y="228"/>
                  </a:lnTo>
                  <a:lnTo>
                    <a:pt x="438" y="278"/>
                  </a:lnTo>
                  <a:lnTo>
                    <a:pt x="466" y="332"/>
                  </a:lnTo>
                  <a:lnTo>
                    <a:pt x="396" y="357"/>
                  </a:lnTo>
                  <a:lnTo>
                    <a:pt x="324" y="356"/>
                  </a:lnTo>
                  <a:lnTo>
                    <a:pt x="285" y="359"/>
                  </a:lnTo>
                  <a:lnTo>
                    <a:pt x="223" y="439"/>
                  </a:lnTo>
                  <a:lnTo>
                    <a:pt x="168" y="461"/>
                  </a:lnTo>
                  <a:lnTo>
                    <a:pt x="127" y="426"/>
                  </a:lnTo>
                  <a:lnTo>
                    <a:pt x="131" y="350"/>
                  </a:lnTo>
                  <a:lnTo>
                    <a:pt x="92" y="282"/>
                  </a:lnTo>
                  <a:lnTo>
                    <a:pt x="38" y="225"/>
                  </a:lnTo>
                  <a:lnTo>
                    <a:pt x="0" y="165"/>
                  </a:lnTo>
                  <a:lnTo>
                    <a:pt x="11" y="13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0298000">
              <a:off x="6933960" y="4816800"/>
              <a:ext cx="115200" cy="109080"/>
            </a:xfrm>
            <a:custGeom>
              <a:avLst/>
              <a:gdLst/>
              <a:ahLst/>
              <a:rect l="l" t="t" r="r" b="b"/>
              <a:pathLst>
                <a:path w="572" h="606">
                  <a:moveTo>
                    <a:pt x="8" y="233"/>
                  </a:moveTo>
                  <a:lnTo>
                    <a:pt x="0" y="177"/>
                  </a:lnTo>
                  <a:lnTo>
                    <a:pt x="75" y="121"/>
                  </a:lnTo>
                  <a:lnTo>
                    <a:pt x="158" y="162"/>
                  </a:lnTo>
                  <a:lnTo>
                    <a:pt x="214" y="156"/>
                  </a:lnTo>
                  <a:lnTo>
                    <a:pt x="242" y="85"/>
                  </a:lnTo>
                  <a:lnTo>
                    <a:pt x="321" y="0"/>
                  </a:lnTo>
                  <a:lnTo>
                    <a:pt x="337" y="11"/>
                  </a:lnTo>
                  <a:lnTo>
                    <a:pt x="383" y="96"/>
                  </a:lnTo>
                  <a:lnTo>
                    <a:pt x="414" y="156"/>
                  </a:lnTo>
                  <a:lnTo>
                    <a:pt x="502" y="230"/>
                  </a:lnTo>
                  <a:lnTo>
                    <a:pt x="538" y="246"/>
                  </a:lnTo>
                  <a:lnTo>
                    <a:pt x="566" y="285"/>
                  </a:lnTo>
                  <a:lnTo>
                    <a:pt x="572" y="329"/>
                  </a:lnTo>
                  <a:lnTo>
                    <a:pt x="522" y="350"/>
                  </a:lnTo>
                  <a:lnTo>
                    <a:pt x="515" y="426"/>
                  </a:lnTo>
                  <a:lnTo>
                    <a:pt x="495" y="492"/>
                  </a:lnTo>
                  <a:lnTo>
                    <a:pt x="458" y="574"/>
                  </a:lnTo>
                  <a:lnTo>
                    <a:pt x="397" y="606"/>
                  </a:lnTo>
                  <a:lnTo>
                    <a:pt x="283" y="604"/>
                  </a:lnTo>
                  <a:lnTo>
                    <a:pt x="161" y="596"/>
                  </a:lnTo>
                  <a:lnTo>
                    <a:pt x="104" y="582"/>
                  </a:lnTo>
                  <a:lnTo>
                    <a:pt x="15" y="539"/>
                  </a:lnTo>
                  <a:lnTo>
                    <a:pt x="53" y="462"/>
                  </a:lnTo>
                  <a:lnTo>
                    <a:pt x="54" y="366"/>
                  </a:lnTo>
                  <a:lnTo>
                    <a:pt x="21" y="306"/>
                  </a:lnTo>
                  <a:lnTo>
                    <a:pt x="8" y="233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0298000">
              <a:off x="6753960" y="4669200"/>
              <a:ext cx="72360" cy="50760"/>
            </a:xfrm>
            <a:custGeom>
              <a:avLst/>
              <a:gdLst/>
              <a:ahLst/>
              <a:rect l="l" t="t" r="r" b="b"/>
              <a:pathLst>
                <a:path w="360" h="284">
                  <a:moveTo>
                    <a:pt x="13" y="114"/>
                  </a:moveTo>
                  <a:lnTo>
                    <a:pt x="0" y="46"/>
                  </a:lnTo>
                  <a:lnTo>
                    <a:pt x="26" y="13"/>
                  </a:lnTo>
                  <a:lnTo>
                    <a:pt x="98" y="46"/>
                  </a:lnTo>
                  <a:lnTo>
                    <a:pt x="160" y="13"/>
                  </a:lnTo>
                  <a:lnTo>
                    <a:pt x="203" y="0"/>
                  </a:lnTo>
                  <a:lnTo>
                    <a:pt x="219" y="25"/>
                  </a:lnTo>
                  <a:lnTo>
                    <a:pt x="239" y="65"/>
                  </a:lnTo>
                  <a:lnTo>
                    <a:pt x="300" y="78"/>
                  </a:lnTo>
                  <a:lnTo>
                    <a:pt x="360" y="130"/>
                  </a:lnTo>
                  <a:lnTo>
                    <a:pt x="355" y="166"/>
                  </a:lnTo>
                  <a:lnTo>
                    <a:pt x="275" y="237"/>
                  </a:lnTo>
                  <a:lnTo>
                    <a:pt x="274" y="267"/>
                  </a:lnTo>
                  <a:lnTo>
                    <a:pt x="179" y="284"/>
                  </a:lnTo>
                  <a:lnTo>
                    <a:pt x="97" y="281"/>
                  </a:lnTo>
                  <a:lnTo>
                    <a:pt x="48" y="258"/>
                  </a:lnTo>
                  <a:lnTo>
                    <a:pt x="50" y="186"/>
                  </a:lnTo>
                  <a:lnTo>
                    <a:pt x="35" y="142"/>
                  </a:lnTo>
                  <a:lnTo>
                    <a:pt x="13" y="11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0298000">
              <a:off x="7342200" y="4011120"/>
              <a:ext cx="384840" cy="431280"/>
            </a:xfrm>
            <a:custGeom>
              <a:avLst/>
              <a:gdLst/>
              <a:ahLst/>
              <a:rect l="l" t="t" r="r" b="b"/>
              <a:pathLst>
                <a:path w="1913" h="2393">
                  <a:moveTo>
                    <a:pt x="0" y="1395"/>
                  </a:moveTo>
                  <a:lnTo>
                    <a:pt x="187" y="1171"/>
                  </a:lnTo>
                  <a:lnTo>
                    <a:pt x="362" y="994"/>
                  </a:lnTo>
                  <a:lnTo>
                    <a:pt x="460" y="902"/>
                  </a:lnTo>
                  <a:lnTo>
                    <a:pt x="566" y="805"/>
                  </a:lnTo>
                  <a:lnTo>
                    <a:pt x="574" y="671"/>
                  </a:lnTo>
                  <a:lnTo>
                    <a:pt x="675" y="539"/>
                  </a:lnTo>
                  <a:lnTo>
                    <a:pt x="788" y="426"/>
                  </a:lnTo>
                  <a:lnTo>
                    <a:pt x="927" y="271"/>
                  </a:lnTo>
                  <a:lnTo>
                    <a:pt x="1053" y="180"/>
                  </a:lnTo>
                  <a:lnTo>
                    <a:pt x="1145" y="92"/>
                  </a:lnTo>
                  <a:lnTo>
                    <a:pt x="1252" y="3"/>
                  </a:lnTo>
                  <a:lnTo>
                    <a:pt x="1341" y="0"/>
                  </a:lnTo>
                  <a:lnTo>
                    <a:pt x="1437" y="34"/>
                  </a:lnTo>
                  <a:lnTo>
                    <a:pt x="1496" y="158"/>
                  </a:lnTo>
                  <a:lnTo>
                    <a:pt x="1556" y="335"/>
                  </a:lnTo>
                  <a:lnTo>
                    <a:pt x="1660" y="458"/>
                  </a:lnTo>
                  <a:lnTo>
                    <a:pt x="1913" y="554"/>
                  </a:lnTo>
                  <a:lnTo>
                    <a:pt x="1911" y="1716"/>
                  </a:lnTo>
                  <a:lnTo>
                    <a:pt x="1649" y="1748"/>
                  </a:lnTo>
                  <a:lnTo>
                    <a:pt x="1579" y="1882"/>
                  </a:lnTo>
                  <a:lnTo>
                    <a:pt x="1497" y="2022"/>
                  </a:lnTo>
                  <a:lnTo>
                    <a:pt x="1393" y="2158"/>
                  </a:lnTo>
                  <a:lnTo>
                    <a:pt x="1281" y="2253"/>
                  </a:lnTo>
                  <a:lnTo>
                    <a:pt x="1174" y="2315"/>
                  </a:lnTo>
                  <a:lnTo>
                    <a:pt x="1061" y="2360"/>
                  </a:lnTo>
                  <a:lnTo>
                    <a:pt x="991" y="2374"/>
                  </a:lnTo>
                  <a:lnTo>
                    <a:pt x="898" y="2393"/>
                  </a:lnTo>
                  <a:lnTo>
                    <a:pt x="905" y="2287"/>
                  </a:lnTo>
                  <a:lnTo>
                    <a:pt x="896" y="2122"/>
                  </a:lnTo>
                  <a:lnTo>
                    <a:pt x="825" y="2002"/>
                  </a:lnTo>
                  <a:lnTo>
                    <a:pt x="652" y="1865"/>
                  </a:lnTo>
                  <a:lnTo>
                    <a:pt x="498" y="1791"/>
                  </a:lnTo>
                  <a:lnTo>
                    <a:pt x="330" y="1668"/>
                  </a:lnTo>
                  <a:lnTo>
                    <a:pt x="177" y="1552"/>
                  </a:lnTo>
                  <a:lnTo>
                    <a:pt x="0" y="139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20298000">
              <a:off x="7050600" y="4357800"/>
              <a:ext cx="585000" cy="414720"/>
            </a:xfrm>
            <a:custGeom>
              <a:avLst/>
              <a:gdLst/>
              <a:ahLst/>
              <a:rect l="l" t="t" r="r" b="b"/>
              <a:pathLst>
                <a:path w="2904" h="2301">
                  <a:moveTo>
                    <a:pt x="1999" y="0"/>
                  </a:moveTo>
                  <a:lnTo>
                    <a:pt x="2176" y="157"/>
                  </a:lnTo>
                  <a:lnTo>
                    <a:pt x="2329" y="273"/>
                  </a:lnTo>
                  <a:lnTo>
                    <a:pt x="2497" y="396"/>
                  </a:lnTo>
                  <a:lnTo>
                    <a:pt x="2651" y="470"/>
                  </a:lnTo>
                  <a:lnTo>
                    <a:pt x="2824" y="607"/>
                  </a:lnTo>
                  <a:lnTo>
                    <a:pt x="2895" y="727"/>
                  </a:lnTo>
                  <a:lnTo>
                    <a:pt x="2904" y="892"/>
                  </a:lnTo>
                  <a:lnTo>
                    <a:pt x="2897" y="998"/>
                  </a:lnTo>
                  <a:lnTo>
                    <a:pt x="2894" y="1039"/>
                  </a:lnTo>
                  <a:lnTo>
                    <a:pt x="2791" y="1230"/>
                  </a:lnTo>
                  <a:lnTo>
                    <a:pt x="2704" y="1393"/>
                  </a:lnTo>
                  <a:lnTo>
                    <a:pt x="2541" y="1596"/>
                  </a:lnTo>
                  <a:lnTo>
                    <a:pt x="2363" y="1741"/>
                  </a:lnTo>
                  <a:lnTo>
                    <a:pt x="2212" y="1864"/>
                  </a:lnTo>
                  <a:lnTo>
                    <a:pt x="2005" y="2006"/>
                  </a:lnTo>
                  <a:lnTo>
                    <a:pt x="1807" y="2125"/>
                  </a:lnTo>
                  <a:lnTo>
                    <a:pt x="1586" y="2186"/>
                  </a:lnTo>
                  <a:lnTo>
                    <a:pt x="1389" y="2268"/>
                  </a:lnTo>
                  <a:lnTo>
                    <a:pt x="1208" y="2280"/>
                  </a:lnTo>
                  <a:lnTo>
                    <a:pt x="949" y="2270"/>
                  </a:lnTo>
                  <a:lnTo>
                    <a:pt x="757" y="2287"/>
                  </a:lnTo>
                  <a:lnTo>
                    <a:pt x="602" y="2273"/>
                  </a:lnTo>
                  <a:lnTo>
                    <a:pt x="485" y="2301"/>
                  </a:lnTo>
                  <a:lnTo>
                    <a:pt x="299" y="2280"/>
                  </a:lnTo>
                  <a:lnTo>
                    <a:pt x="175" y="2290"/>
                  </a:lnTo>
                  <a:lnTo>
                    <a:pt x="49" y="2248"/>
                  </a:lnTo>
                  <a:lnTo>
                    <a:pt x="0" y="2178"/>
                  </a:lnTo>
                  <a:lnTo>
                    <a:pt x="68" y="2113"/>
                  </a:lnTo>
                  <a:lnTo>
                    <a:pt x="172" y="2075"/>
                  </a:lnTo>
                  <a:lnTo>
                    <a:pt x="264" y="1951"/>
                  </a:lnTo>
                  <a:lnTo>
                    <a:pt x="352" y="1790"/>
                  </a:lnTo>
                  <a:lnTo>
                    <a:pt x="497" y="1629"/>
                  </a:lnTo>
                  <a:lnTo>
                    <a:pt x="735" y="1405"/>
                  </a:lnTo>
                  <a:lnTo>
                    <a:pt x="846" y="1283"/>
                  </a:lnTo>
                  <a:lnTo>
                    <a:pt x="940" y="1178"/>
                  </a:lnTo>
                  <a:lnTo>
                    <a:pt x="987" y="1017"/>
                  </a:lnTo>
                  <a:lnTo>
                    <a:pt x="1001" y="809"/>
                  </a:lnTo>
                  <a:lnTo>
                    <a:pt x="1118" y="599"/>
                  </a:lnTo>
                  <a:lnTo>
                    <a:pt x="1268" y="422"/>
                  </a:lnTo>
                  <a:lnTo>
                    <a:pt x="1405" y="302"/>
                  </a:lnTo>
                  <a:lnTo>
                    <a:pt x="1541" y="129"/>
                  </a:lnTo>
                  <a:lnTo>
                    <a:pt x="1659" y="68"/>
                  </a:lnTo>
                  <a:lnTo>
                    <a:pt x="1791" y="36"/>
                  </a:lnTo>
                  <a:lnTo>
                    <a:pt x="1885" y="3"/>
                  </a:lnTo>
                  <a:lnTo>
                    <a:pt x="1977" y="3"/>
                  </a:lnTo>
                  <a:lnTo>
                    <a:pt x="1999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0298000">
              <a:off x="6867000" y="4883760"/>
              <a:ext cx="1233360" cy="720360"/>
            </a:xfrm>
            <a:custGeom>
              <a:avLst/>
              <a:gdLst/>
              <a:ahLst/>
              <a:rect l="l" t="t" r="r" b="b"/>
              <a:pathLst>
                <a:path w="6123" h="3996">
                  <a:moveTo>
                    <a:pt x="730" y="3994"/>
                  </a:moveTo>
                  <a:lnTo>
                    <a:pt x="705" y="3763"/>
                  </a:lnTo>
                  <a:lnTo>
                    <a:pt x="640" y="3652"/>
                  </a:lnTo>
                  <a:lnTo>
                    <a:pt x="566" y="3549"/>
                  </a:lnTo>
                  <a:lnTo>
                    <a:pt x="459" y="3483"/>
                  </a:lnTo>
                  <a:lnTo>
                    <a:pt x="323" y="3454"/>
                  </a:lnTo>
                  <a:lnTo>
                    <a:pt x="209" y="3422"/>
                  </a:lnTo>
                  <a:lnTo>
                    <a:pt x="133" y="3308"/>
                  </a:lnTo>
                  <a:lnTo>
                    <a:pt x="85" y="3148"/>
                  </a:lnTo>
                  <a:lnTo>
                    <a:pt x="57" y="2986"/>
                  </a:lnTo>
                  <a:lnTo>
                    <a:pt x="111" y="2801"/>
                  </a:lnTo>
                  <a:lnTo>
                    <a:pt x="156" y="2612"/>
                  </a:lnTo>
                  <a:lnTo>
                    <a:pt x="165" y="2502"/>
                  </a:lnTo>
                  <a:lnTo>
                    <a:pt x="148" y="2414"/>
                  </a:lnTo>
                  <a:lnTo>
                    <a:pt x="45" y="2313"/>
                  </a:lnTo>
                  <a:lnTo>
                    <a:pt x="0" y="2196"/>
                  </a:lnTo>
                  <a:lnTo>
                    <a:pt x="0" y="2057"/>
                  </a:lnTo>
                  <a:lnTo>
                    <a:pt x="22" y="1895"/>
                  </a:lnTo>
                  <a:lnTo>
                    <a:pt x="56" y="1738"/>
                  </a:lnTo>
                  <a:lnTo>
                    <a:pt x="58" y="1609"/>
                  </a:lnTo>
                  <a:lnTo>
                    <a:pt x="107" y="1438"/>
                  </a:lnTo>
                  <a:lnTo>
                    <a:pt x="162" y="1280"/>
                  </a:lnTo>
                  <a:lnTo>
                    <a:pt x="197" y="1133"/>
                  </a:lnTo>
                  <a:lnTo>
                    <a:pt x="278" y="950"/>
                  </a:lnTo>
                  <a:lnTo>
                    <a:pt x="386" y="791"/>
                  </a:lnTo>
                  <a:lnTo>
                    <a:pt x="510" y="709"/>
                  </a:lnTo>
                  <a:lnTo>
                    <a:pt x="687" y="586"/>
                  </a:lnTo>
                  <a:lnTo>
                    <a:pt x="842" y="482"/>
                  </a:lnTo>
                  <a:lnTo>
                    <a:pt x="993" y="379"/>
                  </a:lnTo>
                  <a:lnTo>
                    <a:pt x="1104" y="327"/>
                  </a:lnTo>
                  <a:lnTo>
                    <a:pt x="1253" y="269"/>
                  </a:lnTo>
                  <a:lnTo>
                    <a:pt x="1370" y="223"/>
                  </a:lnTo>
                  <a:lnTo>
                    <a:pt x="1464" y="177"/>
                  </a:lnTo>
                  <a:lnTo>
                    <a:pt x="1587" y="135"/>
                  </a:lnTo>
                  <a:lnTo>
                    <a:pt x="1683" y="86"/>
                  </a:lnTo>
                  <a:lnTo>
                    <a:pt x="1733" y="64"/>
                  </a:lnTo>
                  <a:lnTo>
                    <a:pt x="1838" y="133"/>
                  </a:lnTo>
                  <a:lnTo>
                    <a:pt x="1865" y="237"/>
                  </a:lnTo>
                  <a:lnTo>
                    <a:pt x="1904" y="359"/>
                  </a:lnTo>
                  <a:lnTo>
                    <a:pt x="1977" y="436"/>
                  </a:lnTo>
                  <a:lnTo>
                    <a:pt x="2110" y="450"/>
                  </a:lnTo>
                  <a:lnTo>
                    <a:pt x="2211" y="433"/>
                  </a:lnTo>
                  <a:lnTo>
                    <a:pt x="2265" y="350"/>
                  </a:lnTo>
                  <a:lnTo>
                    <a:pt x="2356" y="258"/>
                  </a:lnTo>
                  <a:lnTo>
                    <a:pt x="2495" y="242"/>
                  </a:lnTo>
                  <a:lnTo>
                    <a:pt x="2656" y="211"/>
                  </a:lnTo>
                  <a:lnTo>
                    <a:pt x="2765" y="214"/>
                  </a:lnTo>
                  <a:lnTo>
                    <a:pt x="2868" y="245"/>
                  </a:lnTo>
                  <a:lnTo>
                    <a:pt x="2916" y="346"/>
                  </a:lnTo>
                  <a:lnTo>
                    <a:pt x="2932" y="458"/>
                  </a:lnTo>
                  <a:lnTo>
                    <a:pt x="2999" y="614"/>
                  </a:lnTo>
                  <a:lnTo>
                    <a:pt x="3062" y="704"/>
                  </a:lnTo>
                  <a:lnTo>
                    <a:pt x="3099" y="753"/>
                  </a:lnTo>
                  <a:lnTo>
                    <a:pt x="3238" y="753"/>
                  </a:lnTo>
                  <a:lnTo>
                    <a:pt x="3397" y="712"/>
                  </a:lnTo>
                  <a:lnTo>
                    <a:pt x="3504" y="759"/>
                  </a:lnTo>
                  <a:lnTo>
                    <a:pt x="3616" y="827"/>
                  </a:lnTo>
                  <a:lnTo>
                    <a:pt x="3712" y="832"/>
                  </a:lnTo>
                  <a:lnTo>
                    <a:pt x="3786" y="757"/>
                  </a:lnTo>
                  <a:lnTo>
                    <a:pt x="3850" y="640"/>
                  </a:lnTo>
                  <a:lnTo>
                    <a:pt x="3893" y="526"/>
                  </a:lnTo>
                  <a:lnTo>
                    <a:pt x="4030" y="419"/>
                  </a:lnTo>
                  <a:lnTo>
                    <a:pt x="4168" y="319"/>
                  </a:lnTo>
                  <a:lnTo>
                    <a:pt x="4286" y="230"/>
                  </a:lnTo>
                  <a:lnTo>
                    <a:pt x="4406" y="145"/>
                  </a:lnTo>
                  <a:lnTo>
                    <a:pt x="4541" y="48"/>
                  </a:lnTo>
                  <a:lnTo>
                    <a:pt x="4659" y="25"/>
                  </a:lnTo>
                  <a:lnTo>
                    <a:pt x="4797" y="0"/>
                  </a:lnTo>
                  <a:lnTo>
                    <a:pt x="4824" y="97"/>
                  </a:lnTo>
                  <a:lnTo>
                    <a:pt x="4798" y="201"/>
                  </a:lnTo>
                  <a:lnTo>
                    <a:pt x="4808" y="331"/>
                  </a:lnTo>
                  <a:lnTo>
                    <a:pt x="4890" y="423"/>
                  </a:lnTo>
                  <a:lnTo>
                    <a:pt x="5020" y="419"/>
                  </a:lnTo>
                  <a:lnTo>
                    <a:pt x="5137" y="373"/>
                  </a:lnTo>
                  <a:lnTo>
                    <a:pt x="5270" y="375"/>
                  </a:lnTo>
                  <a:lnTo>
                    <a:pt x="5427" y="369"/>
                  </a:lnTo>
                  <a:lnTo>
                    <a:pt x="5573" y="350"/>
                  </a:lnTo>
                  <a:lnTo>
                    <a:pt x="5681" y="378"/>
                  </a:lnTo>
                  <a:lnTo>
                    <a:pt x="5782" y="473"/>
                  </a:lnTo>
                  <a:lnTo>
                    <a:pt x="5848" y="527"/>
                  </a:lnTo>
                  <a:lnTo>
                    <a:pt x="6123" y="634"/>
                  </a:lnTo>
                  <a:lnTo>
                    <a:pt x="6123" y="3996"/>
                  </a:lnTo>
                  <a:lnTo>
                    <a:pt x="730" y="399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20298000">
              <a:off x="6201000" y="3913920"/>
              <a:ext cx="943920" cy="658080"/>
            </a:xfrm>
            <a:custGeom>
              <a:avLst/>
              <a:gdLst/>
              <a:ahLst/>
              <a:rect l="l" t="t" r="r" b="b"/>
              <a:pathLst>
                <a:path w="4685" h="3650">
                  <a:moveTo>
                    <a:pt x="13" y="3021"/>
                  </a:moveTo>
                  <a:lnTo>
                    <a:pt x="0" y="0"/>
                  </a:lnTo>
                  <a:lnTo>
                    <a:pt x="3739" y="5"/>
                  </a:lnTo>
                  <a:lnTo>
                    <a:pt x="3765" y="110"/>
                  </a:lnTo>
                  <a:lnTo>
                    <a:pt x="3825" y="331"/>
                  </a:lnTo>
                  <a:lnTo>
                    <a:pt x="3863" y="425"/>
                  </a:lnTo>
                  <a:lnTo>
                    <a:pt x="3910" y="532"/>
                  </a:lnTo>
                  <a:lnTo>
                    <a:pt x="4004" y="581"/>
                  </a:lnTo>
                  <a:lnTo>
                    <a:pt x="4146" y="614"/>
                  </a:lnTo>
                  <a:lnTo>
                    <a:pt x="4233" y="680"/>
                  </a:lnTo>
                  <a:lnTo>
                    <a:pt x="4307" y="776"/>
                  </a:lnTo>
                  <a:lnTo>
                    <a:pt x="4407" y="887"/>
                  </a:lnTo>
                  <a:lnTo>
                    <a:pt x="4495" y="1008"/>
                  </a:lnTo>
                  <a:lnTo>
                    <a:pt x="4586" y="1160"/>
                  </a:lnTo>
                  <a:lnTo>
                    <a:pt x="4639" y="1277"/>
                  </a:lnTo>
                  <a:lnTo>
                    <a:pt x="4685" y="1438"/>
                  </a:lnTo>
                  <a:lnTo>
                    <a:pt x="4671" y="1570"/>
                  </a:lnTo>
                  <a:lnTo>
                    <a:pt x="4618" y="1704"/>
                  </a:lnTo>
                  <a:lnTo>
                    <a:pt x="4541" y="1871"/>
                  </a:lnTo>
                  <a:lnTo>
                    <a:pt x="4492" y="1953"/>
                  </a:lnTo>
                  <a:lnTo>
                    <a:pt x="4346" y="2037"/>
                  </a:lnTo>
                  <a:lnTo>
                    <a:pt x="4324" y="2151"/>
                  </a:lnTo>
                  <a:lnTo>
                    <a:pt x="4320" y="2254"/>
                  </a:lnTo>
                  <a:lnTo>
                    <a:pt x="4345" y="2407"/>
                  </a:lnTo>
                  <a:lnTo>
                    <a:pt x="4298" y="2488"/>
                  </a:lnTo>
                  <a:lnTo>
                    <a:pt x="4245" y="2595"/>
                  </a:lnTo>
                  <a:lnTo>
                    <a:pt x="4217" y="2681"/>
                  </a:lnTo>
                  <a:lnTo>
                    <a:pt x="4172" y="2791"/>
                  </a:lnTo>
                  <a:lnTo>
                    <a:pt x="4070" y="2874"/>
                  </a:lnTo>
                  <a:lnTo>
                    <a:pt x="3966" y="2968"/>
                  </a:lnTo>
                  <a:lnTo>
                    <a:pt x="3859" y="3062"/>
                  </a:lnTo>
                  <a:lnTo>
                    <a:pt x="3716" y="3201"/>
                  </a:lnTo>
                  <a:lnTo>
                    <a:pt x="3613" y="3305"/>
                  </a:lnTo>
                  <a:lnTo>
                    <a:pt x="3515" y="3341"/>
                  </a:lnTo>
                  <a:lnTo>
                    <a:pt x="3434" y="3438"/>
                  </a:lnTo>
                  <a:lnTo>
                    <a:pt x="3385" y="3511"/>
                  </a:lnTo>
                  <a:lnTo>
                    <a:pt x="3273" y="3538"/>
                  </a:lnTo>
                  <a:lnTo>
                    <a:pt x="3153" y="3522"/>
                  </a:lnTo>
                  <a:lnTo>
                    <a:pt x="3043" y="3472"/>
                  </a:lnTo>
                  <a:lnTo>
                    <a:pt x="2989" y="3396"/>
                  </a:lnTo>
                  <a:lnTo>
                    <a:pt x="2895" y="3334"/>
                  </a:lnTo>
                  <a:lnTo>
                    <a:pt x="2809" y="3344"/>
                  </a:lnTo>
                  <a:lnTo>
                    <a:pt x="2715" y="3388"/>
                  </a:lnTo>
                  <a:lnTo>
                    <a:pt x="2648" y="3454"/>
                  </a:lnTo>
                  <a:lnTo>
                    <a:pt x="2566" y="3421"/>
                  </a:lnTo>
                  <a:lnTo>
                    <a:pt x="2486" y="3399"/>
                  </a:lnTo>
                  <a:lnTo>
                    <a:pt x="2411" y="3372"/>
                  </a:lnTo>
                  <a:lnTo>
                    <a:pt x="2367" y="3312"/>
                  </a:lnTo>
                  <a:lnTo>
                    <a:pt x="2328" y="3240"/>
                  </a:lnTo>
                  <a:lnTo>
                    <a:pt x="2231" y="3227"/>
                  </a:lnTo>
                  <a:lnTo>
                    <a:pt x="2132" y="3252"/>
                  </a:lnTo>
                  <a:lnTo>
                    <a:pt x="2021" y="3293"/>
                  </a:lnTo>
                  <a:lnTo>
                    <a:pt x="1888" y="3334"/>
                  </a:lnTo>
                  <a:lnTo>
                    <a:pt x="1793" y="3403"/>
                  </a:lnTo>
                  <a:lnTo>
                    <a:pt x="1749" y="3489"/>
                  </a:lnTo>
                  <a:lnTo>
                    <a:pt x="1750" y="3593"/>
                  </a:lnTo>
                  <a:lnTo>
                    <a:pt x="1702" y="3650"/>
                  </a:lnTo>
                  <a:lnTo>
                    <a:pt x="1610" y="3634"/>
                  </a:lnTo>
                  <a:lnTo>
                    <a:pt x="1529" y="3561"/>
                  </a:lnTo>
                  <a:lnTo>
                    <a:pt x="1471" y="3557"/>
                  </a:lnTo>
                  <a:lnTo>
                    <a:pt x="1377" y="3538"/>
                  </a:lnTo>
                  <a:lnTo>
                    <a:pt x="1212" y="3459"/>
                  </a:lnTo>
                  <a:lnTo>
                    <a:pt x="931" y="3347"/>
                  </a:lnTo>
                  <a:lnTo>
                    <a:pt x="806" y="3264"/>
                  </a:lnTo>
                  <a:lnTo>
                    <a:pt x="727" y="3198"/>
                  </a:lnTo>
                  <a:lnTo>
                    <a:pt x="595" y="3216"/>
                  </a:lnTo>
                  <a:lnTo>
                    <a:pt x="419" y="3251"/>
                  </a:lnTo>
                  <a:lnTo>
                    <a:pt x="301" y="3195"/>
                  </a:lnTo>
                  <a:lnTo>
                    <a:pt x="186" y="3115"/>
                  </a:lnTo>
                  <a:lnTo>
                    <a:pt x="98" y="3069"/>
                  </a:lnTo>
                  <a:lnTo>
                    <a:pt x="13" y="302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298000">
              <a:off x="6998040" y="4219200"/>
              <a:ext cx="540000" cy="554040"/>
            </a:xfrm>
            <a:custGeom>
              <a:avLst/>
              <a:gdLst/>
              <a:ahLst/>
              <a:rect l="l" t="t" r="r" b="b"/>
              <a:pathLst>
                <a:path w="2682" h="3074">
                  <a:moveTo>
                    <a:pt x="109" y="3074"/>
                  </a:moveTo>
                  <a:lnTo>
                    <a:pt x="76" y="2907"/>
                  </a:lnTo>
                  <a:lnTo>
                    <a:pt x="82" y="2700"/>
                  </a:lnTo>
                  <a:lnTo>
                    <a:pt x="113" y="2530"/>
                  </a:lnTo>
                  <a:lnTo>
                    <a:pt x="116" y="2327"/>
                  </a:lnTo>
                  <a:lnTo>
                    <a:pt x="97" y="2229"/>
                  </a:lnTo>
                  <a:lnTo>
                    <a:pt x="72" y="2186"/>
                  </a:lnTo>
                  <a:lnTo>
                    <a:pt x="0" y="2118"/>
                  </a:lnTo>
                  <a:lnTo>
                    <a:pt x="17" y="1933"/>
                  </a:lnTo>
                  <a:lnTo>
                    <a:pt x="59" y="1750"/>
                  </a:lnTo>
                  <a:lnTo>
                    <a:pt x="113" y="1593"/>
                  </a:lnTo>
                  <a:lnTo>
                    <a:pt x="145" y="1438"/>
                  </a:lnTo>
                  <a:lnTo>
                    <a:pt x="189" y="1358"/>
                  </a:lnTo>
                  <a:lnTo>
                    <a:pt x="281" y="1262"/>
                  </a:lnTo>
                  <a:lnTo>
                    <a:pt x="389" y="1194"/>
                  </a:lnTo>
                  <a:lnTo>
                    <a:pt x="468" y="1112"/>
                  </a:lnTo>
                  <a:lnTo>
                    <a:pt x="487" y="1036"/>
                  </a:lnTo>
                  <a:lnTo>
                    <a:pt x="509" y="936"/>
                  </a:lnTo>
                  <a:lnTo>
                    <a:pt x="578" y="775"/>
                  </a:lnTo>
                  <a:lnTo>
                    <a:pt x="618" y="713"/>
                  </a:lnTo>
                  <a:lnTo>
                    <a:pt x="732" y="671"/>
                  </a:lnTo>
                  <a:lnTo>
                    <a:pt x="825" y="696"/>
                  </a:lnTo>
                  <a:lnTo>
                    <a:pt x="936" y="639"/>
                  </a:lnTo>
                  <a:lnTo>
                    <a:pt x="992" y="538"/>
                  </a:lnTo>
                  <a:lnTo>
                    <a:pt x="1081" y="438"/>
                  </a:lnTo>
                  <a:lnTo>
                    <a:pt x="1178" y="356"/>
                  </a:lnTo>
                  <a:lnTo>
                    <a:pt x="1264" y="320"/>
                  </a:lnTo>
                  <a:lnTo>
                    <a:pt x="1336" y="273"/>
                  </a:lnTo>
                  <a:lnTo>
                    <a:pt x="1394" y="185"/>
                  </a:lnTo>
                  <a:lnTo>
                    <a:pt x="1454" y="120"/>
                  </a:lnTo>
                  <a:lnTo>
                    <a:pt x="1539" y="112"/>
                  </a:lnTo>
                  <a:lnTo>
                    <a:pt x="1599" y="160"/>
                  </a:lnTo>
                  <a:lnTo>
                    <a:pt x="1682" y="240"/>
                  </a:lnTo>
                  <a:lnTo>
                    <a:pt x="1749" y="258"/>
                  </a:lnTo>
                  <a:lnTo>
                    <a:pt x="1856" y="192"/>
                  </a:lnTo>
                  <a:lnTo>
                    <a:pt x="1967" y="144"/>
                  </a:lnTo>
                  <a:lnTo>
                    <a:pt x="2070" y="65"/>
                  </a:lnTo>
                  <a:lnTo>
                    <a:pt x="2153" y="25"/>
                  </a:lnTo>
                  <a:lnTo>
                    <a:pt x="2223" y="0"/>
                  </a:lnTo>
                  <a:lnTo>
                    <a:pt x="2283" y="8"/>
                  </a:lnTo>
                  <a:lnTo>
                    <a:pt x="2381" y="69"/>
                  </a:lnTo>
                  <a:lnTo>
                    <a:pt x="2487" y="120"/>
                  </a:lnTo>
                  <a:lnTo>
                    <a:pt x="2599" y="158"/>
                  </a:lnTo>
                  <a:lnTo>
                    <a:pt x="2682" y="172"/>
                  </a:lnTo>
                  <a:lnTo>
                    <a:pt x="2674" y="306"/>
                  </a:lnTo>
                  <a:lnTo>
                    <a:pt x="2568" y="403"/>
                  </a:lnTo>
                  <a:lnTo>
                    <a:pt x="2470" y="495"/>
                  </a:lnTo>
                  <a:lnTo>
                    <a:pt x="2295" y="672"/>
                  </a:lnTo>
                  <a:lnTo>
                    <a:pt x="2108" y="896"/>
                  </a:lnTo>
                  <a:lnTo>
                    <a:pt x="2086" y="899"/>
                  </a:lnTo>
                  <a:lnTo>
                    <a:pt x="1994" y="899"/>
                  </a:lnTo>
                  <a:lnTo>
                    <a:pt x="1900" y="932"/>
                  </a:lnTo>
                  <a:lnTo>
                    <a:pt x="1768" y="964"/>
                  </a:lnTo>
                  <a:lnTo>
                    <a:pt x="1650" y="1025"/>
                  </a:lnTo>
                  <a:lnTo>
                    <a:pt x="1514" y="1198"/>
                  </a:lnTo>
                  <a:lnTo>
                    <a:pt x="1377" y="1318"/>
                  </a:lnTo>
                  <a:lnTo>
                    <a:pt x="1227" y="1495"/>
                  </a:lnTo>
                  <a:lnTo>
                    <a:pt x="1110" y="1705"/>
                  </a:lnTo>
                  <a:lnTo>
                    <a:pt x="1096" y="1913"/>
                  </a:lnTo>
                  <a:lnTo>
                    <a:pt x="1049" y="2074"/>
                  </a:lnTo>
                  <a:lnTo>
                    <a:pt x="955" y="2179"/>
                  </a:lnTo>
                  <a:lnTo>
                    <a:pt x="844" y="2301"/>
                  </a:lnTo>
                  <a:lnTo>
                    <a:pt x="606" y="2525"/>
                  </a:lnTo>
                  <a:lnTo>
                    <a:pt x="461" y="2686"/>
                  </a:lnTo>
                  <a:lnTo>
                    <a:pt x="373" y="2847"/>
                  </a:lnTo>
                  <a:lnTo>
                    <a:pt x="281" y="2971"/>
                  </a:lnTo>
                  <a:lnTo>
                    <a:pt x="177" y="300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7139880" y="4829400"/>
              <a:ext cx="8280" cy="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298000">
              <a:off x="7150680" y="4341600"/>
              <a:ext cx="106920" cy="98280"/>
            </a:xfrm>
            <a:custGeom>
              <a:avLst/>
              <a:gdLst/>
              <a:ahLst/>
              <a:rect l="l" t="t" r="r" b="b"/>
              <a:pathLst>
                <a:path w="533" h="547">
                  <a:moveTo>
                    <a:pt x="195" y="227"/>
                  </a:moveTo>
                  <a:lnTo>
                    <a:pt x="122" y="267"/>
                  </a:lnTo>
                  <a:lnTo>
                    <a:pt x="30" y="282"/>
                  </a:lnTo>
                  <a:lnTo>
                    <a:pt x="0" y="346"/>
                  </a:lnTo>
                  <a:lnTo>
                    <a:pt x="37" y="428"/>
                  </a:lnTo>
                  <a:lnTo>
                    <a:pt x="94" y="500"/>
                  </a:lnTo>
                  <a:lnTo>
                    <a:pt x="163" y="544"/>
                  </a:lnTo>
                  <a:lnTo>
                    <a:pt x="248" y="547"/>
                  </a:lnTo>
                  <a:lnTo>
                    <a:pt x="312" y="507"/>
                  </a:lnTo>
                  <a:lnTo>
                    <a:pt x="388" y="446"/>
                  </a:lnTo>
                  <a:lnTo>
                    <a:pt x="457" y="383"/>
                  </a:lnTo>
                  <a:lnTo>
                    <a:pt x="533" y="295"/>
                  </a:lnTo>
                  <a:lnTo>
                    <a:pt x="508" y="249"/>
                  </a:lnTo>
                  <a:lnTo>
                    <a:pt x="505" y="178"/>
                  </a:lnTo>
                  <a:lnTo>
                    <a:pt x="492" y="116"/>
                  </a:lnTo>
                  <a:lnTo>
                    <a:pt x="515" y="44"/>
                  </a:lnTo>
                  <a:lnTo>
                    <a:pt x="468" y="0"/>
                  </a:lnTo>
                  <a:lnTo>
                    <a:pt x="432" y="58"/>
                  </a:lnTo>
                  <a:lnTo>
                    <a:pt x="367" y="147"/>
                  </a:lnTo>
                  <a:lnTo>
                    <a:pt x="316" y="159"/>
                  </a:lnTo>
                  <a:lnTo>
                    <a:pt x="274" y="112"/>
                  </a:lnTo>
                  <a:lnTo>
                    <a:pt x="234" y="77"/>
                  </a:lnTo>
                  <a:lnTo>
                    <a:pt x="202" y="97"/>
                  </a:lnTo>
                  <a:lnTo>
                    <a:pt x="214" y="1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86320" y="4374720"/>
              <a:ext cx="180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20298000">
              <a:off x="6413400" y="3771720"/>
              <a:ext cx="1474920" cy="1918800"/>
            </a:xfrm>
            <a:custGeom>
              <a:avLst/>
              <a:gdLst/>
              <a:ahLst/>
              <a:rect l="l" t="t" r="r" b="b"/>
              <a:pathLst>
                <a:path w="7323" h="10643">
                  <a:moveTo>
                    <a:pt x="1923" y="10643"/>
                  </a:moveTo>
                  <a:lnTo>
                    <a:pt x="0" y="10643"/>
                  </a:lnTo>
                  <a:lnTo>
                    <a:pt x="26" y="3021"/>
                  </a:lnTo>
                  <a:lnTo>
                    <a:pt x="111" y="3069"/>
                  </a:lnTo>
                  <a:lnTo>
                    <a:pt x="199" y="3115"/>
                  </a:lnTo>
                  <a:lnTo>
                    <a:pt x="314" y="3195"/>
                  </a:lnTo>
                  <a:lnTo>
                    <a:pt x="432" y="3251"/>
                  </a:lnTo>
                  <a:lnTo>
                    <a:pt x="608" y="3216"/>
                  </a:lnTo>
                  <a:lnTo>
                    <a:pt x="740" y="3198"/>
                  </a:lnTo>
                  <a:lnTo>
                    <a:pt x="819" y="3264"/>
                  </a:lnTo>
                  <a:lnTo>
                    <a:pt x="944" y="3347"/>
                  </a:lnTo>
                  <a:lnTo>
                    <a:pt x="1225" y="3459"/>
                  </a:lnTo>
                  <a:lnTo>
                    <a:pt x="1390" y="3538"/>
                  </a:lnTo>
                  <a:lnTo>
                    <a:pt x="1484" y="3557"/>
                  </a:lnTo>
                  <a:lnTo>
                    <a:pt x="1542" y="3561"/>
                  </a:lnTo>
                  <a:lnTo>
                    <a:pt x="1623" y="3634"/>
                  </a:lnTo>
                  <a:lnTo>
                    <a:pt x="1715" y="3650"/>
                  </a:lnTo>
                  <a:lnTo>
                    <a:pt x="1763" y="3593"/>
                  </a:lnTo>
                  <a:lnTo>
                    <a:pt x="1762" y="3489"/>
                  </a:lnTo>
                  <a:lnTo>
                    <a:pt x="1806" y="3403"/>
                  </a:lnTo>
                  <a:lnTo>
                    <a:pt x="1901" y="3334"/>
                  </a:lnTo>
                  <a:lnTo>
                    <a:pt x="2034" y="3293"/>
                  </a:lnTo>
                  <a:lnTo>
                    <a:pt x="2145" y="3252"/>
                  </a:lnTo>
                  <a:lnTo>
                    <a:pt x="2244" y="3227"/>
                  </a:lnTo>
                  <a:lnTo>
                    <a:pt x="2341" y="3240"/>
                  </a:lnTo>
                  <a:lnTo>
                    <a:pt x="2380" y="3312"/>
                  </a:lnTo>
                  <a:lnTo>
                    <a:pt x="2424" y="3372"/>
                  </a:lnTo>
                  <a:lnTo>
                    <a:pt x="2499" y="3399"/>
                  </a:lnTo>
                  <a:lnTo>
                    <a:pt x="2579" y="3421"/>
                  </a:lnTo>
                  <a:lnTo>
                    <a:pt x="2661" y="3454"/>
                  </a:lnTo>
                  <a:lnTo>
                    <a:pt x="2728" y="3388"/>
                  </a:lnTo>
                  <a:lnTo>
                    <a:pt x="2822" y="3344"/>
                  </a:lnTo>
                  <a:lnTo>
                    <a:pt x="2908" y="3334"/>
                  </a:lnTo>
                  <a:lnTo>
                    <a:pt x="3002" y="3396"/>
                  </a:lnTo>
                  <a:lnTo>
                    <a:pt x="3056" y="3472"/>
                  </a:lnTo>
                  <a:lnTo>
                    <a:pt x="3166" y="3522"/>
                  </a:lnTo>
                  <a:lnTo>
                    <a:pt x="3286" y="3538"/>
                  </a:lnTo>
                  <a:lnTo>
                    <a:pt x="3398" y="3511"/>
                  </a:lnTo>
                  <a:lnTo>
                    <a:pt x="3447" y="3438"/>
                  </a:lnTo>
                  <a:lnTo>
                    <a:pt x="3528" y="3341"/>
                  </a:lnTo>
                  <a:lnTo>
                    <a:pt x="3626" y="3305"/>
                  </a:lnTo>
                  <a:lnTo>
                    <a:pt x="3729" y="3201"/>
                  </a:lnTo>
                  <a:lnTo>
                    <a:pt x="3872" y="3062"/>
                  </a:lnTo>
                  <a:lnTo>
                    <a:pt x="3979" y="2968"/>
                  </a:lnTo>
                  <a:lnTo>
                    <a:pt x="4083" y="2874"/>
                  </a:lnTo>
                  <a:lnTo>
                    <a:pt x="4185" y="2791"/>
                  </a:lnTo>
                  <a:lnTo>
                    <a:pt x="4230" y="2681"/>
                  </a:lnTo>
                  <a:lnTo>
                    <a:pt x="4258" y="2595"/>
                  </a:lnTo>
                  <a:lnTo>
                    <a:pt x="4311" y="2488"/>
                  </a:lnTo>
                  <a:lnTo>
                    <a:pt x="4358" y="2407"/>
                  </a:lnTo>
                  <a:lnTo>
                    <a:pt x="4333" y="2254"/>
                  </a:lnTo>
                  <a:lnTo>
                    <a:pt x="4337" y="2151"/>
                  </a:lnTo>
                  <a:lnTo>
                    <a:pt x="4359" y="2037"/>
                  </a:lnTo>
                  <a:lnTo>
                    <a:pt x="4505" y="1953"/>
                  </a:lnTo>
                  <a:lnTo>
                    <a:pt x="4554" y="1871"/>
                  </a:lnTo>
                  <a:lnTo>
                    <a:pt x="4631" y="1704"/>
                  </a:lnTo>
                  <a:lnTo>
                    <a:pt x="4684" y="1570"/>
                  </a:lnTo>
                  <a:lnTo>
                    <a:pt x="4698" y="1438"/>
                  </a:lnTo>
                  <a:lnTo>
                    <a:pt x="4652" y="1277"/>
                  </a:lnTo>
                  <a:lnTo>
                    <a:pt x="4599" y="1160"/>
                  </a:lnTo>
                  <a:lnTo>
                    <a:pt x="4508" y="1008"/>
                  </a:lnTo>
                  <a:lnTo>
                    <a:pt x="4420" y="887"/>
                  </a:lnTo>
                  <a:lnTo>
                    <a:pt x="4320" y="776"/>
                  </a:lnTo>
                  <a:lnTo>
                    <a:pt x="4246" y="680"/>
                  </a:lnTo>
                  <a:lnTo>
                    <a:pt x="4159" y="614"/>
                  </a:lnTo>
                  <a:lnTo>
                    <a:pt x="4017" y="581"/>
                  </a:lnTo>
                  <a:lnTo>
                    <a:pt x="3923" y="532"/>
                  </a:lnTo>
                  <a:lnTo>
                    <a:pt x="3876" y="425"/>
                  </a:lnTo>
                  <a:lnTo>
                    <a:pt x="3838" y="331"/>
                  </a:lnTo>
                  <a:lnTo>
                    <a:pt x="3778" y="110"/>
                  </a:lnTo>
                  <a:lnTo>
                    <a:pt x="3752" y="5"/>
                  </a:lnTo>
                  <a:lnTo>
                    <a:pt x="7323" y="0"/>
                  </a:lnTo>
                  <a:lnTo>
                    <a:pt x="7315" y="2869"/>
                  </a:lnTo>
                  <a:lnTo>
                    <a:pt x="7062" y="2773"/>
                  </a:lnTo>
                  <a:lnTo>
                    <a:pt x="6958" y="2650"/>
                  </a:lnTo>
                  <a:lnTo>
                    <a:pt x="6898" y="2473"/>
                  </a:lnTo>
                  <a:lnTo>
                    <a:pt x="6839" y="2349"/>
                  </a:lnTo>
                  <a:lnTo>
                    <a:pt x="6743" y="2315"/>
                  </a:lnTo>
                  <a:lnTo>
                    <a:pt x="6654" y="2318"/>
                  </a:lnTo>
                  <a:lnTo>
                    <a:pt x="6547" y="2407"/>
                  </a:lnTo>
                  <a:lnTo>
                    <a:pt x="6455" y="2495"/>
                  </a:lnTo>
                  <a:lnTo>
                    <a:pt x="6329" y="2586"/>
                  </a:lnTo>
                  <a:lnTo>
                    <a:pt x="6190" y="2741"/>
                  </a:lnTo>
                  <a:lnTo>
                    <a:pt x="6077" y="2854"/>
                  </a:lnTo>
                  <a:lnTo>
                    <a:pt x="5976" y="2986"/>
                  </a:lnTo>
                  <a:lnTo>
                    <a:pt x="5893" y="2972"/>
                  </a:lnTo>
                  <a:lnTo>
                    <a:pt x="5781" y="2934"/>
                  </a:lnTo>
                  <a:lnTo>
                    <a:pt x="5675" y="2883"/>
                  </a:lnTo>
                  <a:lnTo>
                    <a:pt x="5577" y="2822"/>
                  </a:lnTo>
                  <a:lnTo>
                    <a:pt x="5517" y="2814"/>
                  </a:lnTo>
                  <a:lnTo>
                    <a:pt x="5447" y="2839"/>
                  </a:lnTo>
                  <a:lnTo>
                    <a:pt x="5364" y="2879"/>
                  </a:lnTo>
                  <a:lnTo>
                    <a:pt x="5261" y="2958"/>
                  </a:lnTo>
                  <a:lnTo>
                    <a:pt x="5150" y="3006"/>
                  </a:lnTo>
                  <a:lnTo>
                    <a:pt x="5043" y="3072"/>
                  </a:lnTo>
                  <a:lnTo>
                    <a:pt x="4976" y="3054"/>
                  </a:lnTo>
                  <a:lnTo>
                    <a:pt x="4893" y="2974"/>
                  </a:lnTo>
                  <a:lnTo>
                    <a:pt x="4833" y="2926"/>
                  </a:lnTo>
                  <a:lnTo>
                    <a:pt x="4748" y="2934"/>
                  </a:lnTo>
                  <a:lnTo>
                    <a:pt x="4688" y="299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20298000">
              <a:off x="7009200" y="4198320"/>
              <a:ext cx="850320" cy="807840"/>
            </a:xfrm>
            <a:custGeom>
              <a:avLst/>
              <a:gdLst/>
              <a:ahLst/>
              <a:rect l="l" t="t" r="r" b="b"/>
              <a:pathLst>
                <a:path w="4219" h="4482">
                  <a:moveTo>
                    <a:pt x="1591" y="0"/>
                  </a:moveTo>
                  <a:lnTo>
                    <a:pt x="1533" y="88"/>
                  </a:lnTo>
                  <a:lnTo>
                    <a:pt x="1461" y="135"/>
                  </a:lnTo>
                  <a:lnTo>
                    <a:pt x="1375" y="171"/>
                  </a:lnTo>
                  <a:lnTo>
                    <a:pt x="1278" y="253"/>
                  </a:lnTo>
                  <a:lnTo>
                    <a:pt x="1189" y="353"/>
                  </a:lnTo>
                  <a:lnTo>
                    <a:pt x="1133" y="454"/>
                  </a:lnTo>
                  <a:lnTo>
                    <a:pt x="1022" y="511"/>
                  </a:lnTo>
                  <a:lnTo>
                    <a:pt x="929" y="486"/>
                  </a:lnTo>
                  <a:lnTo>
                    <a:pt x="815" y="528"/>
                  </a:lnTo>
                  <a:lnTo>
                    <a:pt x="775" y="590"/>
                  </a:lnTo>
                  <a:lnTo>
                    <a:pt x="706" y="751"/>
                  </a:lnTo>
                  <a:lnTo>
                    <a:pt x="684" y="851"/>
                  </a:lnTo>
                  <a:lnTo>
                    <a:pt x="665" y="927"/>
                  </a:lnTo>
                  <a:lnTo>
                    <a:pt x="586" y="1009"/>
                  </a:lnTo>
                  <a:lnTo>
                    <a:pt x="478" y="1077"/>
                  </a:lnTo>
                  <a:lnTo>
                    <a:pt x="386" y="1173"/>
                  </a:lnTo>
                  <a:lnTo>
                    <a:pt x="342" y="1253"/>
                  </a:lnTo>
                  <a:lnTo>
                    <a:pt x="310" y="1408"/>
                  </a:lnTo>
                  <a:lnTo>
                    <a:pt x="256" y="1565"/>
                  </a:lnTo>
                  <a:lnTo>
                    <a:pt x="214" y="1748"/>
                  </a:lnTo>
                  <a:lnTo>
                    <a:pt x="197" y="1933"/>
                  </a:lnTo>
                  <a:lnTo>
                    <a:pt x="269" y="2001"/>
                  </a:lnTo>
                  <a:lnTo>
                    <a:pt x="294" y="2044"/>
                  </a:lnTo>
                  <a:lnTo>
                    <a:pt x="313" y="2142"/>
                  </a:lnTo>
                  <a:lnTo>
                    <a:pt x="310" y="2345"/>
                  </a:lnTo>
                  <a:lnTo>
                    <a:pt x="279" y="2515"/>
                  </a:lnTo>
                  <a:lnTo>
                    <a:pt x="273" y="2722"/>
                  </a:lnTo>
                  <a:lnTo>
                    <a:pt x="306" y="2889"/>
                  </a:lnTo>
                  <a:lnTo>
                    <a:pt x="355" y="2959"/>
                  </a:lnTo>
                  <a:lnTo>
                    <a:pt x="481" y="3001"/>
                  </a:lnTo>
                  <a:lnTo>
                    <a:pt x="605" y="2991"/>
                  </a:lnTo>
                  <a:lnTo>
                    <a:pt x="791" y="3012"/>
                  </a:lnTo>
                  <a:lnTo>
                    <a:pt x="908" y="2984"/>
                  </a:lnTo>
                  <a:lnTo>
                    <a:pt x="1063" y="2998"/>
                  </a:lnTo>
                  <a:lnTo>
                    <a:pt x="1255" y="2981"/>
                  </a:lnTo>
                  <a:lnTo>
                    <a:pt x="1514" y="2991"/>
                  </a:lnTo>
                  <a:lnTo>
                    <a:pt x="1695" y="2979"/>
                  </a:lnTo>
                  <a:lnTo>
                    <a:pt x="1892" y="2897"/>
                  </a:lnTo>
                  <a:lnTo>
                    <a:pt x="2113" y="2836"/>
                  </a:lnTo>
                  <a:lnTo>
                    <a:pt x="2311" y="2717"/>
                  </a:lnTo>
                  <a:lnTo>
                    <a:pt x="2518" y="2575"/>
                  </a:lnTo>
                  <a:lnTo>
                    <a:pt x="2669" y="2452"/>
                  </a:lnTo>
                  <a:lnTo>
                    <a:pt x="2847" y="2307"/>
                  </a:lnTo>
                  <a:lnTo>
                    <a:pt x="3010" y="2104"/>
                  </a:lnTo>
                  <a:lnTo>
                    <a:pt x="3097" y="1941"/>
                  </a:lnTo>
                  <a:lnTo>
                    <a:pt x="3200" y="1750"/>
                  </a:lnTo>
                  <a:lnTo>
                    <a:pt x="3203" y="1709"/>
                  </a:lnTo>
                  <a:lnTo>
                    <a:pt x="3296" y="1690"/>
                  </a:lnTo>
                  <a:lnTo>
                    <a:pt x="3366" y="1676"/>
                  </a:lnTo>
                  <a:lnTo>
                    <a:pt x="3479" y="1631"/>
                  </a:lnTo>
                  <a:lnTo>
                    <a:pt x="3586" y="1569"/>
                  </a:lnTo>
                  <a:lnTo>
                    <a:pt x="3698" y="1474"/>
                  </a:lnTo>
                  <a:lnTo>
                    <a:pt x="3802" y="1338"/>
                  </a:lnTo>
                  <a:lnTo>
                    <a:pt x="3884" y="1198"/>
                  </a:lnTo>
                  <a:lnTo>
                    <a:pt x="3954" y="1064"/>
                  </a:lnTo>
                  <a:lnTo>
                    <a:pt x="4216" y="1032"/>
                  </a:lnTo>
                  <a:lnTo>
                    <a:pt x="4219" y="4284"/>
                  </a:lnTo>
                  <a:lnTo>
                    <a:pt x="3944" y="4177"/>
                  </a:lnTo>
                  <a:lnTo>
                    <a:pt x="3878" y="4123"/>
                  </a:lnTo>
                  <a:lnTo>
                    <a:pt x="3777" y="4028"/>
                  </a:lnTo>
                  <a:lnTo>
                    <a:pt x="3669" y="4000"/>
                  </a:lnTo>
                  <a:lnTo>
                    <a:pt x="3523" y="4019"/>
                  </a:lnTo>
                  <a:lnTo>
                    <a:pt x="3366" y="4025"/>
                  </a:lnTo>
                  <a:lnTo>
                    <a:pt x="3233" y="4023"/>
                  </a:lnTo>
                  <a:lnTo>
                    <a:pt x="3116" y="4069"/>
                  </a:lnTo>
                  <a:lnTo>
                    <a:pt x="2986" y="4073"/>
                  </a:lnTo>
                  <a:lnTo>
                    <a:pt x="2904" y="3981"/>
                  </a:lnTo>
                  <a:lnTo>
                    <a:pt x="2894" y="3851"/>
                  </a:lnTo>
                  <a:lnTo>
                    <a:pt x="2920" y="3747"/>
                  </a:lnTo>
                  <a:lnTo>
                    <a:pt x="2893" y="3650"/>
                  </a:lnTo>
                  <a:lnTo>
                    <a:pt x="2755" y="3675"/>
                  </a:lnTo>
                  <a:lnTo>
                    <a:pt x="2637" y="3698"/>
                  </a:lnTo>
                  <a:lnTo>
                    <a:pt x="2502" y="3795"/>
                  </a:lnTo>
                  <a:lnTo>
                    <a:pt x="2382" y="3880"/>
                  </a:lnTo>
                  <a:lnTo>
                    <a:pt x="2264" y="3969"/>
                  </a:lnTo>
                  <a:lnTo>
                    <a:pt x="2126" y="4069"/>
                  </a:lnTo>
                  <a:lnTo>
                    <a:pt x="1989" y="4176"/>
                  </a:lnTo>
                  <a:lnTo>
                    <a:pt x="1946" y="4290"/>
                  </a:lnTo>
                  <a:lnTo>
                    <a:pt x="1882" y="4407"/>
                  </a:lnTo>
                  <a:lnTo>
                    <a:pt x="1808" y="4482"/>
                  </a:lnTo>
                  <a:lnTo>
                    <a:pt x="1712" y="4477"/>
                  </a:lnTo>
                  <a:lnTo>
                    <a:pt x="1600" y="4409"/>
                  </a:lnTo>
                  <a:lnTo>
                    <a:pt x="1493" y="4362"/>
                  </a:lnTo>
                  <a:lnTo>
                    <a:pt x="1334" y="4403"/>
                  </a:lnTo>
                  <a:lnTo>
                    <a:pt x="1195" y="4403"/>
                  </a:lnTo>
                  <a:lnTo>
                    <a:pt x="1158" y="4354"/>
                  </a:lnTo>
                  <a:lnTo>
                    <a:pt x="1095" y="4264"/>
                  </a:lnTo>
                  <a:lnTo>
                    <a:pt x="1028" y="4108"/>
                  </a:lnTo>
                  <a:lnTo>
                    <a:pt x="1012" y="3996"/>
                  </a:lnTo>
                  <a:lnTo>
                    <a:pt x="964" y="3895"/>
                  </a:lnTo>
                  <a:lnTo>
                    <a:pt x="861" y="3864"/>
                  </a:lnTo>
                  <a:lnTo>
                    <a:pt x="752" y="3861"/>
                  </a:lnTo>
                  <a:lnTo>
                    <a:pt x="591" y="3892"/>
                  </a:lnTo>
                  <a:lnTo>
                    <a:pt x="452" y="3908"/>
                  </a:lnTo>
                  <a:lnTo>
                    <a:pt x="361" y="4000"/>
                  </a:lnTo>
                  <a:lnTo>
                    <a:pt x="307" y="4083"/>
                  </a:lnTo>
                  <a:lnTo>
                    <a:pt x="206" y="4100"/>
                  </a:lnTo>
                  <a:lnTo>
                    <a:pt x="73" y="4086"/>
                  </a:lnTo>
                  <a:lnTo>
                    <a:pt x="0" y="400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298000">
              <a:off x="6891480" y="5053680"/>
              <a:ext cx="383040" cy="666720"/>
            </a:xfrm>
            <a:custGeom>
              <a:avLst/>
              <a:gdLst/>
              <a:ahLst/>
              <a:rect l="l" t="t" r="r" b="b"/>
              <a:pathLst>
                <a:path w="1904" h="3699">
                  <a:moveTo>
                    <a:pt x="1904" y="295"/>
                  </a:moveTo>
                  <a:lnTo>
                    <a:pt x="1865" y="173"/>
                  </a:lnTo>
                  <a:lnTo>
                    <a:pt x="1838" y="69"/>
                  </a:lnTo>
                  <a:lnTo>
                    <a:pt x="1733" y="0"/>
                  </a:lnTo>
                  <a:lnTo>
                    <a:pt x="1683" y="22"/>
                  </a:lnTo>
                  <a:lnTo>
                    <a:pt x="1587" y="71"/>
                  </a:lnTo>
                  <a:lnTo>
                    <a:pt x="1464" y="113"/>
                  </a:lnTo>
                  <a:lnTo>
                    <a:pt x="1370" y="159"/>
                  </a:lnTo>
                  <a:lnTo>
                    <a:pt x="1253" y="205"/>
                  </a:lnTo>
                  <a:lnTo>
                    <a:pt x="1104" y="263"/>
                  </a:lnTo>
                  <a:lnTo>
                    <a:pt x="993" y="315"/>
                  </a:lnTo>
                  <a:lnTo>
                    <a:pt x="842" y="418"/>
                  </a:lnTo>
                  <a:lnTo>
                    <a:pt x="687" y="522"/>
                  </a:lnTo>
                  <a:lnTo>
                    <a:pt x="510" y="645"/>
                  </a:lnTo>
                  <a:lnTo>
                    <a:pt x="386" y="727"/>
                  </a:lnTo>
                  <a:lnTo>
                    <a:pt x="278" y="886"/>
                  </a:lnTo>
                  <a:lnTo>
                    <a:pt x="197" y="1069"/>
                  </a:lnTo>
                  <a:lnTo>
                    <a:pt x="162" y="1216"/>
                  </a:lnTo>
                  <a:lnTo>
                    <a:pt x="107" y="1374"/>
                  </a:lnTo>
                  <a:lnTo>
                    <a:pt x="58" y="1545"/>
                  </a:lnTo>
                  <a:lnTo>
                    <a:pt x="56" y="1674"/>
                  </a:lnTo>
                  <a:lnTo>
                    <a:pt x="22" y="1831"/>
                  </a:lnTo>
                  <a:lnTo>
                    <a:pt x="0" y="1993"/>
                  </a:lnTo>
                  <a:lnTo>
                    <a:pt x="0" y="2132"/>
                  </a:lnTo>
                  <a:lnTo>
                    <a:pt x="45" y="2249"/>
                  </a:lnTo>
                  <a:lnTo>
                    <a:pt x="148" y="2350"/>
                  </a:lnTo>
                  <a:lnTo>
                    <a:pt x="165" y="2438"/>
                  </a:lnTo>
                  <a:lnTo>
                    <a:pt x="156" y="2548"/>
                  </a:lnTo>
                  <a:lnTo>
                    <a:pt x="111" y="2737"/>
                  </a:lnTo>
                  <a:lnTo>
                    <a:pt x="57" y="2922"/>
                  </a:lnTo>
                  <a:lnTo>
                    <a:pt x="85" y="3084"/>
                  </a:lnTo>
                  <a:lnTo>
                    <a:pt x="133" y="3244"/>
                  </a:lnTo>
                  <a:lnTo>
                    <a:pt x="209" y="3358"/>
                  </a:lnTo>
                  <a:lnTo>
                    <a:pt x="323" y="3390"/>
                  </a:lnTo>
                  <a:lnTo>
                    <a:pt x="459" y="3419"/>
                  </a:lnTo>
                  <a:lnTo>
                    <a:pt x="566" y="3485"/>
                  </a:lnTo>
                  <a:lnTo>
                    <a:pt x="640" y="3588"/>
                  </a:lnTo>
                  <a:lnTo>
                    <a:pt x="705" y="369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60040" y="5715360"/>
              <a:ext cx="19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20298000">
              <a:off x="7373520" y="4757040"/>
              <a:ext cx="103320" cy="83160"/>
            </a:xfrm>
            <a:custGeom>
              <a:avLst/>
              <a:gdLst/>
              <a:ahLst/>
              <a:rect l="l" t="t" r="r" b="b"/>
              <a:pathLst>
                <a:path w="514" h="461">
                  <a:moveTo>
                    <a:pt x="11" y="138"/>
                  </a:moveTo>
                  <a:lnTo>
                    <a:pt x="0" y="165"/>
                  </a:lnTo>
                  <a:lnTo>
                    <a:pt x="38" y="225"/>
                  </a:lnTo>
                  <a:lnTo>
                    <a:pt x="92" y="282"/>
                  </a:lnTo>
                  <a:lnTo>
                    <a:pt x="131" y="350"/>
                  </a:lnTo>
                  <a:lnTo>
                    <a:pt x="127" y="426"/>
                  </a:lnTo>
                  <a:lnTo>
                    <a:pt x="168" y="461"/>
                  </a:lnTo>
                  <a:lnTo>
                    <a:pt x="223" y="439"/>
                  </a:lnTo>
                  <a:lnTo>
                    <a:pt x="285" y="359"/>
                  </a:lnTo>
                  <a:lnTo>
                    <a:pt x="324" y="356"/>
                  </a:lnTo>
                  <a:lnTo>
                    <a:pt x="396" y="357"/>
                  </a:lnTo>
                  <a:lnTo>
                    <a:pt x="466" y="332"/>
                  </a:lnTo>
                  <a:lnTo>
                    <a:pt x="438" y="278"/>
                  </a:lnTo>
                  <a:lnTo>
                    <a:pt x="425" y="228"/>
                  </a:lnTo>
                  <a:lnTo>
                    <a:pt x="466" y="151"/>
                  </a:lnTo>
                  <a:lnTo>
                    <a:pt x="514" y="104"/>
                  </a:lnTo>
                  <a:lnTo>
                    <a:pt x="484" y="69"/>
                  </a:lnTo>
                  <a:lnTo>
                    <a:pt x="421" y="41"/>
                  </a:lnTo>
                  <a:lnTo>
                    <a:pt x="357" y="39"/>
                  </a:lnTo>
                  <a:lnTo>
                    <a:pt x="346" y="0"/>
                  </a:lnTo>
                  <a:lnTo>
                    <a:pt x="314" y="0"/>
                  </a:lnTo>
                  <a:lnTo>
                    <a:pt x="260" y="25"/>
                  </a:lnTo>
                  <a:lnTo>
                    <a:pt x="175" y="44"/>
                  </a:lnTo>
                  <a:lnTo>
                    <a:pt x="95" y="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7373160" y="4782960"/>
              <a:ext cx="10800" cy="1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20298000">
              <a:off x="6933960" y="4816800"/>
              <a:ext cx="115200" cy="109080"/>
            </a:xfrm>
            <a:custGeom>
              <a:avLst/>
              <a:gdLst/>
              <a:ahLst/>
              <a:rect l="l" t="t" r="r" b="b"/>
              <a:pathLst>
                <a:path w="572" h="606">
                  <a:moveTo>
                    <a:pt x="8" y="233"/>
                  </a:moveTo>
                  <a:lnTo>
                    <a:pt x="21" y="306"/>
                  </a:lnTo>
                  <a:lnTo>
                    <a:pt x="54" y="366"/>
                  </a:lnTo>
                  <a:lnTo>
                    <a:pt x="53" y="462"/>
                  </a:lnTo>
                  <a:lnTo>
                    <a:pt x="15" y="539"/>
                  </a:lnTo>
                  <a:lnTo>
                    <a:pt x="104" y="582"/>
                  </a:lnTo>
                  <a:lnTo>
                    <a:pt x="161" y="596"/>
                  </a:lnTo>
                  <a:lnTo>
                    <a:pt x="283" y="604"/>
                  </a:lnTo>
                  <a:lnTo>
                    <a:pt x="397" y="606"/>
                  </a:lnTo>
                  <a:lnTo>
                    <a:pt x="458" y="574"/>
                  </a:lnTo>
                  <a:lnTo>
                    <a:pt x="495" y="492"/>
                  </a:lnTo>
                  <a:lnTo>
                    <a:pt x="515" y="426"/>
                  </a:lnTo>
                  <a:lnTo>
                    <a:pt x="522" y="350"/>
                  </a:lnTo>
                  <a:lnTo>
                    <a:pt x="572" y="329"/>
                  </a:lnTo>
                  <a:lnTo>
                    <a:pt x="566" y="285"/>
                  </a:lnTo>
                  <a:lnTo>
                    <a:pt x="538" y="246"/>
                  </a:lnTo>
                  <a:lnTo>
                    <a:pt x="502" y="230"/>
                  </a:lnTo>
                  <a:lnTo>
                    <a:pt x="414" y="156"/>
                  </a:lnTo>
                  <a:lnTo>
                    <a:pt x="383" y="96"/>
                  </a:lnTo>
                  <a:lnTo>
                    <a:pt x="337" y="11"/>
                  </a:lnTo>
                  <a:lnTo>
                    <a:pt x="321" y="0"/>
                  </a:lnTo>
                  <a:lnTo>
                    <a:pt x="242" y="85"/>
                  </a:lnTo>
                  <a:lnTo>
                    <a:pt x="214" y="156"/>
                  </a:lnTo>
                  <a:lnTo>
                    <a:pt x="158" y="162"/>
                  </a:lnTo>
                  <a:lnTo>
                    <a:pt x="75" y="121"/>
                  </a:lnTo>
                  <a:lnTo>
                    <a:pt x="0" y="17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30000" y="4871520"/>
              <a:ext cx="504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298000">
              <a:off x="6753960" y="4669200"/>
              <a:ext cx="72360" cy="50760"/>
            </a:xfrm>
            <a:custGeom>
              <a:avLst/>
              <a:gdLst/>
              <a:ahLst/>
              <a:rect l="l" t="t" r="r" b="b"/>
              <a:pathLst>
                <a:path w="360" h="284">
                  <a:moveTo>
                    <a:pt x="13" y="114"/>
                  </a:moveTo>
                  <a:lnTo>
                    <a:pt x="35" y="142"/>
                  </a:lnTo>
                  <a:lnTo>
                    <a:pt x="50" y="186"/>
                  </a:lnTo>
                  <a:lnTo>
                    <a:pt x="48" y="258"/>
                  </a:lnTo>
                  <a:lnTo>
                    <a:pt x="97" y="281"/>
                  </a:lnTo>
                  <a:lnTo>
                    <a:pt x="179" y="284"/>
                  </a:lnTo>
                  <a:lnTo>
                    <a:pt x="274" y="267"/>
                  </a:lnTo>
                  <a:lnTo>
                    <a:pt x="275" y="237"/>
                  </a:lnTo>
                  <a:lnTo>
                    <a:pt x="355" y="166"/>
                  </a:lnTo>
                  <a:lnTo>
                    <a:pt x="360" y="130"/>
                  </a:lnTo>
                  <a:lnTo>
                    <a:pt x="300" y="78"/>
                  </a:lnTo>
                  <a:lnTo>
                    <a:pt x="239" y="65"/>
                  </a:lnTo>
                  <a:lnTo>
                    <a:pt x="219" y="25"/>
                  </a:lnTo>
                  <a:lnTo>
                    <a:pt x="203" y="0"/>
                  </a:lnTo>
                  <a:lnTo>
                    <a:pt x="160" y="13"/>
                  </a:lnTo>
                  <a:lnTo>
                    <a:pt x="98" y="46"/>
                  </a:lnTo>
                  <a:lnTo>
                    <a:pt x="26" y="13"/>
                  </a:lnTo>
                  <a:lnTo>
                    <a:pt x="0" y="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50720" y="4691880"/>
              <a:ext cx="648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181480" y="4648320"/>
            <a:ext cx="762120" cy="1143000"/>
            <a:chOff x="5181480" y="4648320"/>
            <a:chExt cx="762120" cy="1143000"/>
          </a:xfrm>
        </p:grpSpPr>
        <p:sp>
          <p:nvSpPr>
            <p:cNvPr id="184" name=""/>
            <p:cNvSpPr/>
            <p:nvPr/>
          </p:nvSpPr>
          <p:spPr>
            <a:xfrm flipV="1">
              <a:off x="5181480" y="4648320"/>
              <a:ext cx="762120" cy="304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181480" y="4952880"/>
              <a:ext cx="381240" cy="838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792400" y="4657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93960" y="5504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44400" y="15998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6699ff"/>
                </a:solidFill>
                <a:latin typeface="Arial"/>
              </a:rPr>
              <a:t>Proposed indices of pattern and neighborhood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dices and statistics of spatial pattern and neighborhood are presented according to the type of spatial features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76880" indent="-25956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880" indent="-25956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880" indent="-25956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533520" y="9140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Arial"/>
              </a:rPr>
              <a:t>Description of spatial pattern and neighborhood</a:t>
            </a:r>
            <a:endParaRPr b="1" lang="en-US" sz="25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066680" y="2263680"/>
          <a:ext cx="6970680" cy="162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63680"/>
                    <a:ext cx="697068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Spatial pattern and neighborhood of point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94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: Pattern and neighborhood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Different indicators for the spatial distribution and relationships of point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tial distribution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indices of location: central tende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indices of dispersion: var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tial pattern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of spatial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ighborhood relationships descriptio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to features, areas of largest proximit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 : Example of a distribu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cc0066"/>
                </a:solidFill>
                <a:latin typeface="Arial"/>
              </a:rPr>
              <a:t>Location of 8 point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cc0066"/>
                </a:solidFill>
                <a:latin typeface="Arial"/>
              </a:rPr>
              <a:t>Spatial distribution of 8 point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27480" y="5059440"/>
            <a:ext cx="31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4480" y="2590920"/>
            <a:ext cx="24591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Point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X (m)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Y(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6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7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7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9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9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824440" y="2662200"/>
            <a:ext cx="2019240" cy="1957680"/>
            <a:chOff x="5824440" y="2662200"/>
            <a:chExt cx="2019240" cy="1957680"/>
          </a:xfrm>
        </p:grpSpPr>
        <p:sp>
          <p:nvSpPr>
            <p:cNvPr id="204" name=""/>
            <p:cNvSpPr/>
            <p:nvPr/>
          </p:nvSpPr>
          <p:spPr>
            <a:xfrm>
              <a:off x="5824440" y="381312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13360" y="40338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61040" y="44910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85000" y="42624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51720" y="40338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99360" y="35766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18280" y="38052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18280" y="33480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05720" y="26622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29360" y="4245120"/>
              <a:ext cx="1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85000" y="4343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94480" y="378792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94600" y="335592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09000" y="376704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56360" y="309096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15080" y="27288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320080" y="2363760"/>
            <a:ext cx="2618280" cy="2665080"/>
            <a:chOff x="5320080" y="2363760"/>
            <a:chExt cx="2618280" cy="2665080"/>
          </a:xfrm>
        </p:grpSpPr>
        <p:sp>
          <p:nvSpPr>
            <p:cNvPr id="221" name=""/>
            <p:cNvSpPr/>
            <p:nvPr/>
          </p:nvSpPr>
          <p:spPr>
            <a:xfrm flipV="1">
              <a:off x="5478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443200" y="478764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460480" y="46688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71920" y="4717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443200" y="45511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460480" y="44337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71920" y="448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443200" y="43164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5460480" y="419868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71920" y="4248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5443200" y="40813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5460480" y="396216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71920" y="4011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5443200" y="38448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5460480" y="37274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71920" y="377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5443200" y="36097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460480" y="349236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71920" y="3541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5443200" y="33750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5460480" y="32558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71920" y="3305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443200" y="313848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5460480" y="3020760"/>
              <a:ext cx="17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71920" y="3070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443200" y="29034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460480" y="278604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71920" y="283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5443200" y="266832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5460480" y="2549520"/>
              <a:ext cx="1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71920" y="259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5443200" y="24271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20080" y="23637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24360" y="4787640"/>
              <a:ext cx="21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784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5000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00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6736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9120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4360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2448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768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4040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6604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166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8160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0724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5964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1524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04052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914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28172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3412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9764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23280" y="47876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7568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30920" y="4787640"/>
              <a:ext cx="18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754760" y="4787640"/>
              <a:ext cx="18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07160" y="49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724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24960" y="4905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79920" y="2427120"/>
              <a:ext cx="239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7872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79920" y="4787640"/>
              <a:ext cx="239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478480" y="2431800"/>
              <a:ext cx="1440" cy="23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05560" y="4789440"/>
              <a:ext cx="144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57960" y="49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22920" y="478944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0568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48520" y="4787640"/>
              <a:ext cx="14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 flipH="1" rot="16200000">
            <a:off x="4555440" y="34002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yintM</cp:lastModifiedBy>
  <cp:lastPrinted>2003-05-14T12:09:03Z</cp:lastPrinted>
  <dcterms:modified xsi:type="dcterms:W3CDTF">2003-11-12T12:23:38Z</dcterms:modified>
  <cp:revision>552</cp:revision>
  <dc:subject/>
  <dc:title>Leçon 2: Variables spatiales discrètes  Unité 1: Introduction</dc:title>
</cp:coreProperties>
</file>