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28600">
              <a:spcBef>
                <a:spcPts val="11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10480" y="6400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5BCC-A5CC-44D7-9D78-87D59C56F9B0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09760" y="6172200"/>
            <a:ext cx="1455840" cy="32688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261120"/>
            <a:ext cx="1557360" cy="590400"/>
          </a:xfrm>
          <a:prstGeom prst="rect">
            <a:avLst/>
          </a:prstGeom>
          <a:solidFill>
            <a:srgbClr val="d9f2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6248520"/>
            <a:ext cx="15238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B-AN / L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Discrete spatial variab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801680" y="615960"/>
            <a:ext cx="373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G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ographic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I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nformation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chnology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raining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A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llian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2238480" y="836640"/>
            <a:ext cx="6324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190520"/>
          </a:xfrm>
          <a:prstGeom prst="rect">
            <a:avLst/>
          </a:prstGeom>
          <a:ln w="0">
            <a:noFill/>
          </a:ln>
        </p:spPr>
      </p:pic>
      <p:pic>
        <p:nvPicPr>
          <p:cNvPr id="11" name="C_logo_bleu" descr=""/>
          <p:cNvPicPr/>
          <p:nvPr/>
        </p:nvPicPr>
        <p:blipFill>
          <a:blip r:embed="rId4"/>
          <a:stretch/>
        </p:blipFill>
        <p:spPr>
          <a:xfrm>
            <a:off x="65160" y="6172200"/>
            <a:ext cx="620640" cy="6206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2133720" y="6095880"/>
            <a:ext cx="186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U2: Spatial properties of f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181480" y="6248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d4d4d"/>
                </a:solidFill>
                <a:latin typeface="Arial"/>
              </a:rPr>
              <a:t>April 8,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09320"/>
            <a:ext cx="17524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85920" y="4987800"/>
            <a:ext cx="3757680" cy="59400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53920" y="1162080"/>
            <a:ext cx="406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G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ographic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nformation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chnology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raining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llian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962520" y="1420920"/>
            <a:ext cx="455616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8640" y="2514600"/>
            <a:ext cx="0" cy="2057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C_logo_bleu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17120" y="59292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umanst521 Bd BT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5040" y="5987880"/>
            <a:ext cx="41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Geosciences - Geograph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6040" y="510552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-AN   Lesson 2 / Unit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2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Geometrical properties of individual featur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dividual properties (geometry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pattern (relationship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579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Individual properties of linear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: nature and typ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44400" y="1599840"/>
            <a:ext cx="7966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linear feature is modeled as a geometrical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broken lin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 a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 ch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it has one spatial dimension (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1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 image mode a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linear regio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s a set of contiguous cells having only one spatial dimension too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linear feature can be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imp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made of a single ch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comple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made of several ch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699ff"/>
                </a:solidFill>
                <a:latin typeface="Arial"/>
              </a:rPr>
              <a:t>A </a:t>
            </a:r>
            <a:r>
              <a:rPr b="1" lang="en-US" sz="2300" spc="-1" strike="noStrike" u="sng">
                <a:solidFill>
                  <a:srgbClr val="6699ff"/>
                </a:solidFill>
                <a:uFillTx/>
                <a:latin typeface="Arial"/>
              </a:rPr>
              <a:t>network</a:t>
            </a:r>
            <a:r>
              <a:rPr b="1" lang="en-US" sz="2300" spc="-1" strike="noStrike">
                <a:solidFill>
                  <a:srgbClr val="6699ff"/>
                </a:solidFill>
                <a:latin typeface="Arial"/>
              </a:rPr>
              <a:t> can be considered either a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6699ff"/>
                </a:solidFill>
                <a:latin typeface="Arial"/>
              </a:rPr>
              <a:t>a single feature (complex linear fea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Arial"/>
              </a:rPr>
              <a:t>a group of numerous features with </a:t>
            </a:r>
            <a:r>
              <a:rPr b="0" lang="en-US" sz="2200" spc="-1" strike="noStrike" u="sng">
                <a:solidFill>
                  <a:srgbClr val="6699ff"/>
                </a:solidFill>
                <a:uFillTx/>
                <a:latin typeface="Arial"/>
              </a:rPr>
              <a:t>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: simple and compl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Arial"/>
              </a:rPr>
              <a:t>Simple linear obje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ject made of a single chain (C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xample: a seg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44720" y="1980720"/>
            <a:ext cx="38480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Arial"/>
              </a:rPr>
              <a:t>Complex linear obje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ject made of several chains (C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xample: a set of segments, a whole network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612800" y="4322880"/>
            <a:ext cx="1968480" cy="477720"/>
            <a:chOff x="1612800" y="4322880"/>
            <a:chExt cx="1968480" cy="477720"/>
          </a:xfrm>
        </p:grpSpPr>
        <p:sp>
          <p:nvSpPr>
            <p:cNvPr id="588" name=""/>
            <p:cNvSpPr/>
            <p:nvPr/>
          </p:nvSpPr>
          <p:spPr>
            <a:xfrm flipV="1">
              <a:off x="1647720" y="4512960"/>
              <a:ext cx="479520" cy="25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55680" y="4525920"/>
              <a:ext cx="51300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2698920" y="4361040"/>
              <a:ext cx="81576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24000" y="4492800"/>
              <a:ext cx="54000" cy="5364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649600" y="4559400"/>
              <a:ext cx="54000" cy="5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12800" y="471168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92360" y="432288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651640" y="4456080"/>
            <a:ext cx="1968480" cy="1106640"/>
            <a:chOff x="5651640" y="4456080"/>
            <a:chExt cx="1968480" cy="1106640"/>
          </a:xfrm>
        </p:grpSpPr>
        <p:sp>
          <p:nvSpPr>
            <p:cNvPr id="596" name=""/>
            <p:cNvSpPr/>
            <p:nvPr/>
          </p:nvSpPr>
          <p:spPr>
            <a:xfrm flipV="1">
              <a:off x="5686560" y="4646160"/>
              <a:ext cx="479160" cy="25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172200" y="4667400"/>
              <a:ext cx="54612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718320" y="4514400"/>
              <a:ext cx="853920" cy="19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88080" y="4680000"/>
              <a:ext cx="54000" cy="5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651640" y="484488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531200" y="445608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84800" y="4629240"/>
              <a:ext cx="495360" cy="47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708960" y="5116320"/>
              <a:ext cx="39024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76920" y="5083200"/>
              <a:ext cx="54000" cy="5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93080" y="511812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6121440" y="5105520"/>
              <a:ext cx="92160" cy="42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6121440" y="4648320"/>
              <a:ext cx="7632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095880" y="5086440"/>
              <a:ext cx="54000" cy="5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78680" y="547380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59600" y="460368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932040" y="5410080"/>
            <a:ext cx="5364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14400" y="56260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09120" y="480060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533412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638680" y="4443480"/>
            <a:ext cx="385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791320" y="4976640"/>
            <a:ext cx="385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472080" y="5099040"/>
            <a:ext cx="385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929280" y="4641840"/>
            <a:ext cx="385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: individual geometric properti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44040" y="1828440"/>
            <a:ext cx="74329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simple linear featu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will be discussed her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t of linear features such as network will be discussed in Lesson « Network description »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dividual geometric properties of a linear feature are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oc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osi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 siz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lengt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 shap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inuosi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 orient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direc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object: Loca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ly its location is considered as the horizontal and vertical position into the project plane of its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ean ce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MC) or so called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Gravity ce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538960" y="53341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X = 254.4   Y = 134.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42160" y="5384880"/>
            <a:ext cx="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937120" y="5391000"/>
            <a:ext cx="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684760" y="2200320"/>
            <a:ext cx="2362320" cy="23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506920" y="458784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48440" y="181764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rot="16200000">
            <a:off x="4609440" y="318096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614560" y="3622680"/>
            <a:ext cx="124956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829560" y="3570120"/>
            <a:ext cx="0" cy="109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658200" y="32209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ff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546600" y="45878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384520" y="34941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614920" y="21985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5614920" y="3417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5614920" y="4560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684760" y="4560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897600" y="4560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047080" y="4560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5921280" y="3511080"/>
            <a:ext cx="47952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29240" y="3524400"/>
            <a:ext cx="511200" cy="35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6940440" y="3358800"/>
            <a:ext cx="8478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397560" y="34909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21360" y="38498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886360" y="3710160"/>
            <a:ext cx="88920" cy="885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765920" y="332100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645160" y="37987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247, 133.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756480" y="3548160"/>
            <a:ext cx="152280" cy="152280"/>
          </a:xfrm>
          <a:custGeom>
            <a:avLst/>
            <a:gdLst>
              <a:gd name="textAreaLeft" fmla="*/ 62640 w 152280"/>
              <a:gd name="textAreaRight" fmla="*/ 89640 w 15228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67320" y="3544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626160" y="463716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886360" y="3265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251.5, 136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59560" y="39355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256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34280" y="30621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263, 137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2476440" y="3732120"/>
          <a:ext cx="1849320" cy="21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440" y="3732120"/>
                    <a:ext cx="184932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object: Size (length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15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t is the sum of length of the n segments composing the chain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: 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distance between the two segment i ends (vert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e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5402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837400" y="2287440"/>
            <a:ext cx="2361960" cy="23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659560" y="467532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400720" y="190512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rot="16200000">
            <a:off x="4761720" y="326844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767200" y="22860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767200" y="3505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5767200" y="4648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3740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05024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19936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486400" y="533412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5.15+5.41+8.06 = 18.62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6073920" y="3598560"/>
            <a:ext cx="479160" cy="2509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581880" y="3611520"/>
            <a:ext cx="511200" cy="3510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7093080" y="3446280"/>
            <a:ext cx="847440" cy="515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50200" y="3578400"/>
            <a:ext cx="53640" cy="5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074000" y="39369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39000" y="37972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918560" y="34084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797440" y="3886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7, 133.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39000" y="3352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1.5, 136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11840" y="4022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486560" y="3149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3, 137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091200" y="34797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781680" y="358128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43800" y="36576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717480" y="4348080"/>
          <a:ext cx="3932280" cy="134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4348080"/>
                    <a:ext cx="39322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: Size (length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288720" indent="-28872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sum of length of the n units (cells) composing the reg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is metric uses 2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yardstick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0066"/>
                </a:solidFill>
                <a:latin typeface="Arial"/>
              </a:rPr>
              <a:t>diagona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1.41 unit, </a:t>
            </a:r>
            <a:r>
              <a:rPr b="0" lang="en-US" sz="1500" spc="-1" strike="noStrike">
                <a:solidFill>
                  <a:srgbClr val="cc0066"/>
                </a:solidFill>
                <a:latin typeface="Arial"/>
              </a:rPr>
              <a:t>sid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1 un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a grid with 1m resolu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=1.41+1.41+1+1+1+1.41+1.41+1.41+1.41+1.41+1+1.41+1+1.41+1.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= ((10*1.41)+(5*1))*1m = 19.1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In image mode the estimation of length is systematically exaggerated (see the estimation in object mode: L = 18.62m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281560" y="533412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((10*1.41)+(5*1))*1m = 19.1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0064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2920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rot="16200000">
            <a:off x="431748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408640" y="20066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408640" y="3301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40864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4784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7723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0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92648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51268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13348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10612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486400" y="2011320"/>
            <a:ext cx="2598840" cy="2550960"/>
            <a:chOff x="5486400" y="2011320"/>
            <a:chExt cx="2598840" cy="2550960"/>
          </a:xfrm>
        </p:grpSpPr>
        <p:sp>
          <p:nvSpPr>
            <p:cNvPr id="706" name=""/>
            <p:cNvSpPr/>
            <p:nvPr/>
          </p:nvSpPr>
          <p:spPr>
            <a:xfrm>
              <a:off x="5486400" y="201132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62608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753160" y="201132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7844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005520" y="201132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131160" y="201132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70840" y="201132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97560" y="201132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52320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50280" y="201132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486400" y="2151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2608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53160" y="2151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87844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005520" y="2151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31160" y="2151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270840" y="2151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397560" y="2151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2320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50280" y="2151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486400" y="22762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2608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53160" y="22762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87844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005520" y="22762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131160" y="22762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70840" y="22762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97560" y="22762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2320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650280" y="22762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86400" y="24033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2608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53160" y="2403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87844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005520" y="24033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131160" y="24033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270840" y="24033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397560" y="24033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2320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50280" y="2403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86400" y="25286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62608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53160" y="25286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7844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05520" y="25286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131160" y="25286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270840" y="252864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397560" y="25286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2320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650280" y="25286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86400" y="265572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2608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53160" y="265572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7844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005520" y="265572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31160" y="265572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70840" y="265572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397560" y="265572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2320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50280" y="265572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86400" y="279396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62608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53160" y="27939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7844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05520" y="279396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131160" y="279396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270840" y="27939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97560" y="279396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52320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650280" y="27939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486400" y="29206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62608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753160" y="29206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7844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05520" y="29206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31160" y="29206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270840" y="29206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97560" y="29206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52320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650280" y="29206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86400" y="304776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2608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753160" y="304776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87844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05520" y="304776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31160" y="304776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70840" y="30477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397560" y="304776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52320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650280" y="304776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86400" y="317340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62608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753160" y="317340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7844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05520" y="317340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31160" y="317340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270840" y="31734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397560" y="317340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2320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650280" y="317340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86400" y="330012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62608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753160" y="33001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87844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005520" y="330012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31160" y="330012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270840" y="33001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97560" y="330012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52320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50280" y="33001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86400" y="342576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2608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753160" y="342576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87844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005520" y="3425760"/>
              <a:ext cx="12564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131160" y="3425760"/>
              <a:ext cx="1396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70840" y="3425760"/>
              <a:ext cx="12672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397560" y="3425760"/>
              <a:ext cx="12564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2320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50280" y="342576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486400" y="356544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26080" y="35654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753160" y="35654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878440" y="356544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005520" y="356544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31160" y="356544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70840" y="35654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397560" y="356544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523200" y="356544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650280" y="35654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486400" y="369072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62608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753160" y="369072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7844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005520" y="369072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131160" y="369072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70840" y="36907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397560" y="369072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52320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650280" y="369072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77232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77232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77232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77232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77232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77232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77232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77232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77232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77232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7232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77232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72320" y="35654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77232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89940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89940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89940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9940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9940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9940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89940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9940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940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89940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89940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940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99400" y="35654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899400" y="369072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26480" y="201132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026480" y="2151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026480" y="22762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26480" y="24033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26480" y="25286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26480" y="265572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26480" y="27939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26480" y="29206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26480" y="304776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026480" y="317340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26480" y="33001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26480" y="342576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026480" y="3565440"/>
              <a:ext cx="1378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026480" y="369072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16436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6436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16436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16436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16436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16436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6436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16436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6436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6436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6436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6436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64360" y="356544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16436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291440" y="201132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291440" y="2151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291440" y="22762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291440" y="2403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91440" y="25286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91440" y="265572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91440" y="27939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91440" y="29206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291440" y="304776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91440" y="317340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91440" y="33001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291440" y="3425760"/>
              <a:ext cx="1252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291440" y="35654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91440" y="369072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41672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41672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41672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41672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41672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41672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41672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41672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41672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41672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1672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416720" y="342576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416720" y="35654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1672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54380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4380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54380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54380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54380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54380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54380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54380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54380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54380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543800" y="33001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54380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543800" y="35654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54380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38178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62608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753160" y="38178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87844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005520" y="38178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131160" y="38178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270840" y="3817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397560" y="38178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2320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50280" y="38178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772320" y="38178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89940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026480" y="38178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16436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91440" y="38178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41672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4380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86400" y="393984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2608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753160" y="393984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87844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005520" y="393984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131160" y="393984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70840" y="393984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97560" y="393984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2320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650280" y="393984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77232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89940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026480" y="393984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16436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91440" y="393984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41672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54380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86400" y="406224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62608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753160" y="40622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87844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05520" y="406224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131160" y="406224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270840" y="40622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397560" y="406224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2320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650280" y="40622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77232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89940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026480" y="40622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16436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291440" y="40622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41672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54380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6400" y="41893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62608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753160" y="41893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87844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05520" y="41893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131160" y="41893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270840" y="41893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397560" y="41893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52320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50280" y="41893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77232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89940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026480" y="41893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16436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91440" y="41893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41672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54380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86400" y="43146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62608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753160" y="43146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87844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05520" y="43146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131160" y="43146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270840" y="43146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397560" y="43146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52320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650280" y="43146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77232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89940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026480" y="43146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16436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91440" y="43146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41672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54380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86400" y="4437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62608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53160" y="4437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87844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005520" y="4437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131160" y="4437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270840" y="4437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397560" y="4437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52320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650280" y="4437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7232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89940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026480" y="4437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16436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291440" y="4437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41672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54380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670880" y="201132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670880" y="2151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670880" y="227628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670880" y="24033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70880" y="25286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70880" y="265572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670880" y="279396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670880" y="292068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70880" y="304776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670880" y="3173400"/>
              <a:ext cx="13824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670880" y="33001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670880" y="342576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670880" y="356544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670880" y="369072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670880" y="38178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670880" y="393984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670880" y="406224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670880" y="41893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670880" y="43146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670880" y="4437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809120" y="201132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809120" y="2151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809120" y="22762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809120" y="24033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809120" y="25286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809120" y="265572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809120" y="27939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809120" y="29206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809120" y="304776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809120" y="317340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809120" y="33001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809120" y="342576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809120" y="35654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809120" y="369072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809120" y="38178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809120" y="393984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9120" y="40622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809120" y="41893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809120" y="43146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809120" y="4437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947000" y="201132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947000" y="2151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947000" y="227628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947000" y="24033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947000" y="25286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947000" y="265572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947000" y="279396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947000" y="292068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947000" y="304776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947000" y="317340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947000" y="33001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947000" y="342576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947000" y="356544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947000" y="369072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947000" y="38178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947000" y="393984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947000" y="406224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947000" y="41893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947000" y="43146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947000" y="4437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5805360" y="3238560"/>
            <a:ext cx="1938240" cy="647280"/>
            <a:chOff x="5805360" y="3238560"/>
            <a:chExt cx="1938240" cy="647280"/>
          </a:xfrm>
        </p:grpSpPr>
        <p:sp>
          <p:nvSpPr>
            <p:cNvPr id="1107" name=""/>
            <p:cNvSpPr/>
            <p:nvPr/>
          </p:nvSpPr>
          <p:spPr>
            <a:xfrm flipV="1">
              <a:off x="5805360" y="3500280"/>
              <a:ext cx="257040" cy="26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62400" y="34956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443280" y="3495600"/>
              <a:ext cx="38124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072200" y="36194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7210080" y="3471840"/>
              <a:ext cx="15228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7500600" y="3238560"/>
              <a:ext cx="24300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357680" y="347184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819480" y="3619440"/>
              <a:ext cx="257400" cy="26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object: Shape (sinuosity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2325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 is the ratio between the chain length L and the distance D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between its two end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L /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is a ratio, with S &gt;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29200" y="1752480"/>
            <a:ext cx="34639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837400" y="2287440"/>
            <a:ext cx="2361960" cy="23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659560" y="467532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400720" y="190512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 rot="16200000">
            <a:off x="4761720" y="326844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5767200" y="22860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5767200" y="3505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5767200" y="4648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3740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05024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19936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990720" y="5068800"/>
            <a:ext cx="24382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5.15+5.41+8.06 = 18.6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6.3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= 18.62 / 16.38 = 1.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6073920" y="3598560"/>
            <a:ext cx="47916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581880" y="3611520"/>
            <a:ext cx="511200" cy="3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7093080" y="3446280"/>
            <a:ext cx="84744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550200" y="3578400"/>
            <a:ext cx="53640" cy="5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074000" y="39369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39000" y="37972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918560" y="34084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797440" y="3886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7, 133.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39000" y="3352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1.5, 136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11840" y="4022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486560" y="3149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3, 137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58080" y="3476520"/>
            <a:ext cx="328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781680" y="358128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543800" y="36576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3" name=""/>
          <p:cNvGraphicFramePr/>
          <p:nvPr/>
        </p:nvGraphicFramePr>
        <p:xfrm>
          <a:off x="1022400" y="4343400"/>
          <a:ext cx="3473280" cy="66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4343400"/>
                    <a:ext cx="34732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5" name=""/>
          <p:cNvSpPr/>
          <p:nvPr/>
        </p:nvSpPr>
        <p:spPr>
          <a:xfrm>
            <a:off x="5715000" y="53341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= 18.62 / 16.38 = 1.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6072120" y="3448080"/>
            <a:ext cx="1905120" cy="380880"/>
          </a:xfrm>
          <a:prstGeom prst="line">
            <a:avLst/>
          </a:prstGeom>
          <a:ln w="1908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010280" y="33066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D</a:t>
            </a:r>
            <a:r>
              <a:rPr b="1" lang="en-US" sz="1200" spc="-1" strike="noStrike" baseline="-25000">
                <a:solidFill>
                  <a:srgbClr val="cc0066"/>
                </a:solidFill>
                <a:latin typeface="Arial"/>
              </a:rPr>
              <a:t>d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: Shape (sinuosity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 fontScale="94000"/>
          </a:bodyPr>
          <a:p>
            <a:pPr marL="274320" indent="-27432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t is the ratio between the region length L and the distance D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between its 2 ends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L / 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is a ratio, with S &gt;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 = ((10*1.41)+(5*1))*1m = 19.1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= ((4*1.41)+(11*1))*1m = 16.64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 = 19.1 / 16.64 = 1.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99ff"/>
                </a:solidFill>
                <a:latin typeface="Arial"/>
              </a:rPr>
              <a:t>As these 2 terms L and D</a:t>
            </a:r>
            <a:r>
              <a:rPr b="1" lang="en-US" sz="1500" spc="-1" strike="noStrike" baseline="-25000">
                <a:solidFill>
                  <a:srgbClr val="6699ff"/>
                </a:solidFill>
                <a:latin typeface="Arial"/>
              </a:rPr>
              <a:t>df</a:t>
            </a:r>
            <a:r>
              <a:rPr b="1" lang="en-US" sz="1500" spc="-1" strike="noStrike">
                <a:solidFill>
                  <a:srgbClr val="6699ff"/>
                </a:solidFill>
                <a:latin typeface="Arial"/>
              </a:rPr>
              <a:t> use the same metric, the resulting value S is close to the one obtained in object mode (S = 1.14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38448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562720" y="53341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= 19.1 / 16.64 = 1.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564240" y="3146400"/>
            <a:ext cx="45720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400" spc="-1" strike="noStrike" baseline="-22000">
                <a:solidFill>
                  <a:srgbClr val="ff0000"/>
                </a:solidFill>
                <a:latin typeface="Arial"/>
              </a:rPr>
              <a:t>d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30064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02920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 rot="16200000">
            <a:off x="431748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5408640" y="20066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5408640" y="3301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540864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4784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7723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0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92648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51268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13348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810612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5475240" y="2004840"/>
            <a:ext cx="2603520" cy="2555640"/>
            <a:chOff x="5475240" y="2004840"/>
            <a:chExt cx="2603520" cy="2555640"/>
          </a:xfrm>
        </p:grpSpPr>
        <p:sp>
          <p:nvSpPr>
            <p:cNvPr id="1167" name=""/>
            <p:cNvSpPr/>
            <p:nvPr/>
          </p:nvSpPr>
          <p:spPr>
            <a:xfrm>
              <a:off x="5475240" y="200484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61492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742000" y="200484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6728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94360" y="200484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120000" y="200484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25968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386400" y="200484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51204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639120" y="200484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475240" y="21445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61492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42000" y="21445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86728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94360" y="2144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120000" y="21445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259680" y="21445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386400" y="2144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1204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639120" y="21445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475240" y="22698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61492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742000" y="22698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86728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994360" y="22698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120000" y="22698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259680" y="226980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386400" y="22698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51204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639120" y="22698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475240" y="239688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61492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742000" y="23968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86728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994360" y="239688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20000" y="239688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259680" y="23968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86400" y="239688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51204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639120" y="23968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475240" y="252216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61492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742000" y="252216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86728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994360" y="252216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120000" y="252216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259680" y="25221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386400" y="252216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1204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639120" y="252216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475240" y="264924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61492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742000" y="264924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6728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994360" y="264924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20000" y="264924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25968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386400" y="264924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51204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639120" y="264924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475240" y="278748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61492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742000" y="278748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86728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994360" y="278748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120000" y="278748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259680" y="278748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386400" y="278748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51204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639120" y="278748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475240" y="29142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61492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42000" y="29142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86728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994360" y="29142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120000" y="29142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259680" y="291420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386400" y="29142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51204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639120" y="29142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475240" y="304128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61492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42000" y="30412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86728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994360" y="304128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120000" y="304128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59680" y="3041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386400" y="304128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51204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639120" y="30412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475240" y="316692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61492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42000" y="316692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86728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994360" y="316692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120000" y="316692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259680" y="31669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86400" y="316692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1204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39120" y="316692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475240" y="329364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1492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42000" y="329364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86728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994360" y="329364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20000" y="329364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59680" y="329364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386400" y="329364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51204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639120" y="329364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475240" y="341928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61492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42000" y="34192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86728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994360" y="3419280"/>
              <a:ext cx="12564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120000" y="3419280"/>
              <a:ext cx="13968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259680" y="3419280"/>
              <a:ext cx="12672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86400" y="3419280"/>
              <a:ext cx="12564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51204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639120" y="34192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475240" y="35589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614920" y="35589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42000" y="35589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867280" y="3558960"/>
              <a:ext cx="127080" cy="12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994360" y="35589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120000" y="35589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59680" y="35589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386400" y="35589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512040" y="3558960"/>
              <a:ext cx="127080" cy="12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639120" y="35589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475240" y="36842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61492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42000" y="3684240"/>
              <a:ext cx="125280" cy="12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86728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994360" y="36842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120000" y="36842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59680" y="368424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86400" y="36842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51204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39120" y="3684240"/>
              <a:ext cx="125280" cy="12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76584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76584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76584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76584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76584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76584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76584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76584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76584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76584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76584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76584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765840" y="35589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6584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89292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89292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89292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89292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89292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89292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89292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89292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89292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89292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89292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89292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892920" y="35589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892920" y="3684240"/>
              <a:ext cx="127080" cy="12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020000" y="200484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020000" y="21445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020000" y="22698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020000" y="23968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020000" y="252216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020000" y="264924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020000" y="278748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020000" y="29142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020000" y="30412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020000" y="31669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020000" y="329364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020000" y="34192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020000" y="3558960"/>
              <a:ext cx="137880" cy="12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020000" y="36842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15788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15788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15788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15788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15788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15788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15788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15788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15788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15788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15788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15788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157880" y="3558960"/>
              <a:ext cx="127080" cy="12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15788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284960" y="200484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284960" y="2144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284960" y="22698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284960" y="239688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284960" y="252216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284960" y="264924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284960" y="278748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284960" y="29142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284960" y="304128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284960" y="316692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284960" y="329364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284960" y="3419280"/>
              <a:ext cx="12564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284960" y="35589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284960" y="36842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41060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410600" y="21445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410600" y="226980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410600" y="23968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410600" y="25221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41060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410600" y="278748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410600" y="291420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410600" y="3041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410600" y="31669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410600" y="329364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410600" y="3419280"/>
              <a:ext cx="12672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410600" y="35589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410600" y="368424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53732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53732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53732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53732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53732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53732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53732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53732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53732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53732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537320" y="3293640"/>
              <a:ext cx="127080" cy="12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53732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537320" y="35589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53732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475240" y="38113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61492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42000" y="38113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6728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994360" y="38113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120000" y="38113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259680" y="38113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386400" y="38113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51204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639120" y="38113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765840" y="3811320"/>
              <a:ext cx="127080" cy="12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89292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020000" y="38113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15788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284960" y="38113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410600" y="38113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3732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475240" y="39384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61492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742000" y="39384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6728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994360" y="39384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120000" y="39384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259680" y="39384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386400" y="39384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51204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639120" y="39384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76584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89292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020000" y="39384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15788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284960" y="39384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410600" y="39384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53732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475240" y="406512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61492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742000" y="40651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86728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94360" y="406512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120000" y="406512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59680" y="40651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386400" y="406512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51204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639120" y="40651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76584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89292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20000" y="40651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15788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284960" y="406512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410600" y="40651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53732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475240" y="41875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61492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742000" y="41875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86728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94360" y="4187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120000" y="41875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9680" y="41875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386400" y="4187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51204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639120" y="41875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76584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89292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020000" y="41875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15788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284960" y="4187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410600" y="41875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53732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475240" y="431280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61492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742000" y="431280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86728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994360" y="431280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120000" y="431280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59680" y="431280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86400" y="431280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51204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639120" y="431280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76584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89292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20000" y="431280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15788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284960" y="431280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410600" y="431280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53732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475240" y="44352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1492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742000" y="44352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86728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994360" y="44352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120000" y="44352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259680" y="4435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86400" y="44352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51204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639120" y="44352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76584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89292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020000" y="4435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15788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284960" y="44352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410600" y="4435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53732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664400" y="200484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664400" y="21445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664400" y="22698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664400" y="239688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664400" y="252216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664400" y="264924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664400" y="278748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664400" y="29142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664400" y="304128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664400" y="3166920"/>
              <a:ext cx="138240" cy="12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664400" y="329364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664400" y="341928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664400" y="35589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664400" y="36842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664400" y="38113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664400" y="39384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664400" y="40651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664400" y="41875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664400" y="431280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664400" y="44352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802640" y="200484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802640" y="21445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802640" y="22698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802640" y="23968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802640" y="252216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802640" y="264924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802640" y="278748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802640" y="29142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802640" y="30412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802640" y="31669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802640" y="329364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802640" y="34192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7802640" y="35589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7802640" y="36842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802640" y="38113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802640" y="39384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802640" y="40651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802640" y="41875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802640" y="431280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802640" y="4435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940520" y="200484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940520" y="21445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940520" y="22698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940520" y="239688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940520" y="252216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940520" y="264924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940520" y="278748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940520" y="29142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940520" y="304128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940520" y="316692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940520" y="329364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940520" y="341928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940520" y="35589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940520" y="36842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940520" y="38113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940520" y="39384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940520" y="40651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940520" y="41875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940520" y="431280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940520" y="44352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7" name=""/>
          <p:cNvGrpSpPr/>
          <p:nvPr/>
        </p:nvGrpSpPr>
        <p:grpSpPr>
          <a:xfrm>
            <a:off x="5823000" y="3232080"/>
            <a:ext cx="1904760" cy="533520"/>
            <a:chOff x="5823000" y="3232080"/>
            <a:chExt cx="1904760" cy="533520"/>
          </a:xfrm>
        </p:grpSpPr>
        <p:sp>
          <p:nvSpPr>
            <p:cNvPr id="1568" name=""/>
            <p:cNvSpPr/>
            <p:nvPr/>
          </p:nvSpPr>
          <p:spPr>
            <a:xfrm>
              <a:off x="5823000" y="3765600"/>
              <a:ext cx="219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189120" y="3613320"/>
              <a:ext cx="219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555600" y="3460680"/>
              <a:ext cx="366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68600" y="3384720"/>
              <a:ext cx="366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581600" y="3232080"/>
              <a:ext cx="146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V="1">
              <a:off x="6042600" y="3612960"/>
              <a:ext cx="1461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6409080" y="3460680"/>
              <a:ext cx="14652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7435080" y="3232080"/>
              <a:ext cx="1461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6922080" y="3384360"/>
              <a:ext cx="14616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5794200" y="3232080"/>
            <a:ext cx="1938240" cy="647280"/>
            <a:chOff x="5794200" y="3232080"/>
            <a:chExt cx="1938240" cy="647280"/>
          </a:xfrm>
        </p:grpSpPr>
        <p:sp>
          <p:nvSpPr>
            <p:cNvPr id="1578" name=""/>
            <p:cNvSpPr/>
            <p:nvPr/>
          </p:nvSpPr>
          <p:spPr>
            <a:xfrm flipV="1">
              <a:off x="5794200" y="3493800"/>
              <a:ext cx="257040" cy="26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051240" y="34891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432120" y="3489120"/>
              <a:ext cx="38124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61040" y="361296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V="1">
              <a:off x="7198920" y="3465360"/>
              <a:ext cx="15228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>
              <a:off x="7489440" y="3232080"/>
              <a:ext cx="24300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46520" y="346536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V="1">
              <a:off x="6808320" y="3612960"/>
              <a:ext cx="257400" cy="26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6" name=""/>
          <p:cNvSpPr/>
          <p:nvPr/>
        </p:nvSpPr>
        <p:spPr>
          <a:xfrm>
            <a:off x="6967440" y="36576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object: Orientation (direction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62268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 is the angle of the main direction of the chain with respect to the vertica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direction and the vertical cross at the Mean center (M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in dire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56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the same chain as in previous illustration, except its direction is diffe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495680" y="1752480"/>
            <a:ext cx="39974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234040" y="53341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6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526000" y="2276640"/>
            <a:ext cx="236232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348160" y="466416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089680" y="189396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H="1" rot="16200000">
            <a:off x="4450680" y="32572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84840" y="2133720"/>
            <a:ext cx="0" cy="2606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251760" y="3527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M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387840" y="46641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5456160" y="2274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5456160" y="3494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5456160" y="4637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52600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73884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88832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H="1">
            <a:off x="5961960" y="3114000"/>
            <a:ext cx="1506240" cy="1166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6048720" y="3893040"/>
            <a:ext cx="227520" cy="49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6307200" y="3853080"/>
            <a:ext cx="619200" cy="3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6926040" y="2928960"/>
            <a:ext cx="358920" cy="92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rot="19351800">
            <a:off x="6272280" y="385740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rot="19351800">
            <a:off x="6905520" y="38224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rot="19351800">
            <a:off x="6006960" y="432720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rot="19351800">
            <a:off x="7261200" y="287604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rot="19351800">
            <a:off x="6611400" y="3645000"/>
            <a:ext cx="152640" cy="152280"/>
          </a:xfrm>
          <a:custGeom>
            <a:avLst/>
            <a:gdLst>
              <a:gd name="textAreaLeft" fmla="*/ 63000 w 152640"/>
              <a:gd name="textAreaRight" fmla="*/ 89640 w 15264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467400" y="47131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555600" y="3432240"/>
            <a:ext cx="3052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09" y="185"/>
                </a:moveTo>
                <a:arcTo wR="10800" hR="10800" stAng="-6037365" swAng="6037365"/>
                <a:lnTo>
                  <a:pt x="10800" y="10800"/>
                </a:lnTo>
                <a:close/>
              </a:path>
              <a:path fill="none" w="21600" h="21600">
                <a:moveTo>
                  <a:pt x="8809" y="185"/>
                </a:moveTo>
                <a:arcTo wR="10800" hR="10800" stAng="-6037365" swAng="6037365"/>
              </a:path>
            </a:pathLst>
          </a:custGeom>
          <a:noFill/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753240" y="3230640"/>
            <a:ext cx="1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02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6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617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Individual properties of areal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nature and typ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44400" y="1676160"/>
            <a:ext cx="7966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n areal object is modeled as a geometrical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closen ch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polygon), it has 2 spatial dimensions (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2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 image mode the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areal regio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s made of a set  of contiguous cells having 2 spatial dimension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n areal feature can be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imp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made of a single polygon or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comple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made of several polygons (with inner or outer area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sl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: simple and compl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Arial"/>
              </a:rPr>
              <a:t>Simple areal obje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ject made of a single polygon (closed chain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Convex</a:t>
            </a: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       Concav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45080" y="1980720"/>
            <a:ext cx="38894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Arial"/>
              </a:rPr>
              <a:t>Complex areal obje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ject made of several polygons (closed chain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 object with inner and outer area (island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932040" y="5410080"/>
            <a:ext cx="5364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914400" y="56260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113480" y="484200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219320" y="533412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9" name=""/>
          <p:cNvGrpSpPr/>
          <p:nvPr/>
        </p:nvGrpSpPr>
        <p:grpSpPr>
          <a:xfrm>
            <a:off x="762120" y="3589200"/>
            <a:ext cx="1822320" cy="1220760"/>
            <a:chOff x="762120" y="3589200"/>
            <a:chExt cx="1822320" cy="1220760"/>
          </a:xfrm>
        </p:grpSpPr>
        <p:sp>
          <p:nvSpPr>
            <p:cNvPr id="1630" name=""/>
            <p:cNvSpPr/>
            <p:nvPr/>
          </p:nvSpPr>
          <p:spPr>
            <a:xfrm>
              <a:off x="797040" y="3629160"/>
              <a:ext cx="1752480" cy="1143000"/>
            </a:xfrm>
            <a:custGeom>
              <a:avLst/>
              <a:gdLst/>
              <a:ahLst/>
              <a:rect l="l" t="t" r="r" b="b"/>
              <a:pathLst>
                <a:path w="1104" h="720">
                  <a:moveTo>
                    <a:pt x="0" y="336"/>
                  </a:moveTo>
                  <a:lnTo>
                    <a:pt x="288" y="0"/>
                  </a:lnTo>
                  <a:lnTo>
                    <a:pt x="960" y="48"/>
                  </a:lnTo>
                  <a:lnTo>
                    <a:pt x="1104" y="672"/>
                  </a:lnTo>
                  <a:lnTo>
                    <a:pt x="480" y="720"/>
                  </a:lnTo>
                  <a:lnTo>
                    <a:pt x="0" y="3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222200" y="3589200"/>
              <a:ext cx="7488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62120" y="4121280"/>
              <a:ext cx="88920" cy="88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281320" y="3666960"/>
              <a:ext cx="82440" cy="8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22440" y="4734000"/>
              <a:ext cx="76320" cy="75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505240" y="4653000"/>
              <a:ext cx="79200" cy="79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3075120" y="3710160"/>
            <a:ext cx="914400" cy="106668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240"/>
                </a:moveTo>
                <a:lnTo>
                  <a:pt x="240" y="0"/>
                </a:lnTo>
                <a:lnTo>
                  <a:pt x="768" y="96"/>
                </a:lnTo>
                <a:lnTo>
                  <a:pt x="864" y="528"/>
                </a:lnTo>
                <a:lnTo>
                  <a:pt x="432" y="192"/>
                </a:lnTo>
                <a:lnTo>
                  <a:pt x="0" y="24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048120" y="414036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294000" y="367812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851280" y="38638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494160" y="4059360"/>
            <a:ext cx="7596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941640" y="47242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361680" y="484344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214960" y="4162320"/>
            <a:ext cx="175248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solidFill>
            <a:srgbClr val="cc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129360" y="4467240"/>
            <a:ext cx="457200" cy="3808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144"/>
                </a:moveTo>
                <a:lnTo>
                  <a:pt x="144" y="0"/>
                </a:lnTo>
                <a:lnTo>
                  <a:pt x="288" y="96"/>
                </a:lnTo>
                <a:lnTo>
                  <a:pt x="240" y="240"/>
                </a:lnTo>
                <a:lnTo>
                  <a:pt x="0" y="144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272360" y="4086360"/>
            <a:ext cx="685800" cy="9144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192"/>
                </a:moveTo>
                <a:lnTo>
                  <a:pt x="96" y="0"/>
                </a:lnTo>
                <a:lnTo>
                  <a:pt x="432" y="144"/>
                </a:lnTo>
                <a:lnTo>
                  <a:pt x="432" y="576"/>
                </a:lnTo>
                <a:lnTo>
                  <a:pt x="192" y="528"/>
                </a:lnTo>
                <a:lnTo>
                  <a:pt x="144" y="288"/>
                </a:lnTo>
                <a:lnTo>
                  <a:pt x="0" y="192"/>
                </a:lnTo>
                <a:close/>
              </a:path>
            </a:pathLst>
          </a:custGeom>
          <a:solidFill>
            <a:srgbClr val="cc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697800" y="41878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245360" y="434016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310440" y="443556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386480" y="40384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915320" y="425772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462800" y="450540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539120" y="4886280"/>
            <a:ext cx="759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924680" y="496260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181480" y="46576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634000" y="412416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929200" y="52624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919920" y="518652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086520" y="46576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462720" y="480996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553080" y="458136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419080" y="533412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990400" y="480060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400160" y="505944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individual properti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simple areal featur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will be discussed her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dividual geometric properties of an areal feature are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oc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osi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 siz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imeter, are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hap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compactne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Objet zonal: Location (position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40039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al and vertical position in the projected plane of its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Mean cen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MC), or so called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gravity ce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876560" y="1752480"/>
            <a:ext cx="361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5462640" y="53341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 = 256   Y = 137.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688080" y="5384880"/>
            <a:ext cx="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27760" y="5391000"/>
            <a:ext cx="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 flipH="1">
            <a:off x="5784480" y="3390840"/>
            <a:ext cx="1454040" cy="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183440" y="3378240"/>
            <a:ext cx="0" cy="1346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007400" y="30481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7224480" y="4692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554440" y="3092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107120" y="3314880"/>
            <a:ext cx="152640" cy="152280"/>
          </a:xfrm>
          <a:custGeom>
            <a:avLst/>
            <a:gdLst>
              <a:gd name="textAreaLeft" fmla="*/ 63000 w 152640"/>
              <a:gd name="textAreaRight" fmla="*/ 89640 w 15264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637240" y="314316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04040" y="4741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88040" y="2884320"/>
            <a:ext cx="175248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837400" y="2276640"/>
            <a:ext cx="236196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659560" y="466416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400720" y="189396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rot="16200000">
            <a:off x="4774680" y="32572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5767200" y="22748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H="1">
            <a:off x="5767200" y="34718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5767200" y="46371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83740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5024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819936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622920" y="28558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149880" y="2627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, 14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153120" y="337644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686720" y="29415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927840" y="40021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915320" y="39290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254720" y="27129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2, 14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697360" y="3554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, 138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416640" y="4054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5, 13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407360" y="39654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3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1" name=""/>
          <p:cNvGraphicFramePr/>
          <p:nvPr/>
        </p:nvGraphicFramePr>
        <p:xfrm>
          <a:off x="2614680" y="3657600"/>
          <a:ext cx="169380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4680" y="3657600"/>
                    <a:ext cx="16938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: Size (perimeter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15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t is the sum of length of the n segments composing the chain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: 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distance between the two segment i ends (vert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5402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5486400" y="53341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6.4+10+9+8.1+9.2 = 42.7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300720" y="305748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934320" y="2882880"/>
            <a:ext cx="328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467480" y="323064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0" name=""/>
          <p:cNvGraphicFramePr/>
          <p:nvPr/>
        </p:nvGraphicFramePr>
        <p:xfrm>
          <a:off x="1066680" y="4227480"/>
          <a:ext cx="3397320" cy="15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227480"/>
                    <a:ext cx="339732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2" name=""/>
          <p:cNvSpPr/>
          <p:nvPr/>
        </p:nvSpPr>
        <p:spPr>
          <a:xfrm>
            <a:off x="6111720" y="2884320"/>
            <a:ext cx="175284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761080" y="2276640"/>
            <a:ext cx="236232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583240" y="466416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324400" y="189396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H="1" rot="16200000">
            <a:off x="4698360" y="32572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H="1">
            <a:off x="5691240" y="2274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5691240" y="3471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H="1">
            <a:off x="5691240" y="4637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76108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97392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812340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546960" y="28558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073920" y="2627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, 14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6076800" y="337644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610400" y="29415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851520" y="40021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839000" y="39290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178760" y="27129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2, 14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5621400" y="3554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, 138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340320" y="4054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5, 13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31040" y="39654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3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162920" y="3689280"/>
            <a:ext cx="328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6423120" y="350532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: Size (perimeter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The perimeter can be evaluated with 2 different techniques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ernal perimeter of the region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(envelop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ircase effect using “Manhattan dista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atic over estimation of the peri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gth of the linear region edg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(linear perimeter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staircase effect by taking the diagonal distance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estimation of the perimeter with a too coarse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se two estimation are dependant on the </a:t>
            </a: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metric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used and the grid </a:t>
            </a: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re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: Size (perimeter of the envelop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sum of length of the n cell sides bounding the reg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tric distance is often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alled Manhatt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rdstick: side = 1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a grid with 1m resolution (unit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= (50*1)*1m = 5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In image mode, the use of  this metric tends to over estimate the measure of perimeter (see estimation in object mode: L = 42.7m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5281560" y="533412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(50*1)*1m = 50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30064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02920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 rot="16200000">
            <a:off x="431748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H="1">
            <a:off x="5408640" y="20066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H="1">
            <a:off x="5408640" y="3301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 flipH="1">
            <a:off x="540864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4784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7723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80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92648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51268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13348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10612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5477040" y="2016000"/>
            <a:ext cx="2599920" cy="2544480"/>
            <a:chOff x="5477040" y="2016000"/>
            <a:chExt cx="2599920" cy="2544480"/>
          </a:xfrm>
        </p:grpSpPr>
        <p:grpSp>
          <p:nvGrpSpPr>
            <p:cNvPr id="1755" name=""/>
            <p:cNvGrpSpPr/>
            <p:nvPr/>
          </p:nvGrpSpPr>
          <p:grpSpPr>
            <a:xfrm>
              <a:off x="5477040" y="2016000"/>
              <a:ext cx="2599920" cy="2544480"/>
              <a:chOff x="5477040" y="2016000"/>
              <a:chExt cx="2599920" cy="2544480"/>
            </a:xfrm>
          </p:grpSpPr>
          <p:sp>
            <p:nvSpPr>
              <p:cNvPr id="1756" name=""/>
              <p:cNvSpPr/>
              <p:nvPr/>
            </p:nvSpPr>
            <p:spPr>
              <a:xfrm>
                <a:off x="5477040" y="201600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6163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574272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86800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99472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19640" y="201600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625932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385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510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637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477040" y="21542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6163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74272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86800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599472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119640" y="21542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25932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385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510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6637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477040" y="2279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56163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574272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586800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99472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6119640" y="2279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625932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6385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6510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637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477040" y="240444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6163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74272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86800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99472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119640" y="240444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25932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385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510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637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477040" y="252792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6163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74272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86800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99472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119640" y="252792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25932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385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510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637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477040" y="2654640"/>
                <a:ext cx="1393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61636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742720" y="2654640"/>
                <a:ext cx="1249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86800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994720" y="2654640"/>
                <a:ext cx="1249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119640" y="2654640"/>
                <a:ext cx="1393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477040" y="279144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61636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742720" y="279144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86800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994720" y="279144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5477040" y="2918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616360" y="2918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742720" y="2918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868000" y="2918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994720" y="2918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5477040" y="30434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616360" y="30434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742720" y="30434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5868000" y="30434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477040" y="3168360"/>
                <a:ext cx="13932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616360" y="3168360"/>
                <a:ext cx="12636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5742720" y="3168360"/>
                <a:ext cx="12492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5477040" y="32932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5616360" y="32932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742720" y="32932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868000" y="32932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5477040" y="341856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5616360" y="341856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5742720" y="341856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5868000" y="341856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5994720" y="341856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5477040" y="35568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561636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5742720" y="35568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86800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994720" y="35568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119640" y="35568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25932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5477040" y="3680640"/>
                <a:ext cx="1393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561636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574272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86800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99472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119640" y="3680640"/>
                <a:ext cx="1393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25932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38568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76764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76764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676764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76764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76764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8943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8943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8943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8943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68943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02072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02072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02072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02072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02072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158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158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158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158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158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285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285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285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285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285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41060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41060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41060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41060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41060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536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536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536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536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536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53696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53696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477040" y="38070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6163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74272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86800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99472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119640" y="38070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25932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38568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510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02072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158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28568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41060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536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477040" y="392832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163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74272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86800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599472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119640" y="392832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25932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6385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510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6637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76764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8943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02072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158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285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41060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536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477040" y="405756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6163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74272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86800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99472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119640" y="405756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25932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385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510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637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76764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8943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02072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158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285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41060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536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477040" y="41824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6163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74272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86800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599472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119640" y="41824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25932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385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6510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6637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76764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8943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02072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158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285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41060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536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477040" y="430776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6163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74272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86800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99472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119640" y="430776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25932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385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510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637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76764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8943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02072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158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285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41060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536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5477040" y="443664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6163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74272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586800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99472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119640" y="443664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25932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6385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6510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6637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676764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68943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02072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158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285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41060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536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66368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66368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66368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66368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66368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663680" y="2654640"/>
                <a:ext cx="13824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663680" y="279144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663680" y="2918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663680" y="30434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663680" y="3168360"/>
                <a:ext cx="13824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663680" y="32932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00" name=""/>
              <p:cNvGrpSpPr/>
              <p:nvPr/>
            </p:nvGrpSpPr>
            <p:grpSpPr>
              <a:xfrm>
                <a:off x="5868000" y="2654640"/>
                <a:ext cx="1925640" cy="1275840"/>
                <a:chOff x="5868000" y="2654640"/>
                <a:chExt cx="1925640" cy="1275840"/>
              </a:xfrm>
            </p:grpSpPr>
            <p:sp>
              <p:nvSpPr>
                <p:cNvPr id="2001" name=""/>
                <p:cNvSpPr/>
                <p:nvPr/>
              </p:nvSpPr>
              <p:spPr>
                <a:xfrm>
                  <a:off x="625932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638568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651060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663732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6119640" y="2791080"/>
                  <a:ext cx="1393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625932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638568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651060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663732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6119640" y="291780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625932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638568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51060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63732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99436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119640" y="304308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25932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38568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51060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63732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800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9436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19640" y="3168360"/>
                  <a:ext cx="1393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5932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8568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51060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63732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599436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119640" y="329292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25932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638568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651060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663732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6119640" y="3418200"/>
                  <a:ext cx="1393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625932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638568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651060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663732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638568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651060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663732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651060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6637320" y="3680280"/>
                  <a:ext cx="12492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675972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675972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675972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675972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675972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675972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675972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675972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675972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688644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688644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68864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68864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68864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68864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68864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68864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68864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7012800" y="2654640"/>
                  <a:ext cx="13824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7012800" y="2791080"/>
                  <a:ext cx="13824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7012800" y="291780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7012800" y="304308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7012800" y="3168360"/>
                  <a:ext cx="13824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7012800" y="329292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7012800" y="3418200"/>
                  <a:ext cx="13824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7012800" y="3556440"/>
                  <a:ext cx="13824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7012800" y="3680280"/>
                  <a:ext cx="13824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715104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715104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71510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71510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71510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71510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71510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71510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71510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727776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727776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727776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727776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727776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727776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727776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727776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7277760" y="3680280"/>
                  <a:ext cx="12492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740268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740268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740268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740268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740268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740268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740268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740268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740268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75290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75290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75290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75290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75290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75290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75290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6637320" y="38066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6759720" y="38066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6886440" y="38066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7655400" y="3418200"/>
                  <a:ext cx="13824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7655400" y="3556440"/>
                  <a:ext cx="13824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7655400" y="3680280"/>
                  <a:ext cx="13824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1" name=""/>
              <p:cNvSpPr/>
              <p:nvPr/>
            </p:nvSpPr>
            <p:spPr>
              <a:xfrm>
                <a:off x="766368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766368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766368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766368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766368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766368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801920" y="2016000"/>
                <a:ext cx="13680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801920" y="215424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801920" y="227916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801920" y="240444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7801920" y="2527920"/>
                <a:ext cx="13680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7801920" y="2654640"/>
                <a:ext cx="13680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7801920" y="2791440"/>
                <a:ext cx="13680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801920" y="291816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7801920" y="304344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7801920" y="3168360"/>
                <a:ext cx="13680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801920" y="329328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7801920" y="3418560"/>
                <a:ext cx="13680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801920" y="355680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801920" y="3680640"/>
                <a:ext cx="13680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801920" y="380700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801920" y="392832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801920" y="405756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801920" y="418248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7801920" y="430776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7801920" y="443664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93872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93872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93872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93872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793872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938720" y="2654640"/>
                <a:ext cx="13824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938720" y="279144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938720" y="2918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938720" y="30434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7938720" y="3168360"/>
                <a:ext cx="13824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7938720" y="32932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938720" y="341856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938720" y="35568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938720" y="3680640"/>
                <a:ext cx="13824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93872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93872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793872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93872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93872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93872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7" name=""/>
            <p:cNvSpPr/>
            <p:nvPr/>
          </p:nvSpPr>
          <p:spPr>
            <a:xfrm>
              <a:off x="5878800" y="3169800"/>
              <a:ext cx="12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>
              <a:off x="6005160" y="304344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005160" y="304344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>
              <a:off x="6131520" y="2790360"/>
              <a:ext cx="0" cy="25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131520" y="279036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6266160" y="265608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266160" y="2656080"/>
              <a:ext cx="126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526520" y="2664000"/>
              <a:ext cx="0" cy="2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526520" y="291672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656840" y="2916720"/>
              <a:ext cx="0" cy="50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661160" y="342252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791480" y="3422520"/>
              <a:ext cx="0" cy="37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7028280" y="3801960"/>
              <a:ext cx="75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024680" y="380196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>
              <a:off x="6645240" y="392832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V="1">
              <a:off x="6645600" y="380196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>
              <a:off x="6518520" y="3801960"/>
              <a:ext cx="12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V="1">
              <a:off x="6518880" y="3674880"/>
              <a:ext cx="0" cy="12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6392520" y="367524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V="1">
              <a:off x="6392520" y="354888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H="1">
              <a:off x="6135480" y="3548880"/>
              <a:ext cx="2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V="1">
              <a:off x="6131520" y="342252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H="1">
              <a:off x="6005160" y="341856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V="1">
              <a:off x="6005160" y="3295800"/>
              <a:ext cx="0" cy="12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>
              <a:off x="5878440" y="3292200"/>
              <a:ext cx="12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 flipV="1">
              <a:off x="5878800" y="316980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: Size (linear perimeter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sum of length of the n cells bounding the region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tric uses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2 yardstic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gonal = 1.41 unit, side = 1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a grid with 1m resolution (unit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=1.41+1.41+1+1.41+1+1+1+1+1+1+1+1+1+1+1.41+1+1+1+1.41+1+1+1+1+1+1+1+1.41+1+1+1.41+1.41+1.41+1+1.41+1.4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 = ((11*1.41)+(24*1))*1m = 39.51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The estimation of perimeter using this technique is close to the one in object mode (L = 42.7m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5105520" y="53341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((11*1.41)+(24*1))*1m = 39.51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30064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02920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H="1" rot="16200000">
            <a:off x="431748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5408640" y="20066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 flipH="1">
            <a:off x="5408640" y="3301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 flipH="1">
            <a:off x="540864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784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7723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80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92648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51268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813348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810612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5477040" y="2016000"/>
            <a:ext cx="2599920" cy="2544480"/>
            <a:chOff x="5477040" y="2016000"/>
            <a:chExt cx="2599920" cy="2544480"/>
          </a:xfrm>
        </p:grpSpPr>
        <p:grpSp>
          <p:nvGrpSpPr>
            <p:cNvPr id="2201" name=""/>
            <p:cNvGrpSpPr/>
            <p:nvPr/>
          </p:nvGrpSpPr>
          <p:grpSpPr>
            <a:xfrm>
              <a:off x="5477040" y="2016000"/>
              <a:ext cx="2599920" cy="2544480"/>
              <a:chOff x="5477040" y="2016000"/>
              <a:chExt cx="2599920" cy="2544480"/>
            </a:xfrm>
          </p:grpSpPr>
          <p:sp>
            <p:nvSpPr>
              <p:cNvPr id="2202" name=""/>
              <p:cNvSpPr/>
              <p:nvPr/>
            </p:nvSpPr>
            <p:spPr>
              <a:xfrm>
                <a:off x="5477040" y="201600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163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4272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86800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99472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6119640" y="201600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625932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6385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510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637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477040" y="21542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163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4272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86800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99472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119640" y="21542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25932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85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510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637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477040" y="2279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6163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74272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86800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99472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119640" y="2279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25932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85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510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637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5477040" y="240444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6163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574272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586800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599472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119640" y="240444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25932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385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510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637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5477040" y="252792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6163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74272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86800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99472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119640" y="252792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25932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6385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510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6637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5477040" y="2654640"/>
                <a:ext cx="1393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61636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742720" y="2654640"/>
                <a:ext cx="1249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586800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5994720" y="2654640"/>
                <a:ext cx="1249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119640" y="2654640"/>
                <a:ext cx="1393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5477040" y="279144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561636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742720" y="279144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586800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994720" y="279144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477040" y="2918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616360" y="2918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742720" y="2918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5868000" y="2918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5994720" y="2918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477040" y="30434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5616360" y="30434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5742720" y="30434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5868000" y="30434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477040" y="3168360"/>
                <a:ext cx="13932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5616360" y="3168360"/>
                <a:ext cx="12636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742720" y="3168360"/>
                <a:ext cx="12492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5477040" y="32932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616360" y="32932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5742720" y="32932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5868000" y="32932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5477040" y="341856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5616360" y="341856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742720" y="341856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868000" y="341856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5994720" y="341856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5477040" y="35568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561636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5742720" y="35568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586800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5994720" y="35568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119640" y="35568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25932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5477040" y="3680640"/>
                <a:ext cx="1393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561636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574272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586800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599472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119640" y="3680640"/>
                <a:ext cx="1393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25932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38568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76764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76764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76764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76764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76764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8943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8943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8943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8943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8943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02072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02072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02072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02072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02072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158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158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158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158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158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285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285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285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285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285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41060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41060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41060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41060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41060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536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536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536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536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536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53696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53696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477040" y="38070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56163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574272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586800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599472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119640" y="38070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25932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638568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6510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02072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158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28568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41060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536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5477040" y="392832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56163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574272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86800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99472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6119640" y="392832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625932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6385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6510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637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676764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68943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02072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158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285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41060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536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477040" y="405756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56163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574272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586800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599472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119640" y="405756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25932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385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6510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637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676764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68943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02072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158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285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41060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536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477040" y="41824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163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74272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86800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99472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119640" y="41824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25932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385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510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637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76764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8943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02072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158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285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41060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536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477040" y="430776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163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4272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86800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99472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119640" y="430776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625932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6385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6510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6637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76764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8943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02072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158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285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41060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536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477040" y="443664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6163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74272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86800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99472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119640" y="443664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25932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6385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510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6637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676764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8943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02072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158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285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41060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536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66368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66368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66368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66368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66368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663680" y="2654640"/>
                <a:ext cx="13824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663680" y="279144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663680" y="2918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7663680" y="30434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663680" y="3168360"/>
                <a:ext cx="13824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663680" y="32932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46" name=""/>
              <p:cNvGrpSpPr/>
              <p:nvPr/>
            </p:nvGrpSpPr>
            <p:grpSpPr>
              <a:xfrm>
                <a:off x="5868000" y="2654640"/>
                <a:ext cx="1925640" cy="1275840"/>
                <a:chOff x="5868000" y="2654640"/>
                <a:chExt cx="1925640" cy="1275840"/>
              </a:xfrm>
            </p:grpSpPr>
            <p:sp>
              <p:nvSpPr>
                <p:cNvPr id="2447" name=""/>
                <p:cNvSpPr/>
                <p:nvPr/>
              </p:nvSpPr>
              <p:spPr>
                <a:xfrm>
                  <a:off x="625932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638568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651060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663732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6119640" y="2791080"/>
                  <a:ext cx="1393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625932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638568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651060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663732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6119640" y="291780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625932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638568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651060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663732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599436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6119640" y="304308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625932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638568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651060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663732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586800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599436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6119640" y="3168360"/>
                  <a:ext cx="1393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625932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638568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651060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663732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599436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6119640" y="329292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625932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638568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651060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663732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6119640" y="3418200"/>
                  <a:ext cx="1393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625932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638568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651060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663732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638568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651060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663732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651060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6637320" y="3680280"/>
                  <a:ext cx="12492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675972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675972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675972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675972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675972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675972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675972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675972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675972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688644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688644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68864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68864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68864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68864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68864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68864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68864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7012800" y="2654640"/>
                  <a:ext cx="13824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7012800" y="2791080"/>
                  <a:ext cx="13824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7012800" y="291780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7012800" y="304308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7012800" y="3168360"/>
                  <a:ext cx="13824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7012800" y="329292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7012800" y="3418200"/>
                  <a:ext cx="13824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7012800" y="3556440"/>
                  <a:ext cx="13824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7012800" y="3680280"/>
                  <a:ext cx="13824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715104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715104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71510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71510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71510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71510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71510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71510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71510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727776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727776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727776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727776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727776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727776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727776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727776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7277760" y="3680280"/>
                  <a:ext cx="12492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740268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740268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740268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740268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740268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740268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740268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740268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740268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75290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75290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75290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75290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75290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75290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75290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6637320" y="38066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6759720" y="38066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6886440" y="38066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7655400" y="3418200"/>
                  <a:ext cx="13824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7655400" y="3556440"/>
                  <a:ext cx="13824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7655400" y="3680280"/>
                  <a:ext cx="13824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7" name=""/>
              <p:cNvSpPr/>
              <p:nvPr/>
            </p:nvSpPr>
            <p:spPr>
              <a:xfrm>
                <a:off x="766368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66368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66368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766368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66368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66368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801920" y="2016000"/>
                <a:ext cx="13680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7801920" y="215424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7801920" y="227916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7801920" y="240444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7801920" y="2527920"/>
                <a:ext cx="13680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7801920" y="2654640"/>
                <a:ext cx="13680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7801920" y="2791440"/>
                <a:ext cx="13680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7801920" y="291816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7801920" y="304344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7801920" y="3168360"/>
                <a:ext cx="13680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7801920" y="329328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7801920" y="3418560"/>
                <a:ext cx="13680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7801920" y="355680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7801920" y="3680640"/>
                <a:ext cx="13680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7801920" y="380700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7801920" y="392832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7801920" y="405756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7801920" y="418248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7801920" y="430776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7801920" y="443664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793872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793872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793872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793872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793872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938720" y="2654640"/>
                <a:ext cx="13824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7938720" y="279144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7938720" y="2918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7938720" y="30434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7938720" y="3168360"/>
                <a:ext cx="13824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7938720" y="32932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7938720" y="341856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7938720" y="35568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7938720" y="3680640"/>
                <a:ext cx="13824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93872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793872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793872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793872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93872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93872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3" name=""/>
            <p:cNvGrpSpPr/>
            <p:nvPr/>
          </p:nvGrpSpPr>
          <p:grpSpPr>
            <a:xfrm>
              <a:off x="5934960" y="2723040"/>
              <a:ext cx="1770480" cy="1137960"/>
              <a:chOff x="5934960" y="2723040"/>
              <a:chExt cx="1770480" cy="1137960"/>
            </a:xfrm>
          </p:grpSpPr>
          <p:sp>
            <p:nvSpPr>
              <p:cNvPr id="2604" name=""/>
              <p:cNvSpPr/>
              <p:nvPr/>
            </p:nvSpPr>
            <p:spPr>
              <a:xfrm flipV="1">
                <a:off x="5935320" y="3102120"/>
                <a:ext cx="126000" cy="12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061320" y="3102120"/>
                <a:ext cx="12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V="1">
                <a:off x="6187680" y="2849040"/>
                <a:ext cx="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 flipV="1">
                <a:off x="6187680" y="2723040"/>
                <a:ext cx="126360" cy="12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6314400" y="2723040"/>
                <a:ext cx="1137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7452720" y="2723040"/>
                <a:ext cx="0" cy="12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452720" y="2849040"/>
                <a:ext cx="126000" cy="12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579080" y="2975400"/>
                <a:ext cx="0" cy="37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579080" y="3354840"/>
                <a:ext cx="126000" cy="12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705440" y="3481560"/>
                <a:ext cx="0" cy="25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7072920" y="3734280"/>
                <a:ext cx="63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H="1">
                <a:off x="6946200" y="3734280"/>
                <a:ext cx="126360" cy="12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>
                <a:off x="6693480" y="3861000"/>
                <a:ext cx="25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314040" y="3481200"/>
                <a:ext cx="379080" cy="37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187320" y="3481560"/>
                <a:ext cx="12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 flipV="1">
                <a:off x="5934960" y="3228480"/>
                <a:ext cx="25236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: Size (area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There are several techniques to estimate the area of an objec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non generaliz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features (eg. features manually delineated on a map or an image)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or regula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point sampl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nwin D., 1981, p.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ing objects are already generalized into polygons, this technique will not be discusse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areal objects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numerically described wi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polygo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for a GDB in object mode)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breaking up into triang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breaking up into rectangles (computer algorith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scription of spatial properties (1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6699ff"/>
                </a:solidFill>
                <a:latin typeface="Arial"/>
              </a:rPr>
              <a:t>Production of indices describing spatial propertie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dividual spatial propertie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Geometr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location, size, sha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arrangement of features (pattern)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Spatial relationship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distribution, neighborhood, proxim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istinction between object mode and image mode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ct mode: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units of observa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re features (objec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age mode :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region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re featu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6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: Size (area) - split into triangl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15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area of polygon A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s the sum of areas of its composing triangles A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: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(B*h) / 2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the basis and h the h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5402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5334120" y="5334120"/>
            <a:ext cx="3047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26.82+55.82+36.9 = 119.54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26" name=""/>
          <p:cNvGraphicFramePr/>
          <p:nvPr/>
        </p:nvGraphicFramePr>
        <p:xfrm>
          <a:off x="1066680" y="4229280"/>
          <a:ext cx="3124440" cy="10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229280"/>
                    <a:ext cx="3124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8" name=""/>
          <p:cNvSpPr/>
          <p:nvPr/>
        </p:nvSpPr>
        <p:spPr>
          <a:xfrm>
            <a:off x="6111720" y="2884320"/>
            <a:ext cx="175284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5761080" y="2276640"/>
            <a:ext cx="236232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5583240" y="466416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5324400" y="189396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 flipH="1" rot="16200000">
            <a:off x="4698360" y="32572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 flipH="1">
            <a:off x="5691240" y="2274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 flipH="1">
            <a:off x="5691240" y="3471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 flipH="1">
            <a:off x="5691240" y="4637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576108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697392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812340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6546960" y="28558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6068880" y="337644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7610400" y="29415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6851520" y="40021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7839000" y="39290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6657840" y="2914560"/>
            <a:ext cx="3812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 flipV="1">
            <a:off x="6110280" y="2971800"/>
            <a:ext cx="152388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 flipH="1">
            <a:off x="6876720" y="2967120"/>
            <a:ext cx="762120" cy="1066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6781680" y="3336840"/>
            <a:ext cx="3812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7086600" y="3718080"/>
            <a:ext cx="3808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6570720" y="2872800"/>
            <a:ext cx="98280" cy="398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6691680" y="3250080"/>
            <a:ext cx="191160" cy="776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7236000" y="3548880"/>
            <a:ext cx="620640" cy="401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1143000" y="5486400"/>
            <a:ext cx="304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26.82+55.82+36.9 = 119.54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09480" y="968040"/>
            <a:ext cx="796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: Size (area) - split into rectangl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15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Arial"/>
              </a:rPr>
              <a:t>This technique is adapted for a numerical vector structure (GD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uming polygon vertices are sequentially describ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clockwi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rom a given starting poin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0.5 *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5402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486400" y="533412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= 0.5 * 239 = 119.5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7" name=""/>
          <p:cNvGraphicFramePr/>
          <p:nvPr/>
        </p:nvGraphicFramePr>
        <p:xfrm>
          <a:off x="1066680" y="4229280"/>
          <a:ext cx="2295720" cy="123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229280"/>
                    <a:ext cx="229572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9" name=""/>
          <p:cNvSpPr/>
          <p:nvPr/>
        </p:nvSpPr>
        <p:spPr>
          <a:xfrm>
            <a:off x="6111720" y="2884320"/>
            <a:ext cx="175284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5761080" y="2276640"/>
            <a:ext cx="236232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5583240" y="466416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5324400" y="189396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 flipH="1" rot="16200000">
            <a:off x="4698360" y="32572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 flipH="1">
            <a:off x="5691240" y="2274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 flipH="1">
            <a:off x="5691240" y="3471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 flipH="1">
            <a:off x="5691240" y="4637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576108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697392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812340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6546960" y="28558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6073920" y="2627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, 14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6076800" y="337644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7610400" y="29415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6851520" y="40021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7839000" y="39290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7178760" y="27129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2, 14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5621400" y="3554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, 138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6340320" y="4054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5, 13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7331040" y="39654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3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066680" y="5562720"/>
            <a:ext cx="264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= 0.5 * 239 = 119.5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6248520" y="3276720"/>
            <a:ext cx="15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6553080" y="2895480"/>
            <a:ext cx="15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7467480" y="298116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7620120" y="3718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6781680" y="37656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: Size (area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sum of areas of cells composing the reg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n *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tant for the n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a grid with 1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solution (unité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110 * 1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110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In image mode, estimation of the the area is close to the one in object mode: (A = 119.5m</a:t>
            </a:r>
            <a:r>
              <a:rPr b="1" lang="en-US" sz="1400" spc="-1" strike="noStrike" baseline="30000">
                <a:solidFill>
                  <a:srgbClr val="6699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530064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502920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 flipH="1" rot="16200000">
            <a:off x="431748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 flipH="1">
            <a:off x="5408640" y="20066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 flipH="1">
            <a:off x="5408640" y="3301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 flipH="1">
            <a:off x="540864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54784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67723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80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792648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551268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813348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810612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2" name=""/>
          <p:cNvGrpSpPr/>
          <p:nvPr/>
        </p:nvGrpSpPr>
        <p:grpSpPr>
          <a:xfrm>
            <a:off x="5478480" y="2008080"/>
            <a:ext cx="2598840" cy="2550960"/>
            <a:chOff x="5478480" y="2008080"/>
            <a:chExt cx="2598840" cy="2550960"/>
          </a:xfrm>
        </p:grpSpPr>
        <p:sp>
          <p:nvSpPr>
            <p:cNvPr id="2703" name=""/>
            <p:cNvSpPr/>
            <p:nvPr/>
          </p:nvSpPr>
          <p:spPr>
            <a:xfrm>
              <a:off x="5478480" y="200808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561816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745240" y="20080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87052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997600" y="200808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123240" y="200808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262920" y="20080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389640" y="200808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51528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642360" y="20080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478480" y="21477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61816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745240" y="2147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87052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997600" y="21477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123240" y="21477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262920" y="21477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389640" y="21477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51528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642360" y="2147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478480" y="22730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61816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745240" y="22730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87052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997600" y="22730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123240" y="22730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262920" y="227304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389640" y="22730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51528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642360" y="22730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478480" y="24001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61816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745240" y="24001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87052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997600" y="24001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123240" y="24001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262920" y="24001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389640" y="24001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51528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642360" y="24001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478480" y="25254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61816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745240" y="25254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87052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997600" y="25254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123240" y="25254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6262920" y="252540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6389640" y="25254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651528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642360" y="25254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478480" y="265248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618160" y="265248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745240" y="265248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870520" y="265248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997600" y="265248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123240" y="265248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262920" y="2652480"/>
              <a:ext cx="12672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389640" y="2652480"/>
              <a:ext cx="12564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515280" y="2652480"/>
              <a:ext cx="1270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642360" y="2652480"/>
              <a:ext cx="1252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478480" y="279072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618160" y="27907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745240" y="279072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5870520" y="27907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997600" y="279072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123240" y="2790720"/>
              <a:ext cx="1396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262920" y="2790720"/>
              <a:ext cx="12672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389640" y="2790720"/>
              <a:ext cx="12564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515280" y="279072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6642360" y="2790720"/>
              <a:ext cx="1252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5478480" y="29174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618160" y="29174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745240" y="29174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5870520" y="29174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5997600" y="29174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123240" y="2917440"/>
              <a:ext cx="1396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262920" y="2917440"/>
              <a:ext cx="12672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389640" y="2917440"/>
              <a:ext cx="12564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51528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642360" y="291744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478480" y="304452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618160" y="30445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5745240" y="30445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5870520" y="30445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997600" y="3044520"/>
              <a:ext cx="12564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123240" y="3044520"/>
              <a:ext cx="1396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262920" y="3044520"/>
              <a:ext cx="1267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389640" y="3044520"/>
              <a:ext cx="12564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51528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642360" y="3044520"/>
              <a:ext cx="1252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478480" y="317016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618160" y="31701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745240" y="31701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587052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997600" y="3170160"/>
              <a:ext cx="12564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123240" y="3170160"/>
              <a:ext cx="1396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262920" y="3170160"/>
              <a:ext cx="12672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389640" y="3170160"/>
              <a:ext cx="12564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51528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642360" y="3170160"/>
              <a:ext cx="1252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478480" y="329688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618160" y="32968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5745240" y="32968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870520" y="32968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997600" y="3296880"/>
              <a:ext cx="12564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6123240" y="3296880"/>
              <a:ext cx="1396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262920" y="3296880"/>
              <a:ext cx="1267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389640" y="3296880"/>
              <a:ext cx="12564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51528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642360" y="3296880"/>
              <a:ext cx="1252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478480" y="342252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5618160" y="34225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5745240" y="342252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5870520" y="34225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5997600" y="342252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6123240" y="3422520"/>
              <a:ext cx="1396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262920" y="3422520"/>
              <a:ext cx="12672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389640" y="3422520"/>
              <a:ext cx="12564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51528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642360" y="3422520"/>
              <a:ext cx="1252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478480" y="35622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618160" y="3562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5745240" y="35622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870520" y="3562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997600" y="35622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6123240" y="35622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6262920" y="3562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6389640" y="3562200"/>
              <a:ext cx="12564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651528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6642360" y="3562200"/>
              <a:ext cx="1252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5478480" y="36874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5618160" y="36874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5745240" y="36874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870520" y="36874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997600" y="36874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6123240" y="36874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262920" y="36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389640" y="36874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51528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6642360" y="368748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76440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76440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76440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76440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676440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764400" y="2652480"/>
              <a:ext cx="1270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6764400" y="279072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76440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76440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676440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676440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76440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76440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76440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689148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89148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689148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89148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9148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891480" y="2652480"/>
              <a:ext cx="1270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891480" y="279072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89148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89148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89148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89148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89148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89148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89148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018560" y="20080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018560" y="21477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018560" y="22730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018560" y="24001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018560" y="25254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018560" y="2652480"/>
              <a:ext cx="1378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018560" y="2790720"/>
              <a:ext cx="1378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018560" y="2917440"/>
              <a:ext cx="1378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018560" y="3044520"/>
              <a:ext cx="1378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018560" y="3170160"/>
              <a:ext cx="1378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018560" y="3296880"/>
              <a:ext cx="1378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018560" y="3422520"/>
              <a:ext cx="1378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018560" y="3562200"/>
              <a:ext cx="1378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018560" y="3687480"/>
              <a:ext cx="1378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15644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715644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15644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715644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715644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156440" y="2652480"/>
              <a:ext cx="1270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7156440" y="279072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715644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15644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715644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715644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715644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715644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715644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7283520" y="20080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283520" y="2147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283520" y="22730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283520" y="24001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283520" y="25254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283520" y="2652480"/>
              <a:ext cx="1252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283520" y="2790720"/>
              <a:ext cx="1252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7283520" y="291744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7283520" y="3044520"/>
              <a:ext cx="1252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7283520" y="3170160"/>
              <a:ext cx="1252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7283520" y="3296880"/>
              <a:ext cx="1252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7283520" y="3422520"/>
              <a:ext cx="1252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283520" y="3562200"/>
              <a:ext cx="1252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7283520" y="368748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740880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40880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740880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40880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40880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408800" y="2652480"/>
              <a:ext cx="1270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408800" y="279072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40880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40880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40880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40880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40880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40880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40880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53588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53588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53588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53588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53588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535880" y="265248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535880" y="27907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53588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53588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53588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53588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53588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53588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53588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5478480" y="38145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561816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5745240" y="38145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587052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5997600" y="38145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6123240" y="38145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6262920" y="38145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6389640" y="38145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51528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642360" y="3814560"/>
              <a:ext cx="1252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764400" y="381456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891480" y="381456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018560" y="38145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15644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7283520" y="38145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40880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53588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5478480" y="393660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561816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5745240" y="393660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587052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997600" y="393660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6123240" y="393660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262920" y="393660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6389640" y="393660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651528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642360" y="393660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76440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689148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018560" y="393660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15644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283520" y="393660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40880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53588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5478480" y="4059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561816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5745240" y="4059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87052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5997600" y="4059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123240" y="4059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262920" y="4059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6389640" y="4059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51528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6642360" y="4059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76440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89148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018560" y="4059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15644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283520" y="4059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40880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53588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5478480" y="418608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61816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745240" y="41860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587052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997600" y="418608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6123240" y="418608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6262920" y="41860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389640" y="418608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651528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6642360" y="41860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76440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89148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018560" y="41860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15644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283520" y="41860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40880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53588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478480" y="43113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561816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5745240" y="4311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587052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5997600" y="43113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123240" y="43113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262920" y="43113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389640" y="43113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51528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642360" y="4311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76440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89148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7018560" y="43113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15644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7283520" y="4311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740880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53588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478480" y="44337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561816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5745240" y="4433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87052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5997600" y="44337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123240" y="44337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262920" y="44337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389640" y="44337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51528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642360" y="4433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76440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89148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7018560" y="44337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715644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283520" y="4433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40880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753588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662960" y="200808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7662960" y="21477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7662960" y="22730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7662960" y="24001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7662960" y="25254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662960" y="265248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662960" y="279072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7662960" y="29174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662960" y="30445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662960" y="317016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7662960" y="329688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7662960" y="3422520"/>
              <a:ext cx="13824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662960" y="3562200"/>
              <a:ext cx="13824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7662960" y="3687480"/>
              <a:ext cx="13824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7662960" y="38145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662960" y="393660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7662960" y="4059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7662960" y="418608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662960" y="43113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7662960" y="44337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7801200" y="20080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801200" y="21477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7801200" y="22730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801200" y="24001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801200" y="25254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801200" y="265248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801200" y="27907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801200" y="29174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801200" y="30445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7801200" y="31701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7801200" y="32968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7801200" y="342252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801200" y="3562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801200" y="36874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801200" y="38145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7801200" y="393660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7801200" y="4059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801200" y="41860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7801200" y="43113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801200" y="44337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939080" y="200808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939080" y="21477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939080" y="22730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7939080" y="24001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939080" y="25254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7939080" y="265248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7939080" y="279072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7939080" y="29174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7939080" y="30445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7939080" y="317016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7939080" y="329688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7939080" y="342252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7939080" y="35622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7939080" y="368748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939080" y="38145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7939080" y="393660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7939080" y="4059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7939080" y="418608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7939080" y="43113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7939080" y="44337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3" name=""/>
          <p:cNvSpPr/>
          <p:nvPr/>
        </p:nvSpPr>
        <p:spPr>
          <a:xfrm>
            <a:off x="5486400" y="533412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= 110 * 1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10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64440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Shape (indices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The shape of areal features is a very rich concept that is difficult to summarize with a single inde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ch indices should allow the comparison between featur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ndepend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description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c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re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 particula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5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ndex should be a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rati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with at least one reference valu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4440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Shape (compactness indices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Among the numerous indices proposed in the literature, those describing th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compactness</a:t>
            </a: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 of the sha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66"/>
                </a:solidFill>
                <a:latin typeface="Arial"/>
              </a:rPr>
              <a:t>Counter-example: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perimeter / area index (P/A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simple to produce (based on size ind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s value is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depend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the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unit of measu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well as on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features. its use is theref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rongly limi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comparison of features compac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5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compactness index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refe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a geometrically compact shape, such as a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circ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sometimes a squ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Basic elements for compactness indic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15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concerned featu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: area of the 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 : major axis (distance between the 2 most faraway vertices of the featu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reference feature (circle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: area of smallest circumscribing 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radius of smallest circumscribing 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: area of largest inscribed 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radius of largest inscribed 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= 119.5m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 = D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,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15.8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 8m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201.06m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 5.1m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81.71m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5402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6111720" y="2666880"/>
            <a:ext cx="175284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5761080" y="2058840"/>
            <a:ext cx="2362320" cy="23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5583240" y="444672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5324400" y="167652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 flipH="1" rot="16200000">
            <a:off x="4698360" y="303984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 flipH="1">
            <a:off x="5691240" y="2057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 flipH="1">
            <a:off x="5691240" y="3254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 flipH="1">
            <a:off x="5691240" y="4419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5761080" y="4419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6973920" y="4419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8123400" y="4419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6546960" y="26384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6076800" y="315900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7610400" y="27241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6851520" y="37846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7839000" y="371160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6518160" y="2711520"/>
            <a:ext cx="1067040" cy="106668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7023240" y="3200400"/>
            <a:ext cx="54000" cy="54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6100920" y="2378160"/>
            <a:ext cx="1866600" cy="18669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7004160" y="3290760"/>
            <a:ext cx="54000" cy="5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7020000" y="3316320"/>
            <a:ext cx="95256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6629400" y="2906640"/>
            <a:ext cx="423720" cy="31932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7201800" y="3059280"/>
            <a:ext cx="33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6599520" y="2944800"/>
            <a:ext cx="315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5385600" y="5151600"/>
            <a:ext cx="2853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: radius of circumscribing circle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 : radius of inscribed circle 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L   : major axis of fe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6110280" y="3206880"/>
            <a:ext cx="1752480" cy="53316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7579080" y="343692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64440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Most usual compactness indices are made of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atio between the feature area and the area of its smallest circumscribing circle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C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A /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atio between the feature area and the area of a circle having the major axis length L as perimeter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L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A / 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(0.5 L)</a:t>
            </a:r>
            <a:r>
              <a:rPr b="0" lang="en-US" sz="2000" spc="-1" strike="noStrike" baseline="30000">
                <a:solidFill>
                  <a:srgbClr val="cc00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27 A / 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atio between the largest inscribed circle area and the area of its smallest circumscribing circle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I,C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I /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64440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 (continued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Some other indices derived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the ratio between the feature area and the area of its smallest circumscribing circle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’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C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cc0066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(A / 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C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/ 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the ratio between the largest inscribed circle area and the area of its smallest circumscribing circle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I,C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/ 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the ratio between the minor and the major axi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l,L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l /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ing the minor axis, perpendicular</a:t>
            </a:r>
            <a:r>
              <a:rPr b="0" lang="en-US" sz="1800" spc="-1" strike="noStrike" baseline="-25000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major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 (continued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And some easily computable ind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basic elements involved in the computation of compactness are difficult or tedious to produce for irregular featur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ularly inscribed and circumscribing radi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numerous GIS software proposed compactness indices are therefore computed as follow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Cp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A / C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 area of a circle having the same perimeter as the featur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Q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A / 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 area of a circumscribing square with a side length equal to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 - Comparis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1655640" y="5213520"/>
            <a:ext cx="550548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acteristics of the irregular polygon (illustration of the areal object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119.5, L = 15.8, l = 10.9, P = 42.7, C= 201.06, 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8, 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5.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46" name=""/>
          <p:cNvGraphicFramePr/>
          <p:nvPr/>
        </p:nvGraphicFramePr>
        <p:xfrm>
          <a:off x="1371600" y="1754280"/>
          <a:ext cx="6354720" cy="334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4280"/>
                    <a:ext cx="63547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scription of spatial properties (2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440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6699ff"/>
                </a:solidFill>
                <a:latin typeface="Arial"/>
              </a:rPr>
              <a:t>Described spatial features are models of those from the realit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ir geometry is simplified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object mode: through the use of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geometrica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primiti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image mode: through the choice of a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resolu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ir attributes corresponds to a global thematic property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 object mode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int, linear, areal uni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imag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mode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et of areal units (cells) composing the reg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95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 </a:t>
            </a: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- Comments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All these indices express the relative compactness of a feature with respect to a compact shape of referenc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all except the last index, the reference is a circular shape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value 1 expresses a maximal compac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sser the compactness of the polygon, the lower the index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index expresses differently the discrepancy between the feature shape and the reference sha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is therefore important to master the meaning of index val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 </a:t>
            </a: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- References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Suggested referen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ker L.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vis P.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bdon D.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tzgerald B.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mmond, Mc Cullagh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win D.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risi (Cratio)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cGIS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Arrangement spatial des objets ponctuel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3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3154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5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Fin de l‘ Unité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 rot="5400000">
            <a:off x="338760" y="1720080"/>
            <a:ext cx="1341360" cy="1162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scription of spatial properties (3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440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6699ff"/>
                </a:solidFill>
                <a:latin typeface="Arial"/>
              </a:rPr>
              <a:t>Descriptors summarize some properties of spatial features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y are indicators (indices)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ng some properties, not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t on the quality of the modeled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ch indicators should be considered as estimators of propertie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indicators can express the same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use and interpretation should be made with sound 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Individual properties of point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12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: individual properti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point feature is modeled as a geometrical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po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it has no spatial dimension (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0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 image mode the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point regio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s also considered as spatially dimensionless, despite the fact it is made of an areal spatial unit (the cell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s single individual geometric property i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object: Location (position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62268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al (X coordinate) and vertical (Y coordinate ) positions in the projected plane, using a defined coordinat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of object i: (251.18m, 139.54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19360" y="1752480"/>
            <a:ext cx="40734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80200" y="2211480"/>
            <a:ext cx="236196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53080" y="252900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16640" y="3006720"/>
            <a:ext cx="6804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60960" y="311940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00880" y="371016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78520" y="430056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75480" y="3710160"/>
            <a:ext cx="666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88200" y="416412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07000" y="352908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29360" y="391464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65760" y="375588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24560" y="434664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43480" y="241632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0640" y="273384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92960" y="3211560"/>
            <a:ext cx="68040" cy="66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24640" y="309708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93000" y="3370320"/>
            <a:ext cx="6804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07000" y="434664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61040" y="243828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93040" y="264312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37280" y="289260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02360" y="459900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43520" y="182880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rot="16200000">
            <a:off x="430452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310360" y="3151080"/>
            <a:ext cx="793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1200" y="3151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91480" y="2814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17680" y="45990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03280" y="29224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310000" y="22096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310000" y="34290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310000" y="45720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9304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4216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4040" y="5257800"/>
            <a:ext cx="2438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251.18   Y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39.5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region: Location (position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3181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orizontal and vertical position 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37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cated at center of the cell (X,Y coordinat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37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rresponding to the cell position in the grid (</a:t>
            </a:r>
            <a:r>
              <a:rPr b="0" lang="en-US" sz="1500" spc="-1" strike="noStrike">
                <a:solidFill>
                  <a:srgbClr val="cc0066"/>
                </a:solidFill>
                <a:latin typeface="Arial"/>
              </a:rPr>
              <a:t>column and row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37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rid resolution depend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cation of region i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251.5m, 139.5m), with a grid resolution of 1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cc0066"/>
                </a:solidFill>
                <a:latin typeface="Arial"/>
              </a:rPr>
              <a:t>or (7,8) in grid coordinates (column, row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91120" y="1752480"/>
            <a:ext cx="43020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0236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2444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rot="16200000">
            <a:off x="430452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8040" y="26226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48000" y="45990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280" y="27558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310000" y="20066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310000" y="33019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310000" y="45720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736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819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34040" y="5257800"/>
            <a:ext cx="2438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251.5   Y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39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  </a:t>
            </a: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 = 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 = 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2820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440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3520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748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76960" y="2004840"/>
            <a:ext cx="2604600" cy="2562120"/>
            <a:chOff x="5376960" y="2004840"/>
            <a:chExt cx="2604600" cy="2562120"/>
          </a:xfrm>
        </p:grpSpPr>
        <p:sp>
          <p:nvSpPr>
            <p:cNvPr id="176" name=""/>
            <p:cNvSpPr/>
            <p:nvPr/>
          </p:nvSpPr>
          <p:spPr>
            <a:xfrm>
              <a:off x="5376960" y="2004840"/>
              <a:ext cx="1393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1628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43360" y="2004840"/>
              <a:ext cx="1249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6864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95720" y="200484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21360" y="2004840"/>
              <a:ext cx="1393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61040" y="2004840"/>
              <a:ext cx="12636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87760" y="200484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1340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40480" y="2004840"/>
              <a:ext cx="1249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76960" y="214452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1628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214452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6864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95720" y="21445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21360" y="214452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61040" y="214452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87760" y="2144520"/>
              <a:ext cx="1252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1340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40480" y="214452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76960" y="227016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1628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43360" y="2270160"/>
              <a:ext cx="12492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6864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95720" y="22701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21360" y="227016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61040" y="227016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87760" y="22701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1340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40480" y="227016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76960" y="239688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1628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43360" y="239688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6864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95720" y="23968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21360" y="239688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61040" y="239688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87760" y="23968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1340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40480" y="239688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76960" y="252252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1628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43360" y="252252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6864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95720" y="252252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21360" y="252252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61040" y="252252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87760" y="252252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1340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40480" y="2522520"/>
              <a:ext cx="12492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76960" y="2649240"/>
              <a:ext cx="1393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1628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43360" y="2649240"/>
              <a:ext cx="1249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6864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5720" y="264924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21360" y="2649240"/>
              <a:ext cx="1393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61040" y="2649240"/>
              <a:ext cx="12636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87760" y="264924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1340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0480" y="2649240"/>
              <a:ext cx="1249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76960" y="278748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16280" y="2787480"/>
              <a:ext cx="12672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43360" y="278748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6864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95720" y="27874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21360" y="278748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61040" y="2787480"/>
              <a:ext cx="12636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87760" y="27874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1340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40480" y="278748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76960" y="291456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1628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43360" y="291456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6864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95720" y="291456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21360" y="291456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61040" y="2914560"/>
              <a:ext cx="12636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87760" y="291456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1340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40480" y="291456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76960" y="304164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1628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43360" y="304164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6864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95720" y="30416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21360" y="304164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61040" y="304164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87760" y="30416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1340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40480" y="3041640"/>
              <a:ext cx="12492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76960" y="316692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1628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43360" y="316692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6864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95720" y="316692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21360" y="316692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61040" y="3166920"/>
              <a:ext cx="12636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87760" y="316692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1340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40480" y="316692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76960" y="32940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1628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43360" y="32940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6864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5720" y="3294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21360" y="32940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61040" y="32940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87760" y="3294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1340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40480" y="32940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76960" y="3419280"/>
              <a:ext cx="1393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1628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43360" y="3419280"/>
              <a:ext cx="12492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6864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95720" y="34192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21360" y="3419280"/>
              <a:ext cx="1393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61040" y="3419280"/>
              <a:ext cx="12636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87760" y="34192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1340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40480" y="3419280"/>
              <a:ext cx="1249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76960" y="355896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1628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43360" y="355896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6864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95720" y="355896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21360" y="355896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61040" y="355896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87760" y="355896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1340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40480" y="355896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76960" y="368460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1628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43360" y="368460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68640" y="3684600"/>
              <a:ext cx="12672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95720" y="368460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21360" y="368460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61040" y="368460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87760" y="368460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1340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40480" y="368460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69000" y="2004840"/>
              <a:ext cx="12636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69000" y="214452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69000" y="227016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69000" y="239688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69000" y="252252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69000" y="2649240"/>
              <a:ext cx="12636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69000" y="2787480"/>
              <a:ext cx="12636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669000" y="2914560"/>
              <a:ext cx="12636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69000" y="304164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69000" y="3166920"/>
              <a:ext cx="12636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69000" y="32940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69000" y="3419280"/>
              <a:ext cx="12636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9000" y="355896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69000" y="368460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572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9572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9572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9572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9572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9572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9572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9572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9572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9572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9572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9572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95720" y="3558960"/>
              <a:ext cx="1267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9572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2800" y="200484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0" y="21445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22800" y="22701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22800" y="23968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22800" y="25225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22800" y="264924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22800" y="27874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22800" y="291456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22800" y="30416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22800" y="316692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22800" y="3294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22800" y="34192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22800" y="355896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22800" y="368460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6104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6104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6104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6104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6104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6104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104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6104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6104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6104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6104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6104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6104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6104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88120" y="2004840"/>
              <a:ext cx="1249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88120" y="2144520"/>
              <a:ext cx="1249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88120" y="227016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88120" y="239688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88120" y="252252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88120" y="2649240"/>
              <a:ext cx="12492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88120" y="278748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88120" y="291456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88120" y="304164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88120" y="316692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88120" y="3294000"/>
              <a:ext cx="12492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88120" y="3419280"/>
              <a:ext cx="1249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88120" y="355896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88120" y="368460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1340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31340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1340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31340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1340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1340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1340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1340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1340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1340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1340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1340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1340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31340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44048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4048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4048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4048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44048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4048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4048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4048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44048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44048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4048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4048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4048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4048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76960" y="381132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1628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3360" y="381132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6864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95720" y="38113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21360" y="381132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61040" y="3811320"/>
              <a:ext cx="12636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87760" y="38113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1340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40480" y="381132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69000" y="381132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9572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22800" y="38113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6104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88120" y="381132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1340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4048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76960" y="39402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1628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43360" y="39402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6864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95720" y="39402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21360" y="39402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61040" y="39402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87760" y="39402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1340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40480" y="39402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69000" y="39402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9572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22800" y="3940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6104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88120" y="39402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340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4048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76960" y="406872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1628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43360" y="406872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76864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895720" y="40687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21360" y="406872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61040" y="406872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87760" y="40687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41340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540480" y="406872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69000" y="406872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9572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22800" y="40687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6104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188120" y="406872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1340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440480" y="4068720"/>
              <a:ext cx="12672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76960" y="41958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1628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43360" y="41958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6864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895720" y="41958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21360" y="41958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61040" y="41958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87760" y="41958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1340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40480" y="41958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69000" y="41958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9572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922800" y="41958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061040" y="4195800"/>
              <a:ext cx="12672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88120" y="41958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1340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44048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76960" y="431928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1628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643360" y="4319280"/>
              <a:ext cx="1249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6864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95720" y="43192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21360" y="431928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161040" y="431928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87760" y="43192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1340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540480" y="4319280"/>
              <a:ext cx="1249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69000" y="431928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9572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22800" y="43192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6104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188120" y="431928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1340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4048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76960" y="444168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1628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43360" y="444168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6864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95720" y="44416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21360" y="444168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161040" y="444168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87760" y="44416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1340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40480" y="444168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669000" y="444168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79572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22800" y="44416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06104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88120" y="444168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1340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44048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567560" y="2004840"/>
              <a:ext cx="1375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567560" y="2144520"/>
              <a:ext cx="1375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67560" y="2270160"/>
              <a:ext cx="1375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567560" y="2396880"/>
              <a:ext cx="1375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67560" y="2522520"/>
              <a:ext cx="1375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67560" y="2649240"/>
              <a:ext cx="1375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67560" y="2787480"/>
              <a:ext cx="1375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567560" y="2914560"/>
              <a:ext cx="13752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67560" y="304164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567560" y="3166920"/>
              <a:ext cx="1375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567560" y="329400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67560" y="3419280"/>
              <a:ext cx="1375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67560" y="3558960"/>
              <a:ext cx="1375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67560" y="3684600"/>
              <a:ext cx="1375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67560" y="3811320"/>
              <a:ext cx="1375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67560" y="394020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567560" y="406872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567560" y="419580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567560" y="4319280"/>
              <a:ext cx="1375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567560" y="444168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05440" y="200484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705440" y="21445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05440" y="22701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05440" y="2396880"/>
              <a:ext cx="1378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05440" y="25225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05440" y="264924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705440" y="27874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05440" y="291456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05440" y="30416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05440" y="316692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05440" y="3294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705440" y="34192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705440" y="355896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705440" y="368460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05440" y="38113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05440" y="3940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05440" y="40687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05440" y="41958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05440" y="43192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705440" y="44416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43680" y="200484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843680" y="21445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3680" y="22701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843680" y="23968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43680" y="25225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43680" y="264924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43680" y="27874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843680" y="291456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843680" y="30416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843680" y="316692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43680" y="3294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43680" y="34192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843680" y="355896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43680" y="368460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43680" y="38113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43680" y="3940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43680" y="40687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43680" y="41958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43680" y="43192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843680" y="44416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 flipH="1">
            <a:off x="5291280" y="2984400"/>
            <a:ext cx="938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21520" y="2971800"/>
            <a:ext cx="0" cy="1703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intM</cp:lastModifiedBy>
  <cp:lastPrinted>2003-04-17T12:59:49Z</cp:lastPrinted>
  <dcterms:modified xsi:type="dcterms:W3CDTF">2003-11-12T12:15:22Z</dcterms:modified>
  <cp:revision>303</cp:revision>
  <dc:subject/>
  <dc:title>Leçon 2: Variables spatiales discrètes  Unité 1: Introduction</dc:title>
</cp:coreProperties>
</file>