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F33-3618-4361-B1F3-7624286C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C30-669D-44B6-947E-EEB6D83E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7C1-E413-426C-8D1E-DC96E840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FF4-D0B3-4684-AB35-D8D77631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2B5-95D3-401D-8D8B-6F0B1DC5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8E6-9D88-4DB1-8E89-E3335C64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9FE-498B-4A02-881B-9828047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C1D-6F8D-4639-922E-AEB52818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024-BA69-41E8-827C-3DB49C5D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B21-FBA1-4122-A5FA-1683AA3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84F-7297-4777-AD6D-41FC262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DA2-C169-4587-B027-258C9A32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247A-3F6D-47D3-95C5-4DE36E34D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1280" y="1557360"/>
          <a:ext cx="5473440" cy="1589040"/>
        </p:xfrm>
        <a:graphic>
          <a:graphicData uri="http://schemas.openxmlformats.org/drawingml/2006/table">
            <a:tbl>
              <a:tblPr/>
              <a:tblGrid>
                <a:gridCol w="576000"/>
                <a:gridCol w="720720"/>
                <a:gridCol w="792360"/>
                <a:gridCol w="863640"/>
                <a:gridCol w="503280"/>
                <a:gridCol w="504720"/>
                <a:gridCol w="720720"/>
                <a:gridCol w="792000"/>
              </a:tblGrid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nd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h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sn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D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nenst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ü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2.19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s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gst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ü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5.1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ürichst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ü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1.19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mü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Ber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ü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3.19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f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mü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enst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ü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12.19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thausst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ü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12.1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5:32:07Z</dcterms:created>
  <dc:creator>Marko</dc:creator>
  <dc:description/>
  <dc:language>en-US</dc:language>
  <cp:lastModifiedBy>Marko</cp:lastModifiedBy>
  <dcterms:modified xsi:type="dcterms:W3CDTF">2002-11-08T15:43:04Z</dcterms:modified>
  <cp:revision>2</cp:revision>
  <dc:subject/>
  <dc:title>Folie 1</dc:title>
</cp:coreProperties>
</file>