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780-94D2-4BA2-9579-B9B806E5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7E9-DE64-44FC-90C2-0CA5564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B60-7DAA-4B7A-BD2F-1DBC93F0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DF4-C855-4CBE-956D-F7732859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F82-197A-426D-9A97-3E38203B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336-7652-47D9-BCA7-6C30E4D0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47C-EE58-4E21-B2C4-69AD98EF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877-98ED-4416-B825-FF6A095C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057-1D26-41CD-A1DA-2FD68864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475-D600-40EA-BB77-5126526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533-BB33-4FD7-936A-BC6BD161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745-8308-416C-9213-E1F38481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74E4-1490-4E36-9557-65108FFAD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4360" y="620640"/>
          <a:ext cx="1871640" cy="908280"/>
        </p:xfrm>
        <a:graphic>
          <a:graphicData uri="http://schemas.openxmlformats.org/drawingml/2006/table">
            <a:tbl>
              <a:tblPr/>
              <a:tblGrid>
                <a:gridCol w="718920"/>
                <a:gridCol w="647640"/>
                <a:gridCol w="505080"/>
              </a:tblGrid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ie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lz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84360" y="1773360"/>
          <a:ext cx="2232000" cy="1815840"/>
        </p:xfrm>
        <a:graphic>
          <a:graphicData uri="http://schemas.openxmlformats.org/drawingml/2006/table">
            <a:tbl>
              <a:tblPr/>
              <a:tblGrid>
                <a:gridCol w="863280"/>
                <a:gridCol w="863640"/>
                <a:gridCol w="505080"/>
              </a:tblGrid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uptmie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ermie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g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fga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3860640"/>
          <a:ext cx="2305080" cy="2043360"/>
        </p:xfrm>
        <a:graphic>
          <a:graphicData uri="http://schemas.openxmlformats.org/drawingml/2006/table">
            <a:tbl>
              <a:tblPr/>
              <a:tblGrid>
                <a:gridCol w="792360"/>
                <a:gridCol w="720720"/>
                <a:gridCol w="792000"/>
              </a:tblGrid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ge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.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.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g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.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.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fga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.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.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o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.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j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g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.19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15:32:07Z</dcterms:created>
  <dc:creator>Marko</dc:creator>
  <dc:description/>
  <dc:language>en-US</dc:language>
  <cp:lastModifiedBy>Marko</cp:lastModifiedBy>
  <dcterms:modified xsi:type="dcterms:W3CDTF">2003-01-29T13:21:24Z</dcterms:modified>
  <cp:revision>6</cp:revision>
  <dc:subject/>
  <dc:title>Folie 1</dc:title>
</cp:coreProperties>
</file>