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8213-0E3C-4DDE-BE70-C42CE469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D723-1B23-4306-BB25-BB48BB87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4ECB-49E1-4F05-A989-40D018B2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2D2A-5E97-4CA8-90DC-151C1158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8FCB-EFCF-4B7D-A2D0-2241DE5C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683E-8D84-4E90-9090-D818DC61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CB63-AFEA-4C05-91AE-51D700A8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2666-62C4-45DF-8D66-D8DF447D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E850-28FF-4251-BE8E-77474D9F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33B5-B462-488C-B092-A0A78FAC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DAB8-CA49-40C2-B3F0-2C611CEF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5FD8-62BD-45A4-92CA-66968B75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5754-56A3-4660-A336-276E5C4A5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339920"/>
            <a:ext cx="3743640" cy="374328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51200"/>
            <a:ext cx="1225800" cy="1368360"/>
          </a:xfrm>
          <a:prstGeom prst="foldedCorner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tab_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5240" y="658800"/>
            <a:ext cx="21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Datenban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61080" y="1260360"/>
            <a:ext cx="33829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ab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61080" y="1649520"/>
            <a:ext cx="3382920" cy="1078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pers_ID INT PRIMARY 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name CHAR(30) NOT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vorname CHAR(30) NOT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88360" y="86364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Perso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620640"/>
            <a:ext cx="7704000" cy="46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1339920"/>
            <a:ext cx="3743640" cy="374328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2851200"/>
            <a:ext cx="1225800" cy="1368360"/>
          </a:xfrm>
          <a:prstGeom prst="foldedCorner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tab_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95240" y="658800"/>
            <a:ext cx="21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Datenban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61080" y="1260360"/>
            <a:ext cx="33829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ab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61080" y="1649520"/>
            <a:ext cx="3382920" cy="1078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pers_ID INT PRIMARY 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name CHAR(30) NOT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vorname CHAR(30) NOT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88360" y="86364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Perso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0640"/>
            <a:ext cx="7704000" cy="46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26920" y="1339920"/>
            <a:ext cx="3743640" cy="374328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2851200"/>
            <a:ext cx="1225800" cy="1368360"/>
          </a:xfrm>
          <a:prstGeom prst="foldedCorner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tab_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95240" y="658800"/>
            <a:ext cx="21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Datenban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83040" y="2851200"/>
            <a:ext cx="1225440" cy="1368360"/>
          </a:xfrm>
          <a:prstGeom prst="foldedCorner">
            <a:avLst>
              <a:gd name="adj" fmla="val 125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0000"/>
                </a:solidFill>
                <a:latin typeface="Arial"/>
              </a:rPr>
              <a:t>tab_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61080" y="1260360"/>
            <a:ext cx="33829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ab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61080" y="1649520"/>
            <a:ext cx="3382920" cy="1078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pers_ID INT PRIMARY 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name CHAR(30) NOT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vorname CHAR(30) NOT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61080" y="3294000"/>
            <a:ext cx="3382920" cy="36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0000"/>
                </a:solidFill>
                <a:latin typeface="Arial"/>
              </a:rPr>
              <a:t>tab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8360" y="86364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Perso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76840" y="289872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Projek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620640"/>
            <a:ext cx="7704000" cy="46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26920" y="1339920"/>
            <a:ext cx="3743640" cy="374328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2851200"/>
            <a:ext cx="1225800" cy="1368360"/>
          </a:xfrm>
          <a:prstGeom prst="foldedCorner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tab_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95240" y="658800"/>
            <a:ext cx="21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Datenban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83040" y="2851200"/>
            <a:ext cx="1225440" cy="1368360"/>
          </a:xfrm>
          <a:prstGeom prst="foldedCorner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tab_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61080" y="1260360"/>
            <a:ext cx="33829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ab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61080" y="1649520"/>
            <a:ext cx="3382920" cy="1078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pers_ID INT PRIMARY 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name CHAR(30) NOT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vorname CHAR(30) NOT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61080" y="3294000"/>
            <a:ext cx="33829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ab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61080" y="3683160"/>
            <a:ext cx="3382920" cy="1078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0000"/>
                </a:solidFill>
                <a:latin typeface="Arial"/>
              </a:rPr>
              <a:t>projekt_ID INT </a:t>
            </a: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PRIMARY 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0000"/>
                </a:solidFill>
                <a:latin typeface="Arial"/>
              </a:rPr>
              <a:t>beschreibung VARCH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0000"/>
                </a:solidFill>
                <a:latin typeface="Arial"/>
              </a:rPr>
              <a:t>leiter_ID INT </a:t>
            </a: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FOREIGN 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8360" y="86364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Perso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76840" y="289872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Projek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620640"/>
            <a:ext cx="7704000" cy="46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26920" y="1339920"/>
            <a:ext cx="3743640" cy="374328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2851200"/>
            <a:ext cx="1225800" cy="1368360"/>
          </a:xfrm>
          <a:prstGeom prst="foldedCorner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tab_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5240" y="658800"/>
            <a:ext cx="21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Datenban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83040" y="2851200"/>
            <a:ext cx="1225440" cy="1368360"/>
          </a:xfrm>
          <a:prstGeom prst="foldedCorner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tab_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61080" y="1260360"/>
            <a:ext cx="33829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ab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61080" y="1649520"/>
            <a:ext cx="3382920" cy="1078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pers_ID INT PRIMARY 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name CHAR(30) NOT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vorname CHAR(30) NOT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61080" y="3294000"/>
            <a:ext cx="33829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ab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61080" y="3683160"/>
            <a:ext cx="3382920" cy="1078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projekt_ID INT </a:t>
            </a:r>
            <a:r>
              <a:rPr b="1" lang="de-CH" sz="1600" spc="-1" strike="noStrike">
                <a:solidFill>
                  <a:srgbClr val="ff0000"/>
                </a:solidFill>
                <a:latin typeface="Arial"/>
              </a:rPr>
              <a:t>PRIMARY 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beschreibung VARCH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leiter_ID INT </a:t>
            </a:r>
            <a:r>
              <a:rPr b="1" lang="de-CH" sz="1600" spc="-1" strike="noStrike">
                <a:solidFill>
                  <a:srgbClr val="ff0000"/>
                </a:solidFill>
                <a:latin typeface="Arial"/>
              </a:rPr>
              <a:t>FOREIGN 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7" idx="3"/>
            <a:endCxn id="79" idx="1"/>
          </p:cNvCxnSpPr>
          <p:nvPr/>
        </p:nvCxnSpPr>
        <p:spPr>
          <a:xfrm>
            <a:off x="2306160" y="3534840"/>
            <a:ext cx="76284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85" name=""/>
          <p:cNvSpPr/>
          <p:nvPr/>
        </p:nvSpPr>
        <p:spPr>
          <a:xfrm>
            <a:off x="4788360" y="86364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Perso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76840" y="289872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Projek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620640"/>
            <a:ext cx="7704000" cy="46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16360" y="1860480"/>
            <a:ext cx="142920" cy="2737080"/>
          </a:xfrm>
          <a:custGeom>
            <a:avLst/>
            <a:gdLst/>
            <a:ahLst/>
            <a:rect l="l" t="t" r="r" b="b"/>
            <a:pathLst>
              <a:path w="90" h="1724">
                <a:moveTo>
                  <a:pt x="90" y="0"/>
                </a:moveTo>
                <a:lnTo>
                  <a:pt x="0" y="0"/>
                </a:lnTo>
                <a:lnTo>
                  <a:pt x="0" y="1724"/>
                </a:lnTo>
                <a:lnTo>
                  <a:pt x="90" y="172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26920" y="1339920"/>
            <a:ext cx="3743640" cy="374328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851200"/>
            <a:ext cx="1225800" cy="1368360"/>
          </a:xfrm>
          <a:prstGeom prst="foldedCorner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tab_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5240" y="658800"/>
            <a:ext cx="21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Datenban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83040" y="2851200"/>
            <a:ext cx="1225440" cy="1368360"/>
          </a:xfrm>
          <a:prstGeom prst="foldedCorner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tab_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61080" y="1260360"/>
            <a:ext cx="33829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ab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61080" y="1649520"/>
            <a:ext cx="3382920" cy="1078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pers_ID INT PRIMARY 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name CHAR(30) NOT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vorname CHAR(30) NOT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61080" y="3294000"/>
            <a:ext cx="33829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ab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61080" y="3683160"/>
            <a:ext cx="3382920" cy="1078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projekt_ID INT PRIMARY 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beschreibung VARCH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leiter_ID INT FOREIGN 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0" idx="3"/>
            <a:endCxn id="92" idx="1"/>
          </p:cNvCxnSpPr>
          <p:nvPr/>
        </p:nvCxnSpPr>
        <p:spPr>
          <a:xfrm>
            <a:off x="2306160" y="3534840"/>
            <a:ext cx="7628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4788360" y="86364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Perso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76840" y="289872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Projek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620640"/>
            <a:ext cx="7704000" cy="46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1860480"/>
            <a:ext cx="142920" cy="2737080"/>
          </a:xfrm>
          <a:custGeom>
            <a:avLst/>
            <a:gdLst/>
            <a:ahLst/>
            <a:rect l="l" t="t" r="r" b="b"/>
            <a:pathLst>
              <a:path w="90" h="1724">
                <a:moveTo>
                  <a:pt x="90" y="0"/>
                </a:moveTo>
                <a:lnTo>
                  <a:pt x="0" y="0"/>
                </a:lnTo>
                <a:lnTo>
                  <a:pt x="0" y="1724"/>
                </a:lnTo>
                <a:lnTo>
                  <a:pt x="90" y="17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13:03:27Z</dcterms:created>
  <dc:creator>Abt. VGI</dc:creator>
  <dc:description/>
  <dc:language>en-US</dc:language>
  <cp:lastModifiedBy>Abt. VGI</cp:lastModifiedBy>
  <dcterms:modified xsi:type="dcterms:W3CDTF">2007-01-23T11:01:38Z</dcterms:modified>
  <cp:revision>4</cp:revision>
  <dc:subject/>
  <dc:title>Folie 1</dc:title>
</cp:coreProperties>
</file>