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25F-4826-45B1-AE49-8E8A5DD7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C91-6C6F-4F78-B0D3-BB8BD1DF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D97-48CF-4CE0-95EC-2D6ED44B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289-0D2F-47ED-A4E7-9E4BF8D8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ABE-346E-4669-9361-E7B3DCA2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6F1-5C9E-41FF-BAA0-B4B33E90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DBA-68E5-4BA3-914F-1A6EFA4B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926-7119-4822-B65E-6BC7758C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020-498B-4DCF-B6B4-C3895462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17E-80BB-479A-A9FD-3461CFF7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CEE-8DC9-4475-BE63-DC422CEC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BCC-24C3-4174-812B-7E4617D4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E1C0-C6D6-40B3-A298-DAEC14619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981000"/>
          <a:ext cx="5113440" cy="1582920"/>
        </p:xfrm>
        <a:graphic>
          <a:graphicData uri="http://schemas.openxmlformats.org/drawingml/2006/table">
            <a:tbl>
              <a:tblPr/>
              <a:tblGrid>
                <a:gridCol w="1512720"/>
                <a:gridCol w="1800360"/>
                <a:gridCol w="18003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reib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ARCH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ter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e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92760" y="4762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tab_2 (Projek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476280"/>
            <a:ext cx="5400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95280" y="981000"/>
          <a:ext cx="6840720" cy="1582920"/>
        </p:xfrm>
        <a:graphic>
          <a:graphicData uri="http://schemas.openxmlformats.org/drawingml/2006/table">
            <a:tbl>
              <a:tblPr/>
              <a:tblGrid>
                <a:gridCol w="1512720"/>
                <a:gridCol w="1800360"/>
                <a:gridCol w="1800360"/>
                <a:gridCol w="172728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reib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ARCH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ter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ARCH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e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92760" y="4762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tab_2 (Projek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76280"/>
            <a:ext cx="71294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981000"/>
          <a:ext cx="6840720" cy="1582920"/>
        </p:xfrm>
        <a:graphic>
          <a:graphicData uri="http://schemas.openxmlformats.org/drawingml/2006/table">
            <a:tbl>
              <a:tblPr/>
              <a:tblGrid>
                <a:gridCol w="1512720"/>
                <a:gridCol w="1800360"/>
                <a:gridCol w="1800360"/>
                <a:gridCol w="172728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reib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ARCH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ter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ARCH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e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92760" y="4762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tab_2 (Projek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76280"/>
            <a:ext cx="71294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6840720" cy="1582920"/>
        </p:xfrm>
        <a:graphic>
          <a:graphicData uri="http://schemas.openxmlformats.org/drawingml/2006/table">
            <a:tbl>
              <a:tblPr/>
              <a:tblGrid>
                <a:gridCol w="1512720"/>
                <a:gridCol w="1800360"/>
                <a:gridCol w="1800360"/>
                <a:gridCol w="172728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reib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ARCH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ter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ARCH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e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92760" y="4762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tab_2 (Projek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981000"/>
            <a:ext cx="1727280" cy="158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08720" y="980640"/>
            <a:ext cx="1727280" cy="158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76280"/>
            <a:ext cx="71294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981000"/>
          <a:ext cx="5113440" cy="1582920"/>
        </p:xfrm>
        <a:graphic>
          <a:graphicData uri="http://schemas.openxmlformats.org/drawingml/2006/table">
            <a:tbl>
              <a:tblPr/>
              <a:tblGrid>
                <a:gridCol w="1512720"/>
                <a:gridCol w="1800360"/>
                <a:gridCol w="180036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reib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ARCH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ter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e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92760" y="47628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tab_2 (Projek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76280"/>
            <a:ext cx="5400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2:24:11Z</dcterms:created>
  <dc:creator>Abt. VGI</dc:creator>
  <dc:description/>
  <dc:language>en-US</dc:language>
  <cp:lastModifiedBy>Abt. VGI</cp:lastModifiedBy>
  <dcterms:modified xsi:type="dcterms:W3CDTF">2007-01-24T13:43:28Z</dcterms:modified>
  <cp:revision>3</cp:revision>
  <dc:subject/>
  <dc:title>Folie 1</dc:title>
</cp:coreProperties>
</file>